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C723-2D91-4B27-A141-E976CF8F54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00C3-7817-48E3-9227-437BCEC95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40A-1B44-4D38-B831-F9677635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A95-4FBE-4FFA-9E6E-8A8D8B72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DA6-7841-45BE-804C-EA607497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9A1-751F-4A59-8DF1-8C57EDEC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BDC-2100-46E9-8C08-0E539D38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432-CA48-42EB-BDAC-B649CD74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463-8FA9-44F5-B4B7-E04AAA55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717-984B-40CB-95CF-FC6EBBE3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796-07DA-4867-8E35-B887F5FB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F24-0ADF-40F0-B47A-D509A2F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C6B-8C8B-463C-8C25-DF190726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D86-7FEC-4CAE-B8C6-B194B696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E62-0E66-4D33-9AB1-9F8AF6C450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1988640"/>
            <a:ext cx="6767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Результаты детского  проект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DS Yermak_D"/>
              </a:rPr>
              <a:t>«о чём расскажет самова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332000" y="189000"/>
            <a:ext cx="735804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униципальное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юджетное дошко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овательное учреждение детский сад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щеразвивающего вида «Белочка» с приоритетным осуществлением деятельности по познавательно-речевому развитию детей  п.г.т. Федоровский Сургутский район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МАО — Юг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1468440" y="4145040"/>
            <a:ext cx="66819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64087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_ModernoBrk"/>
              </a:rPr>
              <a:t>Цель: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바탕"/>
              </a:rPr>
              <a:t>Обобщить знания детей о предметах домашнего обихода. Познакомить с историей посуды, с процессом её преобразования человека, вызывая интерес к предметам рукотворного мира прошлого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6" descr="DSC01507.JPG"/>
          <p:cNvPicPr/>
          <p:nvPr/>
        </p:nvPicPr>
        <p:blipFill>
          <a:blip r:embed="rId1"/>
          <a:stretch/>
        </p:blipFill>
        <p:spPr>
          <a:xfrm>
            <a:off x="2124000" y="3357720"/>
            <a:ext cx="545796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DSC01501.JPG"/>
          <p:cNvPicPr/>
          <p:nvPr/>
        </p:nvPicPr>
        <p:blipFill>
          <a:blip r:embed="rId1"/>
          <a:stretch/>
        </p:blipFill>
        <p:spPr>
          <a:xfrm>
            <a:off x="1258920" y="1773360"/>
            <a:ext cx="6769080" cy="3806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6000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У НАС В МУЗ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0008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ВОПРОС: МОЖЕТ ЛИ ЧЕЛОВЕК ОБОЙТИСЬ БЕЗ ПОСУД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DSC01511.JPG"/>
          <p:cNvPicPr/>
          <p:nvPr/>
        </p:nvPicPr>
        <p:blipFill>
          <a:blip r:embed="rId1"/>
          <a:stretch/>
        </p:blipFill>
        <p:spPr>
          <a:xfrm>
            <a:off x="1619280" y="1844640"/>
            <a:ext cx="5832360" cy="328140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1763640" y="5084640"/>
            <a:ext cx="5977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ОТВЕТ: МОЖЕТ, НО ЭТО НЕ КРАСИВО И ОПАСНО ДЛЯ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60008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ВОПРОС: КАКАЯ ПОСУДА САМАЯ ПРОЧНА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1835280" y="5732640"/>
            <a:ext cx="5905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ОТВЕТ: ПОСУДА ИЗ МЕТАЛЛА И ДЕ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7" descr="DSC01525.JPG"/>
          <p:cNvPicPr/>
          <p:nvPr/>
        </p:nvPicPr>
        <p:blipFill>
          <a:blip r:embed="rId1"/>
          <a:stretch/>
        </p:blipFill>
        <p:spPr>
          <a:xfrm>
            <a:off x="1547640" y="1773360"/>
            <a:ext cx="65851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14680" y="92880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270036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точник шабл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 -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03:07Z</dcterms:created>
  <dc:creator>User</dc:creator>
  <dc:description/>
  <dc:language>en-US</dc:language>
  <cp:lastModifiedBy>Кондрашов сс</cp:lastModifiedBy>
  <dcterms:modified xsi:type="dcterms:W3CDTF">2012-07-25T12:59:11Z</dcterms:modified>
  <cp:revision>27</cp:revision>
  <dc:subject/>
  <dc:title>Слайд 1</dc:title>
</cp:coreProperties>
</file>