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54F8-9686-4815-94DE-0FAED262E4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B464-BACA-4020-A35A-153C605AF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C7E-58E2-4FBB-96B9-41D3E5CC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E73-4805-4C4A-AF5B-E23A1383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D23-4E69-4AE9-AF1F-CBA566F1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13E-5BC9-4B3F-8C25-D206CF6E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4EB-1CAA-4471-BD82-F44FCF1E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B1C-EFBA-48C3-AADC-9F7398D6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39E-1C84-407A-99DD-98938B1A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6D6-12DC-4E96-997A-F3B8924D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516-C584-4695-9DC6-AF443A46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83F-04F0-42CF-B64E-EDBB8B5E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1F5-1DB9-4D94-BF44-51E34DE5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ECE-D0CD-4B18-8237-CCFFA4A1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606F-EE17-457E-A62F-14BAD664A6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76000" y="1988640"/>
            <a:ext cx="6767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Результаты детского  проект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DS Yermak_D"/>
              </a:rPr>
              <a:t>«о чём расскажет самова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332000" y="189000"/>
            <a:ext cx="735804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униципальное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бюджетное дошко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разовательное учреждение детский сад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щеразвивающего вида «Белочка» с приоритетным осуществлением деятельности по познавательно-речевому развитию детей  п.г.т. Федоровский Сургутский район</a:t>
            </a:r>
            <a:r>
              <a:rPr b="1" lang="en-US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ХМАО — Юг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4" descr=""/>
          <p:cNvPicPr/>
          <p:nvPr/>
        </p:nvPicPr>
        <p:blipFill>
          <a:blip r:embed="rId1"/>
          <a:stretch/>
        </p:blipFill>
        <p:spPr>
          <a:xfrm>
            <a:off x="1468440" y="4145040"/>
            <a:ext cx="66819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640872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_ModernoBrk"/>
              </a:rPr>
              <a:t>Цель: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바탕"/>
              </a:rPr>
              <a:t>Обобщить знания детей о предметах домашнего обихода. Познакомить с историей посуды, с процессом её преобразования человека, вызывая интерес к предметам рукотворного мира прошлого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6" descr="DSC01507.JPG"/>
          <p:cNvPicPr/>
          <p:nvPr/>
        </p:nvPicPr>
        <p:blipFill>
          <a:blip r:embed="rId1"/>
          <a:stretch/>
        </p:blipFill>
        <p:spPr>
          <a:xfrm>
            <a:off x="2124000" y="3357720"/>
            <a:ext cx="545796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2" descr="DSC01501.JPG"/>
          <p:cNvPicPr/>
          <p:nvPr/>
        </p:nvPicPr>
        <p:blipFill>
          <a:blip r:embed="rId1"/>
          <a:stretch/>
        </p:blipFill>
        <p:spPr>
          <a:xfrm>
            <a:off x="1258920" y="1773360"/>
            <a:ext cx="6769080" cy="38066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60008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У НАС В МУЗ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0008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ВОПРОС: МОЖЕТ ЛИ ЧЕЛОВЕК ОБОЙТИСЬ БЕЗ ПОСУД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3" descr="DSC01511.JPG"/>
          <p:cNvPicPr/>
          <p:nvPr/>
        </p:nvPicPr>
        <p:blipFill>
          <a:blip r:embed="rId1"/>
          <a:stretch/>
        </p:blipFill>
        <p:spPr>
          <a:xfrm>
            <a:off x="1619280" y="1844640"/>
            <a:ext cx="5832360" cy="328140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1763640" y="5084640"/>
            <a:ext cx="5977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ОТВЕТ: МОЖЕТ, НО ЭТО НЕ КРАСИВО И ОПАСНО ДЛЯ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60008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ВОПРОС: КАКАЯ ПОСУДА САМАЯ ПРОЧНА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1835280" y="5732640"/>
            <a:ext cx="59054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DS Yermak_D"/>
              </a:rPr>
              <a:t>ОТВЕТ: ПОСУДА ИЗ МЕТАЛЛА И ДЕР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7" descr="DSC01525.JPG"/>
          <p:cNvPicPr/>
          <p:nvPr/>
        </p:nvPicPr>
        <p:blipFill>
          <a:blip r:embed="rId1"/>
          <a:stretch/>
        </p:blipFill>
        <p:spPr>
          <a:xfrm>
            <a:off x="1547640" y="1773360"/>
            <a:ext cx="65851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714680" y="928800"/>
            <a:ext cx="700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270036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точник шабл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йт -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edsovet.s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03:07Z</dcterms:created>
  <dc:creator>User</dc:creator>
  <dc:description/>
  <dc:language>en-US</dc:language>
  <cp:lastModifiedBy>Кондрашов сс</cp:lastModifiedBy>
  <dcterms:modified xsi:type="dcterms:W3CDTF">2012-07-25T12:59:11Z</dcterms:modified>
  <cp:revision>27</cp:revision>
  <dc:subject/>
  <dc:title>Слайд 1</dc:title>
</cp:coreProperties>
</file>