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6C1B-B370-4660-B2CC-60EE5F11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2354-7B86-40A9-BE50-A63C10E8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C84D-0F35-47E1-AE09-5AD66D73F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5B54-1310-45D7-A51C-88971463E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0B97-E225-4DF9-A171-0DB5FBFB3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2559-33E3-4B1D-B1FB-E7C8696B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4FFE-D7E1-44A6-B306-7C8410EE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E3FB-B940-4C6E-82EC-3C2E0EC5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CD5C-7D87-4FDA-BBE8-F49B34CF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8C07-E1C0-443A-8E4F-C07E423A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4FFD-3524-4957-95F8-02A31F88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CF1C-7074-49BB-859A-FD9E76E2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F63F-2AC2-4724-B49E-DB23DF78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17FE-ADA3-474F-99B3-81116DF6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37CE-EC5E-4855-8A5C-989852D4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1EC1-8924-4DFD-94BC-E3E85158B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BCA8-E123-406B-8D36-3B36DFA17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9403-E991-4D8A-90A0-9C871001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89C2-5F68-4D73-86E9-C72FDC57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6B20-D0D8-4A11-9F0E-C43C0183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9A2D-A5AB-4B94-9F0B-F9E80726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5A06-88B6-459C-A22C-5B05C05D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BEF8-CD28-4F1A-AD29-B729E93C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C376-55E1-4AF8-86F0-8CDC358B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9B12-208C-4E37-81A9-BDD71D9B94C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BBF6-62CB-45DF-B4D6-36CFF497544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1.png"/><Relationship Id="rId13" Type="http://schemas.openxmlformats.org/officeDocument/2006/relationships/slide" Target="slide4.xml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330066"/>
                </a:solidFill>
                <a:latin typeface="Arial"/>
              </a:rPr>
              <a:t>Творительный падеж имен </a:t>
            </a:r>
            <a:br>
              <a:rPr sz="3900"/>
            </a:br>
            <a:br>
              <a:rPr sz="3900"/>
            </a:br>
            <a:r>
              <a:rPr b="1" i="1" lang="ru-RU" sz="3900" spc="-1" strike="noStrike">
                <a:solidFill>
                  <a:srgbClr val="330066"/>
                </a:solidFill>
                <a:latin typeface="Arial"/>
              </a:rPr>
              <a:t>существительных</a:t>
            </a:r>
            <a:br>
              <a:rPr sz="3900"/>
            </a:br>
            <a:br>
              <a:rPr sz="3900"/>
            </a:br>
            <a:r>
              <a:rPr b="1" i="1" lang="ru-RU" sz="2600" spc="-1" strike="noStrike">
                <a:solidFill>
                  <a:srgbClr val="330066"/>
                </a:solidFill>
                <a:latin typeface="Arial"/>
              </a:rPr>
              <a:t>УМК</a:t>
            </a:r>
            <a:br>
              <a:rPr sz="2600"/>
            </a:br>
            <a:r>
              <a:rPr b="1" i="1" lang="ru-RU" sz="2600" spc="-1" strike="noStrike">
                <a:solidFill>
                  <a:srgbClr val="330066"/>
                </a:solidFill>
                <a:latin typeface="Arial"/>
              </a:rPr>
              <a:t> «Перспективная начальная школа»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547280" y="4869000"/>
            <a:ext cx="7239240" cy="120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90099"/>
                </a:solidFill>
                <a:latin typeface="Arial"/>
              </a:rPr>
              <a:t>Урок русского языка в 3 класс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90099"/>
                </a:solidFill>
                <a:latin typeface="Arial"/>
              </a:rPr>
              <a:t>Учитель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539640" y="619560"/>
            <a:ext cx="251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Зи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3564000" y="619560"/>
            <a:ext cx="22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улиц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6229080" y="1557360"/>
            <a:ext cx="112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ч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469800" y="1557360"/>
            <a:ext cx="239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мину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3421080" y="1557360"/>
            <a:ext cx="216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дере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6157800" y="2492280"/>
            <a:ext cx="184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гор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3420720" y="2492280"/>
            <a:ext cx="152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доч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828000" y="2492280"/>
            <a:ext cx="148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к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5"/>
          <p:cNvSpPr/>
          <p:nvPr/>
        </p:nvSpPr>
        <p:spPr>
          <a:xfrm>
            <a:off x="6086520" y="3500280"/>
            <a:ext cx="254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ороб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6"/>
          <p:cNvSpPr/>
          <p:nvPr/>
        </p:nvSpPr>
        <p:spPr>
          <a:xfrm>
            <a:off x="3421440" y="3429000"/>
            <a:ext cx="151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ер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7"/>
          <p:cNvSpPr/>
          <p:nvPr/>
        </p:nvSpPr>
        <p:spPr>
          <a:xfrm>
            <a:off x="685440" y="3500280"/>
            <a:ext cx="180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и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28720" y="4437000"/>
            <a:ext cx="128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д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3204720" y="4437000"/>
            <a:ext cx="21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и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6086520" y="4508640"/>
            <a:ext cx="201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дят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Домашнее задание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Arial"/>
              </a:rPr>
              <a:t>У. с.89 №7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Arial"/>
              </a:rPr>
              <a:t>Т. С.59 №60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Arial"/>
              </a:rPr>
              <a:t>У. с.86 прави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341360"/>
            <a:ext cx="7543800" cy="34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0066"/>
                </a:solidFill>
                <a:latin typeface="Arial"/>
              </a:rPr>
              <a:t>СПАСИБО ЗА УРОК!</a:t>
            </a:r>
            <a:endParaRPr b="1" lang="en-US" sz="9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330066"/>
                </a:solidFill>
                <a:latin typeface="Arial"/>
              </a:rPr>
              <a:t>Чистопис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719000"/>
            <a:ext cx="8229600" cy="44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ru-RU" sz="7200" spc="-1" strike="noStrike">
                <a:solidFill>
                  <a:srgbClr val="006600"/>
                </a:solidFill>
                <a:latin typeface="Arial"/>
              </a:rPr>
              <a:t>те</a:t>
            </a:r>
            <a:r>
              <a:rPr b="1" i="1" lang="ru-RU" sz="7200" spc="-1" strike="noStrike">
                <a:solidFill>
                  <a:srgbClr val="ff0000"/>
                </a:solidFill>
                <a:latin typeface="Arial"/>
              </a:rPr>
              <a:t>..</a:t>
            </a:r>
            <a:r>
              <a:rPr b="1" i="1" lang="ru-RU" sz="7200" spc="-1" strike="noStrike">
                <a:solidFill>
                  <a:srgbClr val="006600"/>
                </a:solidFill>
                <a:latin typeface="Arial"/>
              </a:rPr>
              <a:t>итория  подста</a:t>
            </a:r>
            <a:r>
              <a:rPr b="1" i="1" lang="ru-RU" sz="7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i="1" lang="ru-RU" sz="7200" spc="-1" strike="noStrike">
                <a:solidFill>
                  <a:srgbClr val="006600"/>
                </a:solidFill>
                <a:latin typeface="Arial"/>
              </a:rPr>
              <a:t>ка пр</a:t>
            </a:r>
            <a:r>
              <a:rPr b="1" i="1" lang="ru-RU" sz="7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i="1" lang="ru-RU" sz="7200" spc="-1" strike="noStrike">
                <a:solidFill>
                  <a:srgbClr val="006600"/>
                </a:solidFill>
                <a:latin typeface="Arial"/>
              </a:rPr>
              <a:t>рода праз</a:t>
            </a:r>
            <a:r>
              <a:rPr b="1" i="1" lang="ru-RU" sz="7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i="1" lang="ru-RU" sz="7200" spc="-1" strike="noStrike">
                <a:solidFill>
                  <a:srgbClr val="006600"/>
                </a:solidFill>
                <a:latin typeface="Arial"/>
              </a:rPr>
              <a:t>ни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8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330066"/>
                </a:solidFill>
                <a:latin typeface="Arial"/>
              </a:rPr>
              <a:t>Чистопис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497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700" spc="-1" strike="noStrike">
                <a:solidFill>
                  <a:srgbClr val="006600"/>
                </a:solidFill>
                <a:latin typeface="Arial"/>
              </a:rPr>
              <a:t>Те</a:t>
            </a:r>
            <a:r>
              <a:rPr b="1" i="1" lang="ru-RU" sz="4700" spc="-1" strike="noStrike">
                <a:solidFill>
                  <a:srgbClr val="ff0000"/>
                </a:solidFill>
                <a:latin typeface="Arial"/>
              </a:rPr>
              <a:t>рр</a:t>
            </a:r>
            <a:r>
              <a:rPr b="1" i="1" lang="ru-RU" sz="4700" spc="-1" strike="noStrike">
                <a:solidFill>
                  <a:srgbClr val="006600"/>
                </a:solidFill>
                <a:latin typeface="Arial"/>
              </a:rPr>
              <a:t>итория  подста</a:t>
            </a:r>
            <a:r>
              <a:rPr b="1" i="1" lang="ru-RU" sz="47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i="1" lang="ru-RU" sz="4700" spc="-1" strike="noStrike">
                <a:solidFill>
                  <a:srgbClr val="006600"/>
                </a:solidFill>
                <a:latin typeface="Arial"/>
              </a:rPr>
              <a:t>ка пр</a:t>
            </a:r>
            <a:r>
              <a:rPr b="1" i="1" lang="ru-RU" sz="47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i="1" lang="ru-RU" sz="4700" spc="-1" strike="noStrike">
                <a:solidFill>
                  <a:srgbClr val="006600"/>
                </a:solidFill>
                <a:latin typeface="Arial"/>
              </a:rPr>
              <a:t>рода праз</a:t>
            </a:r>
            <a:r>
              <a:rPr b="1" i="1" lang="ru-RU" sz="47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i="1" lang="ru-RU" sz="4700" spc="-1" strike="noStrike">
                <a:solidFill>
                  <a:srgbClr val="006600"/>
                </a:solidFill>
                <a:latin typeface="Arial"/>
              </a:rPr>
              <a:t>ник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156360" y="2205000"/>
            <a:ext cx="16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5"/>
          <p:cNvSpPr/>
          <p:nvPr/>
        </p:nvSpPr>
        <p:spPr>
          <a:xfrm>
            <a:off x="324000" y="386064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26004d"/>
                </a:solidFill>
                <a:uFillTx/>
                <a:latin typeface="Arial"/>
              </a:rPr>
              <a:t>Слова для справок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6004d"/>
                </a:solidFill>
                <a:latin typeface="Arial"/>
              </a:rPr>
              <a:t>рад, красивая, взял, убор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ЕМА УРОКА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Творительный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падеж имен </a:t>
            </a:r>
            <a:br>
              <a:rPr sz="6000"/>
            </a:b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существительны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    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ВОРИТЕЛЬНЫЙ  ПАДЕЖ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Творительный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адеж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полнен  всяческих  надеж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ворите! –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ЧЕ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ворите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  КЕ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  подскажу  вам – нет  пробле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едлогам  «ПЕРЕД»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ПОД»  и  «НАД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 любой  момент  я  очень  ра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http://im2-tub.yandex.net/i?id=33987281-38-72"/>
          <p:cNvPicPr/>
          <p:nvPr/>
        </p:nvPicPr>
        <p:blipFill>
          <a:blip r:embed="rId1"/>
          <a:stretch/>
        </p:blipFill>
        <p:spPr>
          <a:xfrm>
            <a:off x="0" y="0"/>
            <a:ext cx="142884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0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00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8064360" cy="24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0066"/>
                </a:solidFill>
                <a:latin typeface="Arial"/>
              </a:rPr>
              <a:t>            </a:t>
            </a:r>
            <a:r>
              <a:rPr b="1" lang="ru-RU" sz="7200" spc="-1" strike="noStrike">
                <a:solidFill>
                  <a:srgbClr val="330066"/>
                </a:solidFill>
                <a:latin typeface="Arial"/>
              </a:rPr>
              <a:t>Т.п.</a:t>
            </a:r>
            <a:br>
              <a:rPr sz="4800"/>
            </a:b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кем? чем? где? куда?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3213000"/>
            <a:ext cx="8208720" cy="33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с, за, под, над, межд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второстепенный чл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>
                <a:solidFill>
                  <a:srgbClr val="330066"/>
                </a:solidFill>
                <a:latin typeface="Monotype Corsiva"/>
              </a:rPr>
              <a:t>Не заманишь калачом</a:t>
            </a:r>
            <a:endParaRPr b="1" lang="en-US" sz="8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reeform 2"/>
          <p:cNvSpPr/>
          <p:nvPr/>
        </p:nvSpPr>
        <p:spPr>
          <a:xfrm>
            <a:off x="-36360" y="4869000"/>
            <a:ext cx="9196200" cy="2287440"/>
          </a:xfrm>
          <a:custGeom>
            <a:avLst/>
            <a:gdLst>
              <a:gd name="textAreaLeft" fmla="*/ 0 w 9196200"/>
              <a:gd name="textAreaRight" fmla="*/ 9196560 w 9196200"/>
              <a:gd name="textAreaTop" fmla="*/ 0 h 2287440"/>
              <a:gd name="textAreaBottom" fmla="*/ 2287440 h 2287440"/>
            </a:gdLst>
            <a:ahLst/>
            <a:rect l="textAreaLeft" t="textAreaTop" r="textAreaRight" b="textAreaBottom"/>
            <a:pathLst>
              <a:path w="5793" h="1296">
                <a:moveTo>
                  <a:pt x="0" y="1144"/>
                </a:moveTo>
                <a:cubicBezTo>
                  <a:pt x="5" y="1125"/>
                  <a:pt x="14" y="1107"/>
                  <a:pt x="16" y="1088"/>
                </a:cubicBezTo>
                <a:cubicBezTo>
                  <a:pt x="28" y="991"/>
                  <a:pt x="9" y="991"/>
                  <a:pt x="64" y="936"/>
                </a:cubicBezTo>
                <a:cubicBezTo>
                  <a:pt x="79" y="891"/>
                  <a:pt x="72" y="851"/>
                  <a:pt x="112" y="824"/>
                </a:cubicBezTo>
                <a:cubicBezTo>
                  <a:pt x="129" y="774"/>
                  <a:pt x="165" y="740"/>
                  <a:pt x="208" y="712"/>
                </a:cubicBezTo>
                <a:cubicBezTo>
                  <a:pt x="247" y="654"/>
                  <a:pt x="275" y="657"/>
                  <a:pt x="328" y="624"/>
                </a:cubicBezTo>
                <a:cubicBezTo>
                  <a:pt x="398" y="580"/>
                  <a:pt x="331" y="621"/>
                  <a:pt x="376" y="576"/>
                </a:cubicBezTo>
                <a:cubicBezTo>
                  <a:pt x="390" y="562"/>
                  <a:pt x="416" y="553"/>
                  <a:pt x="432" y="544"/>
                </a:cubicBezTo>
                <a:cubicBezTo>
                  <a:pt x="475" y="518"/>
                  <a:pt x="519" y="492"/>
                  <a:pt x="560" y="464"/>
                </a:cubicBezTo>
                <a:cubicBezTo>
                  <a:pt x="585" y="447"/>
                  <a:pt x="619" y="454"/>
                  <a:pt x="648" y="448"/>
                </a:cubicBezTo>
                <a:cubicBezTo>
                  <a:pt x="675" y="430"/>
                  <a:pt x="691" y="398"/>
                  <a:pt x="720" y="384"/>
                </a:cubicBezTo>
                <a:cubicBezTo>
                  <a:pt x="774" y="357"/>
                  <a:pt x="832" y="350"/>
                  <a:pt x="888" y="328"/>
                </a:cubicBezTo>
                <a:cubicBezTo>
                  <a:pt x="978" y="194"/>
                  <a:pt x="1157" y="184"/>
                  <a:pt x="1304" y="176"/>
                </a:cubicBezTo>
                <a:cubicBezTo>
                  <a:pt x="1336" y="165"/>
                  <a:pt x="1367" y="159"/>
                  <a:pt x="1400" y="152"/>
                </a:cubicBezTo>
                <a:cubicBezTo>
                  <a:pt x="1525" y="89"/>
                  <a:pt x="1608" y="81"/>
                  <a:pt x="1752" y="64"/>
                </a:cubicBezTo>
                <a:cubicBezTo>
                  <a:pt x="1795" y="59"/>
                  <a:pt x="1837" y="46"/>
                  <a:pt x="1880" y="40"/>
                </a:cubicBezTo>
                <a:cubicBezTo>
                  <a:pt x="2001" y="0"/>
                  <a:pt x="2207" y="41"/>
                  <a:pt x="2344" y="48"/>
                </a:cubicBezTo>
                <a:cubicBezTo>
                  <a:pt x="2373" y="58"/>
                  <a:pt x="2432" y="72"/>
                  <a:pt x="2432" y="72"/>
                </a:cubicBezTo>
                <a:cubicBezTo>
                  <a:pt x="2632" y="68"/>
                  <a:pt x="2807" y="61"/>
                  <a:pt x="3000" y="48"/>
                </a:cubicBezTo>
                <a:cubicBezTo>
                  <a:pt x="3073" y="24"/>
                  <a:pt x="3158" y="28"/>
                  <a:pt x="3232" y="24"/>
                </a:cubicBezTo>
                <a:cubicBezTo>
                  <a:pt x="3269" y="27"/>
                  <a:pt x="3308" y="23"/>
                  <a:pt x="3344" y="32"/>
                </a:cubicBezTo>
                <a:cubicBezTo>
                  <a:pt x="3355" y="35"/>
                  <a:pt x="3359" y="50"/>
                  <a:pt x="3368" y="56"/>
                </a:cubicBezTo>
                <a:cubicBezTo>
                  <a:pt x="3395" y="74"/>
                  <a:pt x="3456" y="101"/>
                  <a:pt x="3488" y="104"/>
                </a:cubicBezTo>
                <a:cubicBezTo>
                  <a:pt x="3568" y="111"/>
                  <a:pt x="3648" y="109"/>
                  <a:pt x="3728" y="112"/>
                </a:cubicBezTo>
                <a:cubicBezTo>
                  <a:pt x="3894" y="153"/>
                  <a:pt x="3907" y="146"/>
                  <a:pt x="4144" y="152"/>
                </a:cubicBezTo>
                <a:cubicBezTo>
                  <a:pt x="4197" y="178"/>
                  <a:pt x="4246" y="190"/>
                  <a:pt x="4304" y="200"/>
                </a:cubicBezTo>
                <a:cubicBezTo>
                  <a:pt x="4394" y="185"/>
                  <a:pt x="4380" y="184"/>
                  <a:pt x="4520" y="200"/>
                </a:cubicBezTo>
                <a:cubicBezTo>
                  <a:pt x="4534" y="202"/>
                  <a:pt x="4547" y="211"/>
                  <a:pt x="4560" y="216"/>
                </a:cubicBezTo>
                <a:cubicBezTo>
                  <a:pt x="4623" y="239"/>
                  <a:pt x="4686" y="259"/>
                  <a:pt x="4752" y="272"/>
                </a:cubicBezTo>
                <a:cubicBezTo>
                  <a:pt x="4804" y="324"/>
                  <a:pt x="4873" y="329"/>
                  <a:pt x="4944" y="336"/>
                </a:cubicBezTo>
                <a:cubicBezTo>
                  <a:pt x="4994" y="353"/>
                  <a:pt x="4943" y="329"/>
                  <a:pt x="4984" y="376"/>
                </a:cubicBezTo>
                <a:cubicBezTo>
                  <a:pt x="4995" y="389"/>
                  <a:pt x="5012" y="396"/>
                  <a:pt x="5024" y="408"/>
                </a:cubicBezTo>
                <a:cubicBezTo>
                  <a:pt x="5050" y="434"/>
                  <a:pt x="5069" y="469"/>
                  <a:pt x="5096" y="496"/>
                </a:cubicBezTo>
                <a:cubicBezTo>
                  <a:pt x="5107" y="528"/>
                  <a:pt x="5161" y="611"/>
                  <a:pt x="5192" y="632"/>
                </a:cubicBezTo>
                <a:cubicBezTo>
                  <a:pt x="5209" y="643"/>
                  <a:pt x="5230" y="646"/>
                  <a:pt x="5248" y="656"/>
                </a:cubicBezTo>
                <a:cubicBezTo>
                  <a:pt x="5267" y="667"/>
                  <a:pt x="5286" y="677"/>
                  <a:pt x="5304" y="688"/>
                </a:cubicBezTo>
                <a:cubicBezTo>
                  <a:pt x="5320" y="698"/>
                  <a:pt x="5352" y="720"/>
                  <a:pt x="5352" y="720"/>
                </a:cubicBezTo>
                <a:cubicBezTo>
                  <a:pt x="5398" y="790"/>
                  <a:pt x="5431" y="774"/>
                  <a:pt x="5504" y="792"/>
                </a:cubicBezTo>
                <a:cubicBezTo>
                  <a:pt x="5520" y="803"/>
                  <a:pt x="5536" y="813"/>
                  <a:pt x="5552" y="824"/>
                </a:cubicBezTo>
                <a:cubicBezTo>
                  <a:pt x="5660" y="896"/>
                  <a:pt x="5558" y="858"/>
                  <a:pt x="5624" y="880"/>
                </a:cubicBezTo>
                <a:cubicBezTo>
                  <a:pt x="5641" y="930"/>
                  <a:pt x="5659" y="986"/>
                  <a:pt x="5704" y="1016"/>
                </a:cubicBezTo>
                <a:cubicBezTo>
                  <a:pt x="5731" y="1098"/>
                  <a:pt x="5684" y="1083"/>
                  <a:pt x="5784" y="1096"/>
                </a:cubicBezTo>
                <a:cubicBezTo>
                  <a:pt x="5755" y="1296"/>
                  <a:pt x="5793" y="1164"/>
                  <a:pt x="5336" y="1168"/>
                </a:cubicBezTo>
                <a:cubicBezTo>
                  <a:pt x="4920" y="1172"/>
                  <a:pt x="4504" y="1156"/>
                  <a:pt x="4088" y="1152"/>
                </a:cubicBezTo>
                <a:cubicBezTo>
                  <a:pt x="3663" y="1119"/>
                  <a:pt x="3265" y="1140"/>
                  <a:pt x="2824" y="1144"/>
                </a:cubicBezTo>
                <a:cubicBezTo>
                  <a:pt x="1971" y="1141"/>
                  <a:pt x="1117" y="1141"/>
                  <a:pt x="264" y="1136"/>
                </a:cubicBezTo>
                <a:cubicBezTo>
                  <a:pt x="201" y="1136"/>
                  <a:pt x="0" y="1109"/>
                  <a:pt x="0" y="1096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ddd0fc32575ct"/>
          <p:cNvPicPr/>
          <p:nvPr/>
        </p:nvPicPr>
        <p:blipFill>
          <a:blip r:embed="rId2"/>
          <a:stretch/>
        </p:blipFill>
        <p:spPr>
          <a:xfrm>
            <a:off x="2793960" y="1916280"/>
            <a:ext cx="3218040" cy="453708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4"/>
          <p:cNvSpPr/>
          <p:nvPr/>
        </p:nvSpPr>
        <p:spPr>
          <a:xfrm rot="16884600">
            <a:off x="172440" y="5091120"/>
            <a:ext cx="134748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7236000" y="189000"/>
            <a:ext cx="1511280" cy="151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 rot="16884600">
            <a:off x="172080" y="300420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 rot="16884600">
            <a:off x="172080" y="6991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69999"/>
              </a:gs>
              <a:gs pos="100000">
                <a:srgbClr val="4618f0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 rot="551400">
            <a:off x="1763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69999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 rot="551400">
            <a:off x="3995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0"/>
          <p:cNvSpPr/>
          <p:nvPr/>
        </p:nvSpPr>
        <p:spPr>
          <a:xfrm rot="551400">
            <a:off x="6227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cccc00"/>
              </a:gs>
            </a:gsLst>
            <a:lin ang="4848000"/>
          </a:gradFill>
          <a:ln w="93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1"/>
          <p:cNvSpPr/>
          <p:nvPr/>
        </p:nvSpPr>
        <p:spPr>
          <a:xfrm rot="6169800">
            <a:off x="7733160" y="77256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66ff"/>
              </a:gs>
              <a:gs pos="50000">
                <a:srgbClr val="cccc00"/>
              </a:gs>
              <a:gs pos="100000">
                <a:srgbClr val="3366ff"/>
              </a:gs>
            </a:gsLst>
            <a:lin ang="20832000"/>
          </a:gradFill>
          <a:ln w="93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2"/>
          <p:cNvSpPr/>
          <p:nvPr/>
        </p:nvSpPr>
        <p:spPr>
          <a:xfrm rot="6169800">
            <a:off x="7733160" y="3075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4618f0"/>
              </a:gs>
            </a:gsLst>
            <a:lin ang="18132000"/>
          </a:gradFill>
          <a:ln w="93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3"/>
          <p:cNvSpPr/>
          <p:nvPr/>
        </p:nvSpPr>
        <p:spPr>
          <a:xfrm rot="6169800">
            <a:off x="7733160" y="5307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18132000"/>
          </a:gradFill>
          <a:ln w="93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4"/>
          <p:cNvSpPr/>
          <p:nvPr/>
        </p:nvSpPr>
        <p:spPr>
          <a:xfrm rot="11193600">
            <a:off x="6156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7704000"/>
          </a:gradFill>
          <a:ln w="93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5"/>
          <p:cNvSpPr/>
          <p:nvPr/>
        </p:nvSpPr>
        <p:spPr>
          <a:xfrm rot="11193600">
            <a:off x="406728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e6f9"/>
              </a:gs>
            </a:gsLst>
            <a:lin ang="77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6" descr="arg-blue-left-tr"/>
          <p:cNvPicPr/>
          <p:nvPr/>
        </p:nvPicPr>
        <p:blipFill>
          <a:blip r:embed="rId3"/>
          <a:stretch/>
        </p:blipFill>
        <p:spPr>
          <a:xfrm>
            <a:off x="5940360" y="1341360"/>
            <a:ext cx="1190520" cy="1511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ani-bird_red"/>
          <p:cNvPicPr/>
          <p:nvPr/>
        </p:nvPicPr>
        <p:blipFill>
          <a:blip r:embed="rId4"/>
          <a:stretch/>
        </p:blipFill>
        <p:spPr>
          <a:xfrm>
            <a:off x="2627280" y="2708280"/>
            <a:ext cx="1440000" cy="1152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b13"/>
          <p:cNvPicPr/>
          <p:nvPr/>
        </p:nvPicPr>
        <p:blipFill>
          <a:blip r:embed="rId5"/>
          <a:stretch/>
        </p:blipFill>
        <p:spPr>
          <a:xfrm>
            <a:off x="2714760" y="5013360"/>
            <a:ext cx="1153800" cy="12351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b13"/>
          <p:cNvPicPr/>
          <p:nvPr/>
        </p:nvPicPr>
        <p:blipFill>
          <a:blip r:embed="rId6"/>
          <a:stretch/>
        </p:blipFill>
        <p:spPr>
          <a:xfrm>
            <a:off x="7164360" y="5516640"/>
            <a:ext cx="1020960" cy="109224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20"/>
          <p:cNvSpPr/>
          <p:nvPr/>
        </p:nvSpPr>
        <p:spPr>
          <a:xfrm>
            <a:off x="5435640" y="2637000"/>
            <a:ext cx="3384360" cy="1223640"/>
          </a:xfrm>
          <a:prstGeom prst="wedgeRoundRectCallout">
            <a:avLst>
              <a:gd name="adj1" fmla="val -72328"/>
              <a:gd name="adj2" fmla="val -10958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5508720" y="278136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Times New Roman"/>
              </a:rPr>
              <a:t>Ребята, берегите зре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2" descr="B_Fly31"/>
          <p:cNvPicPr/>
          <p:nvPr/>
        </p:nvPicPr>
        <p:blipFill>
          <a:blip r:embed="rId7"/>
          <a:stretch/>
        </p:blipFill>
        <p:spPr>
          <a:xfrm rot="7628400">
            <a:off x="1287000" y="2536560"/>
            <a:ext cx="1143000" cy="1054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3" descr="B_Fly21"/>
          <p:cNvPicPr/>
          <p:nvPr/>
        </p:nvPicPr>
        <p:blipFill>
          <a:blip r:embed="rId8"/>
          <a:stretch/>
        </p:blipFill>
        <p:spPr>
          <a:xfrm rot="13640400">
            <a:off x="7137720" y="359928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4" descr="B_Fly14"/>
          <p:cNvPicPr/>
          <p:nvPr/>
        </p:nvPicPr>
        <p:blipFill>
          <a:blip r:embed="rId9"/>
          <a:stretch/>
        </p:blipFill>
        <p:spPr>
          <a:xfrm>
            <a:off x="3059280" y="2565360"/>
            <a:ext cx="1441440" cy="1419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5" descr="b11"/>
          <p:cNvPicPr/>
          <p:nvPr/>
        </p:nvPicPr>
        <p:blipFill>
          <a:blip r:embed="rId10"/>
          <a:stretch/>
        </p:blipFill>
        <p:spPr>
          <a:xfrm>
            <a:off x="1187280" y="551664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6" descr="b11"/>
          <p:cNvPicPr/>
          <p:nvPr/>
        </p:nvPicPr>
        <p:blipFill>
          <a:blip r:embed="rId11"/>
          <a:stretch/>
        </p:blipFill>
        <p:spPr>
          <a:xfrm>
            <a:off x="5292720" y="5157720"/>
            <a:ext cx="995400" cy="100800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27"/>
          <p:cNvSpPr/>
          <p:nvPr/>
        </p:nvSpPr>
        <p:spPr>
          <a:xfrm rot="11193600">
            <a:off x="1692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e6f9"/>
              </a:gs>
            </a:gsLst>
            <a:lin ang="158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8" descr=""/>
          <p:cNvPicPr/>
          <p:nvPr/>
        </p:nvPicPr>
        <p:blipFill>
          <a:blip r:embed="rId1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29">
            <a:hlinkClick r:id="rId13" action="ppaction://hlinksldjump"/>
          </p:cNvPr>
          <p:cNvSpPr/>
          <p:nvPr/>
        </p:nvSpPr>
        <p:spPr>
          <a:xfrm>
            <a:off x="8244000" y="630864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000"/>
                            </p:stCondLst>
                            <p:childTnLst>
                              <p:par>
                                <p:cTn id="1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8000"/>
                            </p:stCondLst>
                            <p:childTnLst>
                              <p:par>
                                <p:cTn id="1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9000"/>
                            </p:stCondLst>
                            <p:childTnLst>
                              <p:par>
                                <p:cTn id="1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8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5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0.06806 L -0.18107 0.21528 C -0.21649 0.24861 -0.26927 0.26759 -0.32447 0.26759 C -0.38767 0.26759 -0.43784 0.24861 -0.47326 0.21528 L -0.64184 0.06806 E">
                                      <p:cBhvr>
                                        <p:cTn id="206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8" nodeType="afterEffect" fill="hold" presetClass="path" presetID="4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747 0.06806 L -0.48473 0.00533 C -0.44827 -0.00856 -0.3941 -0.01597 -0.3375 -0.01597 C -0.27292 -0.01597 -0.22153 -0.00856 -0.18507 0.00533 L -0.01181 0.06806 E">
                                      <p:cBhvr>
                                        <p:cTn id="209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30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6000"/>
                            </p:stCondLst>
                            <p:childTnLst>
                              <p:par>
                                <p:cTn id="216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9000"/>
                            </p:stCondLst>
                            <p:childTnLst>
                              <p:par>
                                <p:cTn id="22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1000"/>
                            </p:stCondLst>
                            <p:childTnLst>
                              <p:par>
                                <p:cTn id="22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3000"/>
                            </p:stCondLst>
                            <p:childTnLst>
                              <p:par>
                                <p:cTn id="230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5000"/>
                            </p:stCondLst>
                            <p:childTnLst>
                              <p:par>
                                <p:cTn id="235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6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70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80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9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1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4000"/>
                            </p:stCondLst>
                            <p:childTnLst>
                              <p:par>
                                <p:cTn id="2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5000"/>
                            </p:stCondLst>
                            <p:childTnLst>
                              <p:par>
                                <p:cTn id="27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7000"/>
                            </p:stCondLst>
                            <p:childTnLst>
                              <p:par>
                                <p:cTn id="275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-0.11458 C 0.05781 -0.10833 0.10955 -0.02917 0.10504 0.06273 C 0.10052 0.15463 0.04097 0.22361 -0.02795 0.21759 C -0.09705 0.21157 -0.14861 0.13171 -0.1441 0.04028 C -0.13941 -0.05185 -0.07986 -0.12083 -0.01111 -0.11458 Z">
                                      <p:cBhvr>
                                        <p:cTn id="276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1000"/>
                            </p:stCondLst>
                            <p:childTnLst>
                              <p:par>
                                <p:cTn id="27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3000"/>
                            </p:stCondLst>
                            <p:childTnLst>
                              <p:par>
                                <p:cTn id="283" nodeType="after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2 0.05741 L 0.0382 -0.2581 L -0.18715 -0.2581 L -0.18715 0.05741 L 0.0382 0.05741 Z">
                                      <p:cBhvr>
                                        <p:cTn id="284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7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8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50560" y="981000"/>
            <a:ext cx="85690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700" spc="-1" strike="noStrike">
                <a:solidFill>
                  <a:srgbClr val="0033cc"/>
                </a:solidFill>
                <a:latin typeface="Arial"/>
              </a:rPr>
              <a:t>Клю</a:t>
            </a:r>
            <a:r>
              <a:rPr b="0" i="1" lang="ru-RU" sz="4700" spc="-1" strike="noStrike">
                <a:solidFill>
                  <a:srgbClr val="0033cc"/>
                </a:solidFill>
                <a:latin typeface="Arial"/>
              </a:rPr>
              <a:t>ч</a:t>
            </a:r>
            <a:r>
              <a:rPr b="0" lang="ru-RU" sz="4700" spc="-1" strike="noStrike">
                <a:solidFill>
                  <a:srgbClr val="0033cc"/>
                </a:solidFill>
                <a:latin typeface="Arial"/>
              </a:rPr>
              <a:t>, б</a:t>
            </a:r>
            <a:r>
              <a:rPr b="0" i="1" lang="ru-RU" sz="4700" spc="-1" strike="noStrike">
                <a:solidFill>
                  <a:srgbClr val="0033cc"/>
                </a:solidFill>
                <a:latin typeface="Arial"/>
              </a:rPr>
              <a:t>е</a:t>
            </a:r>
            <a:r>
              <a:rPr b="0" lang="ru-RU" sz="4700" spc="-1" strike="noStrike">
                <a:solidFill>
                  <a:srgbClr val="0033cc"/>
                </a:solidFill>
                <a:latin typeface="Arial"/>
              </a:rPr>
              <a:t>рёза, со</a:t>
            </a:r>
            <a:r>
              <a:rPr b="0" i="1" lang="ru-RU" sz="4700" spc="-1" strike="noStrike">
                <a:solidFill>
                  <a:srgbClr val="0033cc"/>
                </a:solidFill>
                <a:latin typeface="Arial"/>
              </a:rPr>
              <a:t>л</a:t>
            </a:r>
            <a:r>
              <a:rPr b="0" lang="ru-RU" sz="4700" spc="-1" strike="noStrike">
                <a:solidFill>
                  <a:srgbClr val="0033cc"/>
                </a:solidFill>
                <a:latin typeface="Arial"/>
              </a:rPr>
              <a:t>нце, д</a:t>
            </a:r>
            <a:r>
              <a:rPr b="0" i="1" lang="ru-RU" sz="4700" spc="-1" strike="noStrike">
                <a:solidFill>
                  <a:srgbClr val="0033cc"/>
                </a:solidFill>
                <a:latin typeface="Arial"/>
              </a:rPr>
              <a:t>о</a:t>
            </a:r>
            <a:r>
              <a:rPr b="0" lang="ru-RU" sz="4700" spc="-1" strike="noStrike">
                <a:solidFill>
                  <a:srgbClr val="0033cc"/>
                </a:solidFill>
                <a:latin typeface="Arial"/>
              </a:rPr>
              <a:t>бро, уло</a:t>
            </a:r>
            <a:r>
              <a:rPr b="0" i="1" lang="ru-RU" sz="4700" spc="-1" strike="noStrike">
                <a:solidFill>
                  <a:srgbClr val="0033cc"/>
                </a:solidFill>
                <a:latin typeface="Arial"/>
              </a:rPr>
              <a:t>в</a:t>
            </a:r>
            <a:r>
              <a:rPr b="0" lang="ru-RU" sz="4700" spc="-1" strike="noStrike">
                <a:solidFill>
                  <a:srgbClr val="0033cc"/>
                </a:solidFill>
                <a:latin typeface="Arial"/>
              </a:rPr>
              <a:t>, сев</a:t>
            </a:r>
            <a:r>
              <a:rPr b="0" i="1" lang="ru-RU" sz="4700" spc="-1" strike="noStrike">
                <a:solidFill>
                  <a:srgbClr val="0033cc"/>
                </a:solidFill>
                <a:latin typeface="Arial"/>
              </a:rPr>
              <a:t>е</a:t>
            </a:r>
            <a:r>
              <a:rPr b="0" lang="ru-RU" sz="4700" spc="-1" strike="noStrike">
                <a:solidFill>
                  <a:srgbClr val="0033cc"/>
                </a:solidFill>
                <a:latin typeface="Arial"/>
              </a:rPr>
              <a:t>р, сро</a:t>
            </a:r>
            <a:r>
              <a:rPr b="0" i="1" lang="ru-RU" sz="4700" spc="-1" strike="noStrike">
                <a:solidFill>
                  <a:srgbClr val="0033cc"/>
                </a:solidFill>
                <a:latin typeface="Arial"/>
              </a:rPr>
              <a:t>к</a:t>
            </a:r>
            <a:r>
              <a:rPr b="0" lang="ru-RU" sz="4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4"/>
          <p:cNvSpPr/>
          <p:nvPr/>
        </p:nvSpPr>
        <p:spPr>
          <a:xfrm>
            <a:off x="1835280" y="1628640"/>
            <a:ext cx="28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5"/>
          <p:cNvSpPr/>
          <p:nvPr/>
        </p:nvSpPr>
        <p:spPr>
          <a:xfrm>
            <a:off x="2771640" y="1628640"/>
            <a:ext cx="289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6"/>
          <p:cNvSpPr/>
          <p:nvPr/>
        </p:nvSpPr>
        <p:spPr>
          <a:xfrm>
            <a:off x="5364000" y="1628640"/>
            <a:ext cx="289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7"/>
          <p:cNvSpPr/>
          <p:nvPr/>
        </p:nvSpPr>
        <p:spPr>
          <a:xfrm>
            <a:off x="1042920" y="2349360"/>
            <a:ext cx="289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8"/>
          <p:cNvSpPr/>
          <p:nvPr/>
        </p:nvSpPr>
        <p:spPr>
          <a:xfrm>
            <a:off x="3708360" y="2349360"/>
            <a:ext cx="289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9"/>
          <p:cNvSpPr/>
          <p:nvPr/>
        </p:nvSpPr>
        <p:spPr>
          <a:xfrm>
            <a:off x="5292720" y="2349360"/>
            <a:ext cx="289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0"/>
          <p:cNvSpPr/>
          <p:nvPr/>
        </p:nvSpPr>
        <p:spPr>
          <a:xfrm>
            <a:off x="7236000" y="2349360"/>
            <a:ext cx="28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1"/>
          <p:cNvSpPr/>
          <p:nvPr/>
        </p:nvSpPr>
        <p:spPr>
          <a:xfrm>
            <a:off x="2033640" y="5013360"/>
            <a:ext cx="48762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>
                <a:solidFill>
                  <a:srgbClr val="ff0000"/>
                </a:solidFill>
                <a:latin typeface="Monotype Corsiva"/>
              </a:rPr>
              <a:t>ЧЕЛОВЕ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4T14:25:38Z</dcterms:created>
  <dc:creator>джон</dc:creator>
  <dc:description/>
  <dc:language>en-US</dc:language>
  <cp:lastModifiedBy>USER</cp:lastModifiedBy>
  <dcterms:modified xsi:type="dcterms:W3CDTF">2011-11-15T18:20:50Z</dcterms:modified>
  <cp:revision>11</cp:revision>
  <dc:subject/>
  <dc:title>Творительный падеж имен существительных</dc:title>
</cp:coreProperties>
</file>