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2E7-B73E-476E-9394-1E584864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2DC-630B-4E15-9665-82AA959A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EB0-432E-42B4-B578-B02ABD56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169-88E3-41B5-B751-F575D7B2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FC2C-7E9D-4C28-B653-D907866B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6F41-2D06-4227-A177-5CE72F2A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6F13-E7FC-4FBD-A533-D2A4BCAE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610E-E0DB-4F32-8C02-4E3B6A0E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79D0-F476-4AE3-ACB7-F1111538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1BF7-0BF1-4958-A065-5AA2CB6B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825F-2905-4C29-8F20-40108379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EA25-E69F-43A5-BC9E-A5519D22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300F-D8DC-4A03-A2A7-9BD0F5F0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6AEE-3E20-4C21-BE93-EA706827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4AD6-B32B-47D9-8E91-2FBE9359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53EB-BDF2-4396-956C-DB6507A6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ECE1-02BD-4F91-BAF9-CD6C5F58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95F3F-07BF-4E39-AC30-A490F504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59C90-AA17-423C-9941-470E8072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D922C-A535-40D0-9C95-6B9ADB5F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5ED93-02FB-4BB1-BFA1-CEC02596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8D7BC-49B4-44C9-85A8-C65EEFF3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DE3D-D310-4C95-97B0-EBC4D263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9F9AE-D445-49A6-9ED6-3FBAD07A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78836-D698-4333-9287-3A726906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841C2-6469-4C3C-A227-DC809A99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94B0D-1EEA-4967-810A-F2EDA4A2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15534-8412-4F14-B6A1-F69E21D4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AA498-E772-4816-9CC8-459268A4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5C194-7919-4F1E-B891-71BCEA36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8337E-5660-412B-8EB0-8CECACF8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B82AE-8B87-4433-8E27-1AFA720F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DE34-2F9C-4B9F-B4B9-F8F76FA7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BD9-4887-449E-A971-D41C0B3C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9A794-CD60-4FE2-B179-0E488F90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1EFDC-337B-40CE-BBA0-1B91F3B0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944C1-2B6F-4BDD-B542-FF4ABFB7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D4100-6A6D-4CB2-89BB-A1FA4C7A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FA80E-7AC7-4965-88CA-925F9C34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701B2-5B1F-4ADB-B468-80A1F20E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D9EC2-F3B6-4440-B1EE-5863C6C6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EB7BE-B47D-46C0-A9A9-25970800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CECB7-6960-4CBE-A9EB-048D0386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ABB40-740D-415E-A1C7-120DE48C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271-AFBE-4F6E-A132-3534FFD0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3D797-379D-4D3F-A846-118D11B3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42654-9B2F-45A5-A08C-CCA4D10E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30F79-A434-42F6-8136-7E8EA207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E1A72-54DE-4499-9D63-06CAF5B4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81F37-FE03-4F41-B3D0-F4C1FD18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388DC-2417-4597-8786-DED82285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A847F-6783-4108-BC3A-912CAF20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364B6-45D7-4585-B209-3BD1D920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46C0E-E7A9-460A-AFAD-FA7C0458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840F9-B480-43ED-92E7-3BFE523A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347-95BF-4552-BE45-4843615C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F85F0-B7FE-4A7A-8A9F-F89D0CD4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61B59-92FD-4A0A-83ED-009CD9B7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4E95A-80C1-472D-9BE6-9DE924B2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2AE1F-8F52-4774-A0F2-6C6F9CE6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1B30C-97A7-4D4D-B4C3-E46EE23B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DF047-ED9C-4B40-BD43-1725285F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9CB98-2808-456A-AE70-27FEFECF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00117-CBE4-452F-A90B-D43A4DC4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26BF6-C60D-409B-AFF5-ECCF1B04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9613B-FDFF-4CA8-8E15-C9BFEBA4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ED1B-C82B-4ED0-A58E-CE020D7C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BAE69-8021-4EB7-951C-9582E81D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B3870-B1A9-42F4-9E7B-D51DC2BD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8FD3D-3A7F-49C6-8E5E-B3695D01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EA0F8-B111-4BA7-A4B6-B9ED55ED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E45D1-B2CC-4676-ACF5-EE96382E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8B411-DA39-4280-8BD2-0C50D075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81A22-4C39-41BB-87F1-9873584F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03773-3E06-433F-B4E7-18B771C1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64211-E3AC-481A-92DC-9A27F206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F7B08-E8A8-4678-8EE8-A719D6AC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995-748D-4ED6-A693-33C9AA75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0F132-0791-4981-AD84-7EA03CC0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006B1-6244-4653-9002-3440FB8D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C05C0-288A-4ADB-9A86-A22E5C99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46E07-ABFD-4403-A724-7EF8FE7D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3DD27-5ED2-4387-89D0-DC946DFE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AD27-8DFD-44E9-8256-3AFFAA31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8381-C788-4178-B809-EDCB52B4EC4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7C97-ED66-4099-B218-64BEE4B32A5B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25A6-834E-49E0-8D82-E9E3199F21B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4F9C-ECA5-4C07-950C-0597C47CCC9D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8FDE-65A0-4E3B-A8B1-1CEE41F167B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67B6-AD5D-473D-96A2-453CFC3CF74E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9A65-F7AA-40F0-B7C2-3A7CA2B1B0FF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mc-sinergi.ru/index.php?folder=1&amp;lab=5&amp;dir_id=9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6" descr=""/>
          <p:cNvPicPr/>
          <p:nvPr/>
        </p:nvPicPr>
        <p:blipFill>
          <a:blip r:embed="rId1"/>
          <a:stretch/>
        </p:blipFill>
        <p:spPr>
          <a:xfrm>
            <a:off x="-6480" y="285840"/>
            <a:ext cx="10045800" cy="196380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7" descr=""/>
          <p:cNvPicPr/>
          <p:nvPr/>
        </p:nvPicPr>
        <p:blipFill>
          <a:blip r:embed="rId2"/>
          <a:stretch/>
        </p:blipFill>
        <p:spPr>
          <a:xfrm>
            <a:off x="536400" y="2816280"/>
            <a:ext cx="8467920" cy="119520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9"/>
          <p:cNvSpPr/>
          <p:nvPr/>
        </p:nvSpPr>
        <p:spPr>
          <a:xfrm>
            <a:off x="0" y="632448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©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азунова И. З. 201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228600" y="10756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Принцип деятельности заключается в том, что ученик получает знания не в готовом виде, а добывает их сам. Деятельность ученика направлена не на получение результата – ответа, а на процесс решения. Выполнение отдельно взятого задания открывает перед учеником перспективу понимания и установления способа решения аналогичных или типовых учебных ситуаций, способствует переносу знания на нестандартную ситуац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Рисунок 27" descr="clas1azb.jpg"/>
          <p:cNvPicPr/>
          <p:nvPr/>
        </p:nvPicPr>
        <p:blipFill>
          <a:blip r:embed="rId1"/>
          <a:stretch/>
        </p:blipFill>
        <p:spPr>
          <a:xfrm>
            <a:off x="7238880" y="4608360"/>
            <a:ext cx="1247760" cy="187812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28" descr="clas1prop.jpg"/>
          <p:cNvPicPr/>
          <p:nvPr/>
        </p:nvPicPr>
        <p:blipFill>
          <a:blip r:embed="rId2"/>
          <a:stretch/>
        </p:blipFill>
        <p:spPr>
          <a:xfrm>
            <a:off x="5486400" y="4492800"/>
            <a:ext cx="1371600" cy="185076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29" descr="clas1okr.jpg"/>
          <p:cNvPicPr/>
          <p:nvPr/>
        </p:nvPicPr>
        <p:blipFill>
          <a:blip r:embed="rId3"/>
          <a:stretch/>
        </p:blipFill>
        <p:spPr>
          <a:xfrm>
            <a:off x="3657600" y="4495680"/>
            <a:ext cx="1228680" cy="165276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30" descr="clas1mat.jpg"/>
          <p:cNvPicPr/>
          <p:nvPr/>
        </p:nvPicPr>
        <p:blipFill>
          <a:blip r:embed="rId4"/>
          <a:stretch/>
        </p:blipFill>
        <p:spPr>
          <a:xfrm>
            <a:off x="1981080" y="4495680"/>
            <a:ext cx="1247760" cy="164952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31" descr="clas1rus.jpg"/>
          <p:cNvPicPr/>
          <p:nvPr/>
        </p:nvPicPr>
        <p:blipFill>
          <a:blip r:embed="rId5"/>
          <a:stretch/>
        </p:blipFill>
        <p:spPr>
          <a:xfrm>
            <a:off x="304920" y="4495680"/>
            <a:ext cx="1247760" cy="171468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6"/>
          <p:cNvSpPr/>
          <p:nvPr/>
        </p:nvSpPr>
        <p:spPr>
          <a:xfrm>
            <a:off x="533520" y="17640"/>
            <a:ext cx="86104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3.  «Классическая начальная школ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«Литературное чтение. Чтение и литература». Автор  Джежелей О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«Русский язык». Автор  Рамзаева Т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«Математика». Автор  Александрова Э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«Окружающий мир. Мир и человек». Авторы: Вахрушев А.А.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«Окружающий мир. Введение в историю». Авторы:  Саплина Е.В., Саплин А.И. (3-4 клас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«Изобразительное искусство». Авторы:  Кузин В.С., Кубышкина Э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«Технология. Своими руками». Автор Малышева Н.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«Музыка». Авторы:  Алеев В.В., Кичак Т.Н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4433400" y="186048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4433400" y="340344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433400" y="485136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449600" y="629892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"/>
          <p:cNvSpPr/>
          <p:nvPr/>
        </p:nvSpPr>
        <p:spPr>
          <a:xfrm>
            <a:off x="228600" y="1213560"/>
            <a:ext cx="845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Основной принцип, реализуемый УМК «Классическая начальная школа» – это принцип единства сознания и деятельности. Учащиеся работают по схеме: делаю-осознаю-руковожу следующими действиями. Часть заданий комплекта – это поэтапное выполнение действий (работа по алгоритму). Следующий принцип – это опора на ведущую деятельность (учение). А также реализуется принцип опережающего развития, опирающийся на зону ближайшего разви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0" descr="342833.jpg"/>
          <p:cNvPicPr/>
          <p:nvPr/>
        </p:nvPicPr>
        <p:blipFill>
          <a:blip r:embed="rId1"/>
          <a:stretch/>
        </p:blipFill>
        <p:spPr>
          <a:xfrm>
            <a:off x="7696080" y="4800600"/>
            <a:ext cx="1295640" cy="169380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1" descr="360861.jpg"/>
          <p:cNvPicPr/>
          <p:nvPr/>
        </p:nvPicPr>
        <p:blipFill>
          <a:blip r:embed="rId2"/>
          <a:stretch/>
        </p:blipFill>
        <p:spPr>
          <a:xfrm>
            <a:off x="7772400" y="228600"/>
            <a:ext cx="1219320" cy="164952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2" descr="472702.jpg"/>
          <p:cNvPicPr/>
          <p:nvPr/>
        </p:nvPicPr>
        <p:blipFill>
          <a:blip r:embed="rId3"/>
          <a:stretch/>
        </p:blipFill>
        <p:spPr>
          <a:xfrm>
            <a:off x="7696080" y="2362320"/>
            <a:ext cx="1447920" cy="19000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4"/>
          <p:cNvSpPr/>
          <p:nvPr/>
        </p:nvSpPr>
        <p:spPr>
          <a:xfrm>
            <a:off x="304920" y="616320"/>
            <a:ext cx="7315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4.  «Начальная школа XXI века» (научный руководитель - Н.Ф. Виноградов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Букварь. Авторы:  Журова Л.Е., Евдокимова О.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- Русский язык. Авторы:  Иванов С.В., Евдокимова О.А., Кузнецова М.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- Литературное чтение. Автор Ефросинина Л.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- Математика. Авторы:  Рудницкая В.Н. и др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- Окружающий мир. Авторы: Виноградова Н.Ф.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- Технология. Автор Лутцева Е.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- Музыка. Авторы: Усачева В.О., Школяр Л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- Изобразительное искусство. Авторы: Савенкова Л.Г., Ермолинская Е.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890600" y="146052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4874760" y="2593800"/>
            <a:ext cx="30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"/>
          <p:cNvSpPr/>
          <p:nvPr/>
        </p:nvSpPr>
        <p:spPr>
          <a:xfrm>
            <a:off x="457200" y="99756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УМК «Школа 21 века» реализует принципы деятельностного подхода: дети сами делают открытия, система заданий позволяет высказать разные точки зрения; но не всегда новое знание открывает сам уче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УМК имеет проблемный характер изложения содержания, требующий деятельностного подх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20" descr="bukvar.jpg"/>
          <p:cNvPicPr/>
          <p:nvPr/>
        </p:nvPicPr>
        <p:blipFill>
          <a:blip r:embed="rId1"/>
          <a:stretch/>
        </p:blipFill>
        <p:spPr>
          <a:xfrm>
            <a:off x="914400" y="4876920"/>
            <a:ext cx="1295280" cy="16272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21" descr="propis_1k.jpg"/>
          <p:cNvPicPr/>
          <p:nvPr/>
        </p:nvPicPr>
        <p:blipFill>
          <a:blip r:embed="rId2"/>
          <a:stretch/>
        </p:blipFill>
        <p:spPr>
          <a:xfrm>
            <a:off x="7315200" y="4800600"/>
            <a:ext cx="1160640" cy="177156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22" descr="ry_2k_1.jpg"/>
          <p:cNvPicPr/>
          <p:nvPr/>
        </p:nvPicPr>
        <p:blipFill>
          <a:blip r:embed="rId3"/>
          <a:stretch/>
        </p:blipFill>
        <p:spPr>
          <a:xfrm>
            <a:off x="3886200" y="4889520"/>
            <a:ext cx="1447920" cy="17589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4"/>
          <p:cNvSpPr/>
          <p:nvPr/>
        </p:nvSpPr>
        <p:spPr>
          <a:xfrm>
            <a:off x="304920" y="538920"/>
            <a:ext cx="883908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5.     «Школа 2000...» - «Школа 2100» (научный руководитель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Л.Г. Петерсон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Обучение грамоте и чтен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Букварь.  Авторы:  Бунеев Р.Н., Бунеева Е.В., Пронина О.В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Русский язык.   Авторы:   Бунеев Р.Н., Бунеева Е.В., Пронина О.В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Литературное чтение.   Авторы:   Бунеев Р.Н., Бунеева Е.В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Математика.   Авторы:  Демидова Т.Е., Козлова С.А., Тонких А.П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Окружающий мир.  Авторы:  Вахрушев А.А., Бурский О.В., Раутиан А.С. (1-2 класс) и  Вахрушев А.А., Данилов Д.Д., Бурский О.В. и др. С.В. (3-4 класс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Информатика.  Автор Горячев А.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Технология.  Авторы:  Куревина О.А., Лутцева Е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Изобразит искусство.   Авторы:  Куревина О.А., Ковалевская Е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Риторика. Автор Ладыженская Т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4417560" y="2479680"/>
            <a:ext cx="30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4433400" y="463212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0" y="6915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"/>
          <p:cNvSpPr/>
          <p:nvPr/>
        </p:nvSpPr>
        <p:spPr>
          <a:xfrm>
            <a:off x="838080" y="60948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ткрытый учебно-методический комплект «Школа 2100» для начальной школы построен на технологической основе дидактической системы деятельностного метода «Школа 2000…» автора Л.Г. Петерсон. Он содержит теоретическую концепцию формирования у учащихся универсальных учебных действий, реализующую системно-деятельностный подхо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ехнология деятельностного метода − это описание управления учителем системного прохождения каждым учащимся целостной структуры − всех шагов учебн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Рисунок 23" descr="ros1azb.jpg"/>
          <p:cNvPicPr/>
          <p:nvPr/>
        </p:nvPicPr>
        <p:blipFill>
          <a:blip r:embed="rId1"/>
          <a:stretch/>
        </p:blipFill>
        <p:spPr>
          <a:xfrm>
            <a:off x="7924680" y="3657600"/>
            <a:ext cx="1019160" cy="133344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24" descr="ros1prop.jpg"/>
          <p:cNvPicPr/>
          <p:nvPr/>
        </p:nvPicPr>
        <p:blipFill>
          <a:blip r:embed="rId2"/>
          <a:stretch/>
        </p:blipFill>
        <p:spPr>
          <a:xfrm>
            <a:off x="7848720" y="2057400"/>
            <a:ext cx="1019160" cy="134316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25" descr="ros1rus.jpg"/>
          <p:cNvPicPr/>
          <p:nvPr/>
        </p:nvPicPr>
        <p:blipFill>
          <a:blip r:embed="rId3"/>
          <a:stretch/>
        </p:blipFill>
        <p:spPr>
          <a:xfrm>
            <a:off x="7848720" y="228600"/>
            <a:ext cx="1019160" cy="136224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26" descr="ros1rus2.jpg"/>
          <p:cNvPicPr/>
          <p:nvPr/>
        </p:nvPicPr>
        <p:blipFill>
          <a:blip r:embed="rId4"/>
          <a:stretch/>
        </p:blipFill>
        <p:spPr>
          <a:xfrm>
            <a:off x="8001000" y="5334120"/>
            <a:ext cx="952560" cy="13618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5"/>
          <p:cNvSpPr/>
          <p:nvPr/>
        </p:nvSpPr>
        <p:spPr>
          <a:xfrm>
            <a:off x="304920" y="558000"/>
            <a:ext cx="73152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«Школа России» (под редакцией А.А. Плешаков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Обучение грамоте и чт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Русская азбука. Авторы:  Горецкий В.Г., Кирюшкин В.А., Шанько А.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Русский язык (2 лин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Авторы:  Зеленина Л.М., Хохлова Т.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Авторы:  Канакина В.П., Горецкий В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Литературное чтениe. Автор  Климанова Л.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Математика. Авторы:  Моро М.И.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Окружающий мир. Автор Плешаков А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Изобразительное искусство (2 лин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Авторы:  Неменская Л.А.(1 класс и 4 класс); Коротеева Е.И. (2 класс); Горяева Н.А., Неменская Л.А., Питерских А.С. (3 класс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Авторы:  Шпикалова Т.Я. (1 класс); Шпикалова Т.Я., Ершова Л.В. (2 класс и 4 класс); Шпикалова Т.Я., Ершова Л.В., Величкина Г. А. (3 класс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4449600" y="166032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4449600" y="300348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4401360" y="4365360"/>
            <a:ext cx="34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0" y="5857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"/>
          <p:cNvSpPr/>
          <p:nvPr/>
        </p:nvSpPr>
        <p:spPr>
          <a:xfrm>
            <a:off x="1066680" y="160020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Деятельностный подход во всех учебниках реализуется частично, например, в тех предметных областях, где есть рабочие тетради на печатной основ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Рисунок 15" descr="gar1azb.jpg"/>
          <p:cNvPicPr/>
          <p:nvPr/>
        </p:nvPicPr>
        <p:blipFill>
          <a:blip r:embed="rId1"/>
          <a:stretch/>
        </p:blipFill>
        <p:spPr>
          <a:xfrm>
            <a:off x="409680" y="4800600"/>
            <a:ext cx="1371600" cy="178128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16" descr="gar1buk.jpg"/>
          <p:cNvPicPr/>
          <p:nvPr/>
        </p:nvPicPr>
        <p:blipFill>
          <a:blip r:embed="rId2"/>
          <a:stretch/>
        </p:blipFill>
        <p:spPr>
          <a:xfrm>
            <a:off x="2286000" y="4794120"/>
            <a:ext cx="1219320" cy="179712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17" descr="gar1propbet.jpg"/>
          <p:cNvPicPr/>
          <p:nvPr/>
        </p:nvPicPr>
        <p:blipFill>
          <a:blip r:embed="rId3"/>
          <a:stretch/>
        </p:blipFill>
        <p:spPr>
          <a:xfrm>
            <a:off x="4038480" y="4800600"/>
            <a:ext cx="1427400" cy="186696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18" descr="gar1propsol.jpg"/>
          <p:cNvPicPr/>
          <p:nvPr/>
        </p:nvPicPr>
        <p:blipFill>
          <a:blip r:embed="rId4"/>
          <a:stretch/>
        </p:blipFill>
        <p:spPr>
          <a:xfrm>
            <a:off x="5867280" y="4800600"/>
            <a:ext cx="1435320" cy="183816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19" descr="gar1rus.jpg"/>
          <p:cNvPicPr/>
          <p:nvPr/>
        </p:nvPicPr>
        <p:blipFill>
          <a:blip r:embed="rId5"/>
          <a:stretch/>
        </p:blipFill>
        <p:spPr>
          <a:xfrm>
            <a:off x="7620120" y="4876920"/>
            <a:ext cx="1376280" cy="176184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6"/>
          <p:cNvSpPr/>
          <p:nvPr/>
        </p:nvSpPr>
        <p:spPr>
          <a:xfrm>
            <a:off x="380880" y="440640"/>
            <a:ext cx="830592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«Гармония» (научный руководитель - Н.Б. Истомин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Обучение грамоте и чтению (2 линии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Азбука. Авторы:  Бетенькова Н.М., Горецкий В.Г.,    Фонин Д.С.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Букварь. Авторы:  Соловейчик М.С., Кузьменко Н.С., Бетенькова Н.М., Курлыгина О.Е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Русский язык. Авторы: Соловейчик М.С.,    Кузьменко Н.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Литературное чтение. Автор  Кубасова О.В.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Математика. Автор  Истомина Н.Б.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Окружающий мир. Авторы:  Поглазова О.Т., Шилин В.Д.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Технология. Автор Н.М. Коныше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4449600" y="165096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4433400" y="298440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4433400" y="431784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433400" y="562284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3"/>
          <p:cNvSpPr/>
          <p:nvPr/>
        </p:nvSpPr>
        <p:spPr>
          <a:xfrm>
            <a:off x="152280" y="304920"/>
            <a:ext cx="8686800" cy="65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www.omc-sinergi.ru/index.php?folder=1&amp;lab=5&amp;dir_id=9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методический цент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(здесь даны краткие характеристики всех УМ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В настоящее время педагоги начальной школы России осуществляют процесс обучения по следующим учебно-методическим комплекта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1. УМК  образовательной системы Д. Б. Эльконина – В. В. Давыд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2. УМК образовательной системы Л. В. Занк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3. УМК «Классическая начальная школ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4. УМК «Начальная школа 21 век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5. УМК «Школа 2000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6. УМК «Школа Росси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7. УМК «Гармония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8. УМК «Планета знаний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9. УМК «Перспективная начальная школ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10. УМК «Перспекти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533520" y="122256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Комплект «Гармония» частично реализует деятельностный подход, в частности это проявляется в подаче учебного материала и системе заданий по русскому языку и математи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Рисунок 37" descr="pzn1rus.jpg"/>
          <p:cNvPicPr/>
          <p:nvPr/>
        </p:nvPicPr>
        <p:blipFill>
          <a:blip r:embed="rId1"/>
          <a:stretch/>
        </p:blipFill>
        <p:spPr>
          <a:xfrm>
            <a:off x="7620120" y="4724280"/>
            <a:ext cx="1137960" cy="148608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38" descr="pzn1prop.jpg"/>
          <p:cNvPicPr/>
          <p:nvPr/>
        </p:nvPicPr>
        <p:blipFill>
          <a:blip r:embed="rId2"/>
          <a:stretch/>
        </p:blipFill>
        <p:spPr>
          <a:xfrm>
            <a:off x="7529400" y="2743200"/>
            <a:ext cx="1176480" cy="147636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39" descr="pzn1buk.jpg"/>
          <p:cNvPicPr/>
          <p:nvPr/>
        </p:nvPicPr>
        <p:blipFill>
          <a:blip r:embed="rId3"/>
          <a:stretch/>
        </p:blipFill>
        <p:spPr>
          <a:xfrm>
            <a:off x="7543800" y="638280"/>
            <a:ext cx="1171440" cy="153360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4"/>
          <p:cNvSpPr/>
          <p:nvPr/>
        </p:nvSpPr>
        <p:spPr>
          <a:xfrm>
            <a:off x="533520" y="329400"/>
            <a:ext cx="678168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8.  «Планета знаний» (под редакцией И.А. Петрово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Обучение грамоте и чт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Букварь.  Автор  Андрианова Т.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Русский язык. 1 класс - авторы:  Андрианова Т.М. и Илюхина В.А.; 2-4 класс - автор Желтовская Л.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Литературное чтение.  Автор Кац Э.Э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Математика.  Авторы:  Башмаков М.И., Нефедова М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Окружающий мир.  1-2 класс - авторы: Потапов И.В., Ивченкова Г.Г.; 3-4 класс - авторы:  Потапов И.В., Ивченкова Г.Г., Саплина Е.В., Саплин А.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Английский язык. Авторы: Горячева Н.Ю., Ларькина С.В., Насоновская Е.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Музыка.   Автор Бакланова Т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Изобразительное искусство (1-2 класс). Автор Сокольникова Н.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4449600" y="150804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4449600" y="267948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04920" y="67752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УМК реализует принципы деятельностного подхода с помощью учета ведущих видов деятельности и законов их смены, обогащения, усиления, углубления детского развития, проектирования, конструирования и создания ситуации воспитывающей деятельности, сотрудничества при организации и управлении различными видами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32" descr="per1azb.jpg"/>
          <p:cNvPicPr/>
          <p:nvPr/>
        </p:nvPicPr>
        <p:blipFill>
          <a:blip r:embed="rId1"/>
          <a:stretch/>
        </p:blipFill>
        <p:spPr>
          <a:xfrm>
            <a:off x="457200" y="5181480"/>
            <a:ext cx="1019160" cy="140040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33" descr="per1mat.jpg"/>
          <p:cNvPicPr/>
          <p:nvPr/>
        </p:nvPicPr>
        <p:blipFill>
          <a:blip r:embed="rId2"/>
          <a:stretch/>
        </p:blipFill>
        <p:spPr>
          <a:xfrm>
            <a:off x="3809880" y="5181480"/>
            <a:ext cx="1019160" cy="13813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34" descr="per1okr.jpg"/>
          <p:cNvPicPr/>
          <p:nvPr/>
        </p:nvPicPr>
        <p:blipFill>
          <a:blip r:embed="rId3"/>
          <a:stretch/>
        </p:blipFill>
        <p:spPr>
          <a:xfrm>
            <a:off x="5715000" y="5181480"/>
            <a:ext cx="1019160" cy="143856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35" descr="per1prop.jpg"/>
          <p:cNvPicPr/>
          <p:nvPr/>
        </p:nvPicPr>
        <p:blipFill>
          <a:blip r:embed="rId4"/>
          <a:stretch/>
        </p:blipFill>
        <p:spPr>
          <a:xfrm>
            <a:off x="2057400" y="5181480"/>
            <a:ext cx="1019160" cy="138132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36" descr="per1rus.jpg"/>
          <p:cNvPicPr/>
          <p:nvPr/>
        </p:nvPicPr>
        <p:blipFill>
          <a:blip r:embed="rId5"/>
          <a:stretch/>
        </p:blipFill>
        <p:spPr>
          <a:xfrm>
            <a:off x="7772400" y="5257800"/>
            <a:ext cx="990720" cy="13334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380880" y="247680"/>
            <a:ext cx="83822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9. «Перспективная начальная школа» (научный руководитель -Н.А. Чуракова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Обучение грамоте и чт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Азбука.  Авторы: Агаркова Н.Г., Агарков Ю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Русский язык. 1-2 класс - авторы: Чуракова Н.А. и др.; 3-4 класс- авторы: Каленчук М.Л.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Литературное чтение.  Автор Чуракова Н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Математика.  Автор Чекин А.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Окружающий мир.  Авторы:  Федотова О.Н., Трафимова Г.В., Трафимов С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Технология.   Авторы:  Рагозина Т.М., Гринева А.А., Мылова И.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Информатика. 2-4 класс.  Авторы:  Бененсон Е.П., Паутова А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4449600" y="172692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4449600" y="310824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4449600" y="454644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4449600" y="592776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"/>
          <p:cNvSpPr/>
          <p:nvPr/>
        </p:nvSpPr>
        <p:spPr>
          <a:xfrm>
            <a:off x="228600" y="53496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Основная идея УМК «Перспективная начальная школа» - оптимальное развитие каждого ребенка на основе педагогической поддержки его индивидуальности в условиях специально организованной учебной деятельности. Система заданий разного уровня трудности, сочетание индивидуальной учебной деятельности ребенка с его работой в группах и участием в клубной работе позволяют обеспечить условия, при которых обучение идет впереди развития, т.е. в зоне ближайшего развития каждого ученика на основе учета уровня его актуального развития и личных интересов, что позволяет реализовывать принципы  деятельностного подхода. Также УМК «Перспективная начальная школа» реализует личностно-ориентированный подход к ребенку с опорой на его жизненный опыт, используя общий метод проек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1"/>
          <p:cNvSpPr/>
          <p:nvPr/>
        </p:nvSpPr>
        <p:spPr>
          <a:xfrm>
            <a:off x="609480" y="457200"/>
            <a:ext cx="838512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10. «Перспектив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Петерсон Л.Г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Математика. 1 кл. в 3-х частя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Климанова Л.Ф., Макеева С.Г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Азбука. 1 кл. в 2-х частя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Климанова Л.Ф., Макеева С.Г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Русский язык. 1 кл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Климанова Л.Ф., Горецкий В.Г., Виноградская Л.А.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Литературное чтение. 1 кл. в 2-х частях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Рудченко Т.А. Семёнов А.Л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(под ред. </a:t>
            </a: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Семёнова А.Л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нформатика. 1 кл.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Плешаков А.А, Новицкая М.Ю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Окружающий мир. 1 кл. в 2-х частя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Роговцева Н.И., Богданова Н.В., Фрейтаг И.П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Технология. 1 кл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Критская Е.Д., Сергеева Г.П., Шмагина Т.С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Музыка. 1 кл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Шпикалова Т.Я., Ершова Л.В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зобразительное искусство. 1 кл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Матвеев А.П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Физическая культура. 1 к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Рисунок 2" descr="abvgd.jpg"/>
          <p:cNvPicPr/>
          <p:nvPr/>
        </p:nvPicPr>
        <p:blipFill>
          <a:blip r:embed="rId1"/>
          <a:stretch/>
        </p:blipFill>
        <p:spPr>
          <a:xfrm>
            <a:off x="457200" y="4952880"/>
            <a:ext cx="1171440" cy="15242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3" descr="literaturnoe_chtenie_uchebnik_1chast'_1klass.jpg"/>
          <p:cNvPicPr/>
          <p:nvPr/>
        </p:nvPicPr>
        <p:blipFill>
          <a:blip r:embed="rId2"/>
          <a:stretch/>
        </p:blipFill>
        <p:spPr>
          <a:xfrm>
            <a:off x="2514600" y="4952880"/>
            <a:ext cx="1171440" cy="152424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4" descr="Propisi_1.jpg"/>
          <p:cNvPicPr/>
          <p:nvPr/>
        </p:nvPicPr>
        <p:blipFill>
          <a:blip r:embed="rId3"/>
          <a:stretch/>
        </p:blipFill>
        <p:spPr>
          <a:xfrm>
            <a:off x="4724280" y="4952880"/>
            <a:ext cx="1238400" cy="152424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5" descr="rsuch.jpg"/>
          <p:cNvPicPr/>
          <p:nvPr/>
        </p:nvPicPr>
        <p:blipFill>
          <a:blip r:embed="rId4"/>
          <a:stretch/>
        </p:blipFill>
        <p:spPr>
          <a:xfrm>
            <a:off x="6934320" y="5029200"/>
            <a:ext cx="1171440" cy="1523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"/>
          <p:cNvSpPr/>
          <p:nvPr/>
        </p:nvSpPr>
        <p:spPr>
          <a:xfrm>
            <a:off x="228600" y="16920"/>
            <a:ext cx="8610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Учебники УМК формируют интерес детей к истории своей семьи, малой и большой Родины, традициям и обычаям народов России, культурному наследию, трудовой деятельности и т.д. В учебники включен теоретический материал, к которому предложены практические, исследовательские и творческие задания, которые позволяют активизировать деятельность ребенка, позволяют применять полученные знания в практической деятельности, создают условия для реализации творческого потенциала учени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 учебниках УМК «Перспектива» большое внимание уделяется нравственно-этическому формированию личн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Реализуются принципы опережающего обу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304920" y="38700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Можно увидеть, что не все УМК представляют достаточно полную методическую и содержательную базу для освоения новых принципов ФГОС, поэтому должны быть обязательно доработаны в соответствии с требованиями нового станда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28600" y="1676520"/>
          <a:ext cx="8763120" cy="4952880"/>
        </p:xfrm>
        <a:graphic>
          <a:graphicData uri="http://schemas.openxmlformats.org/drawingml/2006/table">
            <a:tbl>
              <a:tblPr/>
              <a:tblGrid>
                <a:gridCol w="907920"/>
                <a:gridCol w="714600"/>
                <a:gridCol w="714240"/>
                <a:gridCol w="687600"/>
                <a:gridCol w="447480"/>
                <a:gridCol w="447840"/>
                <a:gridCol w="447480"/>
                <a:gridCol w="727200"/>
                <a:gridCol w="669960"/>
                <a:gridCol w="660240"/>
                <a:gridCol w="514440"/>
                <a:gridCol w="571320"/>
                <a:gridCol w="681120"/>
                <a:gridCol w="571680"/>
              </a:tblGrid>
              <a:tr h="19188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УМ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1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стема Д.Б. Эльконина – В.В. Давыдова.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стема Л.В. Занков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«Классическая начальная школа»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«Начальная школа 21 века»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«Школа 2100»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«Школа России»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Частично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Частично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Частично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Мало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Частично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</a:tr>
              <a:tr h="31752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«Гармония»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Частично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Частично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</a:tr>
              <a:tr h="31752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«Планета знаний»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Частично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   </a:t>
                      </a: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</a:tr>
              <a:tr h="63504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«Перспективная начальная школа»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«Перспектива»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</a:tr>
            </a:tbl>
          </a:graphicData>
        </a:graphic>
      </p:graphicFrame>
      <p:sp>
        <p:nvSpPr>
          <p:cNvPr id="3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1"/>
          <p:cNvSpPr/>
          <p:nvPr/>
        </p:nvSpPr>
        <p:spPr>
          <a:xfrm>
            <a:off x="0" y="152280"/>
            <a:ext cx="91440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Если ранее учебник должен был соответствовать основному содержательному минимуму стандарта, то сейчас этого содержания в стандарте нет. Новый стандарт представляет собой систему требований к результатам освоения основной образовательной программы (ООП), к структуре ООП, к условиям, в которых эти результаты должны быть достигнуты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В период перехода с одного стандарта на другой особенно актуальным становится вопрос о том, какие учебно-методические комплекты соответствуют идеологии ФГОС, а в частности,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Century Gothic"/>
              </a:rPr>
              <a:t>принципам системно-деятельностного подх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Был предложен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Century Gothic"/>
              </a:rPr>
              <a:t>вопросник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по основным направлениям нового стандарта с целью определения, насколько каждый из УМК отражает идеологию ФГОС НОО: формируются ли средствами УМК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Century Gothic"/>
              </a:rPr>
              <a:t>основы умения учиться и способность к организации собственной учебной  деятельности обучающихся в начальной школе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0" y="0"/>
            <a:ext cx="9144000" cy="69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опросник по учебно-методическим комплекта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на соответствие ФГОС НО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1. Каким образом данный УМК  реализует принципы деятельностного подход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2. Имеет ли УМК проблемный характер изложения содержания, требующий деятельностного подход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3. Как структура отдельного учебника обеспечивает разнообразие форм организации учебной деятельност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4. Видите ли вы систему в разнообразии форм организации учебной деятельности, представленных в УМК? В чем она заключаетс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5. Обеспечивает ли УМК сочетание результатов (предметных, метапредметных и личностных) освоения программы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6. Отражает ли данный УМК интересы и потребности современного ребенка? В чем это выражаетс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7. Предлагает ли УМК механизм оценивания, который позволяет отследить динамику личных достижений учеников? Если – да, то в чем это выражаетс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8. Приведите примеры учебных заданий, которые обеспечивают формирование УУД. Представьте в примерах все группы УУ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9. Каким образом в данном УМК формируется детская самостоятельнос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10. Каким образом в УМК формируются действия контрол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11. Считаете ли вы, что данный УМК действительно создает условия для мотивации ученика к учению? Если – да, то каким образом это делаетс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12. Каким образом в УМК представлено учебное сотрудничество с целью «достижения личностного, социального и познавательного развития обучающихся»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13. Каким образом данный УМК обеспечивает условия для индивидуального развития всех обучающихся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14. Есть ли у Вас потребность в смене УМК в связи с переходом на ФГОС НОО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1"/>
          <p:cNvSpPr/>
          <p:nvPr/>
        </p:nvSpPr>
        <p:spPr>
          <a:xfrm>
            <a:off x="0" y="152280"/>
            <a:ext cx="914400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Универсальные учебные 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Развитие личности в системе образования обеспечивается, прежде всего, через формирование  универсальных учебных действий (УУД), которые выступают основой образовательного и воспитательного процесс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В широком значении термин «универсальные учебные действия» означает умение учиться, т.е. способность субъекта к саморазвитию и самосовершенствованию путем сознательного и активного присвоения нового социального опы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В более узком (собственно психологическом значении) термин «универсальные учебные действия» можно определить как совокупность способов действия учащегося (а также связанных с ними навыков учебной работы), обеспечивающих его способность к самостоятельному усвоению новых знаний и умений, включая организацию этого процесс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entury Gothic"/>
              </a:rPr>
              <a:t>ПРИЛОЖЕНИЕ:                              1.  Классификация УУ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entury Gothic"/>
              </a:rPr>
              <a:t>2. Планируемые результаты по формированию УУД  выпускников начальной шк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467920" cy="31273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0" y="0"/>
            <a:ext cx="9144000" cy="65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Система начального образования Д.Б. Эльконина - В.В.      Давыдова (научный руководитель - Б.Д. Эльконин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Обучение грамоте и чтению (2 лин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Букварь. Авторы: Репкин В.В,Восторгова Е.В.,Левин В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Букварь. Авторы: Эльконин Д.Б., Цукерман Г.А., Бугрименко Е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Русский язык (2 лин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вторы: Репкин В.В., Восторгова Е.В., Некрасова Т.В.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вторы: Ломакович С.В., Тимченко Л.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Литературное чтение (2 лин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вторы: Кудина Г.Н., Новлянская З.Н.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втор Матвеева Е.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Математика (2 лин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вторы:  Давыдов В.В., Горбов С.Ф., Микулина Г.Г., О.В. Савелье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втор Александрова Э.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Окружающий мир. Авторы:  Чудинова Е.В., Букварева Е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Рисунок 2" descr="47d902b336.jpg"/>
          <p:cNvPicPr/>
          <p:nvPr/>
        </p:nvPicPr>
        <p:blipFill>
          <a:blip r:embed="rId1"/>
          <a:stretch/>
        </p:blipFill>
        <p:spPr>
          <a:xfrm>
            <a:off x="7848720" y="304920"/>
            <a:ext cx="1143000" cy="174312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3" descr="89c16610d7.jpg"/>
          <p:cNvPicPr/>
          <p:nvPr/>
        </p:nvPicPr>
        <p:blipFill>
          <a:blip r:embed="rId2"/>
          <a:stretch/>
        </p:blipFill>
        <p:spPr>
          <a:xfrm>
            <a:off x="7696080" y="4876920"/>
            <a:ext cx="1208160" cy="174600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2a1bdb3264.jpg"/>
          <p:cNvPicPr/>
          <p:nvPr/>
        </p:nvPicPr>
        <p:blipFill>
          <a:blip r:embed="rId3"/>
          <a:stretch/>
        </p:blipFill>
        <p:spPr>
          <a:xfrm>
            <a:off x="7696080" y="2362320"/>
            <a:ext cx="1219320" cy="1743120"/>
          </a:xfrm>
          <a:prstGeom prst="rect">
            <a:avLst/>
          </a:prstGeom>
          <a:ln w="0">
            <a:noFill/>
          </a:ln>
        </p:spPr>
      </p:pic>
      <p:sp>
        <p:nvSpPr>
          <p:cNvPr id="314" name="TextBox 5"/>
          <p:cNvSpPr/>
          <p:nvPr/>
        </p:nvSpPr>
        <p:spPr>
          <a:xfrm>
            <a:off x="0" y="60199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Реализуются принципы развивающего обуч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762120" y="107928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Данный УМК полностью реализует принципы деятельностного подхода, обеспечивая участие ребенка в учебном процессе как субъекта учебн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Содержание учебников комплекта обеспечивает организацию работы в группе для решения проблемной ситуации, что сопряжено с непосредственной деятельностью каждого учени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Учебники насыщены вопросами и заданиями для самостоятельной работы. Большое количество заданий творческого характе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1"/>
          <p:cNvSpPr/>
          <p:nvPr/>
        </p:nvSpPr>
        <p:spPr>
          <a:xfrm>
            <a:off x="457200" y="228600"/>
            <a:ext cx="853452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истема начального образования Л.В. Занкова (научный руководитель - Н.В. Нечаев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Обучение грамоте и чтен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збука. Авторы: Нечаева Н.В., Белорусец К.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Русский язык. Автор Нечаева Н.В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Литературное чтение (2 лин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втор Свиридова В.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втор Лазарева В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Математика (2 лин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вторы:  Аргинская И.И., Бененсон Е.П., Итина Л.С.(1 класс) и Аргинская И.И., Ивановская Е.И., Кормишина С.Н. (2-4 класс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втор Ванцян А.Г. (1 класс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Окружающий мир. Авторы:  Дмитриева Н.Я., Казаков А.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Технология. Авторы: Цирулик Н.А., Проснякова Т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Музыка. Автор Ригина Г.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Реализуются принципы развивающего обуч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Рисунок 2" descr="zan1azb.jpg"/>
          <p:cNvPicPr/>
          <p:nvPr/>
        </p:nvPicPr>
        <p:blipFill>
          <a:blip r:embed="rId1"/>
          <a:stretch/>
        </p:blipFill>
        <p:spPr>
          <a:xfrm>
            <a:off x="457200" y="5397480"/>
            <a:ext cx="1143000" cy="146052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3" descr="zan1prop.jpg"/>
          <p:cNvPicPr/>
          <p:nvPr/>
        </p:nvPicPr>
        <p:blipFill>
          <a:blip r:embed="rId2"/>
          <a:stretch/>
        </p:blipFill>
        <p:spPr>
          <a:xfrm>
            <a:off x="2133720" y="5361120"/>
            <a:ext cx="1197000" cy="149688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4" descr="zan1lit2.jpg"/>
          <p:cNvPicPr/>
          <p:nvPr/>
        </p:nvPicPr>
        <p:blipFill>
          <a:blip r:embed="rId3"/>
          <a:stretch/>
        </p:blipFill>
        <p:spPr>
          <a:xfrm>
            <a:off x="4191120" y="5413320"/>
            <a:ext cx="1096920" cy="144468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5" descr="zan1rus.jpg"/>
          <p:cNvPicPr/>
          <p:nvPr/>
        </p:nvPicPr>
        <p:blipFill>
          <a:blip r:embed="rId4"/>
          <a:stretch/>
        </p:blipFill>
        <p:spPr>
          <a:xfrm>
            <a:off x="6172200" y="5437080"/>
            <a:ext cx="1147680" cy="1420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5:45:14Z</dcterms:created>
  <dc:creator>Александр</dc:creator>
  <dc:description/>
  <dc:language>en-US</dc:language>
  <cp:lastModifiedBy>Анатолий</cp:lastModifiedBy>
  <dcterms:modified xsi:type="dcterms:W3CDTF">2012-07-25T18:14:55Z</dcterms:modified>
  <cp:revision>30</cp:revision>
  <dc:subject/>
  <dc:title>УМК  начальной школы</dc:title>
</cp:coreProperties>
</file>