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39C-4FB5-4CFE-BEA5-9A341D4C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D8C-015F-4C12-8EBA-74DBC3A8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DE2-2029-4EFE-90A1-2C253704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3DE-CBDB-45F4-8473-6597C091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26C2-14F6-433E-825E-18723758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70FF-4DF8-4041-B731-C04E503D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E59A-1638-4341-90EE-E399AD8A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DCE0-FE3E-41D5-BA8F-EF363665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2771-1A5F-4816-A30C-7AD0CF1B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B052-3230-4218-A6E8-38A94E45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EC66-0BBE-48EB-A2AC-F928F698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4D7-8C68-47EA-92FF-1D2A9A34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2FC3-0658-437D-8CCE-63BC67E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E35F-0467-452C-A352-CA40C3ED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3952-43FA-4670-9E23-86C1380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E088-BC9F-4124-B197-ACC96D41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DA9A-F41C-4240-86EF-29B72CB7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2529-17F0-4E17-89B6-1D7CBAA4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A18C-3F88-4B2F-A016-10F4DE05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8496-9DB7-4B48-8BD5-33B65D46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E7EE6-77C3-4A01-BC1F-5D5D3C04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AB81-A9D1-4DC1-9DC4-A32FC3C7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4DB8-F0B7-4BA0-84B0-E43DEB0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6A37-AF90-486B-B3AA-CC05375A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A8B2-338C-4CBA-8F2C-0DDC780C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57566-033A-4C53-93AA-2DC1B79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30BF-7F1D-4451-9F8E-5FB43EB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095E-FC14-4B2F-973E-190DF637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E5A54-7C6F-4BB7-A4CF-4F78D122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8FAB-3936-4AFB-9FA9-20D8E8D5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39D26-0F9F-430B-90D5-3FA12D9F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BFD56-D701-4FC8-A788-4055293C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17CF4-EC02-441C-9365-FC4B9227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26D-E7E5-47C2-AD3A-2EE4A1C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90D3-2771-4FDD-BDF3-CB2C3DA7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33E8-C181-40ED-906B-58930E5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2B81-CD2C-4938-B04F-25D578BE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8D8D-2A10-4F50-A186-9A81DD3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2B0B-5DC2-4D15-9C90-0AE636F0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7138-2B84-4D68-BC94-A9C195B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DB16A-2DDE-434A-B525-ABD85505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ACC45-B805-40B4-9F60-C4456DFF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13D54-A9AA-4909-97BB-A5BA3210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A9930-8606-4F0F-8128-238A3368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A82-74BF-4B32-82FF-D43EE807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BEB5-7069-4C59-8FBA-9DF84F8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C56D7-1188-4BFB-9E62-D4873C72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1289B-DA50-4439-BEFE-DD0A23A5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5A65-2783-4209-9CCD-A2BF76C2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FD602-4B70-438B-B2CF-F6FF4E38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298A2-C6D9-4502-A3BF-2AAB9281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1DD24-8EFD-44EC-97E0-727CAD7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90A39-2CD6-46F4-8ED4-B5F0961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4FB94-515B-4745-AB99-2DBF8B1C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56876-9EC1-44CD-B3AF-E78BE012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8FF-432D-42B2-8C3D-16C8FF56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97D5-9AAD-4AD2-8E0D-D4D98198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F17D2-BD82-4726-9F9E-51ACD51A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178A-9165-4740-BB38-89933052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2EF11-05D7-4D75-8937-0C6B68AC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B868-9BF0-4787-9CAE-EA019EC3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17471-1BBC-4C22-BF7C-3155EA8E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70250-E3FD-4F21-B3E8-35416B1F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C59E1-F1A7-466F-8D1B-12E99D92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08F05-A4B0-4339-B943-2E47D0AD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610CA-BFC2-4C3C-95BB-9B10D1F8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9FD-7C9E-45CE-9D13-E39B63A4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224B7-3DCA-4E70-BD57-65E709CA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D4F18-9426-4BED-B795-B5653A00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37695-A640-47FA-8819-026A13C6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01733-5018-4D28-AA65-4FE2F45F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4B867-9960-49FA-9A35-1E0EA1B6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271D9-C907-46ED-A751-8FA345C3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915D-0AD3-4EEE-A4B0-1D858668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8E331-DC02-4D8A-B154-C6322F2F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3BACC-FCCA-4855-A1BC-0C41E7B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9A4E-733C-46AF-98ED-11489E10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416-67AE-462A-87F9-CAB0DB4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612A2-2443-45F9-B17C-AACD8F8C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FCFE-446F-48DF-A87A-6767998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37B0A-0F79-45AD-AAFE-7F5884E5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6C5E1-2837-40C8-B2A4-81088274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F049-7DAE-44E4-8E72-631E59E5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622-1BAD-4053-AFE7-B417C75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F1D0-C5CE-47CC-9751-FD41EC8D14B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9168-38C1-4291-B1BB-3DCDCEA5864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0A66-1779-4CBD-BFDD-E3177A412FC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A06E-536F-42C1-BD30-4DC738B459E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BE33-912A-4255-A5D1-5C61B9FCD6F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3655-2206-4E32-B4C7-C65F6C4BF96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98E9-7F7C-4891-ADE7-4D7ABB84DF0B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mc-sinergi.ru/index.php?folder=1&amp;lab=5&amp;dir_id=9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6" descr=""/>
          <p:cNvPicPr/>
          <p:nvPr/>
        </p:nvPicPr>
        <p:blipFill>
          <a:blip r:embed="rId1"/>
          <a:stretch/>
        </p:blipFill>
        <p:spPr>
          <a:xfrm>
            <a:off x="-6480" y="285840"/>
            <a:ext cx="10045800" cy="19638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7" descr=""/>
          <p:cNvPicPr/>
          <p:nvPr/>
        </p:nvPicPr>
        <p:blipFill>
          <a:blip r:embed="rId2"/>
          <a:stretch/>
        </p:blipFill>
        <p:spPr>
          <a:xfrm>
            <a:off x="536400" y="2816280"/>
            <a:ext cx="8467920" cy="119520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9"/>
          <p:cNvSpPr/>
          <p:nvPr/>
        </p:nvSpPr>
        <p:spPr>
          <a:xfrm>
            <a:off x="0" y="63244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©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азунова И. З. 20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28600" y="10756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Принцип деятельности заключается в том, что ученик получает знания не в готовом виде, а добывает их сам. Деятельность ученика направлена не на получение результата – ответа, а на процесс решения. Выполнение отдельно взятого задания открывает перед учеником перспективу понимания и установления способа решения аналогичных или типовых учебных ситуаций, способствует переносу знания на нестандартную ситуац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27" descr="clas1azb.jpg"/>
          <p:cNvPicPr/>
          <p:nvPr/>
        </p:nvPicPr>
        <p:blipFill>
          <a:blip r:embed="rId1"/>
          <a:stretch/>
        </p:blipFill>
        <p:spPr>
          <a:xfrm>
            <a:off x="7238880" y="4608360"/>
            <a:ext cx="1247760" cy="18781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28" descr="clas1prop.jpg"/>
          <p:cNvPicPr/>
          <p:nvPr/>
        </p:nvPicPr>
        <p:blipFill>
          <a:blip r:embed="rId2"/>
          <a:stretch/>
        </p:blipFill>
        <p:spPr>
          <a:xfrm>
            <a:off x="5486400" y="4492800"/>
            <a:ext cx="1371600" cy="18507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29" descr="clas1okr.jpg"/>
          <p:cNvPicPr/>
          <p:nvPr/>
        </p:nvPicPr>
        <p:blipFill>
          <a:blip r:embed="rId3"/>
          <a:stretch/>
        </p:blipFill>
        <p:spPr>
          <a:xfrm>
            <a:off x="3657600" y="4495680"/>
            <a:ext cx="122868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30" descr="clas1mat.jpg"/>
          <p:cNvPicPr/>
          <p:nvPr/>
        </p:nvPicPr>
        <p:blipFill>
          <a:blip r:embed="rId4"/>
          <a:stretch/>
        </p:blipFill>
        <p:spPr>
          <a:xfrm>
            <a:off x="1981080" y="4495680"/>
            <a:ext cx="1247760" cy="16495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31" descr="clas1rus.jpg"/>
          <p:cNvPicPr/>
          <p:nvPr/>
        </p:nvPicPr>
        <p:blipFill>
          <a:blip r:embed="rId5"/>
          <a:stretch/>
        </p:blipFill>
        <p:spPr>
          <a:xfrm>
            <a:off x="304920" y="4495680"/>
            <a:ext cx="1247760" cy="17146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533520" y="17640"/>
            <a:ext cx="8610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3.  «Классическая нача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Литературное чтение. Чтение и литература». Автор  Джежелей О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Русский язык». Автор  Рамзаева Т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Математика». Автор  Александрова Э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Окружающий мир. Мир и человек». Авторы: Вахрушев А.А.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Окружающий мир. Введение в историю». Авторы:  Саплина Е.В., Саплин А.И. (3-4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Изобразительное искусство». Авторы:  Кузин В.С., Кубышкина Э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Технология. Своими руками». Автор Малышева Н.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«Музыка». Авторы:  Алеев В.В., Кичак Т.Н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433400" y="186048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433400" y="340344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433400" y="485136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449600" y="629892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228600" y="1213560"/>
            <a:ext cx="845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Основной принцип, реализуемый УМК «Классическая начальная школа» – это принцип единства сознания и деятельности. Учащиеся работают по схеме: делаю-осознаю-руковожу следующими действиями. Часть заданий комплекта – это поэтапное выполнение действий (работа по алгоритму). Следующий принцип – это опора на ведущую деятельность (учение). А также реализуется принцип опережающего развития, опирающийся на зону ближайшего разви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0" descr="342833.jpg"/>
          <p:cNvPicPr/>
          <p:nvPr/>
        </p:nvPicPr>
        <p:blipFill>
          <a:blip r:embed="rId1"/>
          <a:stretch/>
        </p:blipFill>
        <p:spPr>
          <a:xfrm>
            <a:off x="7696080" y="4800600"/>
            <a:ext cx="1295640" cy="16938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" descr="360861.jpg"/>
          <p:cNvPicPr/>
          <p:nvPr/>
        </p:nvPicPr>
        <p:blipFill>
          <a:blip r:embed="rId2"/>
          <a:stretch/>
        </p:blipFill>
        <p:spPr>
          <a:xfrm>
            <a:off x="7772400" y="228600"/>
            <a:ext cx="1219320" cy="164952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" descr="472702.jpg"/>
          <p:cNvPicPr/>
          <p:nvPr/>
        </p:nvPicPr>
        <p:blipFill>
          <a:blip r:embed="rId3"/>
          <a:stretch/>
        </p:blipFill>
        <p:spPr>
          <a:xfrm>
            <a:off x="7696080" y="2362320"/>
            <a:ext cx="1447920" cy="1900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4"/>
          <p:cNvSpPr/>
          <p:nvPr/>
        </p:nvSpPr>
        <p:spPr>
          <a:xfrm>
            <a:off x="304920" y="616320"/>
            <a:ext cx="7315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4.  «Начальная школа XXI века» (научный руководитель - Н.Ф. Виноградов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Букварь. Авторы:  Журова Л.Е., Евдокимова О.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Авторы:  Иванов С.В., Евдокимова О.А., Кузнецова М.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Автор Ефросинина Л.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Авторы:  Рудницкая В.Н. и др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Авторы: Виноградова Н.Ф.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Технология. Автор Лутцева Е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Музыка. Авторы: Усачева В.О., Школяр Л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зобразительное искусство. Авторы: Савенкова Л.Г., Ермолинская Е.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890600" y="14605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4874760" y="2593800"/>
            <a:ext cx="30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"/>
          <p:cNvSpPr/>
          <p:nvPr/>
        </p:nvSpPr>
        <p:spPr>
          <a:xfrm>
            <a:off x="457200" y="99756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УМК «Школа 21 века» реализует принципы деятельностного подхода: дети сами делают открытия, система заданий позволяет высказать разные точки зрения; но не всегда новое знание открывает сам уче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УМК имеет проблемный характер изложения содержания, требующий деятельностного под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20" descr="bukvar.jpg"/>
          <p:cNvPicPr/>
          <p:nvPr/>
        </p:nvPicPr>
        <p:blipFill>
          <a:blip r:embed="rId1"/>
          <a:stretch/>
        </p:blipFill>
        <p:spPr>
          <a:xfrm>
            <a:off x="914400" y="4876920"/>
            <a:ext cx="1295280" cy="16272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21" descr="propis_1k.jpg"/>
          <p:cNvPicPr/>
          <p:nvPr/>
        </p:nvPicPr>
        <p:blipFill>
          <a:blip r:embed="rId2"/>
          <a:stretch/>
        </p:blipFill>
        <p:spPr>
          <a:xfrm>
            <a:off x="7315200" y="4800600"/>
            <a:ext cx="1160640" cy="17715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22" descr="ry_2k_1.jpg"/>
          <p:cNvPicPr/>
          <p:nvPr/>
        </p:nvPicPr>
        <p:blipFill>
          <a:blip r:embed="rId3"/>
          <a:stretch/>
        </p:blipFill>
        <p:spPr>
          <a:xfrm>
            <a:off x="3886200" y="4889520"/>
            <a:ext cx="1447920" cy="17589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4"/>
          <p:cNvSpPr/>
          <p:nvPr/>
        </p:nvSpPr>
        <p:spPr>
          <a:xfrm>
            <a:off x="304920" y="538920"/>
            <a:ext cx="883908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5.     «Школа 2000...» - «Школа 2100» (научный руководитель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Л.Г. Петерсо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Букварь.  Авторы:  Бунеев Р.Н., Бунеева Е.В., Пронина О.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  Авторы:   Бунеев Р.Н., Бунеева Е.В., Пронина О.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  Авторы:   Бунеев Р.Н., Бунеева Е.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  Авторы:  Демидова Т.Е., Козлова С.А., Тонких А.П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 Авторы:  Вахрушев А.А., Бурский О.В., Раутиан А.С. (1-2 класс) и  Вахрушев А.А., Данилов Д.Д., Бурский О.В. и др. С.В. (3-4 кл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нформатика.  Автор Горячев А.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Технология.  Авторы:  Куревина О.А., Лутцева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зобразит искусство.   Авторы:  Куревина О.А., Ковалевская Е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иторика. Автор Ладыженская Т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4417560" y="2479680"/>
            <a:ext cx="30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4433400" y="463212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0" y="6915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838080" y="6094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ткрытый учебно-методический комплект «Школа 2100» для начальной школы построен на технологической основе дидактической системы деятельностного метода «Школа 2000…» автора Л.Г. Петерсон. Он содержит теоретическую концепцию формирования у учащихся универсальных учебных действий, реализующую системно-деятельностный подх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ехнология деятельностного метода − это описание управления учителем системного прохождения каждым учащимся целостной структуры − всех шагов учеб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Рисунок 23" descr="ros1azb.jpg"/>
          <p:cNvPicPr/>
          <p:nvPr/>
        </p:nvPicPr>
        <p:blipFill>
          <a:blip r:embed="rId1"/>
          <a:stretch/>
        </p:blipFill>
        <p:spPr>
          <a:xfrm>
            <a:off x="7924680" y="3657600"/>
            <a:ext cx="1019160" cy="133344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24" descr="ros1prop.jpg"/>
          <p:cNvPicPr/>
          <p:nvPr/>
        </p:nvPicPr>
        <p:blipFill>
          <a:blip r:embed="rId2"/>
          <a:stretch/>
        </p:blipFill>
        <p:spPr>
          <a:xfrm>
            <a:off x="7848720" y="2057400"/>
            <a:ext cx="1019160" cy="134316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25" descr="ros1rus.jpg"/>
          <p:cNvPicPr/>
          <p:nvPr/>
        </p:nvPicPr>
        <p:blipFill>
          <a:blip r:embed="rId3"/>
          <a:stretch/>
        </p:blipFill>
        <p:spPr>
          <a:xfrm>
            <a:off x="7848720" y="228600"/>
            <a:ext cx="1019160" cy="13622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26" descr="ros1rus2.jpg"/>
          <p:cNvPicPr/>
          <p:nvPr/>
        </p:nvPicPr>
        <p:blipFill>
          <a:blip r:embed="rId4"/>
          <a:stretch/>
        </p:blipFill>
        <p:spPr>
          <a:xfrm>
            <a:off x="8001000" y="5334120"/>
            <a:ext cx="952560" cy="1361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5"/>
          <p:cNvSpPr/>
          <p:nvPr/>
        </p:nvSpPr>
        <p:spPr>
          <a:xfrm>
            <a:off x="304920" y="558000"/>
            <a:ext cx="73152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«Школа России» (под редакцией А.А. Плешаков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Русская азбука. Авторы:  Горецкий В.Г., Кирюшкин В.А., Шанько А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вторы:  Зеленина Л.М., Хохлова Т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вторы:  Канакина В.П., Горецкий В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e. Автор  Климанова Л.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Авторы:  Моро М.И.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Автор Плешаков А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зобразительное искусство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вторы:  Неменская Л.А.(1 класс и 4 класс); Коротеева Е.И. (2 класс); Горяева Н.А., Неменская Л.А., Питерских А.С. (3 кл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вторы:  Шпикалова Т.Я. (1 класс); Шпикалова Т.Я., Ершова Л.В. (2 класс и 4 класс); Шпикалова Т.Я., Ершова Л.В., Величкина Г. А. (3 кл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4449600" y="166032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4449600" y="300348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4401360" y="4365360"/>
            <a:ext cx="34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0" y="585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066680" y="16002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еятельностный подход во всех учебниках реализуется частично, например, в тех предметных областях, где есть рабочие тетради на печатной основ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5" descr="gar1azb.jpg"/>
          <p:cNvPicPr/>
          <p:nvPr/>
        </p:nvPicPr>
        <p:blipFill>
          <a:blip r:embed="rId1"/>
          <a:stretch/>
        </p:blipFill>
        <p:spPr>
          <a:xfrm>
            <a:off x="409680" y="4800600"/>
            <a:ext cx="1371600" cy="17812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6" descr="gar1buk.jpg"/>
          <p:cNvPicPr/>
          <p:nvPr/>
        </p:nvPicPr>
        <p:blipFill>
          <a:blip r:embed="rId2"/>
          <a:stretch/>
        </p:blipFill>
        <p:spPr>
          <a:xfrm>
            <a:off x="2286000" y="4794120"/>
            <a:ext cx="1219320" cy="17971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17" descr="gar1propbet.jpg"/>
          <p:cNvPicPr/>
          <p:nvPr/>
        </p:nvPicPr>
        <p:blipFill>
          <a:blip r:embed="rId3"/>
          <a:stretch/>
        </p:blipFill>
        <p:spPr>
          <a:xfrm>
            <a:off x="4038480" y="4800600"/>
            <a:ext cx="1427400" cy="186696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8" descr="gar1propsol.jpg"/>
          <p:cNvPicPr/>
          <p:nvPr/>
        </p:nvPicPr>
        <p:blipFill>
          <a:blip r:embed="rId4"/>
          <a:stretch/>
        </p:blipFill>
        <p:spPr>
          <a:xfrm>
            <a:off x="5867280" y="4800600"/>
            <a:ext cx="1435320" cy="183816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19" descr="gar1rus.jpg"/>
          <p:cNvPicPr/>
          <p:nvPr/>
        </p:nvPicPr>
        <p:blipFill>
          <a:blip r:embed="rId5"/>
          <a:stretch/>
        </p:blipFill>
        <p:spPr>
          <a:xfrm>
            <a:off x="7620120" y="4876920"/>
            <a:ext cx="1376280" cy="17618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6"/>
          <p:cNvSpPr/>
          <p:nvPr/>
        </p:nvSpPr>
        <p:spPr>
          <a:xfrm>
            <a:off x="380880" y="440640"/>
            <a:ext cx="830592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«Гармония» (научный руководитель - Н.Б. Истомин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 (2 лини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збука. Авторы:  Бетенькова Н.М., Горецкий В.Г.,    Фонин Д.С.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Букварь. Авторы:  Соловейчик М.С., Кузьменко Н.С., Бетенькова Н.М., Курлыгина О.Е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Авторы: Соловейчик М.С.,    Кузьменко Н.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Автор  Кубасова О.В.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Автор  Истомина Н.Б.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Авторы:  Поглазова О.Т., Шилин В.Д.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Технология. Автор Н.М. Коныше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4449600" y="165096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4433400" y="298440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4433400" y="431784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433400" y="5622840"/>
            <a:ext cx="276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152280" y="304920"/>
            <a:ext cx="8686800" cy="65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omc-sinergi.ru/index.php?folder=1&amp;lab=5&amp;dir_id=9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методический цент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(здесь даны краткие характеристики всех УМ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настоящее время педагоги начальной школы России осуществляют процесс обучения по следующим учебно-методическим комплекта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. УМК  образовательной системы Д. Б. Эльконина – В. В. Давыд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2. УМК образовательной системы Л. В. Занк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3. УМК «Классическая начальная школ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4. УМК «Начальная школа 21 век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5. УМК «Школа 2000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6. УМК «Школа Росси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7. УМК «Гармони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8. УМК «Планета знани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9. УМК «Перспективная начальная школ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0. УМК «Перспекти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533520" y="12225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Комплект «Гармония» частично реализует деятельностный подход, в частности это проявляется в подаче учебного материала и системе заданий по русскому языку и математи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37" descr="pzn1rus.jpg"/>
          <p:cNvPicPr/>
          <p:nvPr/>
        </p:nvPicPr>
        <p:blipFill>
          <a:blip r:embed="rId1"/>
          <a:stretch/>
        </p:blipFill>
        <p:spPr>
          <a:xfrm>
            <a:off x="7620120" y="4724280"/>
            <a:ext cx="1137960" cy="148608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38" descr="pzn1prop.jpg"/>
          <p:cNvPicPr/>
          <p:nvPr/>
        </p:nvPicPr>
        <p:blipFill>
          <a:blip r:embed="rId2"/>
          <a:stretch/>
        </p:blipFill>
        <p:spPr>
          <a:xfrm>
            <a:off x="7529400" y="2743200"/>
            <a:ext cx="1176480" cy="14763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39" descr="pzn1buk.jpg"/>
          <p:cNvPicPr/>
          <p:nvPr/>
        </p:nvPicPr>
        <p:blipFill>
          <a:blip r:embed="rId3"/>
          <a:stretch/>
        </p:blipFill>
        <p:spPr>
          <a:xfrm>
            <a:off x="7543800" y="638280"/>
            <a:ext cx="1171440" cy="15336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"/>
          <p:cNvSpPr/>
          <p:nvPr/>
        </p:nvSpPr>
        <p:spPr>
          <a:xfrm>
            <a:off x="533520" y="329400"/>
            <a:ext cx="67816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8.  «Планета знаний» (под редакцией И.А. Петрово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Букварь.  Автор  Андрианова Т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1 класс - авторы:  Андрианова Т.М. и Илюхина В.А.; 2-4 класс - автор Желтовская Л.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 Автор Кац Э.Э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 Авторы:  Башмаков М.И., Нефедова М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 1-2 класс - авторы: Потапов И.В., Ивченкова Г.Г.; 3-4 класс - авторы:  Потапов И.В., Ивченкова Г.Г., Саплина Е.В., Саплин А.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Английский язык. Авторы: Горячева Н.Ю., Ларькина С.В., Насоновская Е.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узыка.   Автор Баклан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зобразительное искусство (1-2 класс). Автор Сокольникова Н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449600" y="150804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4449600" y="267948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04920" y="67752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УМК реализует принципы деятельностного подхода с помощью учета ведущих видов деятельности и законов их смены, обогащения, усиления, углубления детского развития, проектирования, конструирования и создания ситуации воспитывающей деятельности, сотрудничества при организации и управлении различными видами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2" descr="per1azb.jpg"/>
          <p:cNvPicPr/>
          <p:nvPr/>
        </p:nvPicPr>
        <p:blipFill>
          <a:blip r:embed="rId1"/>
          <a:stretch/>
        </p:blipFill>
        <p:spPr>
          <a:xfrm>
            <a:off x="457200" y="5181480"/>
            <a:ext cx="1019160" cy="14004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33" descr="per1mat.jpg"/>
          <p:cNvPicPr/>
          <p:nvPr/>
        </p:nvPicPr>
        <p:blipFill>
          <a:blip r:embed="rId2"/>
          <a:stretch/>
        </p:blipFill>
        <p:spPr>
          <a:xfrm>
            <a:off x="3809880" y="5181480"/>
            <a:ext cx="1019160" cy="13813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34" descr="per1okr.jpg"/>
          <p:cNvPicPr/>
          <p:nvPr/>
        </p:nvPicPr>
        <p:blipFill>
          <a:blip r:embed="rId3"/>
          <a:stretch/>
        </p:blipFill>
        <p:spPr>
          <a:xfrm>
            <a:off x="5715000" y="5181480"/>
            <a:ext cx="1019160" cy="143856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35" descr="per1prop.jpg"/>
          <p:cNvPicPr/>
          <p:nvPr/>
        </p:nvPicPr>
        <p:blipFill>
          <a:blip r:embed="rId4"/>
          <a:stretch/>
        </p:blipFill>
        <p:spPr>
          <a:xfrm>
            <a:off x="2057400" y="5181480"/>
            <a:ext cx="1019160" cy="138132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36" descr="per1rus.jpg"/>
          <p:cNvPicPr/>
          <p:nvPr/>
        </p:nvPicPr>
        <p:blipFill>
          <a:blip r:embed="rId5"/>
          <a:stretch/>
        </p:blipFill>
        <p:spPr>
          <a:xfrm>
            <a:off x="7772400" y="5257800"/>
            <a:ext cx="990720" cy="13334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380880" y="247680"/>
            <a:ext cx="83822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9. «Перспективная начальная школа» (научный руководитель -Н.А. Чуракова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бучение грамоте и чт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Азбука.  Авторы: Агаркова Н.Г., Агарков Ю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Русский язык. 1-2 класс - авторы: Чуракова Н.А. и др.; 3-4 класс- авторы: Каленчук М.Л.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Литературное чтение.  Автор Чуракова Н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Математика.  Автор Чекин А.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Окружающий мир.  Авторы:  Федотова О.Н., Трафимова Г.В., Трафимов С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Технология.   Авторы:  Рагозина Т.М., Гринева А.А., Мылова И.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- Информатика. 2-4 класс.  Авторы:  Бененсон Е.П., Паутова А.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4449600" y="172692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449600" y="310824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4449600" y="454644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449600" y="5927760"/>
            <a:ext cx="24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228600" y="53496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Основная идея УМК «Перспективная начальная школа» - оптимальное развитие каждого ребенка на основе педагогической поддержки его индивидуальности в условиях специально организованной учебной деятельности. Система заданий разного уровня трудности, сочетание индивидуальной учебной деятельности ребенка с его работой в группах и участием в клубной работе позволяют обеспечить условия, при которых обучение идет впереди развития, т.е. в зоне ближайшего развития каждого ученика на основе учета уровня его актуального развития и личных интересов, что позволяет реализовывать принципы  деятельностного подхода. Также УМК «Перспективная начальная школа» реализует личностно-ориентированный подход к ребенку с опорой на его жизненный опыт, используя общий метод проек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1"/>
          <p:cNvSpPr/>
          <p:nvPr/>
        </p:nvSpPr>
        <p:spPr>
          <a:xfrm>
            <a:off x="609480" y="457200"/>
            <a:ext cx="838512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10. «Перспектив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Петерсон Л.Г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Математика. 1 кл. в 3-х част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Климанова Л.Ф., Макеева С.Г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Азбука. 1 кл. в 2-х част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Климанова Л.Ф., Макеева С.Г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усский язык. 1 кл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Климанова Л.Ф., Горецкий В.Г., Виноградская Л.А.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Литературное чтение. 1 кл. в 2-х част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Рудченко Т.А. Семёнов А.Л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(под ред. </a:t>
            </a: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Семёнова А.Л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нформатика. 1 кл.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Плешаков А.А, Новицкая М.Ю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Окружающий мир. 1 кл. в 2-х частя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Роговцева Н.И., Богданова Н.В., Фрейтаг И.П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Технология. 1 кл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Критская Е.Д., Сергеева Г.П., Шмагина Т.С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Музыка. 1 кл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Шпикалова Т.Я., Ершова Л.В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зобразительное искусство. 1 кл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entury Gothic"/>
              </a:rPr>
              <a:t>Матвеев А.П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Физическая культура. 1 к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Рисунок 2" descr="abvgd.jpg"/>
          <p:cNvPicPr/>
          <p:nvPr/>
        </p:nvPicPr>
        <p:blipFill>
          <a:blip r:embed="rId1"/>
          <a:stretch/>
        </p:blipFill>
        <p:spPr>
          <a:xfrm>
            <a:off x="457200" y="4952880"/>
            <a:ext cx="1171440" cy="15242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literaturnoe_chtenie_uchebnik_1chast'_1klass.jpg"/>
          <p:cNvPicPr/>
          <p:nvPr/>
        </p:nvPicPr>
        <p:blipFill>
          <a:blip r:embed="rId2"/>
          <a:stretch/>
        </p:blipFill>
        <p:spPr>
          <a:xfrm>
            <a:off x="2514600" y="4952880"/>
            <a:ext cx="1171440" cy="15242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Propisi_1.jpg"/>
          <p:cNvPicPr/>
          <p:nvPr/>
        </p:nvPicPr>
        <p:blipFill>
          <a:blip r:embed="rId3"/>
          <a:stretch/>
        </p:blipFill>
        <p:spPr>
          <a:xfrm>
            <a:off x="4724280" y="4952880"/>
            <a:ext cx="1238400" cy="152424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5" descr="rsuch.jpg"/>
          <p:cNvPicPr/>
          <p:nvPr/>
        </p:nvPicPr>
        <p:blipFill>
          <a:blip r:embed="rId4"/>
          <a:stretch/>
        </p:blipFill>
        <p:spPr>
          <a:xfrm>
            <a:off x="6934320" y="5029200"/>
            <a:ext cx="1171440" cy="1523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28600" y="16920"/>
            <a:ext cx="8610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чебники УМК формируют интерес детей к истории своей семьи, малой и большой Родины, традициям и обычаям народов России, культурному наследию, трудовой деятельности и т.д. В учебники включен теоретический материал, к которому предложены практические, исследовательские и творческие задания, которые позволяют активизировать деятельность ребенка, позволяют применять полученные знания в практической деятельности, создают условия для реализации творческого потенциала уче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учебниках УМК «Перспектива» большое внимание уделяется нравственно-этическому формированию личн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еализуются принципы опережающего об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304920" y="3870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Можно увидеть, что не все УМК представляют достаточно полную методическую и содержательную базу для освоения новых принципов ФГОС, поэтому должны быть обязательно доработаны в соответствии с требованиями нового станд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28600" y="1676520"/>
          <a:ext cx="8763120" cy="4952880"/>
        </p:xfrm>
        <a:graphic>
          <a:graphicData uri="http://schemas.openxmlformats.org/drawingml/2006/table">
            <a:tbl>
              <a:tblPr/>
              <a:tblGrid>
                <a:gridCol w="907920"/>
                <a:gridCol w="714600"/>
                <a:gridCol w="714240"/>
                <a:gridCol w="687600"/>
                <a:gridCol w="447480"/>
                <a:gridCol w="447840"/>
                <a:gridCol w="447480"/>
                <a:gridCol w="727200"/>
                <a:gridCol w="669960"/>
                <a:gridCol w="660240"/>
                <a:gridCol w="514440"/>
                <a:gridCol w="571320"/>
                <a:gridCol w="681120"/>
                <a:gridCol w="571680"/>
              </a:tblGrid>
              <a:tr h="1918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УМ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стема Д.Б. Эльконина – В.В. Давыдова. 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Система Л.В. Занков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Классическая начальная школа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Начальная школа 21 века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Школа 2100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Школа России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Мал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31752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Гармония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31752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Планета знаний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Частично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63504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Перспективная начальная школа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«Перспектива»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–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bd3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0" y="152280"/>
            <a:ext cx="91440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Если ранее учебник должен был соответствовать основному содержательному минимуму стандарта, то сейчас этого содержания в стандарте нет. Новый стандарт представляет собой систему требований к результатам освоения основной образовательной программы (ООП), к структуре ООП, к условиям, в которых эти результаты должны быть достигнут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период перехода с одного стандарта на другой особенно актуальным становится вопрос о том, какие учебно-методические комплекты соответствуют идеологии ФГОС, а в частности,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принципам системно-деятельностного под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Был предложен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вопросник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по основным направлениям нового стандарта с целью определения, насколько каждый из УМК отражает идеологию ФГОС НОО: формируются ли средствами УМК 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Century Gothic"/>
              </a:rPr>
              <a:t>основы умения учиться и способность к организации собственной учебной  деятельности обучающихся в начальной школе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0" y="0"/>
            <a:ext cx="9144000" cy="69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Вопросник по учебно-методическим комплекта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Century Gothic"/>
              </a:rPr>
              <a:t>на соответствие ФГОС НО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. Каким образом данный УМК  реализует принципы деятельностного подход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2. Имеет ли УМК проблемный характер изложения содержания, требующий деятельностного подход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3. Как структура отдельного учебника обеспечивает разнообразие форм организации учебной деятельност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4. Видите ли вы систему в разнообразии форм организации учебной деятельности, представленных в УМК? В чем она заключает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5. Обеспечивает ли УМК сочетание результатов (предметных, метапредметных и личностных) освоения программы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6. Отражает ли данный УМК интересы и потребности современного ребенка? В чем это выражает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7. Предлагает ли УМК механизм оценивания, который позволяет отследить динамику личных достижений учеников? Если – да, то в чем это выражает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8. Приведите примеры учебных заданий, которые обеспечивают формирование УУД. Представьте в примерах все группы УУ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9. Каким образом в данном УМК формируется детская самостоятельнос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0. Каким образом в УМК формируются действия контрол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1. Считаете ли вы, что данный УМК действительно создает условия для мотивации ученика к учению? Если – да, то каким образом это делаетс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2. Каким образом в УМК представлено учебное сотрудничество с целью «достижения личностного, социального и познавательного развития обучающихся»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3. Каким образом данный УМК обеспечивает условия для индивидуального развития всех обучающихся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entury Gothic"/>
              </a:rPr>
              <a:t>14. Есть ли у Вас потребность в смене УМК в связи с переходом на ФГОС НО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"/>
          <p:cNvSpPr/>
          <p:nvPr/>
        </p:nvSpPr>
        <p:spPr>
          <a:xfrm>
            <a:off x="0" y="152280"/>
            <a:ext cx="91440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Универсальные учебные 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азвитие личности в системе образования обеспечивается, прежде всего, через формирование  универсальных учебных действий (УУД), которые выступают основой образовательного и воспитательного процес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широком значении термин «универсальные учебные действия» означает умение учиться, т.е. способность субъекта к саморазвитию и самосовершенствованию путем сознательного и активного присвоения нового социального опы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В более узком (собственно психологическом значении) термин «универсальные учебные действия» можно определить как 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ПРИЛОЖЕНИЕ:                              1.  Классификация УУ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2. Планируемые результаты по формированию УУД  выпускников начальной шко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67920" cy="31273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0" y="0"/>
            <a:ext cx="914400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истема начального образования Д.Б. Эльконина - В.В.      Давыдова (научный руководитель - Б.Д. Элькони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Обучение грамоте и чтению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укварь. Авторы: Репкин В.В,Восторгова Е.В.,Левин В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укварь. Авторы: Эльконин Д.Б., Цукерман Г.А., Бугрименко Е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Русский язык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Репкин В.В., Восторгова Е.В., Некрасова Т.В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Ломакович С.В., Тимченко Л.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Литературное чтение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Кудина Г.Н., Новлянская З.Н.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Матвеева Е.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Математика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 Давыдов В.В., Горбов С.Ф., Микулина Г.Г., О.В. Савелье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Александрова Э.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Окружающий мир. Авторы:  Чудинова Е.В., Букварева Е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" descr="47d902b336.jpg"/>
          <p:cNvPicPr/>
          <p:nvPr/>
        </p:nvPicPr>
        <p:blipFill>
          <a:blip r:embed="rId1"/>
          <a:stretch/>
        </p:blipFill>
        <p:spPr>
          <a:xfrm>
            <a:off x="7848720" y="304920"/>
            <a:ext cx="1143000" cy="17431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3" descr="89c16610d7.jpg"/>
          <p:cNvPicPr/>
          <p:nvPr/>
        </p:nvPicPr>
        <p:blipFill>
          <a:blip r:embed="rId2"/>
          <a:stretch/>
        </p:blipFill>
        <p:spPr>
          <a:xfrm>
            <a:off x="7696080" y="4876920"/>
            <a:ext cx="1208160" cy="174600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2a1bdb3264.jpg"/>
          <p:cNvPicPr/>
          <p:nvPr/>
        </p:nvPicPr>
        <p:blipFill>
          <a:blip r:embed="rId3"/>
          <a:stretch/>
        </p:blipFill>
        <p:spPr>
          <a:xfrm>
            <a:off x="7696080" y="2362320"/>
            <a:ext cx="1219320" cy="17431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5"/>
          <p:cNvSpPr/>
          <p:nvPr/>
        </p:nvSpPr>
        <p:spPr>
          <a:xfrm>
            <a:off x="0" y="60199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еализуются принципы развивающего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762120" y="10792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Данный УМК полностью реализует принципы деятельностного подхода, обеспечивая участие ребенка в учебном процессе как субъекта учеб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Содержание учебников комплекта обеспечивает организацию работы в группе для решения проблемной ситуации, что сопряжено с непосредственной деятельностью каждого уче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Учебники насыщены вопросами и заданиями для самостоятельной работы. Большое количество заданий творческого харак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1"/>
          <p:cNvSpPr/>
          <p:nvPr/>
        </p:nvSpPr>
        <p:spPr>
          <a:xfrm>
            <a:off x="457200" y="228600"/>
            <a:ext cx="853452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Система начального образования Л.В. Занкова (научный руководитель - Н.В. Нечаев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Обучение грамоте и чтени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збука. Авторы: Нечаева Н.В., Белорусец К.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Русский язык. Автор Нечаева Н.В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Литературное чтение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Свиридова В.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Лазарева В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Математика (2 лин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ы:  Аргинская И.И., Бененсон Е.П., Итина Л.С.(1 класс) и Аргинская И.И., Ивановская Е.И., Кормишина С.Н. (2-4 класс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втор Ванцян А.Г. (1 класс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Окружающий мир. Авторы:  Дмитриева Н.Я., Казаков А.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Технология. Авторы: Цирулик Н.А., Проснякова Т.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- Музыка. Автор Ригина Г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еализуются принципы развивающего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Рисунок 2" descr="zan1azb.jpg"/>
          <p:cNvPicPr/>
          <p:nvPr/>
        </p:nvPicPr>
        <p:blipFill>
          <a:blip r:embed="rId1"/>
          <a:stretch/>
        </p:blipFill>
        <p:spPr>
          <a:xfrm>
            <a:off x="457200" y="5397480"/>
            <a:ext cx="1143000" cy="1460520"/>
          </a:xfrm>
          <a:prstGeom prst="rect">
            <a:avLst/>
          </a:prstGeom>
          <a:ln w="0">
            <a:noFill/>
          </a:ln>
        </p:spPr>
      </p:pic>
      <p:pic>
        <p:nvPicPr>
          <p:cNvPr id="318" name="Рисунок 3" descr="zan1prop.jpg"/>
          <p:cNvPicPr/>
          <p:nvPr/>
        </p:nvPicPr>
        <p:blipFill>
          <a:blip r:embed="rId2"/>
          <a:stretch/>
        </p:blipFill>
        <p:spPr>
          <a:xfrm>
            <a:off x="2133720" y="5361120"/>
            <a:ext cx="1197000" cy="14968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4" descr="zan1lit2.jpg"/>
          <p:cNvPicPr/>
          <p:nvPr/>
        </p:nvPicPr>
        <p:blipFill>
          <a:blip r:embed="rId3"/>
          <a:stretch/>
        </p:blipFill>
        <p:spPr>
          <a:xfrm>
            <a:off x="4191120" y="5413320"/>
            <a:ext cx="1096920" cy="14446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5" descr="zan1rus.jpg"/>
          <p:cNvPicPr/>
          <p:nvPr/>
        </p:nvPicPr>
        <p:blipFill>
          <a:blip r:embed="rId4"/>
          <a:stretch/>
        </p:blipFill>
        <p:spPr>
          <a:xfrm>
            <a:off x="6172200" y="5437080"/>
            <a:ext cx="1147680" cy="1420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5:45:14Z</dcterms:created>
  <dc:creator>Александр</dc:creator>
  <dc:description/>
  <dc:language>en-US</dc:language>
  <cp:lastModifiedBy>Анатолий</cp:lastModifiedBy>
  <dcterms:modified xsi:type="dcterms:W3CDTF">2012-07-25T18:14:55Z</dcterms:modified>
  <cp:revision>30</cp:revision>
  <dc:subject/>
  <dc:title>УМК  начальной школы</dc:title>
</cp:coreProperties>
</file>