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1535-9DB6-4D8B-B098-0A00F09D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987-B7F3-4519-BB1E-2AE8B5F6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C2D-F245-4D75-9544-B779484B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32C-C52E-41C1-8CFA-75FE5896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A5E-E29F-45B9-B6E7-A0D28FDB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64D-EA87-4F2E-BBF1-C6B23040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1E8-4340-4B44-B2A4-DAEACA84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701-5D60-4BCA-8723-7484D7B7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078-6662-4313-B31D-7B20E28E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816-A83E-4AA9-96E6-A585B563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1B7-3174-452A-8CDE-40F30040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633-D8B1-4DD3-93D9-7AC8ED6F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9A2C-9EE5-4D66-8EFB-3A588ECE7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2060640"/>
            <a:ext cx="777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Умножение сумм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Impact"/>
              </a:rPr>
              <a:t>на число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842200" y="83664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Bookman Old Style"/>
              </a:rPr>
              <a:t>Урок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Bookman Old Style"/>
              </a:rPr>
              <a:t>3 – в 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124000" y="4653000"/>
            <a:ext cx="53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Презентацию 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учитель начальных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МБОУ СОШ№1  п. Весёл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Кельник Ольга Михай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7020000" y="35733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227640" y="1484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9" descr=""/>
          <p:cNvPicPr/>
          <p:nvPr/>
        </p:nvPicPr>
        <p:blipFill>
          <a:blip r:embed="rId1"/>
          <a:stretch/>
        </p:blipFill>
        <p:spPr>
          <a:xfrm>
            <a:off x="1255680" y="1279440"/>
            <a:ext cx="6589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Monotype Corsiva"/>
              </a:rPr>
              <a:t>Очень трудная нау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Monotype Corsiva"/>
              </a:rPr>
              <a:t>Математика для вас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Monotype Corsiva"/>
              </a:rPr>
              <a:t>Но учиться в наше врем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Monotype Corsiva"/>
              </a:rPr>
              <a:t>Нужно каждому из нас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1476360" y="620640"/>
            <a:ext cx="65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ый счёт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701720" y="1484280"/>
            <a:ext cx="611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Математический дикта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11280" y="2133720"/>
            <a:ext cx="8064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1*6      3*9     9*4      7*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6*6      8*9     8*3      4*8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2*5      5*4     7*8      0*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1476360" y="620640"/>
            <a:ext cx="65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ый счёт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378240" y="1557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547640" y="2349360"/>
            <a:ext cx="561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66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3366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684360" y="2708280"/>
            <a:ext cx="77752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66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,  27, 36, 42, 36, 72,</a:t>
            </a:r>
            <a:endParaRPr b="0" lang="en-US" sz="1800" spc="1" strike="noStrike">
              <a:ln w="19080">
                <a:solidFill>
                  <a:srgbClr val="003366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66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3366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4, 32, 10, 20, 56, 0</a:t>
            </a:r>
            <a:endParaRPr b="0" lang="en-US" sz="1800" spc="1" strike="noStrike">
              <a:ln w="19080">
                <a:solidFill>
                  <a:srgbClr val="003366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297080" y="1198440"/>
            <a:ext cx="574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Поднимает руки класс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Это «раз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Повернулась голова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Это «два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Руки вниз, вперед смотри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Это «три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Руки в сторону пош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Развернули на «четыре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С силой их к плечам прижать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Это «пять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Всем ребятам тихо сесть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Bookman Old Style"/>
              </a:rPr>
              <a:t>Это «шес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1763640" y="476280"/>
            <a:ext cx="56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минутка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Picture 6" descr="J0232736"/>
          <p:cNvPicPr/>
          <p:nvPr/>
        </p:nvPicPr>
        <p:blipFill>
          <a:blip r:embed="rId3"/>
          <a:stretch/>
        </p:blipFill>
        <p:spPr>
          <a:xfrm>
            <a:off x="6896160" y="3500280"/>
            <a:ext cx="165888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2268360" y="476280"/>
            <a:ext cx="43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а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Monotype Corsiva"/>
              </a:rPr>
              <a:t>«УМНОЖЕНИ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Monotype Corsiva"/>
              </a:rPr>
              <a:t>СУММЫ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Monotype Corsiva"/>
              </a:rPr>
              <a:t>НА  ЧИСЛО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Impact"/>
              </a:rPr>
              <a:t>Реши примеры удобным способом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S Reference Sans Serif"/>
              </a:rPr>
              <a:t>      </a:t>
            </a: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Вариант-1                       Вариант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      </a:t>
            </a: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(2+5)х3=                       (3+4)х9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      </a:t>
            </a: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(8+6)х2=                       (2+6)х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      </a:t>
            </a: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(4+9)х6=                       (7+3)х8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      </a:t>
            </a:r>
            <a:r>
              <a:rPr b="1" lang="ru-RU" sz="2800" spc="-1" strike="noStrike">
                <a:solidFill>
                  <a:srgbClr val="002060"/>
                </a:solidFill>
                <a:latin typeface="MS Reference Sans Serif"/>
              </a:rPr>
              <a:t>(5+4)х7=                       (8+4)х2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9"/>
          <p:cNvSpPr txBox="1"/>
          <p:nvPr/>
        </p:nvSpPr>
        <p:spPr>
          <a:xfrm>
            <a:off x="1763640" y="620640"/>
            <a:ext cx="5616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флексия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Прямоугольник 10"/>
          <p:cNvSpPr/>
          <p:nvPr/>
        </p:nvSpPr>
        <p:spPr>
          <a:xfrm>
            <a:off x="755640" y="170028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ы считаете, что урок прошё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для вас плодотворно, с польз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ы научились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можете помоч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друг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1" descr="img12"/>
          <p:cNvPicPr/>
          <p:nvPr/>
        </p:nvPicPr>
        <p:blipFill>
          <a:blip r:embed="rId3"/>
          <a:stretch/>
        </p:blipFill>
        <p:spPr>
          <a:xfrm>
            <a:off x="5508720" y="3068640"/>
            <a:ext cx="297180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971640" y="765000"/>
            <a:ext cx="7200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Picture 9" descr="11353"/>
          <p:cNvPicPr/>
          <p:nvPr/>
        </p:nvPicPr>
        <p:blipFill>
          <a:blip r:embed="rId3"/>
          <a:srcRect l="18898" t="0" r="18684" b="0"/>
          <a:stretch/>
        </p:blipFill>
        <p:spPr>
          <a:xfrm>
            <a:off x="826920" y="2133720"/>
            <a:ext cx="2995920" cy="36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6" name="Text Box 10"/>
          <p:cNvSpPr/>
          <p:nvPr/>
        </p:nvSpPr>
        <p:spPr>
          <a:xfrm>
            <a:off x="4511880" y="2924280"/>
            <a:ext cx="354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У. 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8 № 258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57*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6:30:50Z</dcterms:created>
  <dc:creator>user</dc:creator>
  <dc:description/>
  <dc:language>en-US</dc:language>
  <cp:lastModifiedBy>USER</cp:lastModifiedBy>
  <dcterms:modified xsi:type="dcterms:W3CDTF">2011-11-17T20:19:59Z</dcterms:modified>
  <cp:revision>13</cp:revision>
  <dc:subject/>
  <dc:title>Слайд 1</dc:title>
</cp:coreProperties>
</file>