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17C-7E77-40F5-A802-C85403A1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98E-AF50-4980-B88C-319056B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4F-992F-4AEA-9C7D-6F37AFB1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31F-A331-4DE6-BB86-C1CBA740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3DC-6655-44A6-B447-695AAD08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FBE-D76D-4AD2-BBB3-CE361264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30C-E23F-4B38-988E-42D63029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5D2-D86E-483D-87A5-BDE4747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600-780B-4F48-9D8F-0B046AE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F41-07F9-452F-9DE0-0A14559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965-0775-4BCE-986F-D4795B5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FFF-7FE8-4A17-9608-130447E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D1E-D3F6-4239-81B1-5FB91C83D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2060640"/>
            <a:ext cx="777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Умножение сумм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на числ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842200" y="83664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Урок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3 – в 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4000" y="465300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ю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БОУ СОШ№1  п. Весё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Кельник Ольг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7020000" y="3573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27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9" descr=""/>
          <p:cNvPicPr/>
          <p:nvPr/>
        </p:nvPicPr>
        <p:blipFill>
          <a:blip r:embed="rId1"/>
          <a:stretch/>
        </p:blipFill>
        <p:spPr>
          <a:xfrm>
            <a:off x="1255680" y="1279440"/>
            <a:ext cx="6589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Очень трудная на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Математика для ва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Но учиться в наш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Нужно каждому из нас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476360" y="620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01720" y="1484280"/>
            <a:ext cx="61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Математ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11280" y="2133720"/>
            <a:ext cx="80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1*6      3*9     9*4      7*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6*6      8*9     8*3      4*8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2*5      5*4     7*8      0*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476360" y="620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378240" y="1557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547640" y="2349360"/>
            <a:ext cx="561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684360" y="2708280"/>
            <a:ext cx="7775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,  27, 36, 42, 36, 72,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, 32, 10, 20, 56, 0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97080" y="1198440"/>
            <a:ext cx="574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однимает руки класс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раз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овернулась голов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дв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уки вниз, вперед смотр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три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уки в сторону пош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азвернули на «четыр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С силой их к плечам прижа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пять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Всем ребятам тихо сес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ше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763640" y="47628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6" descr="J0232736"/>
          <p:cNvPicPr/>
          <p:nvPr/>
        </p:nvPicPr>
        <p:blipFill>
          <a:blip r:embed="rId3"/>
          <a:stretch/>
        </p:blipFill>
        <p:spPr>
          <a:xfrm>
            <a:off x="6896160" y="3500280"/>
            <a:ext cx="16588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2268360" y="47628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«УМНОЖЕН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СУММ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НА  ЧИСЛ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Impact"/>
              </a:rPr>
              <a:t>Реши примеры удобным способо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Вариант-1                       Вариант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2+5)х3=                       (3+4)х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8+6)х2=                       (2+6)х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4+9)х6=                       (7+3)х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5+4)х7=                       (8+4)х2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9"/>
          <p:cNvSpPr txBox="1"/>
          <p:nvPr/>
        </p:nvSpPr>
        <p:spPr>
          <a:xfrm>
            <a:off x="1763640" y="620640"/>
            <a:ext cx="561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755640" y="1700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 считаете, что урок прошё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ля вас плодотворно, с польз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 научились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можете помо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руг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" descr="img12"/>
          <p:cNvPicPr/>
          <p:nvPr/>
        </p:nvPicPr>
        <p:blipFill>
          <a:blip r:embed="rId3"/>
          <a:stretch/>
        </p:blipFill>
        <p:spPr>
          <a:xfrm>
            <a:off x="5508720" y="3068640"/>
            <a:ext cx="29718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971640" y="765000"/>
            <a:ext cx="72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9" descr="11353"/>
          <p:cNvPicPr/>
          <p:nvPr/>
        </p:nvPicPr>
        <p:blipFill>
          <a:blip r:embed="rId3"/>
          <a:srcRect l="18898" t="0" r="18684" b="0"/>
          <a:stretch/>
        </p:blipFill>
        <p:spPr>
          <a:xfrm>
            <a:off x="826920" y="2133720"/>
            <a:ext cx="299592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Text Box 10"/>
          <p:cNvSpPr/>
          <p:nvPr/>
        </p:nvSpPr>
        <p:spPr>
          <a:xfrm>
            <a:off x="4511880" y="2924280"/>
            <a:ext cx="354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. 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8 № 25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57*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30:50Z</dcterms:created>
  <dc:creator>user</dc:creator>
  <dc:description/>
  <dc:language>en-US</dc:language>
  <cp:lastModifiedBy>USER</cp:lastModifiedBy>
  <dcterms:modified xsi:type="dcterms:W3CDTF">2011-11-17T20:19:59Z</dcterms:modified>
  <cp:revision>13</cp:revision>
  <dc:subject/>
  <dc:title>Слайд 1</dc:title>
</cp:coreProperties>
</file>