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3.gif" ContentType="image/gif"/>
  <Override PartName="/ppt/media/image49.jpeg" ContentType="image/jpeg"/>
  <Override PartName="/ppt/media/image22.gif" ContentType="image/gif"/>
  <Override PartName="/ppt/media/image20.jpeg" ContentType="image/jpeg"/>
  <Override PartName="/ppt/media/image26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18.gif" ContentType="image/gif"/>
  <Override PartName="/ppt/media/image17.png" ContentType="image/png"/>
  <Override PartName="/ppt/media/image24.gif" ContentType="image/gif"/>
  <Override PartName="/ppt/media/image16.gif" ContentType="image/gif"/>
  <Override PartName="/ppt/media/image28.jpeg" ContentType="image/jpeg"/>
  <Override PartName="/ppt/media/image15.gif" ContentType="image/gif"/>
  <Override PartName="/ppt/media/image1.jpeg" ContentType="image/jpeg"/>
  <Override PartName="/ppt/media/image35.jpeg" ContentType="image/jpeg"/>
  <Override PartName="/ppt/media/image50.wmf" ContentType="image/x-wmf"/>
  <Override PartName="/ppt/media/image25.gif" ContentType="image/gif"/>
  <Override PartName="/ppt/media/image6.jpeg" ContentType="image/jpeg"/>
  <Override PartName="/ppt/media/image10.gif" ContentType="image/gif"/>
  <Override PartName="/ppt/media/image13.png" ContentType="image/png"/>
  <Override PartName="/ppt/media/image30.gif" ContentType="image/gif"/>
  <Override PartName="/ppt/media/image40.gif" ContentType="image/gif"/>
  <Override PartName="/ppt/media/image8.gif" ContentType="image/gif"/>
  <Override PartName="/ppt/media/image38.gif" ContentType="image/gif"/>
  <Override PartName="/ppt/media/image43.jpeg" ContentType="image/jpeg"/>
  <Override PartName="/ppt/media/image44.jpeg" ContentType="image/jpeg"/>
  <Override PartName="/ppt/media/image45.png" ContentType="image/png"/>
  <Override PartName="/ppt/media/image46.jpeg" ContentType="image/jpeg"/>
  <Override PartName="/ppt/media/image51.gif" ContentType="image/gif"/>
  <Override PartName="/ppt/media/image48.jpeg" ContentType="image/jpeg"/>
  <Override PartName="/ppt/media/image47.jpeg" ContentType="image/jpeg"/>
  <Override PartName="/ppt/media/image12.gif" ContentType="image/gif"/>
  <Override PartName="/ppt/media/image37.gif" ContentType="image/gif"/>
  <Override PartName="/ppt/media/image7.gif" ContentType="image/gif"/>
  <Override PartName="/ppt/media/image31.gif" ContentType="image/gif"/>
  <Override PartName="/ppt/media/image11.jpeg" ContentType="image/jpeg"/>
  <Override PartName="/ppt/media/image5.wmf" ContentType="image/x-wmf"/>
  <Override PartName="/ppt/media/image9.gif" ContentType="image/gif"/>
  <Override PartName="/ppt/media/image39.gif" ContentType="image/gif"/>
  <Override PartName="/ppt/media/image34.png" ContentType="image/png"/>
  <Override PartName="/ppt/media/image4.png" ContentType="image/png"/>
  <Override PartName="/ppt/media/image41.gif" ContentType="image/gif"/>
  <Override PartName="/ppt/media/image33.gif" ContentType="image/gif"/>
  <Override PartName="/ppt/media/image3.gif" ContentType="image/gif"/>
  <Override PartName="/ppt/media/image29.png" ContentType="image/png"/>
  <Override PartName="/ppt/media/image36.gif" ContentType="image/gif"/>
  <Override PartName="/ppt/media/image2.gif" ContentType="image/gif"/>
  <Override PartName="/ppt/media/image32.gif" ContentType="image/gif"/>
  <Override PartName="/ppt/media/image4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d1b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4B6A-54AA-47B1-8B8C-E9E974BA02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AB76-B2CE-42CD-BFD1-446DFBA13237}" type="slidenum">
              <a:rPr b="0" lang="ru-RU" sz="1200" spc="-1" strike="noStrike">
                <a:solidFill>
                  <a:srgbClr val="8d1b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рок посвящен замечательному мастерству, народному творчеству и искусству народов России, неизменно приковывающему к себе внимание, как художников, так и просто людей вс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юбить Россию можно лишь тогда, когда увидишь всю прелесть застенчивой русской природы, сквозь душу пропустишь трагическую и героическую историю русского народа, удивишься красоте архитектурных ансамблей, послушаешь ростовские звоны и прикоснешься сердцем к прекрасным творениям русского на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 чтобы любить, нужно все это видеть и знать. Мы не можем ценить и беречь то, что не знаем. Сегодня мы вспомним о наиболее известных народных промыслах России и их отличительных особенност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ие народные промыслы вы знаете (слайд-подсказка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Итак, начинаем наш урок. На табло выбираем категорию и номер вопроса. Вы видите, что они оцениваются разной сложностью. Кто перв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B413-2821-4E2E-A0AB-1BDC40927F91}" type="slidenum">
              <a:rPr b="0" lang="ru-RU" sz="1200" spc="-1" strike="noStrike">
                <a:solidFill>
                  <a:srgbClr val="8d1b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662B-AE80-4B18-A9AF-3139657B4B43}" type="slidenum">
              <a:rPr b="0" lang="ru-RU" sz="1200" spc="-1" strike="noStrike">
                <a:solidFill>
                  <a:srgbClr val="8d1b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B2C7-0D64-4039-83C1-A5F2FF5D6951}" type="slidenum">
              <a:rPr b="0" lang="ru-RU" sz="1200" spc="-1" strike="noStrike">
                <a:solidFill>
                  <a:srgbClr val="8d1b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C280-AA5C-4ED3-866C-5B5041BD53F7}" type="slidenum">
              <a:rPr b="0" lang="ru-RU" sz="1200" spc="-1" strike="noStrike">
                <a:solidFill>
                  <a:srgbClr val="8d1b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90F-B97B-4E66-91F2-22D2CB95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1C71-1CC5-4B4D-B159-933F8B59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046-C930-41B3-BD96-BF88364E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6B59-CB64-4223-AC2E-A36F40D9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18A8-8903-4C0B-9F5F-67105C6F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B3AE-5B03-4AC8-8E76-4005FEB7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D852-DFA9-4B74-8778-D3E9C39F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2BE7-710B-420A-9DC1-1CF9085F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2B5E-0E20-4620-BCAA-C8CF6921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2ACA-9BAD-4CB4-A865-6479F269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64C1-D586-4DA7-8B4C-EA771CA0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FBE-F54E-4C24-A9F2-86B23A26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840C-6D77-47D2-9F5A-59AD4A1E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4C58-B8EA-4CF2-BE26-EE361739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D226-946A-46DA-A0D3-235FC8DA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0474-027B-407A-9F10-F1219FE7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A1C5-A315-4605-8491-D990BFC6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9C3-F843-4007-A640-BB3DA939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9F7-DC70-4D26-9A09-9AF911A5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49CF-01CD-4021-8D14-7A5ADA93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33E4-B65E-459F-9112-2671785B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9BD-E23C-481E-9EFC-6C2B029E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554E-8A76-4617-99D2-510E5DEE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37F-36F7-47AF-8D1A-30DF345C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d1b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8a1a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8d1b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8d1b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8d1b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8d1b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8d1b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8d1b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11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59BE-461B-4713-88BC-68FAB186F49E}" type="datetime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11b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11bc"/>
                </a:solidFill>
                <a:latin typeface="Times New Roman"/>
              </a:rPr>
              <a:t>Кривобокова Е. В. Осичковская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11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0E36-D602-4B5F-A9B7-8AEEE89354D8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d1b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8a1a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8d1b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8d1b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8d1b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8d1b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8d1b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8d1b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11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AEF5-9BFD-4EDE-92CF-7E3B1BC55124}" type="datetime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11b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11bc"/>
                </a:solidFill>
                <a:latin typeface="Times New Roman"/>
              </a:rPr>
              <a:t>Кривобокова Е. В. Осичковская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11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2CAA-6C85-4C83-B836-9FC5D38F8F96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6.jpe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12.xml"/><Relationship Id="rId4" Type="http://schemas.openxmlformats.org/officeDocument/2006/relationships/image" Target="../media/image19.gif"/><Relationship Id="rId5" Type="http://schemas.openxmlformats.org/officeDocument/2006/relationships/image" Target="../media/image5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8.xml"/><Relationship Id="rId4" Type="http://schemas.openxmlformats.org/officeDocument/2006/relationships/image" Target="../media/image8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6.jpeg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15.gif"/><Relationship Id="rId7" Type="http://schemas.openxmlformats.org/officeDocument/2006/relationships/image" Target="../media/image19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image" Target="../media/image10.gif"/><Relationship Id="rId11" Type="http://schemas.openxmlformats.org/officeDocument/2006/relationships/image" Target="../media/image9.gif"/><Relationship Id="rId12" Type="http://schemas.openxmlformats.org/officeDocument/2006/relationships/image" Target="../media/image23.gif"/><Relationship Id="rId13" Type="http://schemas.openxmlformats.org/officeDocument/2006/relationships/image" Target="../media/image12.gif"/><Relationship Id="rId14" Type="http://schemas.openxmlformats.org/officeDocument/2006/relationships/image" Target="../media/image24.gif"/><Relationship Id="rId15" Type="http://schemas.openxmlformats.org/officeDocument/2006/relationships/image" Target="../media/image25.gif"/><Relationship Id="rId16" Type="http://schemas.openxmlformats.org/officeDocument/2006/relationships/image" Target="../media/image26.gif"/><Relationship Id="rId17" Type="http://schemas.openxmlformats.org/officeDocument/2006/relationships/image" Target="../media/image27.wmf"/><Relationship Id="rId18" Type="http://schemas.openxmlformats.org/officeDocument/2006/relationships/image" Target="../media/image14.png"/><Relationship Id="rId19" Type="http://schemas.openxmlformats.org/officeDocument/2006/relationships/slide" Target="slide5.xml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hyperlink" Target="http://i021.radikal.ru/0912/13/06da31774a46t.jp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varja.narod.ru/anymal12a.gif" TargetMode="Externa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17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30.gif"/><Relationship Id="rId4" Type="http://schemas.openxmlformats.org/officeDocument/2006/relationships/image" Target="../media/image14.png"/><Relationship Id="rId5" Type="http://schemas.openxmlformats.org/officeDocument/2006/relationships/image" Target="../media/image3.gif"/><Relationship Id="rId6" Type="http://schemas.openxmlformats.org/officeDocument/2006/relationships/image" Target="../media/image31.gif"/><Relationship Id="rId7" Type="http://schemas.openxmlformats.org/officeDocument/2006/relationships/image" Target="../media/image32.gif"/><Relationship Id="rId8" Type="http://schemas.openxmlformats.org/officeDocument/2006/relationships/image" Target="../media/image33.gif"/><Relationship Id="rId9" Type="http://schemas.openxmlformats.org/officeDocument/2006/relationships/slide" Target="slide5.xml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9.xml"/><Relationship Id="rId7" Type="http://schemas.openxmlformats.org/officeDocument/2006/relationships/slide" Target="slide14.xml"/><Relationship Id="rId8" Type="http://schemas.openxmlformats.org/officeDocument/2006/relationships/slide" Target="slide21.xml"/><Relationship Id="rId9" Type="http://schemas.openxmlformats.org/officeDocument/2006/relationships/slide" Target="slide24.xml"/><Relationship Id="rId10" Type="http://schemas.openxmlformats.org/officeDocument/2006/relationships/slide" Target="slide11.xml"/><Relationship Id="rId11" Type="http://schemas.openxmlformats.org/officeDocument/2006/relationships/slide" Target="slide16.xml"/><Relationship Id="rId12" Type="http://schemas.openxmlformats.org/officeDocument/2006/relationships/slide" Target="slide20.xml"/><Relationship Id="rId13" Type="http://schemas.openxmlformats.org/officeDocument/2006/relationships/slide" Target="slide25.xml"/><Relationship Id="rId14" Type="http://schemas.openxmlformats.org/officeDocument/2006/relationships/slide" Target="slide31.xml"/><Relationship Id="rId15" Type="http://schemas.openxmlformats.org/officeDocument/2006/relationships/slide" Target="slide31.xm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" Target="slide15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22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5.xml"/><Relationship Id="rId4" Type="http://schemas.openxmlformats.org/officeDocument/2006/relationships/image" Target="../media/image35.jpeg"/><Relationship Id="rId5" Type="http://schemas.openxmlformats.org/officeDocument/2006/relationships/image" Target="../media/image36.gif"/><Relationship Id="rId6" Type="http://schemas.openxmlformats.org/officeDocument/2006/relationships/image" Target="../media/image37.gif"/><Relationship Id="rId7" Type="http://schemas.openxmlformats.org/officeDocument/2006/relationships/image" Target="../media/image38.gif"/><Relationship Id="rId8" Type="http://schemas.openxmlformats.org/officeDocument/2006/relationships/image" Target="../media/image39.gif"/><Relationship Id="rId9" Type="http://schemas.openxmlformats.org/officeDocument/2006/relationships/image" Target="../media/image40.gif"/><Relationship Id="rId10" Type="http://schemas.openxmlformats.org/officeDocument/2006/relationships/image" Target="../media/image41.gi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rossvord.ru/sharada/2008/05/14/sharada_12903.html" TargetMode="External"/><Relationship Id="rId3" Type="http://schemas.openxmlformats.org/officeDocument/2006/relationships/image" Target="../media/image42.jpeg"/><Relationship Id="rId4" Type="http://schemas.openxmlformats.org/officeDocument/2006/relationships/hyperlink" Target="http://krossvord.ru/sharada/2008/05/13/sharada_12912.html" TargetMode="External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31.gif"/><Relationship Id="rId4" Type="http://schemas.openxmlformats.org/officeDocument/2006/relationships/image" Target="../media/image50.wmf"/><Relationship Id="rId5" Type="http://schemas.openxmlformats.org/officeDocument/2006/relationships/image" Target="../media/image51.gif"/><Relationship Id="rId6" Type="http://schemas.openxmlformats.org/officeDocument/2006/relationships/image" Target="../media/image27.wmf"/><Relationship Id="rId7" Type="http://schemas.openxmlformats.org/officeDocument/2006/relationships/image" Target="../media/image51.gif"/><Relationship Id="rId8" Type="http://schemas.openxmlformats.org/officeDocument/2006/relationships/image" Target="../media/image30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9.xml"/><Relationship Id="rId7" Type="http://schemas.openxmlformats.org/officeDocument/2006/relationships/slide" Target="slide14.xml"/><Relationship Id="rId8" Type="http://schemas.openxmlformats.org/officeDocument/2006/relationships/slide" Target="slide21.xml"/><Relationship Id="rId9" Type="http://schemas.openxmlformats.org/officeDocument/2006/relationships/slide" Target="slide24.xml"/><Relationship Id="rId10" Type="http://schemas.openxmlformats.org/officeDocument/2006/relationships/slide" Target="slide11.xml"/><Relationship Id="rId11" Type="http://schemas.openxmlformats.org/officeDocument/2006/relationships/slide" Target="slide16.xml"/><Relationship Id="rId12" Type="http://schemas.openxmlformats.org/officeDocument/2006/relationships/slide" Target="slide20.xml"/><Relationship Id="rId13" Type="http://schemas.openxmlformats.org/officeDocument/2006/relationships/slide" Target="slide25.xml"/><Relationship Id="rId14" Type="http://schemas.openxmlformats.org/officeDocument/2006/relationships/slide" Target="slide31.xml"/><Relationship Id="rId15" Type="http://schemas.openxmlformats.org/officeDocument/2006/relationships/slide" Target="slide31.xml"/><Relationship Id="rId16" Type="http://schemas.openxmlformats.org/officeDocument/2006/relationships/image" Target="../media/image4.png"/><Relationship Id="rId17" Type="http://schemas.openxmlformats.org/officeDocument/2006/relationships/image" Target="../media/image11.jpeg"/><Relationship Id="rId18" Type="http://schemas.openxmlformats.org/officeDocument/2006/relationships/image" Target="../media/image5.wmf"/><Relationship Id="rId19" Type="http://schemas.openxmlformats.org/officeDocument/2006/relationships/image" Target="../media/image12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5.wm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12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10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75480" y="189000"/>
            <a:ext cx="790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e1e4e"/>
                </a:solidFill>
                <a:latin typeface="Comic Sans MS"/>
              </a:rPr>
              <a:t>Интеллектуальная игра</a:t>
            </a:r>
            <a:endParaRPr b="0" lang="en-US" sz="4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156e"/>
                </a:solidFill>
                <a:latin typeface="Comic Sans MS"/>
              </a:rPr>
              <a:t>для учащихся 6-х классов</a:t>
            </a:r>
            <a:endParaRPr b="0" lang="en-US" sz="40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9720" y="2060640"/>
            <a:ext cx="491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bb0"/>
                </a:solidFill>
                <a:latin typeface="Comic Sans MS"/>
              </a:rPr>
              <a:t>Хорошо живется тем, 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bb0"/>
                </a:solidFill>
                <a:latin typeface="Comic Sans MS"/>
              </a:rPr>
              <a:t>Кто умеет скуку отгонять,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bb0"/>
                </a:solidFill>
                <a:latin typeface="Comic Sans MS"/>
              </a:rPr>
              <a:t>Кто с раскрытою душой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bb0"/>
                </a:solidFill>
                <a:latin typeface="Comic Sans MS"/>
              </a:rPr>
              <a:t>В класс задор приносит свой!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11920" y="4149720"/>
            <a:ext cx="529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bb0"/>
                </a:solidFill>
                <a:latin typeface="Comic Sans MS"/>
              </a:rPr>
              <a:t>Коллектив наш небольшой, 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bb0"/>
                </a:solidFill>
                <a:latin typeface="Comic Sans MS"/>
              </a:rPr>
              <a:t>Но лучистый, добрый, озорной.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bb0"/>
                </a:solidFill>
                <a:latin typeface="Comic Sans MS"/>
              </a:rPr>
              <a:t>И сегодня здесь, друзья, 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bb0"/>
                </a:solidFill>
                <a:latin typeface="Comic Sans MS"/>
              </a:rPr>
              <a:t>Свела нас интересная игра.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971640" y="333360"/>
            <a:ext cx="7561080" cy="1739880"/>
          </a:xfrm>
          <a:prstGeom prst="rect">
            <a:avLst/>
          </a:prstGeom>
          <a:gradFill rotWithShape="0">
            <a:gsLst>
              <a:gs pos="0">
                <a:srgbClr val="b3a981"/>
              </a:gs>
              <a:gs pos="100000">
                <a:srgbClr val="b3a981"/>
              </a:gs>
            </a:gsLst>
            <a:lin ang="8340000"/>
          </a:gradFill>
          <a:ln w="9360">
            <a:solidFill>
              <a:srgbClr val="a49b72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e1e4e"/>
                </a:solidFill>
                <a:latin typeface="Times New Roman"/>
              </a:rPr>
              <a:t>Необходимы на уроках ИЗО и технология</a:t>
            </a:r>
            <a:endParaRPr b="0" lang="en-US" sz="5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2916360" y="3213000"/>
            <a:ext cx="4572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56" name="Управляющая кнопка: назад 5">
            <a:hlinkClick r:id="rId2" action="ppaction://hlinksldjump"/>
          </p:cNvPr>
          <p:cNvSpPr/>
          <p:nvPr/>
        </p:nvSpPr>
        <p:spPr>
          <a:xfrm>
            <a:off x="8072280" y="614376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57" name="Номер слайда 7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3C46-9F5E-4DB4-AF89-E325D235EA31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403280" y="2492280"/>
            <a:ext cx="2560680" cy="2881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716360" y="2565360"/>
            <a:ext cx="309564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1,-120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77,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1,-120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77,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1979640" y="404640"/>
            <a:ext cx="5473800" cy="82512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e1e4e"/>
                </a:solidFill>
                <a:latin typeface="Times New Roman"/>
              </a:rPr>
              <a:t>«Мир вокруг нас»</a:t>
            </a:r>
            <a:endParaRPr b="0" lang="en-US" sz="4800" spc="-1" strike="noStrike">
              <a:solidFill>
                <a:srgbClr val="8d1bff"/>
              </a:solidFill>
              <a:latin typeface="Arial"/>
            </a:endParaRPr>
          </a:p>
        </p:txBody>
      </p:sp>
      <p:grpSp>
        <p:nvGrpSpPr>
          <p:cNvPr id="161" name="Группа 2"/>
          <p:cNvGrpSpPr/>
          <p:nvPr/>
        </p:nvGrpSpPr>
        <p:grpSpPr>
          <a:xfrm>
            <a:off x="642960" y="5857920"/>
            <a:ext cx="2714760" cy="500040"/>
            <a:chOff x="642960" y="5857920"/>
            <a:chExt cx="2714760" cy="500040"/>
          </a:xfrm>
        </p:grpSpPr>
        <p:grpSp>
          <p:nvGrpSpPr>
            <p:cNvPr id="162" name="Блок-схема: процесс 3"/>
            <p:cNvGrpSpPr/>
            <p:nvPr/>
          </p:nvGrpSpPr>
          <p:grpSpPr>
            <a:xfrm>
              <a:off x="642960" y="5857920"/>
              <a:ext cx="2714760" cy="500040"/>
              <a:chOff x="642960" y="5857920"/>
              <a:chExt cx="2714760" cy="500040"/>
            </a:xfrm>
          </p:grpSpPr>
          <p:pic>
            <p:nvPicPr>
              <p:cNvPr id="163" name="Блок-схема: процесс 3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60" y="5857920"/>
                <a:ext cx="271476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>
                <a:off x="687600" y="5868000"/>
                <a:ext cx="23522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165" name="TextBox 4"/>
            <p:cNvSpPr/>
            <p:nvPr/>
          </p:nvSpPr>
          <p:spPr>
            <a:xfrm>
              <a:off x="749520" y="5868000"/>
              <a:ext cx="22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4e4d51"/>
                  </a:solidFill>
                  <a:uFillTx/>
                  <a:latin typeface="Times New Roman"/>
                  <a:hlinkClick r:id="rId3" action="ppaction://hlinksldjump"/>
                </a:rPr>
                <a:t>Правильный ответ</a:t>
              </a:r>
              <a:endParaRPr b="0" lang="en-US" sz="24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166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51D8-30D0-4B29-B214-9B0E0FF05D4A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7680" y="1628640"/>
            <a:ext cx="711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2f5a"/>
                </a:solidFill>
                <a:latin typeface="Times New Roman"/>
              </a:rPr>
              <a:t>Кто быстрее переберет крупу: 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2f5a"/>
                </a:solidFill>
                <a:latin typeface="Times New Roman"/>
              </a:rPr>
              <a:t>каждый вид крупы – в свою баночку.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380360" y="333360"/>
            <a:ext cx="1368360" cy="1255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4067280" y="3213000"/>
            <a:ext cx="2801880" cy="2808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179280" y="476280"/>
            <a:ext cx="1771920" cy="714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1143000" y="357120"/>
            <a:ext cx="7000920" cy="916920"/>
          </a:xfrm>
          <a:prstGeom prst="rect">
            <a:avLst/>
          </a:prstGeom>
          <a:gradFill rotWithShape="0">
            <a:gsLst>
              <a:gs pos="0">
                <a:srgbClr val="b3a981"/>
              </a:gs>
              <a:gs pos="100000">
                <a:srgbClr val="b3a981"/>
              </a:gs>
            </a:gsLst>
            <a:lin ang="8340000"/>
          </a:gradFill>
          <a:ln w="9360">
            <a:solidFill>
              <a:srgbClr val="a49b72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e1e4e"/>
                </a:solidFill>
                <a:latin typeface="Times New Roman"/>
              </a:rPr>
              <a:t>КРУПЫ</a:t>
            </a:r>
            <a:r>
              <a:rPr b="0" lang="en-US" sz="5400" spc="-1" strike="noStrike">
                <a:solidFill>
                  <a:srgbClr val="6e1e4e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1116000" y="436572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2f5a"/>
                </a:solidFill>
                <a:latin typeface="Times New Roman"/>
              </a:rPr>
              <a:t>Рис</a:t>
            </a:r>
            <a:endParaRPr b="0" lang="en-US" sz="40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73" name="Управляющая кнопка: назад 6">
            <a:hlinkClick r:id="rId2" action="ppaction://hlinksldjump"/>
          </p:cNvPr>
          <p:cNvSpPr/>
          <p:nvPr/>
        </p:nvSpPr>
        <p:spPr>
          <a:xfrm>
            <a:off x="3643200" y="614376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74" name="Номер слайда 7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957A-C91F-4D6A-8CE2-92612C3C58CB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4720" y="1773360"/>
            <a:ext cx="244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2f5a"/>
                </a:solidFill>
                <a:latin typeface="Times New Roman"/>
              </a:rPr>
              <a:t>Перловка</a:t>
            </a:r>
            <a:endParaRPr b="0" lang="en-US" sz="40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7440" y="3500280"/>
            <a:ext cx="15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2f5a"/>
                </a:solidFill>
                <a:latin typeface="Times New Roman"/>
              </a:rPr>
              <a:t>Горох</a:t>
            </a:r>
            <a:endParaRPr b="0" lang="en-US" sz="40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4360" y="2637000"/>
            <a:ext cx="184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2f5a"/>
                </a:solidFill>
                <a:latin typeface="Times New Roman"/>
              </a:rPr>
              <a:t>Гречка</a:t>
            </a:r>
            <a:endParaRPr b="0" lang="en-US" sz="40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178" name="Picture 5" descr="hmed"/>
          <p:cNvPicPr/>
          <p:nvPr/>
        </p:nvPicPr>
        <p:blipFill>
          <a:blip r:embed="rId3"/>
          <a:stretch/>
        </p:blipFill>
        <p:spPr>
          <a:xfrm>
            <a:off x="3995640" y="2205000"/>
            <a:ext cx="4572000" cy="3500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1,-120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77,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1,-120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77,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Группа 1"/>
          <p:cNvGrpSpPr/>
          <p:nvPr/>
        </p:nvGrpSpPr>
        <p:grpSpPr>
          <a:xfrm>
            <a:off x="642960" y="5857920"/>
            <a:ext cx="2714760" cy="500040"/>
            <a:chOff x="642960" y="5857920"/>
            <a:chExt cx="2714760" cy="500040"/>
          </a:xfrm>
        </p:grpSpPr>
        <p:grpSp>
          <p:nvGrpSpPr>
            <p:cNvPr id="180" name="Блок-схема: процесс 2"/>
            <p:cNvGrpSpPr/>
            <p:nvPr/>
          </p:nvGrpSpPr>
          <p:grpSpPr>
            <a:xfrm>
              <a:off x="642960" y="5857920"/>
              <a:ext cx="2714760" cy="500040"/>
              <a:chOff x="642960" y="5857920"/>
              <a:chExt cx="2714760" cy="500040"/>
            </a:xfrm>
          </p:grpSpPr>
          <p:pic>
            <p:nvPicPr>
              <p:cNvPr id="181" name="Блок-схема: процесс 2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60" y="5857920"/>
                <a:ext cx="271476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687600" y="5868000"/>
                <a:ext cx="23522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183" name="TextBox 3"/>
            <p:cNvSpPr/>
            <p:nvPr/>
          </p:nvSpPr>
          <p:spPr>
            <a:xfrm>
              <a:off x="749520" y="5868000"/>
              <a:ext cx="22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4e4d51"/>
                  </a:solidFill>
                  <a:uFillTx/>
                  <a:latin typeface="Times New Roman"/>
                  <a:hlinkClick r:id="rId3" action="ppaction://hlinksldjump"/>
                </a:rPr>
                <a:t>Правильный ответ</a:t>
              </a:r>
              <a:endParaRPr b="0" lang="en-US" sz="24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184" name="TextBox 6"/>
          <p:cNvSpPr/>
          <p:nvPr/>
        </p:nvSpPr>
        <p:spPr>
          <a:xfrm>
            <a:off x="2050920" y="260280"/>
            <a:ext cx="6769080" cy="76428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1e4e"/>
                </a:solidFill>
                <a:latin typeface="Times New Roman"/>
              </a:rPr>
              <a:t>«Фонетические загадки»</a:t>
            </a:r>
            <a:endParaRPr b="0" lang="en-US" sz="4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85" name="Номер слайда 7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5C7A-E9E0-4CB2-8FC0-E12039591DDB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54360" y="1139760"/>
            <a:ext cx="681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2f5a"/>
                </a:solidFill>
                <a:latin typeface="Times New Roman"/>
              </a:rPr>
              <a:t>Что означают эти звуки?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2f5a"/>
                </a:solidFill>
                <a:latin typeface="Times New Roman"/>
              </a:rPr>
              <a:t>Напишите ответы на листочке. 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2f5a"/>
                </a:solidFill>
                <a:latin typeface="Times New Roman"/>
              </a:rPr>
              <a:t>Время – 3 минуты.</a:t>
            </a:r>
            <a:r>
              <a:rPr b="1" lang="en-US" sz="3600" spc="-1" strike="noStrike">
                <a:solidFill>
                  <a:srgbClr val="8d1b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5673600" y="3068640"/>
            <a:ext cx="1598760" cy="2914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1771920" cy="714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Группа 1"/>
          <p:cNvGrpSpPr/>
          <p:nvPr/>
        </p:nvGrpSpPr>
        <p:grpSpPr>
          <a:xfrm>
            <a:off x="590400" y="5840280"/>
            <a:ext cx="3133800" cy="884520"/>
            <a:chOff x="590400" y="5840280"/>
            <a:chExt cx="3133800" cy="884520"/>
          </a:xfrm>
        </p:grpSpPr>
        <p:grpSp>
          <p:nvGrpSpPr>
            <p:cNvPr id="190" name="Блок-схема: процесс 2"/>
            <p:cNvGrpSpPr/>
            <p:nvPr/>
          </p:nvGrpSpPr>
          <p:grpSpPr>
            <a:xfrm>
              <a:off x="590400" y="5840280"/>
              <a:ext cx="3133800" cy="884520"/>
              <a:chOff x="590400" y="5840280"/>
              <a:chExt cx="3133800" cy="884520"/>
            </a:xfrm>
          </p:grpSpPr>
          <p:pic>
            <p:nvPicPr>
              <p:cNvPr id="191" name="Блок-схема: процесс 2" descr=""/>
              <p:cNvPicPr/>
              <p:nvPr/>
            </p:nvPicPr>
            <p:blipFill>
              <a:blip r:embed="rId2"/>
              <a:stretch/>
            </p:blipFill>
            <p:spPr>
              <a:xfrm>
                <a:off x="590400" y="5840280"/>
                <a:ext cx="3133800" cy="8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>
                <a:off x="641880" y="5857920"/>
                <a:ext cx="271512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193" name="TextBox 3"/>
            <p:cNvSpPr/>
            <p:nvPr/>
          </p:nvSpPr>
          <p:spPr>
            <a:xfrm>
              <a:off x="713160" y="5857920"/>
              <a:ext cx="2643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194" name="TextBox 5"/>
          <p:cNvSpPr/>
          <p:nvPr/>
        </p:nvSpPr>
        <p:spPr>
          <a:xfrm>
            <a:off x="2484360" y="260280"/>
            <a:ext cx="5329440" cy="91692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e1e4e"/>
                </a:solidFill>
                <a:latin typeface="Times New Roman"/>
              </a:rPr>
              <a:t>«Фотоглаз»</a:t>
            </a:r>
            <a:endParaRPr b="0" lang="en-US" sz="5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95" name="Номер слайда 10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ED88-0AF9-40B0-A978-6020600C066A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549440" y="1646280"/>
          <a:ext cx="6095880" cy="40636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8960"/>
                <a:gridCol w="1219320"/>
                <a:gridCol w="121932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1368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1368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1368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1368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13680">
                      <a:solidFill>
                        <a:srgbClr val="8d1bff"/>
                      </a:solidFill>
                    </a:lnR>
                    <a:lnT w="1368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1368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1368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1368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1368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1368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1368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1368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</a:tr>
            </a:tbl>
          </a:graphicData>
        </a:graphic>
      </p:graphicFrame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549440" y="162072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2997360" y="2001960"/>
            <a:ext cx="819000" cy="67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987720" y="162072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5207040" y="1714680"/>
            <a:ext cx="1266840" cy="1277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6502320" y="1697040"/>
            <a:ext cx="107172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1625760" y="2992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4140360" y="3068640"/>
            <a:ext cx="695160" cy="12668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6807240" y="4363920"/>
            <a:ext cx="414360" cy="1362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 rot="20253000">
            <a:off x="5130720" y="3373560"/>
            <a:ext cx="1447920" cy="473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>
            <a:off x="6578640" y="3220920"/>
            <a:ext cx="952560" cy="658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3"/>
          <a:stretch/>
        </p:blipFill>
        <p:spPr>
          <a:xfrm>
            <a:off x="1547640" y="4292640"/>
            <a:ext cx="1162080" cy="13906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4"/>
          <a:stretch/>
        </p:blipFill>
        <p:spPr>
          <a:xfrm>
            <a:off x="3987720" y="436392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5"/>
          <a:stretch/>
        </p:blipFill>
        <p:spPr>
          <a:xfrm>
            <a:off x="5283360" y="4516560"/>
            <a:ext cx="1066680" cy="749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6"/>
          <a:stretch/>
        </p:blipFill>
        <p:spPr>
          <a:xfrm>
            <a:off x="2921040" y="4592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7"/>
          <a:stretch/>
        </p:blipFill>
        <p:spPr>
          <a:xfrm>
            <a:off x="2556000" y="3141720"/>
            <a:ext cx="1439640" cy="1189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8"/>
          <a:stretch/>
        </p:blipFill>
        <p:spPr>
          <a:xfrm>
            <a:off x="468360" y="333360"/>
            <a:ext cx="1771560" cy="714240"/>
          </a:xfrm>
          <a:prstGeom prst="rect">
            <a:avLst/>
          </a:prstGeom>
          <a:ln w="0">
            <a:noFill/>
          </a:ln>
        </p:spPr>
      </p:pic>
      <p:sp>
        <p:nvSpPr>
          <p:cNvPr id="213" name="Управляющая кнопка: назад 2">
            <a:hlinkClick r:id="rId19" action="ppaction://hlinksldjump"/>
          </p:cNvPr>
          <p:cNvSpPr/>
          <p:nvPr/>
        </p:nvSpPr>
        <p:spPr>
          <a:xfrm>
            <a:off x="7740720" y="6165720"/>
            <a:ext cx="1071360" cy="500040"/>
          </a:xfrm>
          <a:custGeom>
            <a:avLst/>
            <a:gdLst>
              <a:gd name="textAreaLeft" fmla="*/ 32400 w 1071360"/>
              <a:gd name="textAreaRight" fmla="*/ 1038960 w 10713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61" h="21600">
                <a:moveTo>
                  <a:pt x="0" y="0"/>
                </a:moveTo>
                <a:lnTo>
                  <a:pt x="46261" y="0"/>
                </a:lnTo>
                <a:lnTo>
                  <a:pt x="46261" y="21600"/>
                </a:lnTo>
                <a:lnTo>
                  <a:pt x="0" y="21600"/>
                </a:lnTo>
                <a:close/>
              </a:path>
              <a:path fill="lightenLess" w="46261" h="21600">
                <a:moveTo>
                  <a:pt x="0" y="0"/>
                </a:moveTo>
                <a:lnTo>
                  <a:pt x="46261" y="0"/>
                </a:lnTo>
                <a:lnTo>
                  <a:pt x="44861" y="1400"/>
                </a:lnTo>
                <a:lnTo>
                  <a:pt x="1400" y="1400"/>
                </a:lnTo>
                <a:close/>
              </a:path>
              <a:path fill="darken" w="46261" h="21600">
                <a:moveTo>
                  <a:pt x="46261" y="0"/>
                </a:moveTo>
                <a:lnTo>
                  <a:pt x="46261" y="21600"/>
                </a:lnTo>
                <a:lnTo>
                  <a:pt x="44861" y="20200"/>
                </a:lnTo>
                <a:lnTo>
                  <a:pt x="44861" y="1400"/>
                </a:lnTo>
                <a:close/>
              </a:path>
              <a:path fill="darkenLess" w="46261" h="21600">
                <a:moveTo>
                  <a:pt x="462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61" y="20200"/>
                </a:lnTo>
                <a:close/>
              </a:path>
              <a:path fill="lighten" w="462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61" h="21600">
                <a:moveTo>
                  <a:pt x="16124" y="10800"/>
                </a:moveTo>
                <a:lnTo>
                  <a:pt x="30137" y="3794"/>
                </a:lnTo>
                <a:lnTo>
                  <a:pt x="30137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971640" y="260280"/>
            <a:ext cx="7103880" cy="916920"/>
          </a:xfrm>
          <a:prstGeom prst="rect">
            <a:avLst/>
          </a:prstGeom>
          <a:gradFill rotWithShape="0">
            <a:gsLst>
              <a:gs pos="0">
                <a:srgbClr val="b3a981"/>
              </a:gs>
              <a:gs pos="100000">
                <a:srgbClr val="b3a981"/>
              </a:gs>
            </a:gsLst>
            <a:lin ang="8340000"/>
          </a:gradFill>
          <a:ln w="9360">
            <a:solidFill>
              <a:srgbClr val="a49b72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a7412"/>
                </a:solidFill>
                <a:latin typeface="Times New Roman"/>
              </a:rPr>
              <a:t>«Веселый художник»</a:t>
            </a:r>
            <a:r>
              <a:rPr b="0" lang="en-US" sz="5400" spc="-1" strike="noStrike">
                <a:solidFill>
                  <a:srgbClr val="ffc0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428760" y="1428840"/>
            <a:ext cx="3929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16" name="Номер слайда 9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42B2-CE55-4237-BEE4-E89CCBC2C4DD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17" name="Управляющая кнопка: назад 2">
            <a:hlinkClick r:id="rId2" action="ppaction://hlinksldjump"/>
          </p:cNvPr>
          <p:cNvSpPr/>
          <p:nvPr/>
        </p:nvSpPr>
        <p:spPr>
          <a:xfrm>
            <a:off x="7740720" y="6165720"/>
            <a:ext cx="1071360" cy="500040"/>
          </a:xfrm>
          <a:custGeom>
            <a:avLst/>
            <a:gdLst>
              <a:gd name="textAreaLeft" fmla="*/ 32400 w 1071360"/>
              <a:gd name="textAreaRight" fmla="*/ 1038960 w 10713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61" h="21600">
                <a:moveTo>
                  <a:pt x="0" y="0"/>
                </a:moveTo>
                <a:lnTo>
                  <a:pt x="46261" y="0"/>
                </a:lnTo>
                <a:lnTo>
                  <a:pt x="46261" y="21600"/>
                </a:lnTo>
                <a:lnTo>
                  <a:pt x="0" y="21600"/>
                </a:lnTo>
                <a:close/>
              </a:path>
              <a:path fill="lightenLess" w="46261" h="21600">
                <a:moveTo>
                  <a:pt x="0" y="0"/>
                </a:moveTo>
                <a:lnTo>
                  <a:pt x="46261" y="0"/>
                </a:lnTo>
                <a:lnTo>
                  <a:pt x="44861" y="1400"/>
                </a:lnTo>
                <a:lnTo>
                  <a:pt x="1400" y="1400"/>
                </a:lnTo>
                <a:close/>
              </a:path>
              <a:path fill="darken" w="46261" h="21600">
                <a:moveTo>
                  <a:pt x="46261" y="0"/>
                </a:moveTo>
                <a:lnTo>
                  <a:pt x="46261" y="21600"/>
                </a:lnTo>
                <a:lnTo>
                  <a:pt x="44861" y="20200"/>
                </a:lnTo>
                <a:lnTo>
                  <a:pt x="44861" y="1400"/>
                </a:lnTo>
                <a:close/>
              </a:path>
              <a:path fill="darkenLess" w="46261" h="21600">
                <a:moveTo>
                  <a:pt x="462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61" y="20200"/>
                </a:lnTo>
                <a:close/>
              </a:path>
              <a:path fill="lighten" w="462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61" h="21600">
                <a:moveTo>
                  <a:pt x="16124" y="10800"/>
                </a:moveTo>
                <a:lnTo>
                  <a:pt x="30137" y="3794"/>
                </a:lnTo>
                <a:lnTo>
                  <a:pt x="30137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218" name="" descr="Картинка 61 из 1309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773360"/>
            <a:ext cx="359100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Картинка 111 из 13096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1916280"/>
            <a:ext cx="4263840" cy="3236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1,-120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77,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1,-120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77,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Группа 1"/>
          <p:cNvGrpSpPr/>
          <p:nvPr/>
        </p:nvGrpSpPr>
        <p:grpSpPr>
          <a:xfrm>
            <a:off x="642960" y="5857920"/>
            <a:ext cx="2714760" cy="500040"/>
            <a:chOff x="642960" y="5857920"/>
            <a:chExt cx="2714760" cy="500040"/>
          </a:xfrm>
        </p:grpSpPr>
        <p:grpSp>
          <p:nvGrpSpPr>
            <p:cNvPr id="221" name="Блок-схема: процесс 2"/>
            <p:cNvGrpSpPr/>
            <p:nvPr/>
          </p:nvGrpSpPr>
          <p:grpSpPr>
            <a:xfrm>
              <a:off x="642960" y="5857920"/>
              <a:ext cx="2714760" cy="500040"/>
              <a:chOff x="642960" y="5857920"/>
              <a:chExt cx="2714760" cy="500040"/>
            </a:xfrm>
          </p:grpSpPr>
          <p:pic>
            <p:nvPicPr>
              <p:cNvPr id="222" name="Блок-схема: процесс 2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60" y="5857920"/>
                <a:ext cx="271476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687600" y="5868000"/>
                <a:ext cx="23522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224" name="TextBox 3"/>
            <p:cNvSpPr/>
            <p:nvPr/>
          </p:nvSpPr>
          <p:spPr>
            <a:xfrm>
              <a:off x="749520" y="5868000"/>
              <a:ext cx="22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4e4d51"/>
                  </a:solidFill>
                  <a:uFillTx/>
                  <a:latin typeface="Times New Roman"/>
                  <a:hlinkClick r:id="rId3" action="ppaction://hlinksldjump"/>
                </a:rPr>
                <a:t>Правильный ответ</a:t>
              </a:r>
              <a:endParaRPr b="0" lang="en-US" sz="24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225" name="Прямоугольник 7"/>
          <p:cNvSpPr/>
          <p:nvPr/>
        </p:nvSpPr>
        <p:spPr>
          <a:xfrm>
            <a:off x="826920" y="404640"/>
            <a:ext cx="7786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5bb0"/>
                </a:solidFill>
                <a:latin typeface="Times New Roman"/>
              </a:rPr>
              <a:t>Составь как можно больше новых слов из слова</a:t>
            </a:r>
            <a:endParaRPr b="0" lang="en-US" sz="4400" spc="-1" strike="noStrike">
              <a:solidFill>
                <a:srgbClr val="8d1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e1e4e"/>
                </a:solidFill>
                <a:latin typeface="Arial Black"/>
              </a:rPr>
              <a:t>РУБАНОК</a:t>
            </a:r>
            <a:endParaRPr b="0" lang="en-US" sz="8000" spc="-1" strike="noStrike">
              <a:solidFill>
                <a:srgbClr val="8d1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e1e4e"/>
                </a:solidFill>
                <a:latin typeface="Arial Black"/>
              </a:rPr>
              <a:t>РИСОВАНИЕ</a:t>
            </a:r>
            <a:endParaRPr b="0" lang="en-US" sz="80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26" name="Номер слайда 6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D1D9-F52C-4BC8-8143-C97730AAE3F3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 rot="1409400">
            <a:off x="0" y="692280"/>
            <a:ext cx="1771560" cy="714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1714680" y="285840"/>
            <a:ext cx="6000480" cy="916920"/>
          </a:xfrm>
          <a:prstGeom prst="rect">
            <a:avLst/>
          </a:prstGeom>
          <a:gradFill rotWithShape="0">
            <a:gsLst>
              <a:gs pos="0">
                <a:srgbClr val="b3a981"/>
              </a:gs>
              <a:gs pos="100000">
                <a:srgbClr val="b3a981"/>
              </a:gs>
            </a:gsLst>
            <a:lin ang="8340000"/>
          </a:gradFill>
          <a:ln w="9360">
            <a:solidFill>
              <a:srgbClr val="a49b72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a7412"/>
                </a:solidFill>
                <a:latin typeface="Times New Roman"/>
              </a:rPr>
              <a:t>РИСОВАНИЕ </a:t>
            </a:r>
            <a:endParaRPr b="0" lang="en-US" sz="5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29" name="Управляющая кнопка: назад 2">
            <a:hlinkClick r:id="rId2" action="ppaction://hlinksldjump"/>
          </p:cNvPr>
          <p:cNvSpPr/>
          <p:nvPr/>
        </p:nvSpPr>
        <p:spPr>
          <a:xfrm>
            <a:off x="7715160" y="635796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30" name="Номер слайда 7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E041-BD91-4A3F-B9E1-C5256C863A76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33440" y="2205000"/>
            <a:ext cx="1467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1bff"/>
                </a:solidFill>
                <a:latin typeface="Times New Roman"/>
              </a:rPr>
              <a:t>Банка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1bff"/>
                </a:solidFill>
                <a:latin typeface="Times New Roman"/>
              </a:rPr>
              <a:t>Бук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1bff"/>
                </a:solidFill>
                <a:latin typeface="Times New Roman"/>
              </a:rPr>
              <a:t>Рука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1bff"/>
                </a:solidFill>
                <a:latin typeface="Times New Roman"/>
              </a:rPr>
              <a:t>Банк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1bff"/>
                </a:solidFill>
                <a:latin typeface="Times New Roman"/>
              </a:rPr>
              <a:t>Кон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1bff"/>
                </a:solidFill>
                <a:latin typeface="Times New Roman"/>
              </a:rPr>
              <a:t>Куб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78160" y="1405080"/>
            <a:ext cx="1125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Рис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Сова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Нос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Сон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Ров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Вор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Вино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Сор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Овес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3800" y="1413000"/>
            <a:ext cx="3233160" cy="825120"/>
          </a:xfrm>
          <a:prstGeom prst="rect">
            <a:avLst/>
          </a:prstGeom>
          <a:solidFill>
            <a:srgbClr val="fcf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a7412"/>
                </a:solidFill>
                <a:latin typeface="Times New Roman"/>
              </a:rPr>
              <a:t>РУБАНОК</a:t>
            </a:r>
            <a:endParaRPr b="0" lang="en-US" sz="4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Группа 1"/>
          <p:cNvGrpSpPr/>
          <p:nvPr/>
        </p:nvGrpSpPr>
        <p:grpSpPr>
          <a:xfrm>
            <a:off x="590400" y="5840280"/>
            <a:ext cx="3133800" cy="884520"/>
            <a:chOff x="590400" y="5840280"/>
            <a:chExt cx="3133800" cy="884520"/>
          </a:xfrm>
        </p:grpSpPr>
        <p:grpSp>
          <p:nvGrpSpPr>
            <p:cNvPr id="235" name="Блок-схема: процесс 2"/>
            <p:cNvGrpSpPr/>
            <p:nvPr/>
          </p:nvGrpSpPr>
          <p:grpSpPr>
            <a:xfrm>
              <a:off x="590400" y="5840280"/>
              <a:ext cx="3133800" cy="884520"/>
              <a:chOff x="590400" y="5840280"/>
              <a:chExt cx="3133800" cy="884520"/>
            </a:xfrm>
          </p:grpSpPr>
          <p:pic>
            <p:nvPicPr>
              <p:cNvPr id="236" name="Блок-схема: процесс 2" descr=""/>
              <p:cNvPicPr/>
              <p:nvPr/>
            </p:nvPicPr>
            <p:blipFill>
              <a:blip r:embed="rId2"/>
              <a:stretch/>
            </p:blipFill>
            <p:spPr>
              <a:xfrm>
                <a:off x="590400" y="5840280"/>
                <a:ext cx="3133800" cy="8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641880" y="5857920"/>
                <a:ext cx="271512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238" name="TextBox 3"/>
            <p:cNvSpPr/>
            <p:nvPr/>
          </p:nvSpPr>
          <p:spPr>
            <a:xfrm>
              <a:off x="713160" y="5857920"/>
              <a:ext cx="2643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239" name="TextBox 4"/>
          <p:cNvSpPr/>
          <p:nvPr/>
        </p:nvSpPr>
        <p:spPr>
          <a:xfrm>
            <a:off x="2556000" y="333360"/>
            <a:ext cx="4608360" cy="91692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70f27"/>
                </a:solidFill>
                <a:latin typeface="Times New Roman"/>
              </a:rPr>
              <a:t>«Фантазеры»</a:t>
            </a:r>
            <a:endParaRPr b="0" lang="en-US" sz="5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40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A1D3-840B-47C6-B8DD-2870ABC8A624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7880" y="1628640"/>
            <a:ext cx="845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2f5a"/>
                </a:solidFill>
                <a:latin typeface="Times New Roman"/>
              </a:rPr>
              <a:t>Из разрезанных частей собери двух клоунов 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2f5a"/>
                </a:solidFill>
                <a:latin typeface="Times New Roman"/>
              </a:rPr>
              <a:t>и скажи, как их зовут.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6880" y="2809800"/>
            <a:ext cx="151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d1bff"/>
                </a:solidFill>
                <a:latin typeface="Arial Black"/>
              </a:rPr>
              <a:t>ФИТО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d1bff"/>
                </a:solidFill>
                <a:latin typeface="Arial Black"/>
              </a:rPr>
              <a:t>ДИДО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334120" y="1676520"/>
            <a:ext cx="1323720" cy="13906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1771560" cy="7146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6588000" y="4076640"/>
            <a:ext cx="3333960" cy="2581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4572000" y="4005360"/>
            <a:ext cx="828720" cy="12762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7"/>
          <a:stretch/>
        </p:blipFill>
        <p:spPr>
          <a:xfrm>
            <a:off x="5219640" y="2924280"/>
            <a:ext cx="1495440" cy="1752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8"/>
          <a:stretch/>
        </p:blipFill>
        <p:spPr>
          <a:xfrm>
            <a:off x="7020000" y="2276640"/>
            <a:ext cx="1314360" cy="1542960"/>
          </a:xfrm>
          <a:prstGeom prst="rect">
            <a:avLst/>
          </a:prstGeom>
          <a:ln w="0">
            <a:noFill/>
          </a:ln>
        </p:spPr>
      </p:pic>
      <p:sp>
        <p:nvSpPr>
          <p:cNvPr id="249" name="Управляющая кнопка: назад 2">
            <a:hlinkClick r:id="rId9" action="ppaction://hlinksldjump"/>
          </p:cNvPr>
          <p:cNvSpPr/>
          <p:nvPr/>
        </p:nvSpPr>
        <p:spPr>
          <a:xfrm>
            <a:off x="3851280" y="602136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0" y="0"/>
          <a:ext cx="9144000" cy="6956280"/>
        </p:xfrm>
        <a:graphic>
          <a:graphicData uri="http://schemas.openxmlformats.org/drawingml/2006/table">
            <a:tbl>
              <a:tblPr/>
              <a:tblGrid>
                <a:gridCol w="431640"/>
                <a:gridCol w="1919520"/>
                <a:gridCol w="2351160"/>
                <a:gridCol w="2178000"/>
                <a:gridCol w="2263680"/>
              </a:tblGrid>
              <a:tr h="20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ede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Известные народные промыслы России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Элементы росписи народного промысла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Цветовая гамма народного промысла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Определи по внешнему виду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6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Угадай меня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Фонетические 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загадки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Фантазеры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Загадки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</a:tr>
              <a:tr h="17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В тесноте да не в обиде»</a:t>
                      </a: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Фотоглаз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Черный ящик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11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Ребусы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</a:tr>
              <a:tr h="15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Мир вокруг нас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Спрятавшееся слово»</a:t>
                      </a: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Веселый художник»</a:t>
                      </a: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12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</a:tr>
            </a:tbl>
          </a:graphicData>
        </a:graphic>
      </p:graphicFrame>
      <p:sp>
        <p:nvSpPr>
          <p:cNvPr id="251" name="Управляющая кнопка: назад 2">
            <a:hlinkClick r:id="rId14" action="ppaction://hlinksldjump"/>
          </p:cNvPr>
          <p:cNvSpPr/>
          <p:nvPr/>
        </p:nvSpPr>
        <p:spPr>
          <a:xfrm>
            <a:off x="0" y="357120"/>
            <a:ext cx="428760" cy="7146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714600"/>
              <a:gd name="textAreaBottom" fmla="*/ 686880 h 714600"/>
            </a:gdLst>
            <a:ahLst/>
            <a:rect l="textAreaLeft" t="textAreaTop" r="textAreaRight" b="textAreaBottom"/>
            <a:pathLst>
              <a:path w="21600" h="35988">
                <a:moveTo>
                  <a:pt x="0" y="0"/>
                </a:moveTo>
                <a:lnTo>
                  <a:pt x="21600" y="0"/>
                </a:lnTo>
                <a:lnTo>
                  <a:pt x="21600" y="35988"/>
                </a:lnTo>
                <a:lnTo>
                  <a:pt x="0" y="35988"/>
                </a:lnTo>
                <a:close/>
              </a:path>
              <a:path fill="lightenLess" w="21600" h="359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8">
                <a:moveTo>
                  <a:pt x="21600" y="0"/>
                </a:moveTo>
                <a:lnTo>
                  <a:pt x="21600" y="35988"/>
                </a:lnTo>
                <a:lnTo>
                  <a:pt x="20200" y="34588"/>
                </a:lnTo>
                <a:lnTo>
                  <a:pt x="20200" y="1400"/>
                </a:lnTo>
                <a:close/>
              </a:path>
              <a:path fill="darkenLess" w="21600" h="35988">
                <a:moveTo>
                  <a:pt x="21600" y="35988"/>
                </a:moveTo>
                <a:lnTo>
                  <a:pt x="0" y="35988"/>
                </a:lnTo>
                <a:lnTo>
                  <a:pt x="1400" y="34588"/>
                </a:lnTo>
                <a:lnTo>
                  <a:pt x="20200" y="34588"/>
                </a:lnTo>
                <a:close/>
              </a:path>
              <a:path fill="lighten" w="21600" h="35988">
                <a:moveTo>
                  <a:pt x="0" y="35988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8"/>
                </a:lnTo>
                <a:close/>
              </a:path>
              <a:path fill="darken" w="21600" h="35988">
                <a:moveTo>
                  <a:pt x="3794" y="17994"/>
                </a:moveTo>
                <a:lnTo>
                  <a:pt x="17806" y="10987"/>
                </a:lnTo>
                <a:lnTo>
                  <a:pt x="17806" y="25000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8429760" y="650088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A7F5-C5B4-46C2-BEFC-289E076532A2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53" name="Управляющая кнопка: далее 6">
            <a:hlinkClick r:id="rId15" action="ppaction://hlinksldjump"/>
          </p:cNvPr>
          <p:cNvSpPr/>
          <p:nvPr/>
        </p:nvSpPr>
        <p:spPr>
          <a:xfrm>
            <a:off x="0" y="6286680"/>
            <a:ext cx="785880" cy="571320"/>
          </a:xfrm>
          <a:custGeom>
            <a:avLst/>
            <a:gdLst>
              <a:gd name="textAreaLeft" fmla="*/ 36720 w 785880"/>
              <a:gd name="textAreaRight" fmla="*/ 749160 w 7858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9707" h="21600">
                <a:moveTo>
                  <a:pt x="0" y="0"/>
                </a:moveTo>
                <a:lnTo>
                  <a:pt x="29707" y="0"/>
                </a:lnTo>
                <a:lnTo>
                  <a:pt x="29707" y="21600"/>
                </a:lnTo>
                <a:lnTo>
                  <a:pt x="0" y="21600"/>
                </a:lnTo>
                <a:close/>
              </a:path>
              <a:path fill="lightenLess" w="29707" h="21600">
                <a:moveTo>
                  <a:pt x="0" y="0"/>
                </a:moveTo>
                <a:lnTo>
                  <a:pt x="29707" y="0"/>
                </a:lnTo>
                <a:lnTo>
                  <a:pt x="28307" y="1400"/>
                </a:lnTo>
                <a:lnTo>
                  <a:pt x="1400" y="1400"/>
                </a:lnTo>
                <a:close/>
              </a:path>
              <a:path fill="darken" w="29707" h="21600">
                <a:moveTo>
                  <a:pt x="29707" y="0"/>
                </a:moveTo>
                <a:lnTo>
                  <a:pt x="29707" y="21600"/>
                </a:lnTo>
                <a:lnTo>
                  <a:pt x="28307" y="20200"/>
                </a:lnTo>
                <a:lnTo>
                  <a:pt x="28307" y="1400"/>
                </a:lnTo>
                <a:close/>
              </a:path>
              <a:path fill="darkenLess" w="29707" h="21600">
                <a:moveTo>
                  <a:pt x="29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7" y="20200"/>
                </a:lnTo>
                <a:close/>
              </a:path>
              <a:path fill="lighten" w="29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7" h="21600">
                <a:moveTo>
                  <a:pt x="7847" y="3794"/>
                </a:moveTo>
                <a:lnTo>
                  <a:pt x="21860" y="10800"/>
                </a:lnTo>
                <a:lnTo>
                  <a:pt x="7847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0480" y="189000"/>
            <a:ext cx="8122320" cy="119124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156e"/>
                </a:solidFill>
                <a:latin typeface="Comic Sans MS"/>
              </a:rPr>
              <a:t>Наш девиз: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5bb0"/>
                </a:solidFill>
                <a:latin typeface="Comic Sans MS"/>
              </a:rPr>
              <a:t>«Все тайное становится явным!»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8520" y="2060640"/>
            <a:ext cx="71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1bff"/>
                </a:solidFill>
                <a:latin typeface="Times New Roman"/>
              </a:rPr>
              <a:t>Игра для ума. 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1bff"/>
                </a:solidFill>
                <a:latin typeface="Times New Roman"/>
              </a:rPr>
              <a:t>Отгадайте, как называется игра?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400" y="3500280"/>
            <a:ext cx="7677360" cy="2226960"/>
          </a:xfrm>
          <a:prstGeom prst="rect">
            <a:avLst/>
          </a:prstGeom>
          <a:solidFill>
            <a:srgbClr val="fcf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e1e4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1e4e"/>
                </a:solidFill>
                <a:latin typeface="Times New Roman"/>
              </a:rPr>
              <a:t>Вышивка перекрещивающимися стежками.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e1e4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1e4e"/>
                </a:solidFill>
                <a:latin typeface="Times New Roman"/>
              </a:rPr>
              <a:t>Не похож он на пятак, 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1e4e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6e1e4e"/>
                </a:solidFill>
                <a:latin typeface="Times New Roman"/>
              </a:rPr>
              <a:t>Не похож на бублик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1e4e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6e1e4e"/>
                </a:solidFill>
                <a:latin typeface="Times New Roman"/>
              </a:rPr>
              <a:t>Круглый он, да не дурак, 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1e4e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6e1e4e"/>
                </a:solidFill>
                <a:latin typeface="Times New Roman"/>
              </a:rPr>
              <a:t>С дыркой, да не бублик.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431120" y="333360"/>
            <a:ext cx="1712880" cy="2682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810400" y="4076640"/>
            <a:ext cx="3333600" cy="2581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Группа 1"/>
          <p:cNvGrpSpPr/>
          <p:nvPr/>
        </p:nvGrpSpPr>
        <p:grpSpPr>
          <a:xfrm>
            <a:off x="214200" y="6143760"/>
            <a:ext cx="2714760" cy="500040"/>
            <a:chOff x="214200" y="6143760"/>
            <a:chExt cx="2714760" cy="500040"/>
          </a:xfrm>
        </p:grpSpPr>
        <p:grpSp>
          <p:nvGrpSpPr>
            <p:cNvPr id="255" name="Блок-схема: процесс 2"/>
            <p:cNvGrpSpPr/>
            <p:nvPr/>
          </p:nvGrpSpPr>
          <p:grpSpPr>
            <a:xfrm>
              <a:off x="214200" y="6143760"/>
              <a:ext cx="2714760" cy="500040"/>
              <a:chOff x="214200" y="6143760"/>
              <a:chExt cx="2714760" cy="500040"/>
            </a:xfrm>
          </p:grpSpPr>
          <p:pic>
            <p:nvPicPr>
              <p:cNvPr id="256" name="Блок-схема: процесс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4200" y="6143760"/>
                <a:ext cx="271476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257040" y="6153120"/>
                <a:ext cx="235656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258" name="TextBox 3"/>
            <p:cNvSpPr/>
            <p:nvPr/>
          </p:nvSpPr>
          <p:spPr>
            <a:xfrm>
              <a:off x="319320" y="6153120"/>
              <a:ext cx="22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4e4d51"/>
                  </a:solidFill>
                  <a:uFillTx/>
                  <a:latin typeface="Times New Roman"/>
                  <a:hlinkClick r:id="rId3" action="ppaction://hlinksldjump"/>
                </a:rPr>
                <a:t>Правильный ответ</a:t>
              </a:r>
              <a:endParaRPr b="0" lang="en-US" sz="24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259" name="TextBox 4"/>
          <p:cNvSpPr/>
          <p:nvPr/>
        </p:nvSpPr>
        <p:spPr>
          <a:xfrm>
            <a:off x="2411280" y="0"/>
            <a:ext cx="6048360" cy="143460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0f27"/>
                </a:solidFill>
                <a:latin typeface="Times New Roman"/>
              </a:rPr>
              <a:t>«Веселый художник»               </a:t>
            </a:r>
            <a:r>
              <a:rPr b="1" lang="en-US" sz="3200" spc="-1" strike="noStrike">
                <a:solidFill>
                  <a:srgbClr val="370f27"/>
                </a:solidFill>
                <a:latin typeface="Times New Roman"/>
              </a:rPr>
              <a:t>(эстафета)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539640" y="5300640"/>
            <a:ext cx="80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</a:rPr>
              <a:t>Кто нарисован на картине?</a:t>
            </a:r>
            <a:endParaRPr b="0" lang="en-US" sz="40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61" name="Номер слайда 7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5762-CBCC-4397-A67A-2BC697A48BC4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1771560" cy="7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"/>
          <p:cNvGraphicFramePr/>
          <p:nvPr/>
        </p:nvGraphicFramePr>
        <p:xfrm>
          <a:off x="1835280" y="1341360"/>
          <a:ext cx="6095880" cy="406368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1368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1368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1368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13680">
                      <a:solidFill>
                        <a:srgbClr val="8d1bff"/>
                      </a:solidFill>
                    </a:lnR>
                    <a:lnT w="1368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1368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1368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1368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11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1368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12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1368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1368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1,-120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77,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1,-120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77,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12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Группа 1"/>
          <p:cNvGrpSpPr/>
          <p:nvPr/>
        </p:nvGrpSpPr>
        <p:grpSpPr>
          <a:xfrm>
            <a:off x="642960" y="5857920"/>
            <a:ext cx="2714760" cy="500040"/>
            <a:chOff x="642960" y="5857920"/>
            <a:chExt cx="2714760" cy="500040"/>
          </a:xfrm>
        </p:grpSpPr>
        <p:grpSp>
          <p:nvGrpSpPr>
            <p:cNvPr id="265" name="Блок-схема: процесс 2"/>
            <p:cNvGrpSpPr/>
            <p:nvPr/>
          </p:nvGrpSpPr>
          <p:grpSpPr>
            <a:xfrm>
              <a:off x="642960" y="5857920"/>
              <a:ext cx="2714760" cy="500040"/>
              <a:chOff x="642960" y="5857920"/>
              <a:chExt cx="2714760" cy="500040"/>
            </a:xfrm>
          </p:grpSpPr>
          <p:pic>
            <p:nvPicPr>
              <p:cNvPr id="266" name="Блок-схема: процесс 2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60" y="5857920"/>
                <a:ext cx="271476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687600" y="5868000"/>
                <a:ext cx="23522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268" name="TextBox 3"/>
            <p:cNvSpPr/>
            <p:nvPr/>
          </p:nvSpPr>
          <p:spPr>
            <a:xfrm>
              <a:off x="749520" y="5868000"/>
              <a:ext cx="22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4e4d51"/>
                  </a:solidFill>
                  <a:uFillTx/>
                  <a:latin typeface="Times New Roman"/>
                  <a:hlinkClick r:id="rId3" action="ppaction://hlinksldjump"/>
                </a:rPr>
                <a:t>Правильный ответ</a:t>
              </a:r>
              <a:endParaRPr b="0" lang="en-US" sz="24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269" name="TextBox 5"/>
          <p:cNvSpPr/>
          <p:nvPr/>
        </p:nvSpPr>
        <p:spPr>
          <a:xfrm>
            <a:off x="755640" y="1773360"/>
            <a:ext cx="76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Угадайте, какой предмет, необходимый на уроках технологии и ИЗО, находится в черном ящике?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Задавайте наводящие вопросы.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2484360" y="404640"/>
            <a:ext cx="5585040" cy="91692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e1e4e"/>
                </a:solidFill>
                <a:latin typeface="Times New Roman"/>
              </a:rPr>
              <a:t>«Черный ящик»</a:t>
            </a:r>
            <a:endParaRPr b="0" lang="en-US" sz="5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71" name="Номер слайда 7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DD5A-8238-4D9E-87A3-346649CF7772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1771560" cy="7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340000" y="1844640"/>
            <a:ext cx="4103640" cy="3745080"/>
          </a:xfrm>
          <a:prstGeom prst="rect">
            <a:avLst/>
          </a:prstGeom>
          <a:solidFill>
            <a:srgbClr val="4e4d51"/>
          </a:solidFill>
          <a:ln w="9360">
            <a:solidFill>
              <a:srgbClr val="8d1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74" name="TextBox 1"/>
          <p:cNvSpPr/>
          <p:nvPr/>
        </p:nvSpPr>
        <p:spPr>
          <a:xfrm>
            <a:off x="357120" y="285840"/>
            <a:ext cx="8501040" cy="916920"/>
          </a:xfrm>
          <a:prstGeom prst="rect">
            <a:avLst/>
          </a:prstGeom>
          <a:gradFill rotWithShape="0">
            <a:gsLst>
              <a:gs pos="0">
                <a:srgbClr val="b3a981"/>
              </a:gs>
              <a:gs pos="100000">
                <a:srgbClr val="b3a981"/>
              </a:gs>
            </a:gsLst>
            <a:lin ang="8340000"/>
          </a:gradFill>
          <a:ln w="9360">
            <a:solidFill>
              <a:srgbClr val="a49b72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Times New Roman"/>
              </a:rPr>
              <a:t>«Черный ящик» </a:t>
            </a:r>
            <a:endParaRPr b="0" lang="en-US" sz="5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75" name="Управляющая кнопка: назад 2">
            <a:hlinkClick r:id="rId2" action="ppaction://hlinksldjump"/>
          </p:cNvPr>
          <p:cNvSpPr/>
          <p:nvPr/>
        </p:nvSpPr>
        <p:spPr>
          <a:xfrm>
            <a:off x="1763640" y="616572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76" name="Номер слайда 7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6428-6B8E-4164-B738-6D30C6EB1BA6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2900520" cy="2900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Группа 1"/>
          <p:cNvGrpSpPr/>
          <p:nvPr/>
        </p:nvGrpSpPr>
        <p:grpSpPr>
          <a:xfrm>
            <a:off x="590400" y="5840280"/>
            <a:ext cx="3133800" cy="884520"/>
            <a:chOff x="590400" y="5840280"/>
            <a:chExt cx="3133800" cy="884520"/>
          </a:xfrm>
        </p:grpSpPr>
        <p:grpSp>
          <p:nvGrpSpPr>
            <p:cNvPr id="279" name="Блок-схема: процесс 2"/>
            <p:cNvGrpSpPr/>
            <p:nvPr/>
          </p:nvGrpSpPr>
          <p:grpSpPr>
            <a:xfrm>
              <a:off x="590400" y="5840280"/>
              <a:ext cx="3133800" cy="884520"/>
              <a:chOff x="590400" y="5840280"/>
              <a:chExt cx="3133800" cy="884520"/>
            </a:xfrm>
          </p:grpSpPr>
          <p:pic>
            <p:nvPicPr>
              <p:cNvPr id="280" name="Блок-схема: процесс 2" descr=""/>
              <p:cNvPicPr/>
              <p:nvPr/>
            </p:nvPicPr>
            <p:blipFill>
              <a:blip r:embed="rId2"/>
              <a:stretch/>
            </p:blipFill>
            <p:spPr>
              <a:xfrm>
                <a:off x="590400" y="5840280"/>
                <a:ext cx="3133800" cy="8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641880" y="5857920"/>
                <a:ext cx="271512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282" name="TextBox 3"/>
            <p:cNvSpPr/>
            <p:nvPr/>
          </p:nvSpPr>
          <p:spPr>
            <a:xfrm>
              <a:off x="713160" y="5857920"/>
              <a:ext cx="2643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283" name="Номер слайда 8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1C32-1612-48C2-AD5A-37DCA4F881C9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90200" y="189000"/>
            <a:ext cx="5662440" cy="764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b156e"/>
                </a:solidFill>
                <a:latin typeface="Times New Roman"/>
              </a:rPr>
              <a:t>Загадки для зрителей</a:t>
            </a:r>
            <a:endParaRPr b="0" lang="en-US" sz="4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9560" y="1341360"/>
            <a:ext cx="3827520" cy="3020040"/>
          </a:xfrm>
          <a:prstGeom prst="rect">
            <a:avLst/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Не похож на человечка,</a:t>
            </a:r>
            <a:br>
              <a:rPr sz="2400"/>
            </a:b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Но имеет он сердечко,</a:t>
            </a:r>
            <a:br>
              <a:rPr sz="2400"/>
            </a:b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И работе круглый год</a:t>
            </a:r>
            <a:br>
              <a:rPr sz="2400"/>
            </a:b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Он сердечко отдает.</a:t>
            </a:r>
            <a:br>
              <a:rPr sz="2400"/>
            </a:b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Пишет он, когда диктуют,</a:t>
            </a:r>
            <a:br>
              <a:rPr sz="2400"/>
            </a:b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Он и чертит, и рисует.</a:t>
            </a:r>
            <a:br>
              <a:rPr sz="2400"/>
            </a:b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А сегодня вечерком</a:t>
            </a:r>
            <a:br>
              <a:rPr sz="2400"/>
            </a:b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Он раскрасит мне альбом.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83600" y="5661000"/>
            <a:ext cx="4861080" cy="459720"/>
          </a:xfrm>
          <a:prstGeom prst="rect">
            <a:avLst/>
          </a:prstGeom>
          <a:solidFill>
            <a:srgbClr val="fcf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Стежок за стежком встали рядом.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84720" y="2421000"/>
            <a:ext cx="4684680" cy="155700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Свою косичку без опаски</a:t>
            </a:r>
            <a:br>
              <a:rPr sz="2400"/>
            </a:b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Она обмакивает в краски.</a:t>
            </a:r>
            <a:br>
              <a:rPr sz="2400"/>
            </a:b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Потом окрашенной косичкой</a:t>
            </a:r>
            <a:br>
              <a:rPr sz="2400"/>
            </a:b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В альбоме водит по страничке.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46880" y="4292640"/>
            <a:ext cx="3663000" cy="825480"/>
          </a:xfrm>
          <a:prstGeom prst="rect">
            <a:avLst/>
          </a:prstGeom>
          <a:solidFill>
            <a:srgbClr val="adf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Белый камешек растаял,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На доске следы оставил.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55920" y="1125360"/>
            <a:ext cx="4885200" cy="1191240"/>
          </a:xfrm>
          <a:prstGeom prst="rect">
            <a:avLst/>
          </a:prstGeom>
          <a:solidFill>
            <a:srgbClr val="e69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Начало – голос птицы,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Конец – на дне пруда,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А целое в музее найдете без труда.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1401840" cy="1262160"/>
          </a:xfrm>
          <a:prstGeom prst="rect">
            <a:avLst/>
          </a:prstGeom>
          <a:ln w="0">
            <a:noFill/>
          </a:ln>
        </p:spPr>
      </p:pic>
      <p:sp>
        <p:nvSpPr>
          <p:cNvPr id="291" name="Управляющая кнопка: назад 2"/>
          <p:cNvSpPr/>
          <p:nvPr/>
        </p:nvSpPr>
        <p:spPr>
          <a:xfrm>
            <a:off x="1258920" y="4941720"/>
            <a:ext cx="1071360" cy="500400"/>
          </a:xfrm>
          <a:custGeom>
            <a:avLst/>
            <a:gdLst>
              <a:gd name="textAreaLeft" fmla="*/ 32400 w 1071360"/>
              <a:gd name="textAreaRight" fmla="*/ 1038960 w 1071360"/>
              <a:gd name="textAreaTop" fmla="*/ 32400 h 500400"/>
              <a:gd name="textAreaBottom" fmla="*/ 468000 h 500400"/>
            </a:gdLst>
            <a:ahLst/>
            <a:rect l="textAreaLeft" t="textAreaTop" r="textAreaRight" b="textAreaBottom"/>
            <a:pathLst>
              <a:path w="46228" h="21600">
                <a:moveTo>
                  <a:pt x="0" y="0"/>
                </a:moveTo>
                <a:lnTo>
                  <a:pt x="46228" y="0"/>
                </a:lnTo>
                <a:lnTo>
                  <a:pt x="46228" y="21600"/>
                </a:lnTo>
                <a:lnTo>
                  <a:pt x="0" y="21600"/>
                </a:lnTo>
                <a:close/>
              </a:path>
              <a:path fill="lightenLess" w="46228" h="21600">
                <a:moveTo>
                  <a:pt x="0" y="0"/>
                </a:moveTo>
                <a:lnTo>
                  <a:pt x="46228" y="0"/>
                </a:lnTo>
                <a:lnTo>
                  <a:pt x="44828" y="1400"/>
                </a:lnTo>
                <a:lnTo>
                  <a:pt x="1400" y="1400"/>
                </a:lnTo>
                <a:close/>
              </a:path>
              <a:path fill="darken" w="46228" h="21600">
                <a:moveTo>
                  <a:pt x="46228" y="0"/>
                </a:moveTo>
                <a:lnTo>
                  <a:pt x="46228" y="21600"/>
                </a:lnTo>
                <a:lnTo>
                  <a:pt x="44828" y="20200"/>
                </a:lnTo>
                <a:lnTo>
                  <a:pt x="44828" y="1400"/>
                </a:lnTo>
                <a:close/>
              </a:path>
              <a:path fill="darkenLess" w="46228" h="21600">
                <a:moveTo>
                  <a:pt x="4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28" y="20200"/>
                </a:lnTo>
                <a:close/>
              </a:path>
              <a:path fill="lighten" w="4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28" h="21600">
                <a:moveTo>
                  <a:pt x="16108" y="10800"/>
                </a:moveTo>
                <a:lnTo>
                  <a:pt x="30121" y="3794"/>
                </a:lnTo>
                <a:lnTo>
                  <a:pt x="30121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Группа 1"/>
          <p:cNvGrpSpPr/>
          <p:nvPr/>
        </p:nvGrpSpPr>
        <p:grpSpPr>
          <a:xfrm>
            <a:off x="590400" y="5840280"/>
            <a:ext cx="3133800" cy="884520"/>
            <a:chOff x="590400" y="5840280"/>
            <a:chExt cx="3133800" cy="884520"/>
          </a:xfrm>
        </p:grpSpPr>
        <p:grpSp>
          <p:nvGrpSpPr>
            <p:cNvPr id="293" name="Блок-схема: процесс 2"/>
            <p:cNvGrpSpPr/>
            <p:nvPr/>
          </p:nvGrpSpPr>
          <p:grpSpPr>
            <a:xfrm>
              <a:off x="590400" y="5840280"/>
              <a:ext cx="3133800" cy="884520"/>
              <a:chOff x="590400" y="5840280"/>
              <a:chExt cx="3133800" cy="884520"/>
            </a:xfrm>
          </p:grpSpPr>
          <p:pic>
            <p:nvPicPr>
              <p:cNvPr id="294" name="Блок-схема: процесс 2" descr=""/>
              <p:cNvPicPr/>
              <p:nvPr/>
            </p:nvPicPr>
            <p:blipFill>
              <a:blip r:embed="rId2"/>
              <a:stretch/>
            </p:blipFill>
            <p:spPr>
              <a:xfrm>
                <a:off x="590400" y="5840280"/>
                <a:ext cx="3133800" cy="8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641880" y="5857920"/>
                <a:ext cx="271512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296" name="TextBox 3"/>
            <p:cNvSpPr/>
            <p:nvPr/>
          </p:nvSpPr>
          <p:spPr>
            <a:xfrm>
              <a:off x="713160" y="5857920"/>
              <a:ext cx="2643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297" name="TextBox 7"/>
          <p:cNvSpPr/>
          <p:nvPr/>
        </p:nvSpPr>
        <p:spPr>
          <a:xfrm>
            <a:off x="3059280" y="260280"/>
            <a:ext cx="5800680" cy="916920"/>
          </a:xfrm>
          <a:prstGeom prst="rect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b156e"/>
                </a:solidFill>
                <a:latin typeface="Times New Roman"/>
              </a:rPr>
              <a:t>Ребусы</a:t>
            </a:r>
            <a:endParaRPr b="0" lang="en-US" sz="5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98" name="Номер слайда 8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CDA7-ED67-4DE0-B91C-19D4673C783E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99" name="Управляющая кнопка: назад 2">
            <a:hlinkClick r:id="rId3" action="ppaction://hlinksldjump"/>
          </p:cNvPr>
          <p:cNvSpPr/>
          <p:nvPr/>
        </p:nvSpPr>
        <p:spPr>
          <a:xfrm>
            <a:off x="5724360" y="602136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843280" cy="25588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895040" y="1916280"/>
            <a:ext cx="685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5bb0"/>
                </a:solidFill>
                <a:latin typeface="Comic Sans MS"/>
              </a:rPr>
              <a:t>Задания для зрителей</a:t>
            </a:r>
            <a:endParaRPr b="0" lang="en-US" sz="44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6659640" y="3500280"/>
            <a:ext cx="1422360" cy="20163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6"/>
          <a:stretch/>
        </p:blipFill>
        <p:spPr>
          <a:xfrm>
            <a:off x="5219640" y="2852640"/>
            <a:ext cx="1513080" cy="135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7"/>
          <a:stretch/>
        </p:blipFill>
        <p:spPr>
          <a:xfrm>
            <a:off x="1035000" y="2852640"/>
            <a:ext cx="1582920" cy="28098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8"/>
          <a:stretch/>
        </p:blipFill>
        <p:spPr>
          <a:xfrm>
            <a:off x="3851280" y="4149720"/>
            <a:ext cx="1868400" cy="20890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3995640" y="2565360"/>
            <a:ext cx="981000" cy="1076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0"/>
          <a:stretch/>
        </p:blipFill>
        <p:spPr>
          <a:xfrm>
            <a:off x="2987640" y="3284640"/>
            <a:ext cx="939960" cy="1511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Группа 6"/>
          <p:cNvGrpSpPr/>
          <p:nvPr/>
        </p:nvGrpSpPr>
        <p:grpSpPr>
          <a:xfrm>
            <a:off x="590400" y="5840280"/>
            <a:ext cx="3133800" cy="884520"/>
            <a:chOff x="590400" y="5840280"/>
            <a:chExt cx="3133800" cy="884520"/>
          </a:xfrm>
        </p:grpSpPr>
        <p:grpSp>
          <p:nvGrpSpPr>
            <p:cNvPr id="309" name="Блок-схема: процесс 7"/>
            <p:cNvGrpSpPr/>
            <p:nvPr/>
          </p:nvGrpSpPr>
          <p:grpSpPr>
            <a:xfrm>
              <a:off x="590400" y="5840280"/>
              <a:ext cx="3133800" cy="884520"/>
              <a:chOff x="590400" y="5840280"/>
              <a:chExt cx="3133800" cy="884520"/>
            </a:xfrm>
          </p:grpSpPr>
          <p:pic>
            <p:nvPicPr>
              <p:cNvPr id="310" name="Блок-схема: процесс 7" descr=""/>
              <p:cNvPicPr/>
              <p:nvPr/>
            </p:nvPicPr>
            <p:blipFill>
              <a:blip r:embed="rId2"/>
              <a:stretch/>
            </p:blipFill>
            <p:spPr>
              <a:xfrm>
                <a:off x="590400" y="5840280"/>
                <a:ext cx="3133800" cy="8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641880" y="5857920"/>
                <a:ext cx="271512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312" name="TextBox 8"/>
            <p:cNvSpPr/>
            <p:nvPr/>
          </p:nvSpPr>
          <p:spPr>
            <a:xfrm>
              <a:off x="713160" y="5857920"/>
              <a:ext cx="2643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313" name="Номер слайда 8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EED7-6499-41D2-9D85-3AA0C2F75C1D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53080" y="189000"/>
            <a:ext cx="6148800" cy="825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2c76"/>
                </a:solidFill>
                <a:latin typeface="Times New Roman"/>
              </a:rPr>
              <a:t>Загадки для зрителей</a:t>
            </a:r>
            <a:endParaRPr b="0" lang="en-US" sz="4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96320" y="1196640"/>
            <a:ext cx="3368880" cy="1191240"/>
          </a:xfrm>
          <a:prstGeom prst="rect">
            <a:avLst/>
          </a:prstGeom>
          <a:solidFill>
            <a:srgbClr val="fcf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Что за чудище такое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В зале на концерте «воет»?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Пасть открыло — зубы там.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Бьют его по тем зубам.</a:t>
            </a:r>
            <a:r>
              <a:rPr b="0" lang="en-US" sz="1800" spc="-1" strike="noStrike">
                <a:solidFill>
                  <a:srgbClr val="6e1e4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4360" y="981000"/>
            <a:ext cx="3404160" cy="173988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Есть начальник и у нот.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Круглый у него живот.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Стан закрыл он на замок,</a:t>
            </a:r>
            <a:br>
              <a:rPr sz="1800"/>
            </a:b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Начав музыки урок.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— </a:t>
            </a: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Ты-то строг, но не колюч.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Стан открой, ...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3800" y="3500280"/>
            <a:ext cx="4051800" cy="1739880"/>
          </a:xfrm>
          <a:prstGeom prst="rect">
            <a:avLst/>
          </a:prstGeom>
          <a:solidFill>
            <a:srgbClr val="deb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Эта нотка хоть скромна,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Со слогами-то дружна!</a:t>
            </a:r>
            <a:br>
              <a:rPr sz="1800"/>
            </a:b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С ПО образовались нивы,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С ТОПО — все стройны, красивы.</a:t>
            </a:r>
            <a:br>
              <a:rPr sz="1800"/>
            </a:b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А что с ЗЕМ? Моя планета!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Как зовётся нота эта?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80" y="5444280"/>
            <a:ext cx="534420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Ходит без ног, рукава без рук, уста без речи.</a:t>
            </a: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83240" y="6236640"/>
            <a:ext cx="3196800" cy="368280"/>
          </a:xfrm>
          <a:prstGeom prst="rect">
            <a:avLst/>
          </a:prstGeom>
          <a:solidFill>
            <a:srgbClr val="fcf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А что всходит без семян?</a:t>
            </a: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288320" y="4580640"/>
            <a:ext cx="3556440" cy="368280"/>
          </a:xfrm>
          <a:prstGeom prst="rect">
            <a:avLst/>
          </a:prstGeom>
          <a:solidFill>
            <a:srgbClr val="fcf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А что бежит без передышки</a:t>
            </a: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37040" y="5804640"/>
            <a:ext cx="4066920" cy="368280"/>
          </a:xfrm>
          <a:prstGeom prst="rect">
            <a:avLst/>
          </a:prstGeom>
          <a:solidFill>
            <a:srgbClr val="deb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Чем их больше, тем вес меньше?</a:t>
            </a: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95600" y="5012640"/>
            <a:ext cx="3557880" cy="36828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Чем кончаются день и ночь?</a:t>
            </a: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12600" y="2492280"/>
            <a:ext cx="5528520" cy="1739880"/>
          </a:xfrm>
          <a:prstGeom prst="rect">
            <a:avLst/>
          </a:prstGeom>
          <a:solidFill>
            <a:srgbClr val="adf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Как известно, все исконно русские женские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имена оканчиваются либо на "а", либо на "я":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Анна, Мария, Ольга и т.д.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Однако есть одно-единственное женское имя,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которое не оканчивается ни на "а", ни на "я".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Назовите его.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24" name="Управляющая кнопка: назад 2"/>
          <p:cNvSpPr/>
          <p:nvPr/>
        </p:nvSpPr>
        <p:spPr>
          <a:xfrm>
            <a:off x="7812000" y="635796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8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4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828000" y="405000"/>
            <a:ext cx="301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Не похож на человечка,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Но имеет он сердечко,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И работе круглый год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Он сердечко отдает.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Пишет он, когда диктуют,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Он и чертит, и рисует.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А сегодня вечерком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Он раскрасит мне альбом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91080" y="280044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Карандаш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00720" y="620280"/>
            <a:ext cx="357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Свою косичку без опаски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Она обмакивает в краски.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Потом окрашенной косичкой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В альбоме водит по страничке.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27640" y="342900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Стежок за стежком встали рядом.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42360" y="38815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Строчка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30" name="Управляющая кнопка: назад 2"/>
          <p:cNvSpPr/>
          <p:nvPr/>
        </p:nvSpPr>
        <p:spPr>
          <a:xfrm>
            <a:off x="6588000" y="609300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159200" y="2284560"/>
            <a:ext cx="682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Загадка №3 – </a:t>
            </a:r>
            <a:r>
              <a:rPr b="1" i="1" lang="en-US" sz="1800" spc="-1" strike="noStrike">
                <a:solidFill>
                  <a:srgbClr val="8d1bff"/>
                </a:solidFill>
                <a:latin typeface="Arial"/>
              </a:rPr>
              <a:t>«Кто я?»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Если вы посмотрите, то не сможете увидеть меня.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Но если вы меня видите, то не можете видеть ничего другого.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Я могу заставить вас ходить, даже если вы не можете.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Иногда я говорю правду.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Иногда лгу.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Но когда лгу, то это ближе к правде.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Кто же я?  (сновидение)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32" name="Управляющая кнопка: назад 2"/>
          <p:cNvSpPr/>
          <p:nvPr/>
        </p:nvSpPr>
        <p:spPr>
          <a:xfrm>
            <a:off x="6588000" y="609300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8d1bff"/>
                </a:solidFill>
                <a:latin typeface="Arial"/>
              </a:rPr>
              <a:t>«Вот как она выглядела: волосы цвета морковки были заплетены в две тугие косички, торчавшие в разные стороны; нос походил на крошечную картофелину, да к тому же еще и в крапинку – от веснушек; в большом широком рту сверкали белые зубы. На ней было синее платье, но так как синей материи у нее видно, не хватило, она вшила в него кое-где красные лоскутки. На очень тонкие и худые ноги она натянула длинные чулки разных цветов: один- коричневый , а другой – черный. А огромные черные туфли, казалось, вот-вот свалятся …» </a:t>
            </a:r>
            <a:r>
              <a:rPr b="0" lang="en-US" sz="2100" spc="-1" strike="noStrike">
                <a:solidFill>
                  <a:srgbClr val="8d1bff"/>
                </a:solidFill>
                <a:latin typeface="Times New Roman"/>
              </a:rPr>
              <a:t>                 </a:t>
            </a:r>
            <a:endParaRPr b="1" lang="en-US" sz="2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34" name="Управляющая кнопка: назад 2"/>
          <p:cNvSpPr/>
          <p:nvPr/>
        </p:nvSpPr>
        <p:spPr>
          <a:xfrm>
            <a:off x="6588000" y="609300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6F33-D540-4694-B2B8-3A3F6E9F4A1C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971640" y="765000"/>
            <a:ext cx="72864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d1bff"/>
                </a:solidFill>
                <a:latin typeface="Arial Black"/>
              </a:rPr>
              <a:t>Интеллектуальная игра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e1e4e"/>
                </a:solidFill>
                <a:latin typeface="Arial Black"/>
              </a:rPr>
              <a:t>«Крестики - нолики»</a:t>
            </a:r>
            <a:endParaRPr b="0" lang="en-US" sz="66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659640" y="3860640"/>
            <a:ext cx="1601640" cy="1981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1892160" cy="1897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995640" y="436572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3059280" y="3860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3419640" y="5084640"/>
            <a:ext cx="695160" cy="1266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 rot="20253000">
            <a:off x="4787640" y="5373360"/>
            <a:ext cx="1447560" cy="473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5148360" y="4076640"/>
            <a:ext cx="414360" cy="1362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308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8d1bff"/>
                </a:solidFill>
                <a:latin typeface="Arial"/>
              </a:rPr>
              <a:t>«Около изгороди стоял длинный шест, на нем торчало соломенное чучело – отгонять птиц. Голова чучела была сделана из мешочка, набитого соломой, с нарисованными на нем глазами и ртом, так что получалось смешное человеческое лицо. Чучело было одето в поношенный голубой кафтан; кое-где из прорех кафтана торчала солома. На голове была старая потертая шляпа, с которой были срезаны бубенчики, на ногах – старые голубые ботфорты…»</a:t>
            </a:r>
            <a:endParaRPr b="1" lang="en-US" sz="21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336" name="" descr="14.05.2008 - Шарады стихотворные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95720" y="2952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13.05.2008 - Шарады авторские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40000" y="4149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13.05.2008 - Шарады одинарные и двойные"/>
          <p:cNvPicPr/>
          <p:nvPr/>
        </p:nvPicPr>
        <p:blipFill>
          <a:blip r:embed="rId6"/>
          <a:stretch/>
        </p:blipFill>
        <p:spPr>
          <a:xfrm>
            <a:off x="5580000" y="4869000"/>
            <a:ext cx="952560" cy="952200"/>
          </a:xfrm>
          <a:prstGeom prst="rect">
            <a:avLst/>
          </a:prstGeom>
          <a:ln w="0">
            <a:noFill/>
          </a:ln>
        </p:spPr>
      </p:pic>
      <p:sp>
        <p:nvSpPr>
          <p:cNvPr id="339" name="Управляющая кнопка: назад 2"/>
          <p:cNvSpPr/>
          <p:nvPr/>
        </p:nvSpPr>
        <p:spPr>
          <a:xfrm>
            <a:off x="6588000" y="609300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0"/>
          <p:cNvSpPr/>
          <p:nvPr/>
        </p:nvSpPr>
        <p:spPr>
          <a:xfrm>
            <a:off x="357120" y="214200"/>
            <a:ext cx="8786880" cy="70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В народе всем известны, любимы, потребимы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Дымковские игрушки, и Гжель , и Хохлома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Жестовские подносы, букеты  с любым фоном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Из жести изготовлены, Какая благодать!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Жестовские подносы, букеты  с любым фоном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Из жести изготовлены, Какая благодать!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На утвари домашней все городницка роспись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Из дерева в цветочках оформлена она.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Душа прям замирает, когда ее ты держишь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Вдруг восхищенно скажешь: «Какая благодать!»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Душа прям замирает, когда ее ты держишь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Вдруг восхищенно скажешь: «Какая благодать!»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41" name="TextBox 11"/>
          <p:cNvSpPr/>
          <p:nvPr/>
        </p:nvSpPr>
        <p:spPr>
          <a:xfrm>
            <a:off x="0" y="2142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d1bff"/>
                </a:solidFill>
                <a:latin typeface="Times New Roman"/>
              </a:rPr>
              <a:t>1.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42" name="TextBox 12"/>
          <p:cNvSpPr/>
          <p:nvPr/>
        </p:nvSpPr>
        <p:spPr>
          <a:xfrm>
            <a:off x="0" y="335772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d1bff"/>
                </a:solidFill>
                <a:latin typeface="Times New Roman"/>
              </a:rPr>
              <a:t>2.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43" name="Номер слайда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00E5-00C4-4096-8A27-A9978FA531C9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344" name="изгиб гитары желтой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285840" y="428760"/>
            <a:ext cx="864396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И П</a:t>
            </a:r>
            <a:r>
              <a:rPr b="1" lang="en-US" sz="2800" spc="-1" strike="noStrike">
                <a:solidFill>
                  <a:srgbClr val="370f27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лех всем известен в России, во всем мире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Что лошади в них, люди, иконы, сказки – всё.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Сюжеты всем знакомы, известны и любимы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Невольно дружно скажут все: «Какая благодать!»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Сюжеты всем знакомы, известны и любимы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Невольно дружно скажут все: «Какая благодать!»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Мы всё здесь повторили, в систему приводили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Хоть если перепутаешь, не ошибемся мы.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Мечтами мы и песнями их каждый вид наполним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Как здорово, что все мы здесь, сегодня собрались!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Мечтами мы и песнями их каждый вид наполним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Как здорово, что все мы здесь, сегодня собрались!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46" name="TextBox 11"/>
          <p:cNvSpPr/>
          <p:nvPr/>
        </p:nvSpPr>
        <p:spPr>
          <a:xfrm>
            <a:off x="0" y="2142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d1bff"/>
                </a:solidFill>
                <a:latin typeface="Times New Roman"/>
              </a:rPr>
              <a:t>3.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0" y="33577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d1bff"/>
                </a:solidFill>
                <a:latin typeface="Times New Roman"/>
              </a:rPr>
              <a:t>4.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48" name="Номер слайда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1B53-0F5D-458F-99A6-69AF9BE1BC38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Картинка 76 из 130961"/>
          <p:cNvPicPr/>
          <p:nvPr/>
        </p:nvPicPr>
        <p:blipFill>
          <a:blip r:embed="rId2"/>
          <a:stretch/>
        </p:blipFill>
        <p:spPr>
          <a:xfrm>
            <a:off x="395280" y="1746360"/>
            <a:ext cx="3024360" cy="21906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Картинка 52 из 130961"/>
          <p:cNvPicPr/>
          <p:nvPr/>
        </p:nvPicPr>
        <p:blipFill>
          <a:blip r:embed="rId3"/>
          <a:stretch/>
        </p:blipFill>
        <p:spPr>
          <a:xfrm>
            <a:off x="539640" y="3933720"/>
            <a:ext cx="2229120" cy="22543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Картинка 13 из 130961"/>
          <p:cNvPicPr/>
          <p:nvPr/>
        </p:nvPicPr>
        <p:blipFill>
          <a:blip r:embed="rId4"/>
          <a:stretch/>
        </p:blipFill>
        <p:spPr>
          <a:xfrm>
            <a:off x="4716360" y="3639960"/>
            <a:ext cx="3092400" cy="2519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1403280" y="333360"/>
            <a:ext cx="3152880" cy="2365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067280" y="4437000"/>
            <a:ext cx="1218960" cy="10954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3851280" y="1197000"/>
            <a:ext cx="828720" cy="1276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900000" y="549360"/>
            <a:ext cx="1428840" cy="1844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5"/>
          <a:stretch/>
        </p:blipFill>
        <p:spPr>
          <a:xfrm>
            <a:off x="6804000" y="1268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6"/>
          <a:stretch/>
        </p:blipFill>
        <p:spPr>
          <a:xfrm>
            <a:off x="6948360" y="2205000"/>
            <a:ext cx="1797120" cy="1484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7"/>
          <a:stretch/>
        </p:blipFill>
        <p:spPr>
          <a:xfrm>
            <a:off x="5435640" y="53006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8"/>
          <a:stretch/>
        </p:blipFill>
        <p:spPr>
          <a:xfrm>
            <a:off x="5334120" y="1676520"/>
            <a:ext cx="1323720" cy="139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f86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65bb0"/>
                </a:solidFill>
                <a:latin typeface="Arial"/>
              </a:rPr>
              <a:t>Загадки Подвижные</a:t>
            </a:r>
            <a:r>
              <a:rPr b="1" lang="en-US" sz="4100" spc="-1" strike="noStrike">
                <a:solidFill>
                  <a:srgbClr val="8d1bff"/>
                </a:solidFill>
                <a:latin typeface="Arial"/>
              </a:rPr>
              <a:t> </a:t>
            </a: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buClr>
                <a:srgbClr val="8a1a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Каждой команде нужно выстроиться по цвету волос:</a:t>
            </a:r>
            <a:endParaRPr b="0" lang="en-US" sz="3200" spc="-1" strike="noStrike">
              <a:solidFill>
                <a:srgbClr val="8d1b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8a1a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От светлого к темному (Крестики)</a:t>
            </a:r>
            <a:endParaRPr b="0" lang="en-US" sz="3200" spc="-1" strike="noStrike">
              <a:solidFill>
                <a:srgbClr val="8d1b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8a1a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От темного к светлому ( Нолики)</a:t>
            </a:r>
            <a:endParaRPr b="0" lang="en-US" sz="3200" spc="-1" strike="noStrike">
              <a:solidFill>
                <a:srgbClr val="8d1b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0"/>
          <a:ext cx="9144000" cy="6956280"/>
        </p:xfrm>
        <a:graphic>
          <a:graphicData uri="http://schemas.openxmlformats.org/drawingml/2006/table">
            <a:tbl>
              <a:tblPr/>
              <a:tblGrid>
                <a:gridCol w="431640"/>
                <a:gridCol w="1919520"/>
                <a:gridCol w="2351160"/>
                <a:gridCol w="2178000"/>
                <a:gridCol w="2263680"/>
              </a:tblGrid>
              <a:tr h="20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ede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          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         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6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Интеллектуальная разминка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Фонетические 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загадки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Фантазеры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Загадки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</a:tr>
              <a:tr h="17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В тесноте да не в обиде»</a:t>
                      </a: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Фотоглаз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Черный ящик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11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Ребусы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</a:tr>
              <a:tr h="15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Мир вокруг нас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Спрятавшееся слово»</a:t>
                      </a: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Веселый художник»</a:t>
                      </a: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12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Игры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</a:tr>
            </a:tbl>
          </a:graphicData>
        </a:graphic>
      </p:graphicFrame>
      <p:sp>
        <p:nvSpPr>
          <p:cNvPr id="109" name="Управляющая кнопка: назад 2">
            <a:hlinkClick r:id="rId14" action="ppaction://hlinksldjump"/>
          </p:cNvPr>
          <p:cNvSpPr/>
          <p:nvPr/>
        </p:nvSpPr>
        <p:spPr>
          <a:xfrm>
            <a:off x="0" y="357120"/>
            <a:ext cx="428760" cy="7146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714600"/>
              <a:gd name="textAreaBottom" fmla="*/ 686880 h 714600"/>
            </a:gdLst>
            <a:ahLst/>
            <a:rect l="textAreaLeft" t="textAreaTop" r="textAreaRight" b="textAreaBottom"/>
            <a:pathLst>
              <a:path w="21600" h="35988">
                <a:moveTo>
                  <a:pt x="0" y="0"/>
                </a:moveTo>
                <a:lnTo>
                  <a:pt x="21600" y="0"/>
                </a:lnTo>
                <a:lnTo>
                  <a:pt x="21600" y="35988"/>
                </a:lnTo>
                <a:lnTo>
                  <a:pt x="0" y="35988"/>
                </a:lnTo>
                <a:close/>
              </a:path>
              <a:path fill="lightenLess" w="21600" h="359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8">
                <a:moveTo>
                  <a:pt x="21600" y="0"/>
                </a:moveTo>
                <a:lnTo>
                  <a:pt x="21600" y="35988"/>
                </a:lnTo>
                <a:lnTo>
                  <a:pt x="20200" y="34588"/>
                </a:lnTo>
                <a:lnTo>
                  <a:pt x="20200" y="1400"/>
                </a:lnTo>
                <a:close/>
              </a:path>
              <a:path fill="darkenLess" w="21600" h="35988">
                <a:moveTo>
                  <a:pt x="21600" y="35988"/>
                </a:moveTo>
                <a:lnTo>
                  <a:pt x="0" y="35988"/>
                </a:lnTo>
                <a:lnTo>
                  <a:pt x="1400" y="34588"/>
                </a:lnTo>
                <a:lnTo>
                  <a:pt x="20200" y="34588"/>
                </a:lnTo>
                <a:close/>
              </a:path>
              <a:path fill="lighten" w="21600" h="35988">
                <a:moveTo>
                  <a:pt x="0" y="35988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8"/>
                </a:lnTo>
                <a:close/>
              </a:path>
              <a:path fill="darken" w="21600" h="35988">
                <a:moveTo>
                  <a:pt x="3794" y="17994"/>
                </a:moveTo>
                <a:lnTo>
                  <a:pt x="17806" y="10987"/>
                </a:lnTo>
                <a:lnTo>
                  <a:pt x="17806" y="25000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8429760" y="650088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CEDC-D91F-42A9-B277-E0AD033ADA9F}" type="slidenum">
              <a:rPr b="0" lang="ru-RU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11" name="Управляющая кнопка: далее 6">
            <a:hlinkClick r:id="rId15" action="ppaction://hlinksldjump"/>
          </p:cNvPr>
          <p:cNvSpPr/>
          <p:nvPr/>
        </p:nvSpPr>
        <p:spPr>
          <a:xfrm>
            <a:off x="0" y="6286680"/>
            <a:ext cx="785880" cy="571320"/>
          </a:xfrm>
          <a:custGeom>
            <a:avLst/>
            <a:gdLst>
              <a:gd name="textAreaLeft" fmla="*/ 36720 w 785880"/>
              <a:gd name="textAreaRight" fmla="*/ 749160 w 7858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9707" h="21600">
                <a:moveTo>
                  <a:pt x="0" y="0"/>
                </a:moveTo>
                <a:lnTo>
                  <a:pt x="29707" y="0"/>
                </a:lnTo>
                <a:lnTo>
                  <a:pt x="29707" y="21600"/>
                </a:lnTo>
                <a:lnTo>
                  <a:pt x="0" y="21600"/>
                </a:lnTo>
                <a:close/>
              </a:path>
              <a:path fill="lightenLess" w="29707" h="21600">
                <a:moveTo>
                  <a:pt x="0" y="0"/>
                </a:moveTo>
                <a:lnTo>
                  <a:pt x="29707" y="0"/>
                </a:lnTo>
                <a:lnTo>
                  <a:pt x="28307" y="1400"/>
                </a:lnTo>
                <a:lnTo>
                  <a:pt x="1400" y="1400"/>
                </a:lnTo>
                <a:close/>
              </a:path>
              <a:path fill="darken" w="29707" h="21600">
                <a:moveTo>
                  <a:pt x="29707" y="0"/>
                </a:moveTo>
                <a:lnTo>
                  <a:pt x="29707" y="21600"/>
                </a:lnTo>
                <a:lnTo>
                  <a:pt x="28307" y="20200"/>
                </a:lnTo>
                <a:lnTo>
                  <a:pt x="28307" y="1400"/>
                </a:lnTo>
                <a:close/>
              </a:path>
              <a:path fill="darkenLess" w="29707" h="21600">
                <a:moveTo>
                  <a:pt x="29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7" y="20200"/>
                </a:lnTo>
                <a:close/>
              </a:path>
              <a:path fill="lighten" w="29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7" h="21600">
                <a:moveTo>
                  <a:pt x="7847" y="3794"/>
                </a:moveTo>
                <a:lnTo>
                  <a:pt x="21860" y="10800"/>
                </a:lnTo>
                <a:lnTo>
                  <a:pt x="7847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6"/>
          <a:stretch/>
        </p:blipFill>
        <p:spPr>
          <a:xfrm>
            <a:off x="900000" y="333360"/>
            <a:ext cx="1216080" cy="1504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7"/>
          <a:stretch/>
        </p:blipFill>
        <p:spPr>
          <a:xfrm>
            <a:off x="7236000" y="404640"/>
            <a:ext cx="1346040" cy="1425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8"/>
          <a:stretch/>
        </p:blipFill>
        <p:spPr>
          <a:xfrm>
            <a:off x="2700360" y="260280"/>
            <a:ext cx="150804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9"/>
          <a:stretch/>
        </p:blipFill>
        <p:spPr>
          <a:xfrm>
            <a:off x="5148360" y="404640"/>
            <a:ext cx="1162080" cy="139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2124000" y="333360"/>
            <a:ext cx="6767640" cy="64260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3a3d"/>
                </a:solidFill>
                <a:latin typeface="Times New Roman"/>
              </a:rPr>
              <a:t>«Интеллектуальная разминка»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grpSp>
        <p:nvGrpSpPr>
          <p:cNvPr id="117" name="Группа 8"/>
          <p:cNvGrpSpPr/>
          <p:nvPr/>
        </p:nvGrpSpPr>
        <p:grpSpPr>
          <a:xfrm>
            <a:off x="1096920" y="5913360"/>
            <a:ext cx="3127320" cy="884160"/>
            <a:chOff x="1096920" y="5913360"/>
            <a:chExt cx="3127320" cy="884160"/>
          </a:xfrm>
        </p:grpSpPr>
        <p:grpSp>
          <p:nvGrpSpPr>
            <p:cNvPr id="118" name="Блок-схема: процесс 6"/>
            <p:cNvGrpSpPr/>
            <p:nvPr/>
          </p:nvGrpSpPr>
          <p:grpSpPr>
            <a:xfrm>
              <a:off x="1096920" y="5913360"/>
              <a:ext cx="3127320" cy="884160"/>
              <a:chOff x="1096920" y="5913360"/>
              <a:chExt cx="3127320" cy="884160"/>
            </a:xfrm>
          </p:grpSpPr>
          <p:pic>
            <p:nvPicPr>
              <p:cNvPr id="119" name="Блок-схема: процесс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096920" y="5913360"/>
                <a:ext cx="312732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1142640" y="5929560"/>
                <a:ext cx="27147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121" name="TextBox 7"/>
            <p:cNvSpPr/>
            <p:nvPr/>
          </p:nvSpPr>
          <p:spPr>
            <a:xfrm>
              <a:off x="1213920" y="5929560"/>
              <a:ext cx="2643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122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BBE0-1EC6-4289-9E1B-654CFF1E3AD3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1413000"/>
            <a:ext cx="6227640" cy="1373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65bb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5bb0"/>
                </a:solidFill>
                <a:latin typeface="Times New Roman"/>
              </a:rPr>
              <a:t>Дощечка для смешивания красок.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65bb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5bb0"/>
                </a:solidFill>
                <a:latin typeface="Times New Roman"/>
              </a:rPr>
              <a:t>Три основных цвета.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65bb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5bb0"/>
                </a:solidFill>
                <a:latin typeface="Times New Roman"/>
              </a:rPr>
              <a:t>Что означает слово «ПЕЙЗАЖ».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771560" cy="714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567240" y="3716280"/>
            <a:ext cx="4909680" cy="1800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d1bff"/>
                </a:solidFill>
                <a:latin typeface="Times New Roman"/>
              </a:rPr>
              <a:t>4. Какую ноту в суп кладут?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d1bff"/>
                </a:solidFill>
                <a:latin typeface="Times New Roman"/>
              </a:rPr>
              <a:t>5. Есть всегда он у людей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d1b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8d1bff"/>
                </a:solidFill>
                <a:latin typeface="Times New Roman"/>
              </a:rPr>
              <a:t>Есть у всех у кораблей. 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d1bff"/>
                </a:solidFill>
                <a:latin typeface="Times New Roman"/>
              </a:rPr>
              <a:t>6. Подсушенные куски хлеба.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26" name="Управляющая кнопка: назад 5"/>
          <p:cNvSpPr/>
          <p:nvPr/>
        </p:nvSpPr>
        <p:spPr>
          <a:xfrm>
            <a:off x="7500960" y="592920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0"/>
          <a:ext cx="9144000" cy="6956280"/>
        </p:xfrm>
        <a:graphic>
          <a:graphicData uri="http://schemas.openxmlformats.org/drawingml/2006/table">
            <a:tbl>
              <a:tblPr/>
              <a:tblGrid>
                <a:gridCol w="431640"/>
                <a:gridCol w="1919520"/>
                <a:gridCol w="2351160"/>
                <a:gridCol w="2178000"/>
                <a:gridCol w="2263680"/>
              </a:tblGrid>
              <a:tr h="20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ede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          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         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6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Фонетические 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загадки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Фантазеры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Загадки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</a:tr>
              <a:tr h="17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В тесноте да не в обиде»</a:t>
                      </a: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Фотоглаз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Черный ящик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Ребусы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</a:tr>
              <a:tr h="15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Мир вокруг нас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Спрятавшееся слово»</a:t>
                      </a: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Веселый художник»</a:t>
                      </a: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Игры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</a:tr>
            </a:tbl>
          </a:graphicData>
        </a:graphic>
      </p:graphicFrame>
      <p:sp>
        <p:nvSpPr>
          <p:cNvPr id="128" name="Управляющая кнопка: назад 2"/>
          <p:cNvSpPr/>
          <p:nvPr/>
        </p:nvSpPr>
        <p:spPr>
          <a:xfrm>
            <a:off x="0" y="357120"/>
            <a:ext cx="428760" cy="7146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714600"/>
              <a:gd name="textAreaBottom" fmla="*/ 686880 h 714600"/>
            </a:gdLst>
            <a:ahLst/>
            <a:rect l="textAreaLeft" t="textAreaTop" r="textAreaRight" b="textAreaBottom"/>
            <a:pathLst>
              <a:path w="21600" h="35988">
                <a:moveTo>
                  <a:pt x="0" y="0"/>
                </a:moveTo>
                <a:lnTo>
                  <a:pt x="21600" y="0"/>
                </a:lnTo>
                <a:lnTo>
                  <a:pt x="21600" y="35988"/>
                </a:lnTo>
                <a:lnTo>
                  <a:pt x="0" y="35988"/>
                </a:lnTo>
                <a:close/>
              </a:path>
              <a:path fill="lightenLess" w="21600" h="359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8">
                <a:moveTo>
                  <a:pt x="21600" y="0"/>
                </a:moveTo>
                <a:lnTo>
                  <a:pt x="21600" y="35988"/>
                </a:lnTo>
                <a:lnTo>
                  <a:pt x="20200" y="34588"/>
                </a:lnTo>
                <a:lnTo>
                  <a:pt x="20200" y="1400"/>
                </a:lnTo>
                <a:close/>
              </a:path>
              <a:path fill="darkenLess" w="21600" h="35988">
                <a:moveTo>
                  <a:pt x="21600" y="35988"/>
                </a:moveTo>
                <a:lnTo>
                  <a:pt x="0" y="35988"/>
                </a:lnTo>
                <a:lnTo>
                  <a:pt x="1400" y="34588"/>
                </a:lnTo>
                <a:lnTo>
                  <a:pt x="20200" y="34588"/>
                </a:lnTo>
                <a:close/>
              </a:path>
              <a:path fill="lighten" w="21600" h="35988">
                <a:moveTo>
                  <a:pt x="0" y="35988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8"/>
                </a:lnTo>
                <a:close/>
              </a:path>
              <a:path fill="darken" w="21600" h="35988">
                <a:moveTo>
                  <a:pt x="3794" y="17994"/>
                </a:moveTo>
                <a:lnTo>
                  <a:pt x="17806" y="10987"/>
                </a:lnTo>
                <a:lnTo>
                  <a:pt x="17806" y="25000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8429760" y="650088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B45F-8368-47C0-ABF9-D3B3AF6277C2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30" name="Управляющая кнопка: далее 6"/>
          <p:cNvSpPr/>
          <p:nvPr/>
        </p:nvSpPr>
        <p:spPr>
          <a:xfrm>
            <a:off x="0" y="6286680"/>
            <a:ext cx="785880" cy="571320"/>
          </a:xfrm>
          <a:custGeom>
            <a:avLst/>
            <a:gdLst>
              <a:gd name="textAreaLeft" fmla="*/ 36720 w 785880"/>
              <a:gd name="textAreaRight" fmla="*/ 749160 w 7858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9707" h="21600">
                <a:moveTo>
                  <a:pt x="0" y="0"/>
                </a:moveTo>
                <a:lnTo>
                  <a:pt x="29707" y="0"/>
                </a:lnTo>
                <a:lnTo>
                  <a:pt x="29707" y="21600"/>
                </a:lnTo>
                <a:lnTo>
                  <a:pt x="0" y="21600"/>
                </a:lnTo>
                <a:close/>
              </a:path>
              <a:path fill="lightenLess" w="29707" h="21600">
                <a:moveTo>
                  <a:pt x="0" y="0"/>
                </a:moveTo>
                <a:lnTo>
                  <a:pt x="29707" y="0"/>
                </a:lnTo>
                <a:lnTo>
                  <a:pt x="28307" y="1400"/>
                </a:lnTo>
                <a:lnTo>
                  <a:pt x="1400" y="1400"/>
                </a:lnTo>
                <a:close/>
              </a:path>
              <a:path fill="darken" w="29707" h="21600">
                <a:moveTo>
                  <a:pt x="29707" y="0"/>
                </a:moveTo>
                <a:lnTo>
                  <a:pt x="29707" y="21600"/>
                </a:lnTo>
                <a:lnTo>
                  <a:pt x="28307" y="20200"/>
                </a:lnTo>
                <a:lnTo>
                  <a:pt x="28307" y="1400"/>
                </a:lnTo>
                <a:close/>
              </a:path>
              <a:path fill="darkenLess" w="29707" h="21600">
                <a:moveTo>
                  <a:pt x="29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7" y="20200"/>
                </a:lnTo>
                <a:close/>
              </a:path>
              <a:path fill="lighten" w="29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7" h="21600">
                <a:moveTo>
                  <a:pt x="7847" y="3794"/>
                </a:moveTo>
                <a:lnTo>
                  <a:pt x="21860" y="10800"/>
                </a:lnTo>
                <a:lnTo>
                  <a:pt x="7847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1216080" cy="1504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236000" y="404640"/>
            <a:ext cx="1346040" cy="1425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700360" y="260280"/>
            <a:ext cx="1508040" cy="1511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148360" y="404640"/>
            <a:ext cx="1162080" cy="1390680"/>
          </a:xfrm>
          <a:prstGeom prst="rect">
            <a:avLst/>
          </a:prstGeom>
          <a:ln w="0">
            <a:noFill/>
          </a:ln>
        </p:spPr>
      </p:pic>
      <p:sp>
        <p:nvSpPr>
          <p:cNvPr id="135" name="Управляющая кнопка: назад 5"/>
          <p:cNvSpPr/>
          <p:nvPr/>
        </p:nvSpPr>
        <p:spPr>
          <a:xfrm>
            <a:off x="7885080" y="635796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900000" y="404640"/>
            <a:ext cx="6000840" cy="916920"/>
          </a:xfrm>
          <a:prstGeom prst="rect">
            <a:avLst/>
          </a:prstGeom>
          <a:gradFill rotWithShape="0">
            <a:gsLst>
              <a:gs pos="0">
                <a:srgbClr val="b3a981"/>
              </a:gs>
              <a:gs pos="100000">
                <a:srgbClr val="b3a981"/>
              </a:gs>
            </a:gsLst>
            <a:lin ang="8340000"/>
          </a:gradFill>
          <a:ln w="9360">
            <a:solidFill>
              <a:srgbClr val="a49b72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e1e4e"/>
                </a:solidFill>
                <a:latin typeface="Times New Roman"/>
              </a:rPr>
              <a:t>Прослушаны звуки</a:t>
            </a:r>
            <a:endParaRPr b="0" lang="en-US" sz="5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357120" y="2286000"/>
            <a:ext cx="385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38" name="Управляющая кнопка: назад 5">
            <a:hlinkClick r:id="rId2" action="ppaction://hlinksldjump"/>
          </p:cNvPr>
          <p:cNvSpPr/>
          <p:nvPr/>
        </p:nvSpPr>
        <p:spPr>
          <a:xfrm>
            <a:off x="7500960" y="592920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39" name="Номер слайда 9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5C5E-C9E9-4455-9447-37C0D0787E68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89240" y="1743120"/>
            <a:ext cx="6359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2f5a"/>
                </a:solidFill>
                <a:latin typeface="Times New Roman"/>
              </a:rPr>
              <a:t>1.Аплодисменты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2f5a"/>
                </a:solidFill>
                <a:latin typeface="Times New Roman"/>
              </a:rPr>
              <a:t>2.Душ в ванной 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2f5a"/>
                </a:solidFill>
                <a:latin typeface="Times New Roman"/>
              </a:rPr>
              <a:t>3.Вода из-под крана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2f5a"/>
                </a:solidFill>
                <a:latin typeface="Times New Roman"/>
              </a:rPr>
              <a:t>4.Дождь о металлический подоконник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2f5a"/>
                </a:solidFill>
                <a:latin typeface="Times New Roman"/>
              </a:rPr>
              <a:t>5.Колокола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2f5a"/>
                </a:solidFill>
                <a:latin typeface="Times New Roman"/>
              </a:rPr>
              <a:t>6.Пение птиц в городе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2f5a"/>
                </a:solidFill>
                <a:latin typeface="Times New Roman"/>
              </a:rPr>
              <a:t>7.Шуршание пакета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2f5a"/>
                </a:solidFill>
                <a:latin typeface="Times New Roman"/>
              </a:rPr>
              <a:t>8.Игра на скрипке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2f5a"/>
                </a:solidFill>
                <a:latin typeface="Times New Roman"/>
              </a:rPr>
              <a:t>9.Движение поезда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724360" y="3573360"/>
            <a:ext cx="2106720" cy="2521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7164360" y="333360"/>
            <a:ext cx="1569960" cy="1584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076720" y="1557360"/>
            <a:ext cx="155736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1,-120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77,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1,-120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77,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2124000" y="333360"/>
            <a:ext cx="6807240" cy="76428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3163b"/>
                </a:solidFill>
                <a:latin typeface="Times New Roman"/>
              </a:rPr>
              <a:t>«В тесноте да не в обиде»</a:t>
            </a:r>
            <a:endParaRPr b="0" lang="en-US" sz="4400" spc="-1" strike="noStrike">
              <a:solidFill>
                <a:srgbClr val="8d1bff"/>
              </a:solidFill>
              <a:latin typeface="Arial"/>
            </a:endParaRPr>
          </a:p>
        </p:txBody>
      </p:sp>
      <p:grpSp>
        <p:nvGrpSpPr>
          <p:cNvPr id="145" name="Группа 3"/>
          <p:cNvGrpSpPr/>
          <p:nvPr/>
        </p:nvGrpSpPr>
        <p:grpSpPr>
          <a:xfrm>
            <a:off x="642960" y="5857920"/>
            <a:ext cx="2714760" cy="500040"/>
            <a:chOff x="642960" y="5857920"/>
            <a:chExt cx="2714760" cy="500040"/>
          </a:xfrm>
        </p:grpSpPr>
        <p:grpSp>
          <p:nvGrpSpPr>
            <p:cNvPr id="146" name="Блок-схема: процесс 4"/>
            <p:cNvGrpSpPr/>
            <p:nvPr/>
          </p:nvGrpSpPr>
          <p:grpSpPr>
            <a:xfrm>
              <a:off x="642960" y="5857920"/>
              <a:ext cx="2714760" cy="500040"/>
              <a:chOff x="642960" y="5857920"/>
              <a:chExt cx="2714760" cy="500040"/>
            </a:xfrm>
          </p:grpSpPr>
          <p:pic>
            <p:nvPicPr>
              <p:cNvPr id="147" name="Блок-схема: процесс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60" y="5857920"/>
                <a:ext cx="271476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687600" y="5868000"/>
                <a:ext cx="23522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149" name="TextBox 5"/>
            <p:cNvSpPr/>
            <p:nvPr/>
          </p:nvSpPr>
          <p:spPr>
            <a:xfrm>
              <a:off x="749520" y="5868000"/>
              <a:ext cx="22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4e4d51"/>
                  </a:solidFill>
                  <a:uFillTx/>
                  <a:latin typeface="Times New Roman"/>
                  <a:hlinkClick r:id="rId3" action="ppaction://hlinksldjump"/>
                </a:rPr>
                <a:t>Правильный ответ</a:t>
              </a:r>
              <a:endParaRPr b="0" lang="en-US" sz="24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150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3CB8-9758-45C0-956B-49112AAC8C7F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51" name="Нижний колонтитул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640" y="1844640"/>
            <a:ext cx="824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2f5a"/>
                </a:solidFill>
                <a:latin typeface="Times New Roman"/>
              </a:rPr>
              <a:t>Собрать мозаику и назвать предметы, 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2f5a"/>
                </a:solidFill>
                <a:latin typeface="Times New Roman"/>
              </a:rPr>
              <a:t>которые необходимы на уроках 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2f5a"/>
                </a:solidFill>
                <a:latin typeface="Times New Roman"/>
              </a:rPr>
              <a:t>ИЗО и технология.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1771560" cy="714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3:23:50Z</dcterms:created>
  <dc:creator>Осичковская сош</dc:creator>
  <dc:description/>
  <dc:language>en-US</dc:language>
  <cp:lastModifiedBy>Муртазина Раиса Гасиевна</cp:lastModifiedBy>
  <dcterms:modified xsi:type="dcterms:W3CDTF">2010-01-18T06:07:55Z</dcterms:modified>
  <cp:revision>53</cp:revision>
  <dc:subject/>
  <dc:title>Когда мы все вместе</dc:title>
</cp:coreProperties>
</file>