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569-55CE-41C5-B0B5-660FB651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933-58D9-41AF-829B-E5DA5081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099-5E66-4607-9F91-8AB29F5B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08E-F616-4262-A660-CEF10F0D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1A2-7718-47A2-8A58-F6080F9C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2FA-CE8B-4FEC-B3F6-5D30074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F050-758F-496C-ACE8-B35EDC7A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893-E14B-4B3B-A4F3-8858623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CC23-899D-4FE0-9F7D-239C3D90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F747-AAEB-4C1B-AC59-2A844B24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0C00-3B31-4D54-9490-9BBF583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388-8F0D-44F3-88D6-1CF3BEDF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9587-F6EC-42B5-AB03-F458D4C8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C453-F8B1-4215-B298-AF85AE7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2362-B38F-4CD3-9924-B8E6066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F5EC-AB72-4F08-8267-4D31FEAB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9C20-B31D-4049-8845-F66A41FA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989-A9B9-4AE9-8462-1FD123AD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537-CEA1-41B1-BECA-96AC3DC8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F55-81F8-42A5-9B31-23FDFF9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DC0-B7EF-4190-8E83-C7848F2F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478-A479-402E-ADC7-B485EB6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91C-29EF-4394-80A0-01EE9A5B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FD9-1514-48AD-95EB-CE56B6BB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9B4B-D63A-42AB-8921-BB71FE6664F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7EA1-44F5-437E-9410-BE53AD3C344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103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юита «Пер Гюнт», пьеса  «Утро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образительность в музык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онспект непосредственно образовательной деятельност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214200" y="36468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каждого инструмента есть тембр, окраска звучания. Основную мелодию играют по очереди 2 инструмента - флейта и гобой, по звучанию напоминают пастушьи свирели. Нежно, мягко, певуче звучат скрипки, словно журчание ручейка. Звучат здесь виолончель и валтор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http://club.foto.ru/gallery/images/photo/2006/11/27/745038.jpg"/>
          <p:cNvPicPr/>
          <p:nvPr/>
        </p:nvPicPr>
        <p:blipFill>
          <a:blip r:embed="rId1"/>
          <a:stretch/>
        </p:blipFill>
        <p:spPr>
          <a:xfrm>
            <a:off x="214200" y="2571840"/>
            <a:ext cx="256248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&amp;Kcy;&amp;acy;&amp;rcy;&amp;tcy;&amp;icy;&amp;ncy;&amp;kcy;&amp;acy; 5 &amp;icy;&amp;zcy; 26980"/>
          <p:cNvPicPr/>
          <p:nvPr/>
        </p:nvPicPr>
        <p:blipFill>
          <a:blip r:embed="rId2"/>
          <a:stretch/>
        </p:blipFill>
        <p:spPr>
          <a:xfrm>
            <a:off x="3000240" y="2571840"/>
            <a:ext cx="3073680" cy="2300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&amp;Kcy;&amp;acy;&amp;rcy;&amp;tcy;&amp;icy;&amp;ncy;&amp;kcy;&amp;acy; 5 &amp;icy;&amp;zcy; 153573"/>
          <p:cNvPicPr/>
          <p:nvPr/>
        </p:nvPicPr>
        <p:blipFill>
          <a:blip r:embed="rId3"/>
          <a:stretch/>
        </p:blipFill>
        <p:spPr>
          <a:xfrm>
            <a:off x="5850000" y="4357800"/>
            <a:ext cx="329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42920" y="414720"/>
            <a:ext cx="8143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ая форма у этого произведения? Форма трехчастная: в 1 и 3 части - звучит спокойная, мечтательно-нежная мелодия. 2 часть - контрастная, громкая, яркая, как будто встает солнышко, освещая все вокру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ще одно музыкально-выразительное средство музыки - регис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зыке слышатся высокие звуки, в основном произведение звучит в высоком и среднем регистре. Динамика - сила звуч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чала тихо прир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ыпается,, потом громко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ошло солнышк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жному, светлому настроен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й музыки соответству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ягкий, спокойный, плав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т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5" descr="&amp;Kcy;&amp;acy;&amp;rcy;&amp;tcy;&amp;icy;&amp;ncy;&amp;kcy;&amp;acy; 7 &amp;icy;&amp;zcy; 52"/>
          <p:cNvPicPr/>
          <p:nvPr/>
        </p:nvPicPr>
        <p:blipFill>
          <a:blip r:embed="rId1"/>
          <a:stretch/>
        </p:blipFill>
        <p:spPr>
          <a:xfrm>
            <a:off x="4786200" y="3701880"/>
            <a:ext cx="413388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42920" y="72072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нарисуем чудесную картину восхода солнца такой, какой вы увидели ее, слушая "Утро" Гри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красками вы бы нарисовали е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детей ( пастельные, теплые тон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3" descr="&amp;Kcy;&amp;acy;&amp;rcy;&amp;tcy;&amp;icy;&amp;ncy;&amp;kcy;&amp;acy; 20 &amp;icy;&amp;zcy; 155877"/>
          <p:cNvPicPr/>
          <p:nvPr/>
        </p:nvPicPr>
        <p:blipFill>
          <a:blip r:embed="rId1"/>
          <a:stretch/>
        </p:blipFill>
        <p:spPr>
          <a:xfrm>
            <a:off x="5643720" y="2786040"/>
            <a:ext cx="323820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&amp;Kcy;&amp;acy;&amp;rcy;&amp;tcy;&amp;icy;&amp;ncy;&amp;kcy;&amp;acy; 27 &amp;icy;&amp;zcy; 155877"/>
          <p:cNvPicPr/>
          <p:nvPr/>
        </p:nvPicPr>
        <p:blipFill>
          <a:blip r:embed="rId2"/>
          <a:stretch/>
        </p:blipFill>
        <p:spPr>
          <a:xfrm>
            <a:off x="285840" y="2857680"/>
            <a:ext cx="5076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285840" y="250200"/>
            <a:ext cx="77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какие инструменты вы бы взяли, чтобы оркестровать это произведение?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детей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кольчики, бубенцы, треугольники, металлофон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3" descr="&amp;Kcy;&amp;acy;&amp;rcy;&amp;tcy;&amp;icy;&amp;ncy;&amp;kcy;&amp;acy; 1 &amp;icy;&amp;zcy; 16553"/>
          <p:cNvPicPr/>
          <p:nvPr/>
        </p:nvPicPr>
        <p:blipFill>
          <a:blip r:embed="rId1"/>
          <a:stretch/>
        </p:blipFill>
        <p:spPr>
          <a:xfrm>
            <a:off x="357120" y="2428920"/>
            <a:ext cx="85010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markarbejde.ru/m/img/7916.jpg"/>
          <p:cNvPicPr/>
          <p:nvPr/>
        </p:nvPicPr>
        <p:blipFill>
          <a:blip r:embed="rId2"/>
          <a:stretch/>
        </p:blipFill>
        <p:spPr>
          <a:xfrm>
            <a:off x="214200" y="2071800"/>
            <a:ext cx="3578400" cy="3286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http://www.markarbejde.ru/m/img/7914.jpg"/>
          <p:cNvPicPr/>
          <p:nvPr/>
        </p:nvPicPr>
        <p:blipFill>
          <a:blip r:embed="rId3"/>
          <a:stretch/>
        </p:blipFill>
        <p:spPr>
          <a:xfrm>
            <a:off x="4286160" y="2143080"/>
            <a:ext cx="4662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3840" y="1571400"/>
            <a:ext cx="50007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шая Грига, мы инстинктивно сознаем, что музыку эту писал человек, движимый неотразимым влечением посредством звуков излить наплыв ощущений и настроений глубоко поэтической натуры.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П.И. Чайковски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2" descr="Эдвард Григ"/>
          <p:cNvPicPr/>
          <p:nvPr/>
        </p:nvPicPr>
        <p:blipFill>
          <a:blip r:embed="rId2"/>
          <a:stretch/>
        </p:blipFill>
        <p:spPr>
          <a:xfrm>
            <a:off x="5072040" y="1071720"/>
            <a:ext cx="3903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1640" y="285480"/>
            <a:ext cx="4257720" cy="64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ffff"/>
                </a:solidFill>
                <a:latin typeface="Times New Roman"/>
              </a:rPr>
              <a:t>Ребята, сегодня мы познакомимся с выдающимся композитором Эдвардом Григом. Он родился в удивительной стране Норвегии. Это далекий суровый северный край, край неприступных скал и бездонных озер. Однажды Григ прочитал историю про крестьянина Пер Гюнта, который покинул свою родную деревню и отправился в дальние странствия. На своем пути он пережил разные удивительные приключения. Григу понравилась эта история, и он написал музыкальное произведение, которое так и назвал: "Пер Гюнт". Первая пьеса этого произведения называется "Утро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&amp;Kcy;&amp;acy;&amp;rcy;&amp;tcy;&amp;icy;&amp;ncy;&amp;kcy;&amp;acy; 18 &amp;icy;&amp;zcy; 162925"/>
          <p:cNvPicPr/>
          <p:nvPr/>
        </p:nvPicPr>
        <p:blipFill>
          <a:blip r:embed="rId1"/>
          <a:stretch/>
        </p:blipFill>
        <p:spPr>
          <a:xfrm>
            <a:off x="214200" y="285840"/>
            <a:ext cx="4008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&amp;Kcy;&amp;acy;&amp;rcy;&amp;tcy;&amp;icy;&amp;ncy;&amp;kcy;&amp;acy; 11 &amp;icy;&amp;zcy; 162925"/>
          <p:cNvPicPr/>
          <p:nvPr/>
        </p:nvPicPr>
        <p:blipFill>
          <a:blip r:embed="rId2"/>
          <a:stretch/>
        </p:blipFill>
        <p:spPr>
          <a:xfrm>
            <a:off x="214200" y="3643200"/>
            <a:ext cx="400068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142920" y="62244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А как вы себе представляете утр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Что происходит с природой в утренние час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Когда вы просыпаетесь в городе, какие звуки вы слышите за окно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А если вы на даче или в деревне звуки пробуждения такие же или друг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Вот и Григ в своей пьесе "Утро" нам рассказывает о пробуждении природы. Многие поэты, музыканты, художники нередко воспевали красоту утра в своих произведениях. В звуках, красках, словах они по-своему выражали чувства, воспевали красоту природы в часы рассв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&amp;Kcy;&amp;acy;&amp;rcy;&amp;tcy;&amp;icy;&amp;ncy;&amp;kcy;&amp;acy; 12 &amp;icy;&amp;zcy; 3322"/>
          <p:cNvPicPr/>
          <p:nvPr/>
        </p:nvPicPr>
        <p:blipFill>
          <a:blip r:embed="rId1"/>
          <a:stretch/>
        </p:blipFill>
        <p:spPr>
          <a:xfrm>
            <a:off x="1071720" y="285840"/>
            <a:ext cx="71434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Kcy;&amp;acy;&amp;rcy;&amp;tcy;&amp;icy;&amp;ncy;&amp;kcy;&amp;acy; 1 &amp;icy;&amp;zcy; 16016"/>
          <p:cNvPicPr/>
          <p:nvPr/>
        </p:nvPicPr>
        <p:blipFill>
          <a:blip r:embed="rId1"/>
          <a:stretch/>
        </p:blipFill>
        <p:spPr>
          <a:xfrm>
            <a:off x="214200" y="214200"/>
            <a:ext cx="5077080" cy="3219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&amp;Kcy;&amp;acy;&amp;rcy;&amp;tcy;&amp;icy;&amp;ncy;&amp;kcy;&amp;acy; 4 &amp;icy;&amp;zcy; 16016"/>
          <p:cNvPicPr/>
          <p:nvPr/>
        </p:nvPicPr>
        <p:blipFill>
          <a:blip r:embed="rId2"/>
          <a:stretch/>
        </p:blipFill>
        <p:spPr>
          <a:xfrm>
            <a:off x="3857760" y="3247920"/>
            <a:ext cx="5076720" cy="3610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 flipV="1" rot="10800000">
            <a:off x="142560" y="520884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пар Фридрих - карти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р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286240" y="20005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кин Иван Иванович – картина Утро в сосновом лес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&amp;Kcy;&amp;acy;&amp;rcy;&amp;tcy;&amp;icy;&amp;ncy;&amp;kcy;&amp;acy; 16 &amp;icy;&amp;zcy; 3322"/>
          <p:cNvPicPr/>
          <p:nvPr/>
        </p:nvPicPr>
        <p:blipFill>
          <a:blip r:embed="rId1"/>
          <a:stretch/>
        </p:blipFill>
        <p:spPr>
          <a:xfrm>
            <a:off x="4857840" y="642960"/>
            <a:ext cx="4000320" cy="5334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"/>
          <p:cNvSpPr/>
          <p:nvPr/>
        </p:nvSpPr>
        <p:spPr>
          <a:xfrm>
            <a:off x="0" y="501840"/>
            <a:ext cx="4643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це стало поут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аньше первой птичк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Заплетая на вет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Лучики в коси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цу хочется успе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анним утром эт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Приласкать и обогре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Всех на белом св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Очень рады все вокруг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Звери, птицы, рыб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Речка, поле, сад и лу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Солнечной улыб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바탕"/>
              </a:rPr>
              <a:t>(прослушивание музык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Эдвард-Григ-Утро(muzofon.com).mp3" descr=""/>
          <p:cNvPicPr/>
          <p:nvPr/>
        </p:nvPicPr>
        <p:blipFill>
          <a:blip r:embed="rId2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42920" y="41760"/>
            <a:ext cx="8715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Какое настроение у эт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произведения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Какая эта музыка по характеру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еты детей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(светлый, нежны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спокойный, ласковый характер музы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Да, музыка рисует образ светл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безмятежной природы, нежна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умытая утренней рос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Скажите, о чем рассказывает эта музык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веты детей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( о восходе солнца, пении птиц, журчании ручейка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바탕"/>
              </a:rPr>
              <a:t>Музыка рисует картину постепенного пробуждения природы - первые солнечные лучи, щебетанье птиц, шелест ветра в листве, журчание прозрачного родника. Поэтому музыка нежная, спокойн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3" descr="&amp;Kcy;&amp;acy;&amp;rcy;&amp;tcy;&amp;icy;&amp;ncy;&amp;kcy;&amp;acy; 3 &amp;icy;&amp;zcy; 173286"/>
          <p:cNvPicPr/>
          <p:nvPr/>
        </p:nvPicPr>
        <p:blipFill>
          <a:blip r:embed="rId1"/>
          <a:stretch/>
        </p:blipFill>
        <p:spPr>
          <a:xfrm>
            <a:off x="5429160" y="142920"/>
            <a:ext cx="35053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42920" y="241560"/>
            <a:ext cx="8572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подумаем, как же композитору удалось нарисовать в музыке такую картину? Какие выразительные средства он использова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е главное выразительное средство в музыке - это мелодия. Мелодия - это душа музыки. Мелодия здесь спокойная, ласковая, неж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того, чтобы перед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узыке разнообраз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сок и голо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ыпающейся природ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г использовал различ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ы. Какие вы знает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3" descr="&amp;Kcy;&amp;acy;&amp;rcy;&amp;tcy;&amp;icy;&amp;ncy;&amp;kcy;&amp;acy; 25 &amp;icy;&amp;zcy; 166809"/>
          <p:cNvPicPr/>
          <p:nvPr/>
        </p:nvPicPr>
        <p:blipFill>
          <a:blip r:embed="rId1"/>
          <a:stretch/>
        </p:blipFill>
        <p:spPr>
          <a:xfrm>
            <a:off x="5072040" y="2857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0:31:28Z</dcterms:created>
  <dc:creator>Admin</dc:creator>
  <dc:description/>
  <dc:language>en-US</dc:language>
  <cp:lastModifiedBy>Admin</cp:lastModifiedBy>
  <dcterms:modified xsi:type="dcterms:W3CDTF">2012-07-04T11:35:36Z</dcterms:modified>
  <cp:revision>7</cp:revision>
  <dc:subject/>
  <dc:title>Эдвард Григ</dc:title>
</cp:coreProperties>
</file>