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08A-A33C-4286-8FCD-487C168C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4B9-EFFC-479A-808B-F666EB1C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DFF-6A37-4D26-8277-C320C61E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CDA-3D2E-446C-91A1-1A115B26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B1B0-BEDE-4C7C-9875-E4C94FAC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3430-A103-4022-9D4F-1E6EB300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6E56-FF1B-4F5A-AD42-FE05427B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33E2-6A9B-4BB0-8BA0-8FBF74D1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86C1-3806-41F4-983C-5925F8BF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9A0C-9FC7-4347-95D1-71DFC1E6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A75B-FA47-4BC2-AD0E-505AB186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D21-2C2C-472D-88F3-4560581F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4130-1C41-46D8-8CD1-E412AB4B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59F5-3F51-4516-A0B8-FBAAA957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7E84-9449-43BC-BECF-5A2A2C83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6DFC-2501-4E3B-B793-CE40910E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B135-982C-4BFF-9E4F-BBBAE323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7F5-89D8-41C5-ACDB-AFF38171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CDF-3B24-48EA-A4A1-7AE50BE0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8D0-46F3-418C-A8F5-E68EF86D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A5A-9776-4066-8649-57275BEB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232-D2F9-4293-B179-589B40ED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220-B388-4AEE-971B-7D66B321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085-C98B-44F6-B491-B41A1701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6CB1-F584-4DB2-946F-957BD13165A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337E-414F-4CE7-B63B-D8339AF8636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103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юита «Пер Гюнт», пьеса  «Утро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зобразительность в музык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нспект непосредственно образовательной деятельност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214200" y="36468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каждого инструмента есть тембр, окраска звучания. Основную мелодию играют по очереди 2 инструмента - флейта и гобой, по звучанию напоминают пастушьи свирели. Нежно, мягко, певуче звучат скрипки, словно журчание ручейка. Звучат здесь виолончель и валтор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http://club.foto.ru/gallery/images/photo/2006/11/27/745038.jpg"/>
          <p:cNvPicPr/>
          <p:nvPr/>
        </p:nvPicPr>
        <p:blipFill>
          <a:blip r:embed="rId1"/>
          <a:stretch/>
        </p:blipFill>
        <p:spPr>
          <a:xfrm>
            <a:off x="214200" y="2571840"/>
            <a:ext cx="256248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&amp;Kcy;&amp;acy;&amp;rcy;&amp;tcy;&amp;icy;&amp;ncy;&amp;kcy;&amp;acy; 5 &amp;icy;&amp;zcy; 26980"/>
          <p:cNvPicPr/>
          <p:nvPr/>
        </p:nvPicPr>
        <p:blipFill>
          <a:blip r:embed="rId2"/>
          <a:stretch/>
        </p:blipFill>
        <p:spPr>
          <a:xfrm>
            <a:off x="3000240" y="2571840"/>
            <a:ext cx="3073680" cy="2300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&amp;Kcy;&amp;acy;&amp;rcy;&amp;tcy;&amp;icy;&amp;ncy;&amp;kcy;&amp;acy; 5 &amp;icy;&amp;zcy; 153573"/>
          <p:cNvPicPr/>
          <p:nvPr/>
        </p:nvPicPr>
        <p:blipFill>
          <a:blip r:embed="rId3"/>
          <a:stretch/>
        </p:blipFill>
        <p:spPr>
          <a:xfrm>
            <a:off x="5850000" y="4357800"/>
            <a:ext cx="329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142920" y="414720"/>
            <a:ext cx="8143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какая форма у этого произведения? Форма трехчастная: в 1 и 3 части - звучит спокойная, мечтательно-нежная мелодия. 2 часть - контрастная, громкая, яркая, как будто встает солнышко, освещая все вокруг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ще одно музыкально-выразительное средство музыки - регист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узыке слышатся высокие звуки, в основном произведение звучит в высоком и среднем регистре. Динамика - сила звуч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ачала тихо природ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ыпается,, потом громко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ошло солнышк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жному, светлому настроени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й музыки соответству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гкий, спокойный, плавны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т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5" descr="&amp;Kcy;&amp;acy;&amp;rcy;&amp;tcy;&amp;icy;&amp;ncy;&amp;kcy;&amp;acy; 7 &amp;icy;&amp;zcy; 52"/>
          <p:cNvPicPr/>
          <p:nvPr/>
        </p:nvPicPr>
        <p:blipFill>
          <a:blip r:embed="rId1"/>
          <a:stretch/>
        </p:blipFill>
        <p:spPr>
          <a:xfrm>
            <a:off x="4786200" y="3701880"/>
            <a:ext cx="41338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142920" y="72072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йте нарисуем чудесную картину восхода солнца такой, какой вы увидели ее, слушая "Утро" Григ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ми красками вы бы нарисовали е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ы детей ( пастельные, теплые тон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3" descr="&amp;Kcy;&amp;acy;&amp;rcy;&amp;tcy;&amp;icy;&amp;ncy;&amp;kcy;&amp;acy; 20 &amp;icy;&amp;zcy; 155877"/>
          <p:cNvPicPr/>
          <p:nvPr/>
        </p:nvPicPr>
        <p:blipFill>
          <a:blip r:embed="rId1"/>
          <a:stretch/>
        </p:blipFill>
        <p:spPr>
          <a:xfrm>
            <a:off x="5643720" y="2786040"/>
            <a:ext cx="3238200" cy="3809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&amp;Kcy;&amp;acy;&amp;rcy;&amp;tcy;&amp;icy;&amp;ncy;&amp;kcy;&amp;acy; 27 &amp;icy;&amp;zcy; 155877"/>
          <p:cNvPicPr/>
          <p:nvPr/>
        </p:nvPicPr>
        <p:blipFill>
          <a:blip r:embed="rId2"/>
          <a:stretch/>
        </p:blipFill>
        <p:spPr>
          <a:xfrm>
            <a:off x="285840" y="2857680"/>
            <a:ext cx="5076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285840" y="250200"/>
            <a:ext cx="778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какие инструменты вы бы взяли, чтобы оркестровать это произведение?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ы детей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окольчики, бубенцы, треугольники, металлофон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3" descr="&amp;Kcy;&amp;acy;&amp;rcy;&amp;tcy;&amp;icy;&amp;ncy;&amp;kcy;&amp;acy; 1 &amp;icy;&amp;zcy; 16553"/>
          <p:cNvPicPr/>
          <p:nvPr/>
        </p:nvPicPr>
        <p:blipFill>
          <a:blip r:embed="rId1"/>
          <a:stretch/>
        </p:blipFill>
        <p:spPr>
          <a:xfrm>
            <a:off x="357120" y="2428920"/>
            <a:ext cx="85010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www.markarbejde.ru/m/img/7916.jpg"/>
          <p:cNvPicPr/>
          <p:nvPr/>
        </p:nvPicPr>
        <p:blipFill>
          <a:blip r:embed="rId2"/>
          <a:stretch/>
        </p:blipFill>
        <p:spPr>
          <a:xfrm>
            <a:off x="214200" y="2071800"/>
            <a:ext cx="3578400" cy="3286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www.markarbejde.ru/m/img/7914.jpg"/>
          <p:cNvPicPr/>
          <p:nvPr/>
        </p:nvPicPr>
        <p:blipFill>
          <a:blip r:embed="rId3"/>
          <a:stretch/>
        </p:blipFill>
        <p:spPr>
          <a:xfrm>
            <a:off x="4286160" y="2143080"/>
            <a:ext cx="4662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13840" y="1571400"/>
            <a:ext cx="50007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шая Грига, мы инстинктивно сознаем, что музыку эту писал человек, движимый неотразимым влечением посредством звуков излить наплыв ощущений и настроений глубоко поэтической натуры.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(П.И. Чайковски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Рисунок 2" descr="Эдвард Григ"/>
          <p:cNvPicPr/>
          <p:nvPr/>
        </p:nvPicPr>
        <p:blipFill>
          <a:blip r:embed="rId2"/>
          <a:stretch/>
        </p:blipFill>
        <p:spPr>
          <a:xfrm>
            <a:off x="5072040" y="1071720"/>
            <a:ext cx="39038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1640" y="285480"/>
            <a:ext cx="4257720" cy="64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Ребята, сегодня мы познакомимся с выдающимся композитором Эдвардом Григом. Он родился в удивительной стране Норвегии. Это далекий суровый северный край, край неприступных скал и бездонных озер. Однажды Григ прочитал историю про крестьянина Пер Гюнта, который покинул свою родную деревню и отправился в дальние странствия. На своем пути он пережил разные удивительные приключения. Григу понравилась эта история, и он написал музыкальное произведение, которое так и назвал: "Пер Гюнт". Первая пьеса этого произведения называется "Утро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&amp;Kcy;&amp;acy;&amp;rcy;&amp;tcy;&amp;icy;&amp;ncy;&amp;kcy;&amp;acy; 18 &amp;icy;&amp;zcy; 162925"/>
          <p:cNvPicPr/>
          <p:nvPr/>
        </p:nvPicPr>
        <p:blipFill>
          <a:blip r:embed="rId1"/>
          <a:stretch/>
        </p:blipFill>
        <p:spPr>
          <a:xfrm>
            <a:off x="214200" y="285840"/>
            <a:ext cx="400860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&amp;Kcy;&amp;acy;&amp;rcy;&amp;tcy;&amp;icy;&amp;ncy;&amp;kcy;&amp;acy; 11 &amp;icy;&amp;zcy; 162925"/>
          <p:cNvPicPr/>
          <p:nvPr/>
        </p:nvPicPr>
        <p:blipFill>
          <a:blip r:embed="rId2"/>
          <a:stretch/>
        </p:blipFill>
        <p:spPr>
          <a:xfrm>
            <a:off x="214200" y="3643200"/>
            <a:ext cx="400068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142920" y="622440"/>
            <a:ext cx="8215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А как вы себе представляете утр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Что происходит с природой в утренние час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Когда вы просыпаетесь в городе, какие звуки вы слышите за окно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А если вы на даче или в деревне звуки пробуждения такие же или друг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Вот и Григ в своей пьесе "Утро" нам рассказывает о пробуждении природы. Многие поэты, музыканты, художники нередко воспевали красоту утра в своих произведениях. В звуках, красках, словах они по-своему выражали чувства, воспевали красоту природы в часы рассве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&amp;Kcy;&amp;acy;&amp;rcy;&amp;tcy;&amp;icy;&amp;ncy;&amp;kcy;&amp;acy; 12 &amp;icy;&amp;zcy; 3322"/>
          <p:cNvPicPr/>
          <p:nvPr/>
        </p:nvPicPr>
        <p:blipFill>
          <a:blip r:embed="rId1"/>
          <a:stretch/>
        </p:blipFill>
        <p:spPr>
          <a:xfrm>
            <a:off x="1071720" y="285840"/>
            <a:ext cx="71434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&amp;Kcy;&amp;acy;&amp;rcy;&amp;tcy;&amp;icy;&amp;ncy;&amp;kcy;&amp;acy; 1 &amp;icy;&amp;zcy; 16016"/>
          <p:cNvPicPr/>
          <p:nvPr/>
        </p:nvPicPr>
        <p:blipFill>
          <a:blip r:embed="rId1"/>
          <a:stretch/>
        </p:blipFill>
        <p:spPr>
          <a:xfrm>
            <a:off x="214200" y="214200"/>
            <a:ext cx="5077080" cy="3219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&amp;Kcy;&amp;acy;&amp;rcy;&amp;tcy;&amp;icy;&amp;ncy;&amp;kcy;&amp;acy; 4 &amp;icy;&amp;zcy; 16016"/>
          <p:cNvPicPr/>
          <p:nvPr/>
        </p:nvPicPr>
        <p:blipFill>
          <a:blip r:embed="rId2"/>
          <a:stretch/>
        </p:blipFill>
        <p:spPr>
          <a:xfrm>
            <a:off x="3857760" y="3247920"/>
            <a:ext cx="5076720" cy="3610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 flipV="1" rot="10800000">
            <a:off x="142560" y="52088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пар Фридрих - картин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р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286240" y="20005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шкин Иван Иванович – картина Утро в сосновом лес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&amp;Kcy;&amp;acy;&amp;rcy;&amp;tcy;&amp;icy;&amp;ncy;&amp;kcy;&amp;acy; 16 &amp;icy;&amp;zcy; 3322"/>
          <p:cNvPicPr/>
          <p:nvPr/>
        </p:nvPicPr>
        <p:blipFill>
          <a:blip r:embed="rId1"/>
          <a:stretch/>
        </p:blipFill>
        <p:spPr>
          <a:xfrm>
            <a:off x="4857840" y="642960"/>
            <a:ext cx="4000320" cy="5334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0" y="501840"/>
            <a:ext cx="4643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Солнце стало поутр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Раньше первой птичк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Заплетая на ветр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Лучики в косич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Солнцу хочется успе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Ранним утром эти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Приласкать и обогре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Всех на белом све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Очень рады все вокруг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Звери, птицы, рыб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Речка, поле, сад и лу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Солнечной улыб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(прослушивание музык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Эдвард-Григ-Утро(muzofon.com).mp3" descr=""/>
          <p:cNvPicPr/>
          <p:nvPr/>
        </p:nvPicPr>
        <p:blipFill>
          <a:blip r:embed="rId2"/>
          <a:stretch/>
        </p:blipFill>
        <p:spPr>
          <a:xfrm>
            <a:off x="42876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42920" y="41760"/>
            <a:ext cx="87152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Какое настроение у эт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произведения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Какая эта музыка по характеру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веты детей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(светлый, нежны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спокойный, ласковый характер музык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Да, музыка рисует образ светло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безмятежной природы, нежн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умытая утренней рос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Скажите, о чем рассказывает эта музык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веты детей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( о восходе солнца, пении птиц, журчании ручейка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Музыка рисует картину постепенного пробуждения природы - первые солнечные лучи, щебетанье птиц, шелест ветра в листве, журчание прозрачного родника. Поэтому музыка нежная, спокойн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3" descr="&amp;Kcy;&amp;acy;&amp;rcy;&amp;tcy;&amp;icy;&amp;ncy;&amp;kcy;&amp;acy; 3 &amp;icy;&amp;zcy; 173286"/>
          <p:cNvPicPr/>
          <p:nvPr/>
        </p:nvPicPr>
        <p:blipFill>
          <a:blip r:embed="rId1"/>
          <a:stretch/>
        </p:blipFill>
        <p:spPr>
          <a:xfrm>
            <a:off x="5429160" y="142920"/>
            <a:ext cx="35053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142920" y="24156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йте подумаем, как же композитору удалось нарисовать в музыке такую картину? Какие выразительные средства он использовал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е главное выразительное средство в музыке - это мелодия. Мелодия - это душа музыки. Мелодия здесь спокойная, ласковая, нежн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того, чтобы переда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узыке разнообраз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ок и голос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ыпающейся природ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иг использовал различ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менты. Какие вы знает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мент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3" descr="&amp;Kcy;&amp;acy;&amp;rcy;&amp;tcy;&amp;icy;&amp;ncy;&amp;kcy;&amp;acy; 25 &amp;icy;&amp;zcy; 166809"/>
          <p:cNvPicPr/>
          <p:nvPr/>
        </p:nvPicPr>
        <p:blipFill>
          <a:blip r:embed="rId1"/>
          <a:stretch/>
        </p:blipFill>
        <p:spPr>
          <a:xfrm>
            <a:off x="5072040" y="28576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0:31:28Z</dcterms:created>
  <dc:creator>Admin</dc:creator>
  <dc:description/>
  <dc:language>en-US</dc:language>
  <cp:lastModifiedBy>Admin</cp:lastModifiedBy>
  <dcterms:modified xsi:type="dcterms:W3CDTF">2012-07-04T11:35:36Z</dcterms:modified>
  <cp:revision>7</cp:revision>
  <dc:subject/>
  <dc:title>Эдвард Григ</dc:title>
</cp:coreProperties>
</file>