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A0B-F382-452C-92CF-16AB42E4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057-C7B6-4DD8-85B8-0536A31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E83-8F18-43C3-B989-CEC2A30F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DC3-7F6D-49B4-A386-79187EE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8303-990D-4AAB-86B3-699E6A54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5FBE-2CF7-4389-A75A-0F3B763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B51-AA29-41D7-85AA-BF053388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8B0E-24F1-4BF7-939B-77813650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05B-5D7E-456D-9F35-049CC291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EAAB-2650-4992-B61B-BF454494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C087-3767-4040-BB45-50CF1F3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6D7-2D5E-4EBC-9285-A4DA0C56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B868-D44B-4EB3-8CC1-F636468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A69-50D5-44C0-8602-9EFD2DC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806-6D13-4AFF-87B0-7982EEAE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CB39-6555-478D-A344-270501DB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1AB1-AA48-45CD-848E-231F6A39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B8F-EEFD-48EE-9F18-02239FF6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E42-F7F6-46D8-8AF5-AA7CF96B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EC5-ECAA-4EF9-ACC0-BC8A677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AE9-3CA3-4E63-9442-CC4320FE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C2A-13F7-47AF-AACD-93F8202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825-2BBB-433C-AB05-F963816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BF-BE17-4C1A-988A-C0FC772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B97-284F-45AD-8B1F-8E04EBE8F8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BD6-4EA1-43C9-8F22-4C878D1439CD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йны огня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гонь – друг, огонь – враг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(Из опыта работы дружины юных пожарных МОУ «Юркинская средняя общеобразовательная школа»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Руководитель Иванова Н.С.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заместитель директора по воспитательной работе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МОУ «Юркинская СОШ»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язанности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вести разъяснительную работу среди сверстников и детей младшего возраста по предупреждению пожар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од руководством сотрудников противопожарной службы и организатора ДЮП участвовать в проведении пожарно-профилактической работы в жилом секторе, образовательных учреждениях, в мероприятиях по охране лес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повышать свое спортивное мастерство, заниматься пожарно-прикладным видом спор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ы работ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уроки, посвященные истории пожарного дела в России и за рубежом, основные причины возникновения пожаров, виды пожаров, первичные средства пожаротушения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агитбригад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ВН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брей-ринг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викторин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онкурс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сюжетно-ролевые иг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игры-эстафет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нижные выставк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выставки поделок и рисунк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просмотр видеоматериал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роприя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Ребята готовятся к  игре «Огонь – друг и враг человек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7" descr="Изображение 026"/>
          <p:cNvPicPr/>
          <p:nvPr/>
        </p:nvPicPr>
        <p:blipFill>
          <a:blip r:embed="rId1"/>
          <a:stretch/>
        </p:blipFill>
        <p:spPr>
          <a:xfrm>
            <a:off x="380880" y="272412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гра «Огонь – друг и враг человек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Члены команд во главе с командирами отвечают на вопросы виктори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8" descr="Изображение 035"/>
          <p:cNvPicPr/>
          <p:nvPr/>
        </p:nvPicPr>
        <p:blipFill>
          <a:blip r:embed="rId1"/>
          <a:stretch/>
        </p:blipFill>
        <p:spPr>
          <a:xfrm>
            <a:off x="4724280" y="3200400"/>
            <a:ext cx="3780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нкурс на лучший эскиз эмблем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2209680" y="2057400"/>
            <a:ext cx="53038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ческая работа с ПЧ-6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оведение тренировки по эвакуации учащихся и сотрудников из здания, предотвращению развития пожара, его локализации и ликвидаци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актикум по оказанию первой медицинской помощ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актикум по использованию средств индивидуальной защиты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и задачи программ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Цель –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здание условий для организации деятельности школьников по изучению правил пожарной безопасности и привлечения их к организации пропаганды пожаробезопасного поведения среди учащихся и населения в микрорайо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и задачи программ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Основные задач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. Обучение правилам пожарной безопасност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2. Привитие навыков осознанного пожаробезопасного поведения, правильных действий в случае возникновения пожа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3.Формирование сознательного и ответственного отношения к вопросам личной безопасности и безопасности окружающи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4. Улучшения правовой подготовк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5. Овладение умениями оказания первой медицинской помощи пострадавши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сновные направления работы: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1. Обучение правилам пожарной безопасности и действиям в случае возникновения пожар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2.Изучение первичных средств пожаротушения, ознакомление с пожарной техникой, пожарно-техническим вооружением, средствами связи, системами автоматического пожаротушения, пожарной и охранно-пожарной сигнализацие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3. Массово-разъяснительная работа по предупреждению пожаров в ОУ, жилых домах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4. Проведение занятий, соревнований по пожарно-прикладному спорту, конкурсов, викторин по противопожарной тематике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5. Организация агитбригад, детских кинолекториев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6. Участие в дозорах, рейдах, экскурсиях, в месячнике пожарной безопас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7. Посещение пожарных подразделен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8. Развитие детского технического творчества (организация выставок пожарно-технического моделирования юных пожарных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9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уктура и организация работ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Дружина юных пожарных была создана на базе 5 класса школы в 2009-2010 учебном год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 настоящее время дружина состоит из 10 челове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 дружине 2 звена, руководят которыми командиры отряд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ружина юных пожарны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6" descr="Изображение 03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ава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Юный пожарный имеет право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избирать и быть избранным в органы ДЮП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участвовать в обсуждении всех вопросов, относящихся к деятельности дружины и вносить соответствующие предлож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обращаться за помощью и консультацией по вопросам пожарной безопасности в пожарные подраздел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на моральное и материальное вознаграждение за активное участие в работе ДЮП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ава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за смелость и решительные действия, проявленны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 время тушения пожара, спасения жизни людей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эвакуации животных и материальных ценностей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имеет право быть представлен к награждению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авительственными наградами в установленном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рядк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получить направление учреждений пожарной охраны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 соответствующей рекомендацией для поступле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 учебные заведения МВД России, которые готовя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жарных специалист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язанности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Юный пожарник обязан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выполнять все правила для учащихся, добросовестно учиться, показывать пример хорошего поведения в школе и вне е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дорожить честью и званием юного пожарного, активно участвовать в делах дружины, своевременно и точно выполнять задания штаба дружин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изучать основы пожарного дела и правила пожарной безопас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2-07-26T15:37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