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38C5-5A4B-4DFB-B4A8-DFA93F714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D688-D59E-4142-8025-BECB70A4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3197-179B-485A-99C9-F0AFC4C20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89A6-7659-4F02-AF66-36345A391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F2BF-BB16-4842-B9F4-11260A666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5106-793D-429F-9B25-8C6E8C8C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D985-77B5-4F0A-ABDB-3459B4C4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ED35-49EE-48B5-B8BF-A4033CF1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FC3B-1B5C-4302-AA49-CC5EB453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0A76-EC9C-4352-AA00-60A2AF83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254D-D9CC-4ADB-8767-F7E5A8B3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9674-5495-47E7-BFEC-E12DB587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073F-3AFA-417A-ADC7-8621C7DC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88055-5145-4B6A-B4DD-2C936318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1FD1B-A608-405C-B517-F655F479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18E2-32FC-48D2-B1BE-ED6C4B095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C213-3A9F-48D3-9827-A657F6C9F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AAAE-C97E-4B36-BD3D-7D7F6226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5E01-6362-4B75-9561-D20D4643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5CD1-D15C-4C16-9DE3-9D2EA710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C390-CED5-457F-8CDC-E96629AB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5E87-7175-4E8C-9256-2FCD0C41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C691-892F-4863-8CB1-65B4A0A5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B0A1-85B4-4D25-9D5E-F3F09781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>
                      <a:gd name="textAreaLeft" fmla="*/ 0 w 884520"/>
                      <a:gd name="textAreaRight" fmla="*/ 884880 w 88452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>
                      <a:gd name="textAreaLeft" fmla="*/ 0 w 931320"/>
                      <a:gd name="textAreaRight" fmla="*/ 93168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>
                      <a:gd name="textAreaLeft" fmla="*/ 0 w 499680"/>
                      <a:gd name="textAreaRight" fmla="*/ 500040 w 499680"/>
                      <a:gd name="textAreaTop" fmla="*/ 0 h 279360"/>
                      <a:gd name="textAreaBottom" fmla="*/ 279720 h 279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>
                      <a:gd name="textAreaLeft" fmla="*/ 0 w 890280"/>
                      <a:gd name="textAreaRight" fmla="*/ 89064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>
                      <a:gd name="textAreaLeft" fmla="*/ 0 w 478080"/>
                      <a:gd name="textAreaRight" fmla="*/ 47844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>
                      <a:gd name="textAreaLeft" fmla="*/ 0 w 461880"/>
                      <a:gd name="textAreaRight" fmla="*/ 462240 w 46188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>
                      <a:gd name="textAreaLeft" fmla="*/ 0 w 792720"/>
                      <a:gd name="textAreaRight" fmla="*/ 793080 w 79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>
                      <a:gd name="textAreaLeft" fmla="*/ 0 w 425880"/>
                      <a:gd name="textAreaRight" fmla="*/ 426240 w 4258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>
                      <a:gd name="textAreaLeft" fmla="*/ 0 w 386640"/>
                      <a:gd name="textAreaRight" fmla="*/ 387000 w 38664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>
                      <a:gd name="textAreaLeft" fmla="*/ -360 w 931320"/>
                      <a:gd name="textAreaRight" fmla="*/ 93132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>
                      <a:gd name="textAreaLeft" fmla="*/ 360 w 890640"/>
                      <a:gd name="textAreaRight" fmla="*/ 891360 w 89064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>
                      <a:gd name="textAreaLeft" fmla="*/ 360 w 478080"/>
                      <a:gd name="textAreaRight" fmla="*/ 47880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>
                      <a:gd name="textAreaLeft" fmla="*/ -360 w 461880"/>
                      <a:gd name="textAreaRight" fmla="*/ 461880 w 46188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>
                      <a:gd name="textAreaLeft" fmla="*/ -360 w 792360"/>
                      <a:gd name="textAreaRight" fmla="*/ 792360 w 79236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>
                      <a:gd name="textAreaLeft" fmla="*/ 360 w 425520"/>
                      <a:gd name="textAreaRight" fmla="*/ 426240 w 42552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>
                      <a:gd name="textAreaLeft" fmla="*/ -360 w 387000"/>
                      <a:gd name="textAreaRight" fmla="*/ 387000 w 38700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>
                      <a:gd name="textAreaLeft" fmla="*/ 360 w 632160"/>
                      <a:gd name="textAreaRight" fmla="*/ 632880 w 6321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>
                      <a:gd name="textAreaLeft" fmla="*/ -360 w 641880"/>
                      <a:gd name="textAreaRight" fmla="*/ 641880 w 64188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>
                      <a:gd name="textAreaLeft" fmla="*/ 0 w 345240"/>
                      <a:gd name="textAreaRight" fmla="*/ 345240 w 3452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>
                      <a:gd name="textAreaLeft" fmla="*/ -360 w 303480"/>
                      <a:gd name="textAreaRight" fmla="*/ 303480 w 30348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>
                      <a:gd name="textAreaLeft" fmla="*/ 360 w 292320"/>
                      <a:gd name="textAreaRight" fmla="*/ 293040 w 29232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>
                      <a:gd name="textAreaLeft" fmla="*/ 0 w 632160"/>
                      <a:gd name="textAreaRight" fmla="*/ 632520 w 6321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>
                    <a:gd name="textAreaLeft" fmla="*/ 360 w 282240"/>
                    <a:gd name="textAreaRight" fmla="*/ 282960 w 28224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>
                      <a:gd name="textAreaLeft" fmla="*/ 0 w 545040"/>
                      <a:gd name="textAreaRight" fmla="*/ 545400 w 545040"/>
                      <a:gd name="textAreaTop" fmla="*/ 0 h 94320"/>
                      <a:gd name="textAreaBottom" fmla="*/ 94680 h 943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>
                      <a:gd name="textAreaLeft" fmla="*/ 0 w 292320"/>
                      <a:gd name="textAreaRight" fmla="*/ 292680 w 292320"/>
                      <a:gd name="textAreaTop" fmla="*/ 0 h 148320"/>
                      <a:gd name="textAreaBottom" fmla="*/ 148680 h 1483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>
                      <a:gd name="textAreaLeft" fmla="*/ 0 w 592560"/>
                      <a:gd name="textAreaRight" fmla="*/ 592920 w 592560"/>
                      <a:gd name="textAreaTop" fmla="*/ 0 h 138240"/>
                      <a:gd name="textAreaBottom" fmla="*/ 138600 h 138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>
                      <a:gd name="textAreaLeft" fmla="*/ 0 w 317880"/>
                      <a:gd name="textAreaRight" fmla="*/ 318240 w 31788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>
                      <a:gd name="textAreaLeft" fmla="*/ 0 w 488880"/>
                      <a:gd name="textAreaRight" fmla="*/ 489240 w 488880"/>
                      <a:gd name="textAreaTop" fmla="*/ 0 h 43920"/>
                      <a:gd name="textAreaBottom" fmla="*/ 44280 h 43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>
                      <a:gd name="textAreaLeft" fmla="*/ 0 w 262440"/>
                      <a:gd name="textAreaRight" fmla="*/ 262800 w 262440"/>
                      <a:gd name="textAreaTop" fmla="*/ 0 h 69120"/>
                      <a:gd name="textAreaBottom" fmla="*/ 69480 h 691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>
                      <a:gd name="textAreaLeft" fmla="*/ 360 w 884160"/>
                      <a:gd name="textAreaRight" fmla="*/ 88488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>
                      <a:gd name="textAreaLeft" fmla="*/ -360 w 474120"/>
                      <a:gd name="textAreaRight" fmla="*/ 474120 w 47412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>
                      <a:gd name="textAreaLeft" fmla="*/ -360 w 818280"/>
                      <a:gd name="textAreaRight" fmla="*/ 818280 w 8182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>
                      <a:gd name="textAreaLeft" fmla="*/ 360 w 439200"/>
                      <a:gd name="textAreaRight" fmla="*/ 439920 w 43920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>
                      <a:gd name="textAreaLeft" fmla="*/ -360 w 785160"/>
                      <a:gd name="textAreaRight" fmla="*/ 785160 w 785160"/>
                      <a:gd name="textAreaTop" fmla="*/ 0 h 144000"/>
                      <a:gd name="textAreaBottom" fmla="*/ 144360 h 144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>
                      <a:gd name="textAreaLeft" fmla="*/ 360 w 421200"/>
                      <a:gd name="textAreaRight" fmla="*/ 421920 w 421200"/>
                      <a:gd name="textAreaTop" fmla="*/ 0 h 226440"/>
                      <a:gd name="textAreaBottom" fmla="*/ 226800 h 226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>
                      <a:gd name="textAreaLeft" fmla="*/ 0 w 884880"/>
                      <a:gd name="textAreaRight" fmla="*/ 885240 w 88488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>
                      <a:gd name="textAreaLeft" fmla="*/ 0 w 846720"/>
                      <a:gd name="textAreaRight" fmla="*/ 847080 w 84672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>
                      <a:gd name="textAreaLeft" fmla="*/ 0 w 821160"/>
                      <a:gd name="textAreaRight" fmla="*/ 821520 w 8211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>
                      <a:gd name="textAreaLeft" fmla="*/ 0 w 440280"/>
                      <a:gd name="textAreaRight" fmla="*/ 440640 w 44028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>
                      <a:gd name="textAreaLeft" fmla="*/ 0 w 754920"/>
                      <a:gd name="textAreaRight" fmla="*/ 755280 w 754920"/>
                      <a:gd name="textAreaTop" fmla="*/ 0 h 126000"/>
                      <a:gd name="textAreaBottom" fmla="*/ 126360 h 126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>
                      <a:gd name="textAreaLeft" fmla="*/ 0 w 405360"/>
                      <a:gd name="textAreaRight" fmla="*/ 405720 w 405360"/>
                      <a:gd name="textAreaTop" fmla="*/ 0 h 198000"/>
                      <a:gd name="textAreaBottom" fmla="*/ 198360 h 198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>
                      <a:gd name="textAreaLeft" fmla="*/ 0 w 737640"/>
                      <a:gd name="textAreaRight" fmla="*/ 738000 w 73764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>
                      <a:gd name="textAreaLeft" fmla="*/ 0 w 395640"/>
                      <a:gd name="textAreaRight" fmla="*/ 396000 w 39564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>
                  <a:gd name="textAreaLeft" fmla="*/ 360 w 637200"/>
                  <a:gd name="textAreaRight" fmla="*/ 637920 w 637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9680"/>
                  <a:gd name="textAreaBottom" fmla="*/ 1220040 h 121968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>
                  <a:gd name="textAreaLeft" fmla="*/ 0 w 515520"/>
                  <a:gd name="textAreaRight" fmla="*/ 515880 w 515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>
                  <a:gd name="textAreaLeft" fmla="*/ 0 w 248400"/>
                  <a:gd name="textAreaRight" fmla="*/ 248760 w 24840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-360 h 429480"/>
                  <a:gd name="textAreaBottom" fmla="*/ 429480 h 429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>
                  <a:gd name="textAreaLeft" fmla="*/ -360 w 948600"/>
                  <a:gd name="textAreaRight" fmla="*/ 948600 w 94860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>
                  <a:gd name="textAreaLeft" fmla="*/ 0 w 391320"/>
                  <a:gd name="textAreaRight" fmla="*/ 391680 w 391320"/>
                  <a:gd name="textAreaTop" fmla="*/ 0 h 1182960"/>
                  <a:gd name="textAreaBottom" fmla="*/ 1183320 h 118296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>
                  <a:gd name="textAreaLeft" fmla="*/ -360 w 556200"/>
                  <a:gd name="textAreaRight" fmla="*/ 556200 w 55620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>
                  <a:gd name="textAreaLeft" fmla="*/ 0 w 778680"/>
                  <a:gd name="textAreaRight" fmla="*/ 779040 w 778680"/>
                  <a:gd name="textAreaTop" fmla="*/ 0 h 548280"/>
                  <a:gd name="textAreaBottom" fmla="*/ 548280 h 548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5480"/>
                  <a:gd name="textAreaBottom" fmla="*/ 735840 h 735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>
                  <a:gd name="textAreaLeft" fmla="*/ -360 w 226440"/>
                  <a:gd name="textAreaRight" fmla="*/ 226440 w 22644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C8C6-E0EE-42F6-8F1C-3248A84848B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>
                        <a:gd name="textAreaLeft" fmla="*/ 0 w 2125440"/>
                        <a:gd name="textAreaRight" fmla="*/ 212580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>
                        <a:gd name="textAreaLeft" fmla="*/ 0 w 1200600"/>
                        <a:gd name="textAreaRight" fmla="*/ 1200960 w 120060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>
                        <a:gd name="textAreaLeft" fmla="*/ 0 w 1904760"/>
                        <a:gd name="textAreaRight" fmla="*/ 1905120 w 19047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>
                        <a:gd name="textAreaLeft" fmla="*/ 0 w 1023480"/>
                        <a:gd name="textAreaRight" fmla="*/ 1023840 w 102348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>
                        <a:gd name="textAreaLeft" fmla="*/ -360 w 1140840"/>
                        <a:gd name="textAreaRight" fmla="*/ 1140840 w 11408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>
                        <a:gd name="textAreaLeft" fmla="*/ -360 w 2236680"/>
                        <a:gd name="textAreaRight" fmla="*/ 223668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>
                        <a:gd name="textAreaLeft" fmla="*/ 360 w 1200960"/>
                        <a:gd name="textAreaRight" fmla="*/ 1201680 w 1200960"/>
                        <a:gd name="textAreaTop" fmla="*/ 0 h 672480"/>
                        <a:gd name="textAreaBottom" fmla="*/ 672840 h 672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>
                        <a:gd name="textAreaLeft" fmla="*/ -360 w 1904760"/>
                        <a:gd name="textAreaRight" fmla="*/ 1904760 w 190476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>
                        <a:gd name="textAreaLeft" fmla="*/ 360 w 1356480"/>
                        <a:gd name="textAreaRight" fmla="*/ 1357200 w 13564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>
                      <a:gd name="textAreaLeft" fmla="*/ 0 w 1266120"/>
                      <a:gd name="textAreaRight" fmla="*/ 1266120 w 126612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040"/>
                        <a:gd name="textAreaBottom" fmla="*/ 356400 h 356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>
                        <a:gd name="textAreaLeft" fmla="*/ 0 w 1424160"/>
                        <a:gd name="textAreaRight" fmla="*/ 1424520 w 142416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>
                        <a:gd name="textAreaLeft" fmla="*/ 0 w 764280"/>
                        <a:gd name="textAreaRight" fmla="*/ 764640 w 764280"/>
                        <a:gd name="textAreaTop" fmla="*/ 0 h 521280"/>
                        <a:gd name="textAreaBottom" fmla="*/ 521640 h 521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5960"/>
                        <a:gd name="textAreaBottom" fmla="*/ 166320 h 165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>
                        <a:gd name="textAreaLeft" fmla="*/ 360 w 2125440"/>
                        <a:gd name="textAreaRight" fmla="*/ 212616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>
                        <a:gd name="textAreaLeft" fmla="*/ 360 w 1140480"/>
                        <a:gd name="textAreaRight" fmla="*/ 114120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>
                        <a:gd name="textAreaLeft" fmla="*/ -360 w 1055160"/>
                        <a:gd name="textAreaRight" fmla="*/ 1055160 w 105516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>
                        <a:gd name="textAreaLeft" fmla="*/ 0 w 2125800"/>
                        <a:gd name="textAreaRight" fmla="*/ 212616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>
                        <a:gd name="textAreaLeft" fmla="*/ 0 w 2034360"/>
                        <a:gd name="textAreaRight" fmla="*/ 2034720 w 2034360"/>
                        <a:gd name="textAreaTop" fmla="*/ 0 h 368640"/>
                        <a:gd name="textAreaBottom" fmla="*/ 369000 h 368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>
                        <a:gd name="textAreaLeft" fmla="*/ 0 w 1091160"/>
                        <a:gd name="textAreaRight" fmla="*/ 1091520 w 109116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>
                        <a:gd name="textAreaLeft" fmla="*/ 0 w 1973880"/>
                        <a:gd name="textAreaRight" fmla="*/ 1974240 w 197388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>
                      <a:gd name="textAreaLeft" fmla="*/ 0 w 3165480"/>
                      <a:gd name="textAreaRight" fmla="*/ 3165840 w 3165480"/>
                      <a:gd name="textAreaTop" fmla="*/ -360 h 2522520"/>
                      <a:gd name="textAreaBottom" fmla="*/ 2522520 h 25225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>
                      <a:gd name="textAreaLeft" fmla="*/ -360 w 2485800"/>
                      <a:gd name="textAreaRight" fmla="*/ 2485800 w 24858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>
                      <a:gd name="textAreaLeft" fmla="*/ 360 w 3132000"/>
                      <a:gd name="textAreaRight" fmla="*/ 3132720 w 31320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>
                      <a:gd name="textAreaLeft" fmla="*/ 360 w 2280960"/>
                      <a:gd name="textAreaRight" fmla="*/ 2281680 w 22809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>
                      <a:gd name="textAreaLeft" fmla="*/ 0 w 941760"/>
                      <a:gd name="textAreaRight" fmla="*/ 942120 w 9417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>
                  <a:gd name="textAreaLeft" fmla="*/ 360 w 2616480"/>
                  <a:gd name="textAreaRight" fmla="*/ 2617200 w 261648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>
                  <a:gd name="textAreaLeft" fmla="*/ 360 w 1533600"/>
                  <a:gd name="textAreaRight" fmla="*/ 1534320 w 15336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3640"/>
                  <a:gd name="textAreaBottom" fmla="*/ 2934000 h 293364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-360 h 1032120"/>
                  <a:gd name="textAreaBottom" fmla="*/ 103212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>
                  <a:gd name="textAreaLeft" fmla="*/ 0 w 1872000"/>
                  <a:gd name="textAreaRight" fmla="*/ 1872360 w 187200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15EC-F56D-47F5-8E3F-8E4C9191766F}" type="slidenum"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Тайны огня.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Огонь – друг, огонь – враг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(Из опыта работы дружины юных пожарных МОУ «Юркинская средняя общеобразовательная школа»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Times New Roman"/>
              </a:rPr>
              <a:t>Руководитель Иванова Н.С.,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Times New Roman"/>
              </a:rPr>
              <a:t>заместитель директора по воспитательной работе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Times New Roman"/>
              </a:rPr>
              <a:t>МОУ «Юркинская СОШ»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Обязанности члена ДЮП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- вести разъяснительную работу среди сверстников и детей младшего возраста по предупреждению пожаров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под руководством сотрудников противопожарной службы и организатора ДЮП участвовать в проведении пожарно-профилактической работы в жилом секторе, образовательных учреждениях, в мероприятиях по охране лесов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- повышать свое спортивное мастерство, заниматься пожарно-прикладным видом спорта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2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Формы работы ДЮП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- уроки, посвященные истории пожарного дела в России и за рубежом, основные причины возникновения пожаров, виды пожаров, первичные средства пожаротушения и т.д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- агитбригада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- КВН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- брей-ринг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- викторины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- конкурсы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- сюжетно-ролевые игры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- игры-эстафеты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- книжные выставки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- выставки поделок и рисунков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- просмотр видеоматериалов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Мероприяти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Ребята готовятся к  игре «Огонь – друг и враг человека»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5" name="Picture 7" descr="Изображение 026"/>
          <p:cNvPicPr/>
          <p:nvPr/>
        </p:nvPicPr>
        <p:blipFill>
          <a:blip r:embed="rId1"/>
          <a:stretch/>
        </p:blipFill>
        <p:spPr>
          <a:xfrm>
            <a:off x="380880" y="2724120"/>
            <a:ext cx="416088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Игра «Огонь – друг и враг человека»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Члены команд во главе с командирами отвечают на вопросы викторины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9" name="Picture 8" descr="Изображение 035"/>
          <p:cNvPicPr/>
          <p:nvPr/>
        </p:nvPicPr>
        <p:blipFill>
          <a:blip r:embed="rId1"/>
          <a:stretch/>
        </p:blipFill>
        <p:spPr>
          <a:xfrm>
            <a:off x="4724280" y="3200400"/>
            <a:ext cx="378000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Конкурс на лучший эскиз эмблемы ДЮП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2" name="Picture 4" descr="Изображение 037"/>
          <p:cNvPicPr/>
          <p:nvPr/>
        </p:nvPicPr>
        <p:blipFill>
          <a:blip r:embed="rId1"/>
          <a:stretch/>
        </p:blipFill>
        <p:spPr>
          <a:xfrm>
            <a:off x="2209680" y="2057400"/>
            <a:ext cx="530388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рактическая работа с ПЧ-60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Проведение тренировки по эвакуации учащихся и сотрудников из здания, предотвращению развития пожара, его локализации и ликвидации;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Практикум по оказанию первой медицинской помощи;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Практикум по использованию средств индивидуальной защиты;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Цели и задачи программ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Times New Roman"/>
              </a:rPr>
              <a:t>Цель – </a:t>
            </a: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создание условий для организации деятельности школьников по изучению правил пожарной безопасности и привлечения их к организации пропаганды пожаробезопасного поведения среди учащихся и населения в микрорайоне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Цели и задачи программ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Times New Roman"/>
              </a:rPr>
              <a:t>Основные задачи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1. Обучение правилам пожарной безопасности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2. Привитие навыков осознанного пожаробезопасного поведения, правильных действий в случае возникновения пожара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3.Формирование сознательного и ответственного отношения к вопросам личной безопасности и безопасности окружающих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4. Улучшения правовой подготовки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5. Овладение умениями оказания первой медицинской помощи пострадавшим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Основные направления работы: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         </a:t>
            </a: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1. Обучение правилам пожарной безопасности и действиям в случае возникновения пожара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          </a:t>
            </a: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2.Изучение первичных средств пожаротушения, ознакомление с пожарной техникой, пожарно-техническим вооружением, средствами связи, системами автоматического пожаротушения, пожарной и охранно-пожарной сигнализацией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          </a:t>
            </a: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3. Массово-разъяснительная работа по предупреждению пожаров в ОУ, жилых домах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          </a:t>
            </a: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4. Проведение занятий, соревнований по пожарно-прикладному спорту, конкурсов, викторин по противопожарной тематике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          </a:t>
            </a: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5. Организация агитбригад, детских кинолекториев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          </a:t>
            </a: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6. Участие в дозорах, рейдах, экскурсиях, в месячнике пожарной безопасности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          </a:t>
            </a: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7. Посещение пожарных подразделений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          </a:t>
            </a: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8. Развитие детского технического творчества (организация выставок пожарно-технического моделирования юных пожарных)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cc00"/>
                </a:solidFill>
                <a:latin typeface="Arial Black"/>
              </a:rPr>
              <a:t>     </a:t>
            </a:r>
            <a:endParaRPr b="0" lang="en-US" sz="9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Структура и организация работы ДЮП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          </a:t>
            </a: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Дружина юных пожарных была создана на базе 5 класса школы в 2009-2010 учебном году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          </a:t>
            </a: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В настоящее время дружина состоит из 10 человек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          </a:t>
            </a: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В дружине 2 звена, руководят которыми командиры отрядов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Дружина юных пожарных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1" name="Picture 6" descr="Изображение 038"/>
          <p:cNvPicPr/>
          <p:nvPr/>
        </p:nvPicPr>
        <p:blipFill>
          <a:blip r:embed="rId1"/>
          <a:stretch/>
        </p:blipFill>
        <p:spPr>
          <a:xfrm>
            <a:off x="1827360" y="1981080"/>
            <a:ext cx="548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Права члена ДЮП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Times New Roman"/>
              </a:rPr>
              <a:t>Юный пожарный имеет право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- избирать и быть избранным в органы ДЮП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- участвовать в обсуждении всех вопросов, относящихся к деятельности дружины и вносить соответствующие предложения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- обращаться за помощью и консультацией по вопросам пожарной безопасности в пожарные подразделения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- на моральное и материальное вознаграждение за активное участие в работе ДЮП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Права члена ДЮП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- за смелость и решительные действия, проявленные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во время тушения пожара, спасения жизни людей,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эвакуации животных и материальных ценностей,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имеет право быть представлен к награждению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правительственными наградами в установленном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порядке;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- получить направление учреждений пожарной охраны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с соответствующей рекомендацией для поступления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в учебные заведения МВД России, которые готовят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пожарных специалистов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Обязанности члена ДЮП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00"/>
                </a:solidFill>
                <a:latin typeface="Times New Roman"/>
              </a:rPr>
              <a:t>Юный пожарник обязан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- выполнять все правила для учащихся, добросовестно учиться, показывать пример хорошего поведения в школе и вне ее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- дорожить честью и званием юного пожарного, активно участвовать в делах дружины, своевременно и точно выполнять задания штаба дружины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- изучать основы пожарного дела и правила пожарной безопасности;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мпьютер</cp:lastModifiedBy>
  <dcterms:modified xsi:type="dcterms:W3CDTF">2012-07-26T15:37:56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