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71D-591E-4EBD-91FB-F2D4A339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DED-EB73-47A8-A426-8CFA0EF8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DEA7F-FE4E-4BA8-AFCE-DB532365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1A051-0DCF-45E5-9100-E8BA249E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F73DD-757D-43E2-9954-238BF782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3F45E-ED97-45E8-BDE4-3DC0CD0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50A5C-B14D-4590-B522-C91C52F2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23622-1237-444C-9C89-9E880BEE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C3A09-47B0-4249-8B64-F28C9FE1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9481F-8E53-40C1-88F1-69B944E7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4630A-C329-44EB-A738-32D5D0F8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DA836-E66D-453F-90A2-E39F0360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FAA-2535-4861-9686-AFEF0ACC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6DDBD-B3AD-42AD-804E-32DFB4B5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80635-A249-4141-8883-A3AC9050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9FD9F-8242-466C-A00D-0EA6F5A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0892D-285E-4946-94DA-31C30DD1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C6362-AB4E-476E-A242-2D8268D3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B89CF-4B41-42C1-9FCE-33873201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478FD-2122-4513-B5EA-22E29962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7764E-6619-4689-BF00-831B79F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DB953-9B54-43AE-9D51-38926C1F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7BEF9-3F9B-43E1-862A-629F3B61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DB9-7B8F-4D76-88AB-21EC8F9E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6C855-8DF6-4A4E-879E-26F33629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E3F6-34A2-47BB-8CC5-2848A296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2A4C-40D7-4C6D-871F-D7367ACB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A72D-F004-4854-86D3-39778315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6BD1-949C-4932-8677-F44792C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B27A-0178-4796-9EC5-53125EC5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F69D-93F0-4DA3-AB3A-E5F4DC1C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9131-69B9-497C-844D-D08C989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40E-91C4-4563-9355-5BDB41EA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938B-B519-4A86-BCBE-683222E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F150-C620-4E8A-A4BA-0BF138EF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FF62-CB6C-4CB9-855F-1B5F2FCB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9B65-6384-4FF3-80B6-FD28A747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4FEE-CC41-493D-B819-C6C5C066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2129-7D56-401F-9309-AB519DAB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DAAD-D63D-4F4F-9F0E-86F1A857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C9D1-DD4E-46DA-B50A-48C7C350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1054-ECB2-4F37-B274-E2694226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30046-12EA-4108-A214-BCDB945B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426-BE7C-4C21-BAF1-CAA788DC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1920-1377-4B04-976E-E2DD07F5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0B9A-CA6B-4278-B9FE-2FB24BC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A01A-A659-49E2-BEA0-7FD867F5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739B-CBA7-48E0-BABC-120C403C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14A5-D728-4138-96B1-FE820241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A605-E2EA-4A70-8625-F4E2560E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B9809-5855-4CDF-B8E3-28350ECE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A930-19DB-448E-80CA-25E5AB87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FE0E3-E5FF-483E-B8AC-8F3CC61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D439-C06F-40A9-A628-0F7104DE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AF6-5649-4CB1-969A-D0874159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A454-C81D-43F5-B928-5C2D9100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9AE10-68C8-4B1A-8427-B5C1FEA9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D57F-5392-40D2-88B0-99D6C7E4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7D2F5-1BE4-4066-90B1-5E511DC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C0E00-208A-4932-992F-54C56D55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0EB1C-0E22-4369-8622-9F5A8A8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8659-572D-40DC-AE2A-460A23ED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60B73-81F3-4A7E-BCB3-4552FB57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FE69-3851-4823-81EF-BEDC7ADB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96EE9-C25A-4F2C-84AB-745DB289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234-1EA1-4D38-A4D7-4B6BB91D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684AC-DE8E-4C7D-B6DB-93E0DF5E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B058F-26BA-48A4-BCC2-37B0058A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D9EB2-8248-439F-835F-4DAB0E92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2C8FF-5D0B-463B-9938-CBF7B53E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FCAF4-076C-4222-AD51-0810ABD4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4B16A-2008-422D-90C1-7A7A3F63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DC3DC-F6E6-40D0-BB7E-3C0B9652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C4F83-E5CA-4854-A16D-77196A0A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80139-49E5-455B-B72C-04A78DBA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25857-7E4C-4D52-A50B-CFAAEC3A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80C-F282-415F-B8D0-81D96812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80B11-852C-4891-8DB2-298895EE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70BB-6F66-4D81-8037-13D29987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9E9C9-48F8-4A1E-903A-EF05653A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12588-3A6D-4D6D-815A-DA950759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5500-CFC8-4853-8A86-34EE972C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FA190-E938-4CA5-BED9-6DB23B2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8783-369D-458A-89B8-C1803021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3A0C0-6636-4F7E-A42C-2F880FB7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D5790-517E-45CC-BDA6-49206D75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65D35-B79E-45D0-9EF3-D870138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01C-7DF6-4F0F-A4AE-8C543CD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EFF61-59AF-48FD-B627-59F1CE4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E072F-DB48-4CFD-A6CD-C7457794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1CF31-7943-47C5-86E4-3300CC98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0E1B2-C00B-4F6D-96DC-EB866D6A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BF77-85EF-4BFD-9302-EF9B3462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1D995-8C56-4BE7-8FF5-EAF3D230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FEED5-86FB-4EE7-97D6-596E8386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15C14-7C88-4E25-AA6B-6ED91D07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6A86B-258F-4199-B85E-0736EE16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B49EC-360A-4BE8-8F71-739671D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4EF-EAA6-4FB1-9A74-2279030F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B1CCE-1159-4B08-BF2F-C0A425C2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98C3D-A3A5-4FC9-A105-00DEDD7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B7EBA-B622-4CD3-BEA8-84DF5207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067F7-C3B3-48EC-AD26-22D9F928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7F75C-A942-4471-8524-36C59091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410CC-FACA-4E79-BB86-D67EC051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B41CD-98EB-45F2-B8B6-7DDD46AC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B6F38-00F8-46BF-A595-89A6FC48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7FA23-C339-47BD-A0EC-1F0465E7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43BC8-DBFF-4A68-B750-14B6D0B6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523-C08B-49C8-AEB5-70385139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32389-2EBF-4F5B-BCB5-6554EE7E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0D4A0-ED66-4865-B2ED-C47FC4D3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6D01C-72F2-4F67-9172-6658C2BC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1C892-6ABD-4F23-9414-34D57753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F079E-0085-4CA9-93A3-D354E3E1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EBB29-A242-4E80-8027-A1332749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9A5FE-909D-44AA-AA85-FB3BA7D8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6BAD0-630F-40A2-8128-8243C152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5EADA-2EF8-4312-87F7-32E28490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68B12-88D1-4AE9-83F0-8903C2EC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6CCE86-76AC-4DE7-A0E5-65037E5202A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2040" y="2592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2748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4360" y="-153360"/>
            <a:ext cx="2976120" cy="2837520"/>
            <a:chOff x="6894360" y="-153360"/>
            <a:chExt cx="2976120" cy="283752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4360" y="-153360"/>
              <a:ext cx="2976120" cy="2837520"/>
              <a:chOff x="6894360" y="-153360"/>
              <a:chExt cx="2976120" cy="283752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4360" y="-153360"/>
                <a:ext cx="2976120" cy="2837520"/>
                <a:chOff x="6894360" y="-153360"/>
                <a:chExt cx="2976120" cy="283752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8880" y="-24480"/>
                  <a:ext cx="34812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895880" y="643320"/>
                  <a:ext cx="611640" cy="790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03120" y="411840"/>
                  <a:ext cx="11480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20040" y="51480"/>
                  <a:ext cx="172440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72880" y="1854720"/>
                  <a:ext cx="3841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86840" y="1657080"/>
                  <a:ext cx="41148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801560" y="300960"/>
                  <a:ext cx="411480" cy="265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36040" y="143280"/>
                  <a:ext cx="40752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702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703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16"/>
            <p:cNvGrpSpPr/>
            <p:nvPr/>
          </p:nvGrpSpPr>
          <p:grpSpPr>
            <a:xfrm>
              <a:off x="6840" y="3642480"/>
              <a:ext cx="2190240" cy="2688480"/>
              <a:chOff x="6840" y="3642480"/>
              <a:chExt cx="2190240" cy="2688480"/>
            </a:xfrm>
          </p:grpSpPr>
          <p:sp>
            <p:nvSpPr>
              <p:cNvPr id="717" name="Rectangle 17"/>
              <p:cNvSpPr/>
              <p:nvPr/>
            </p:nvSpPr>
            <p:spPr>
              <a:xfrm rot="6780000">
                <a:off x="104760" y="61556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18"/>
              <p:cNvSpPr/>
              <p:nvPr/>
            </p:nvSpPr>
            <p:spPr>
              <a:xfrm rot="6780000">
                <a:off x="58320" y="6152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19"/>
              <p:cNvSpPr/>
              <p:nvPr/>
            </p:nvSpPr>
            <p:spPr>
              <a:xfrm rot="6780000">
                <a:off x="16200" y="61444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20"/>
              <p:cNvSpPr/>
              <p:nvPr/>
            </p:nvSpPr>
            <p:spPr>
              <a:xfrm rot="6000000">
                <a:off x="339120" y="61603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21"/>
              <p:cNvSpPr/>
              <p:nvPr/>
            </p:nvSpPr>
            <p:spPr>
              <a:xfrm rot="6000000">
                <a:off x="296280" y="61700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22"/>
              <p:cNvSpPr/>
              <p:nvPr/>
            </p:nvSpPr>
            <p:spPr>
              <a:xfrm rot="6240000">
                <a:off x="244080" y="61668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23"/>
              <p:cNvSpPr/>
              <p:nvPr/>
            </p:nvSpPr>
            <p:spPr>
              <a:xfrm rot="6240000">
                <a:off x="198000" y="61635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24"/>
              <p:cNvSpPr/>
              <p:nvPr/>
            </p:nvSpPr>
            <p:spPr>
              <a:xfrm rot="5400000">
                <a:off x="582480" y="61383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25"/>
              <p:cNvSpPr/>
              <p:nvPr/>
            </p:nvSpPr>
            <p:spPr>
              <a:xfrm rot="5400000">
                <a:off x="533160" y="61430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26"/>
              <p:cNvSpPr/>
              <p:nvPr/>
            </p:nvSpPr>
            <p:spPr>
              <a:xfrm rot="5580000">
                <a:off x="486000" y="61509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Rectangle 27"/>
              <p:cNvSpPr/>
              <p:nvPr/>
            </p:nvSpPr>
            <p:spPr>
              <a:xfrm rot="5760000">
                <a:off x="432360" y="61588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Rectangle 28"/>
              <p:cNvSpPr/>
              <p:nvPr/>
            </p:nvSpPr>
            <p:spPr>
              <a:xfrm rot="4740000">
                <a:off x="822600" y="6074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Rectangle 29"/>
              <p:cNvSpPr/>
              <p:nvPr/>
            </p:nvSpPr>
            <p:spPr>
              <a:xfrm rot="4920000">
                <a:off x="774000" y="6081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Rectangle 30"/>
              <p:cNvSpPr/>
              <p:nvPr/>
            </p:nvSpPr>
            <p:spPr>
              <a:xfrm rot="4920000">
                <a:off x="725040" y="61048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Rectangle 31"/>
              <p:cNvSpPr/>
              <p:nvPr/>
            </p:nvSpPr>
            <p:spPr>
              <a:xfrm rot="5040000">
                <a:off x="677160" y="6109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32"/>
              <p:cNvSpPr/>
              <p:nvPr/>
            </p:nvSpPr>
            <p:spPr>
              <a:xfrm rot="3840000">
                <a:off x="1053720" y="5968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Rectangle 33"/>
              <p:cNvSpPr/>
              <p:nvPr/>
            </p:nvSpPr>
            <p:spPr>
              <a:xfrm rot="3840000">
                <a:off x="1006200" y="59972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34"/>
              <p:cNvSpPr/>
              <p:nvPr/>
            </p:nvSpPr>
            <p:spPr>
              <a:xfrm rot="4080000">
                <a:off x="963360" y="6011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35"/>
              <p:cNvSpPr/>
              <p:nvPr/>
            </p:nvSpPr>
            <p:spPr>
              <a:xfrm rot="4320000">
                <a:off x="912960" y="6035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36"/>
              <p:cNvSpPr/>
              <p:nvPr/>
            </p:nvSpPr>
            <p:spPr>
              <a:xfrm rot="3360000">
                <a:off x="1267200" y="58435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37"/>
              <p:cNvSpPr/>
              <p:nvPr/>
            </p:nvSpPr>
            <p:spPr>
              <a:xfrm rot="3360000">
                <a:off x="1224360" y="5869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38"/>
              <p:cNvSpPr/>
              <p:nvPr/>
            </p:nvSpPr>
            <p:spPr>
              <a:xfrm rot="3360000">
                <a:off x="1181880" y="58975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39"/>
              <p:cNvSpPr/>
              <p:nvPr/>
            </p:nvSpPr>
            <p:spPr>
              <a:xfrm rot="3840000">
                <a:off x="1137240" y="5924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40"/>
              <p:cNvSpPr/>
              <p:nvPr/>
            </p:nvSpPr>
            <p:spPr>
              <a:xfrm rot="2280000">
                <a:off x="1465560" y="56876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41"/>
              <p:cNvSpPr/>
              <p:nvPr/>
            </p:nvSpPr>
            <p:spPr>
              <a:xfrm rot="2280000">
                <a:off x="1427760" y="5717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42"/>
              <p:cNvSpPr/>
              <p:nvPr/>
            </p:nvSpPr>
            <p:spPr>
              <a:xfrm rot="2700000">
                <a:off x="1389600" y="5753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43"/>
              <p:cNvSpPr/>
              <p:nvPr/>
            </p:nvSpPr>
            <p:spPr>
              <a:xfrm rot="2700000">
                <a:off x="1348200" y="5781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44"/>
              <p:cNvSpPr/>
              <p:nvPr/>
            </p:nvSpPr>
            <p:spPr>
              <a:xfrm rot="1500000">
                <a:off x="1631520" y="55087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45"/>
              <p:cNvSpPr/>
              <p:nvPr/>
            </p:nvSpPr>
            <p:spPr>
              <a:xfrm rot="1500000">
                <a:off x="1603440" y="5546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46"/>
              <p:cNvSpPr/>
              <p:nvPr/>
            </p:nvSpPr>
            <p:spPr>
              <a:xfrm rot="1800000">
                <a:off x="1569960" y="5581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Rectangle 47"/>
              <p:cNvSpPr/>
              <p:nvPr/>
            </p:nvSpPr>
            <p:spPr>
              <a:xfrm rot="1800000">
                <a:off x="153504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48"/>
              <p:cNvSpPr/>
              <p:nvPr/>
            </p:nvSpPr>
            <p:spPr>
              <a:xfrm rot="840000">
                <a:off x="1762920" y="53200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49"/>
              <p:cNvSpPr/>
              <p:nvPr/>
            </p:nvSpPr>
            <p:spPr>
              <a:xfrm rot="840000">
                <a:off x="1744200" y="53611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50"/>
              <p:cNvSpPr/>
              <p:nvPr/>
            </p:nvSpPr>
            <p:spPr>
              <a:xfrm rot="1320000">
                <a:off x="1725120" y="540216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Rectangle 51"/>
              <p:cNvSpPr/>
              <p:nvPr/>
            </p:nvSpPr>
            <p:spPr>
              <a:xfrm rot="1320000">
                <a:off x="1690560" y="5433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52"/>
              <p:cNvSpPr/>
              <p:nvPr/>
            </p:nvSpPr>
            <p:spPr>
              <a:xfrm rot="480000">
                <a:off x="1856160" y="51141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53"/>
              <p:cNvSpPr/>
              <p:nvPr/>
            </p:nvSpPr>
            <p:spPr>
              <a:xfrm rot="540000">
                <a:off x="1842120" y="51588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Rectangle 54"/>
              <p:cNvSpPr/>
              <p:nvPr/>
            </p:nvSpPr>
            <p:spPr>
              <a:xfrm rot="720000">
                <a:off x="1827720" y="5199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Rectangle 55"/>
              <p:cNvSpPr/>
              <p:nvPr/>
            </p:nvSpPr>
            <p:spPr>
              <a:xfrm rot="720000">
                <a:off x="1807200" y="523872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56"/>
              <p:cNvSpPr/>
              <p:nvPr/>
            </p:nvSpPr>
            <p:spPr>
              <a:xfrm rot="21300000">
                <a:off x="1917720" y="49194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57"/>
              <p:cNvSpPr/>
              <p:nvPr/>
            </p:nvSpPr>
            <p:spPr>
              <a:xfrm>
                <a:off x="1902600" y="4955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Rectangle 58"/>
              <p:cNvSpPr/>
              <p:nvPr/>
            </p:nvSpPr>
            <p:spPr>
              <a:xfrm>
                <a:off x="1901160" y="49953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Rectangle 59"/>
              <p:cNvSpPr/>
              <p:nvPr/>
            </p:nvSpPr>
            <p:spPr>
              <a:xfrm rot="240000">
                <a:off x="1883160" y="50320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60"/>
              <p:cNvSpPr/>
              <p:nvPr/>
            </p:nvSpPr>
            <p:spPr>
              <a:xfrm rot="20880000">
                <a:off x="1930680" y="470880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61"/>
              <p:cNvSpPr/>
              <p:nvPr/>
            </p:nvSpPr>
            <p:spPr>
              <a:xfrm rot="21120000">
                <a:off x="1932120" y="4748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Rectangle 62"/>
              <p:cNvSpPr/>
              <p:nvPr/>
            </p:nvSpPr>
            <p:spPr>
              <a:xfrm rot="21120000">
                <a:off x="1932120" y="47858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Rectangle 63"/>
              <p:cNvSpPr/>
              <p:nvPr/>
            </p:nvSpPr>
            <p:spPr>
              <a:xfrm rot="21300000">
                <a:off x="1928880" y="4830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64"/>
              <p:cNvSpPr/>
              <p:nvPr/>
            </p:nvSpPr>
            <p:spPr>
              <a:xfrm rot="20460000">
                <a:off x="1913400" y="4514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Rectangle 65"/>
              <p:cNvSpPr/>
              <p:nvPr/>
            </p:nvSpPr>
            <p:spPr>
              <a:xfrm rot="20640000">
                <a:off x="1920960" y="4547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Rectangle 66"/>
              <p:cNvSpPr/>
              <p:nvPr/>
            </p:nvSpPr>
            <p:spPr>
              <a:xfrm rot="20640000">
                <a:off x="1925640" y="4585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67"/>
              <p:cNvSpPr/>
              <p:nvPr/>
            </p:nvSpPr>
            <p:spPr>
              <a:xfrm rot="20760000">
                <a:off x="1930320" y="46306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Rectangle 68"/>
              <p:cNvSpPr/>
              <p:nvPr/>
            </p:nvSpPr>
            <p:spPr>
              <a:xfrm rot="20040000">
                <a:off x="1850400" y="43297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Rectangle 69"/>
              <p:cNvSpPr/>
              <p:nvPr/>
            </p:nvSpPr>
            <p:spPr>
              <a:xfrm rot="20220000">
                <a:off x="1864440" y="43714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Rectangle 70"/>
              <p:cNvSpPr/>
              <p:nvPr/>
            </p:nvSpPr>
            <p:spPr>
              <a:xfrm rot="20220000">
                <a:off x="1877400" y="44078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Rectangle 71"/>
              <p:cNvSpPr/>
              <p:nvPr/>
            </p:nvSpPr>
            <p:spPr>
              <a:xfrm rot="20220000">
                <a:off x="1893240" y="44395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Rectangle 72"/>
              <p:cNvSpPr/>
              <p:nvPr/>
            </p:nvSpPr>
            <p:spPr>
              <a:xfrm rot="19680000">
                <a:off x="1744200" y="4178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Rectangle 73"/>
              <p:cNvSpPr/>
              <p:nvPr/>
            </p:nvSpPr>
            <p:spPr>
              <a:xfrm rot="19740000">
                <a:off x="1766160" y="42019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74"/>
              <p:cNvSpPr/>
              <p:nvPr/>
            </p:nvSpPr>
            <p:spPr>
              <a:xfrm rot="19860000">
                <a:off x="1789920" y="42397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75"/>
              <p:cNvSpPr/>
              <p:nvPr/>
            </p:nvSpPr>
            <p:spPr>
              <a:xfrm rot="19860000">
                <a:off x="1810440" y="4267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Rectangle 76"/>
              <p:cNvSpPr/>
              <p:nvPr/>
            </p:nvSpPr>
            <p:spPr>
              <a:xfrm rot="19140000">
                <a:off x="1611360" y="40338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Rectangle 77"/>
              <p:cNvSpPr/>
              <p:nvPr/>
            </p:nvSpPr>
            <p:spPr>
              <a:xfrm rot="19140000">
                <a:off x="1644120" y="40636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78"/>
              <p:cNvSpPr/>
              <p:nvPr/>
            </p:nvSpPr>
            <p:spPr>
              <a:xfrm rot="19140000">
                <a:off x="1667880" y="408924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79"/>
              <p:cNvSpPr/>
              <p:nvPr/>
            </p:nvSpPr>
            <p:spPr>
              <a:xfrm rot="19260000">
                <a:off x="1697040" y="41130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80"/>
              <p:cNvSpPr/>
              <p:nvPr/>
            </p:nvSpPr>
            <p:spPr>
              <a:xfrm>
                <a:off x="771480" y="407052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81"/>
              <p:cNvSpPr/>
              <p:nvPr/>
            </p:nvSpPr>
            <p:spPr>
              <a:xfrm rot="6600000">
                <a:off x="-341280" y="4975920"/>
                <a:ext cx="19414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82"/>
              <p:cNvSpPr/>
              <p:nvPr/>
            </p:nvSpPr>
            <p:spPr>
              <a:xfrm rot="240000">
                <a:off x="11880" y="4988880"/>
                <a:ext cx="1630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83"/>
              <p:cNvSpPr/>
              <p:nvPr/>
            </p:nvSpPr>
            <p:spPr>
              <a:xfrm rot="18660000">
                <a:off x="1438200" y="393156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84"/>
              <p:cNvSpPr/>
              <p:nvPr/>
            </p:nvSpPr>
            <p:spPr>
              <a:xfrm rot="18660000">
                <a:off x="1474560" y="39520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85"/>
              <p:cNvSpPr/>
              <p:nvPr/>
            </p:nvSpPr>
            <p:spPr>
              <a:xfrm rot="18660000">
                <a:off x="1511280" y="3966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86"/>
              <p:cNvSpPr/>
              <p:nvPr/>
            </p:nvSpPr>
            <p:spPr>
              <a:xfrm rot="18900000">
                <a:off x="154332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87"/>
              <p:cNvSpPr/>
              <p:nvPr/>
            </p:nvSpPr>
            <p:spPr>
              <a:xfrm rot="17940000">
                <a:off x="1251000" y="3857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88"/>
              <p:cNvSpPr/>
              <p:nvPr/>
            </p:nvSpPr>
            <p:spPr>
              <a:xfrm rot="17940000">
                <a:off x="1293480" y="3870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89"/>
              <p:cNvSpPr/>
              <p:nvPr/>
            </p:nvSpPr>
            <p:spPr>
              <a:xfrm rot="18060000">
                <a:off x="1326960" y="388080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90"/>
              <p:cNvSpPr/>
              <p:nvPr/>
            </p:nvSpPr>
            <p:spPr>
              <a:xfrm rot="18360000">
                <a:off x="1366920" y="3903480"/>
                <a:ext cx="1281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91"/>
              <p:cNvSpPr/>
              <p:nvPr/>
            </p:nvSpPr>
            <p:spPr>
              <a:xfrm rot="17280000">
                <a:off x="1032840" y="3810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92"/>
              <p:cNvSpPr/>
              <p:nvPr/>
            </p:nvSpPr>
            <p:spPr>
              <a:xfrm rot="17340000">
                <a:off x="1074240" y="38206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93"/>
              <p:cNvSpPr/>
              <p:nvPr/>
            </p:nvSpPr>
            <p:spPr>
              <a:xfrm rot="17340000">
                <a:off x="1121760" y="3828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94"/>
              <p:cNvSpPr/>
              <p:nvPr/>
            </p:nvSpPr>
            <p:spPr>
              <a:xfrm rot="17580000">
                <a:off x="1169280" y="3837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95"/>
              <p:cNvSpPr/>
              <p:nvPr/>
            </p:nvSpPr>
            <p:spPr>
              <a:xfrm rot="16740000">
                <a:off x="803880" y="3811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96"/>
              <p:cNvSpPr/>
              <p:nvPr/>
            </p:nvSpPr>
            <p:spPr>
              <a:xfrm rot="16920000">
                <a:off x="846000" y="3810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97"/>
              <p:cNvSpPr/>
              <p:nvPr/>
            </p:nvSpPr>
            <p:spPr>
              <a:xfrm rot="16920000">
                <a:off x="894240" y="3804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98"/>
              <p:cNvSpPr/>
              <p:nvPr/>
            </p:nvSpPr>
            <p:spPr>
              <a:xfrm rot="17040000">
                <a:off x="942840" y="3801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99"/>
              <p:cNvSpPr/>
              <p:nvPr/>
            </p:nvSpPr>
            <p:spPr>
              <a:xfrm rot="16380000">
                <a:off x="566640" y="3839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100"/>
              <p:cNvSpPr/>
              <p:nvPr/>
            </p:nvSpPr>
            <p:spPr>
              <a:xfrm rot="16260000">
                <a:off x="614160" y="3835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101"/>
              <p:cNvSpPr/>
              <p:nvPr/>
            </p:nvSpPr>
            <p:spPr>
              <a:xfrm rot="16320000">
                <a:off x="669240" y="38286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102"/>
              <p:cNvSpPr/>
              <p:nvPr/>
            </p:nvSpPr>
            <p:spPr>
              <a:xfrm rot="16440000">
                <a:off x="715680" y="3819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103"/>
              <p:cNvSpPr/>
              <p:nvPr/>
            </p:nvSpPr>
            <p:spPr>
              <a:xfrm rot="15480000">
                <a:off x="330840" y="39092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104"/>
              <p:cNvSpPr/>
              <p:nvPr/>
            </p:nvSpPr>
            <p:spPr>
              <a:xfrm rot="15360000">
                <a:off x="383040" y="3893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05"/>
              <p:cNvSpPr/>
              <p:nvPr/>
            </p:nvSpPr>
            <p:spPr>
              <a:xfrm rot="15480000">
                <a:off x="427320" y="38757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06"/>
              <p:cNvSpPr/>
              <p:nvPr/>
            </p:nvSpPr>
            <p:spPr>
              <a:xfrm rot="15660000">
                <a:off x="466920" y="38599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107"/>
              <p:cNvSpPr/>
              <p:nvPr/>
            </p:nvSpPr>
            <p:spPr>
              <a:xfrm rot="14220000">
                <a:off x="15840" y="4051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108"/>
              <p:cNvSpPr/>
              <p:nvPr/>
            </p:nvSpPr>
            <p:spPr>
              <a:xfrm rot="14400000">
                <a:off x="105840" y="4006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109"/>
              <p:cNvSpPr/>
              <p:nvPr/>
            </p:nvSpPr>
            <p:spPr>
              <a:xfrm rot="14760000">
                <a:off x="150480" y="39823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110"/>
              <p:cNvSpPr/>
              <p:nvPr/>
            </p:nvSpPr>
            <p:spPr>
              <a:xfrm rot="14760000">
                <a:off x="192960" y="3966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111"/>
              <p:cNvSpPr/>
              <p:nvPr/>
            </p:nvSpPr>
            <p:spPr>
              <a:xfrm rot="15120000">
                <a:off x="245520" y="3939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112"/>
              <p:cNvSpPr/>
              <p:nvPr/>
            </p:nvSpPr>
            <p:spPr>
              <a:xfrm rot="19740000">
                <a:off x="2880" y="5340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113"/>
              <p:cNvSpPr/>
              <p:nvPr/>
            </p:nvSpPr>
            <p:spPr>
              <a:xfrm rot="3300000">
                <a:off x="810360" y="5516280"/>
                <a:ext cx="383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114"/>
              <p:cNvSpPr/>
              <p:nvPr/>
            </p:nvSpPr>
            <p:spPr>
              <a:xfrm rot="3300000">
                <a:off x="57600" y="4439520"/>
                <a:ext cx="383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115"/>
              <p:cNvSpPr/>
              <p:nvPr/>
            </p:nvSpPr>
            <p:spPr>
              <a:xfrm rot="19740000">
                <a:off x="1111320" y="4530960"/>
                <a:ext cx="5011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116"/>
              <p:cNvSpPr/>
              <p:nvPr/>
            </p:nvSpPr>
            <p:spPr>
              <a:xfrm rot="5880000">
                <a:off x="318960" y="62118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117"/>
              <p:cNvSpPr/>
              <p:nvPr/>
            </p:nvSpPr>
            <p:spPr>
              <a:xfrm rot="6660000">
                <a:off x="75600" y="62103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118"/>
              <p:cNvSpPr/>
              <p:nvPr/>
            </p:nvSpPr>
            <p:spPr>
              <a:xfrm rot="5220000">
                <a:off x="573480" y="617688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119"/>
              <p:cNvSpPr/>
              <p:nvPr/>
            </p:nvSpPr>
            <p:spPr>
              <a:xfrm rot="4500000">
                <a:off x="828000" y="61041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120"/>
              <p:cNvSpPr/>
              <p:nvPr/>
            </p:nvSpPr>
            <p:spPr>
              <a:xfrm rot="3780000">
                <a:off x="1063440" y="599328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121"/>
              <p:cNvSpPr/>
              <p:nvPr/>
            </p:nvSpPr>
            <p:spPr>
              <a:xfrm rot="3060000">
                <a:off x="1288800" y="585216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122"/>
              <p:cNvSpPr/>
              <p:nvPr/>
            </p:nvSpPr>
            <p:spPr>
              <a:xfrm rot="2100000">
                <a:off x="1486080" y="56797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123"/>
              <p:cNvSpPr/>
              <p:nvPr/>
            </p:nvSpPr>
            <p:spPr>
              <a:xfrm rot="14400000">
                <a:off x="-22320" y="397980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124"/>
              <p:cNvSpPr/>
              <p:nvPr/>
            </p:nvSpPr>
            <p:spPr>
              <a:xfrm rot="15180000">
                <a:off x="217800" y="38696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125"/>
              <p:cNvSpPr/>
              <p:nvPr/>
            </p:nvSpPr>
            <p:spPr>
              <a:xfrm rot="16620000">
                <a:off x="712800" y="375948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126"/>
              <p:cNvSpPr/>
              <p:nvPr/>
            </p:nvSpPr>
            <p:spPr>
              <a:xfrm rot="17280000">
                <a:off x="94860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127"/>
              <p:cNvSpPr/>
              <p:nvPr/>
            </p:nvSpPr>
            <p:spPr>
              <a:xfrm rot="17940000">
                <a:off x="1172160" y="3797280"/>
                <a:ext cx="245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128"/>
              <p:cNvSpPr/>
              <p:nvPr/>
            </p:nvSpPr>
            <p:spPr>
              <a:xfrm rot="18420000">
                <a:off x="1377720" y="386676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129"/>
              <p:cNvSpPr/>
              <p:nvPr/>
            </p:nvSpPr>
            <p:spPr>
              <a:xfrm rot="18960000">
                <a:off x="1560960" y="397044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130"/>
              <p:cNvSpPr/>
              <p:nvPr/>
            </p:nvSpPr>
            <p:spPr>
              <a:xfrm rot="19380000">
                <a:off x="1706400" y="4110120"/>
                <a:ext cx="273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131"/>
              <p:cNvSpPr/>
              <p:nvPr/>
            </p:nvSpPr>
            <p:spPr>
              <a:xfrm rot="19860000">
                <a:off x="1820160" y="4273560"/>
                <a:ext cx="2638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132"/>
              <p:cNvSpPr/>
              <p:nvPr/>
            </p:nvSpPr>
            <p:spPr>
              <a:xfrm rot="20400000">
                <a:off x="1902240" y="44564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133"/>
              <p:cNvSpPr/>
              <p:nvPr/>
            </p:nvSpPr>
            <p:spPr>
              <a:xfrm rot="20820000">
                <a:off x="1933920" y="46544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134"/>
              <p:cNvSpPr/>
              <p:nvPr/>
            </p:nvSpPr>
            <p:spPr>
              <a:xfrm rot="21300000">
                <a:off x="1920960" y="486864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135"/>
              <p:cNvSpPr/>
              <p:nvPr/>
            </p:nvSpPr>
            <p:spPr>
              <a:xfrm rot="720000">
                <a:off x="1788840" y="529452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136"/>
              <p:cNvSpPr/>
              <p:nvPr/>
            </p:nvSpPr>
            <p:spPr>
              <a:xfrm rot="1500000">
                <a:off x="1649520" y="549936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137"/>
              <p:cNvSpPr/>
              <p:nvPr/>
            </p:nvSpPr>
            <p:spPr>
              <a:xfrm>
                <a:off x="1347120" y="497808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138"/>
              <p:cNvSpPr/>
              <p:nvPr/>
            </p:nvSpPr>
            <p:spPr>
              <a:xfrm>
                <a:off x="33120" y="4322160"/>
                <a:ext cx="142200" cy="123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139"/>
              <p:cNvSpPr/>
              <p:nvPr/>
            </p:nvSpPr>
            <p:spPr>
              <a:xfrm>
                <a:off x="156600" y="4209840"/>
                <a:ext cx="159480" cy="141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140"/>
              <p:cNvSpPr/>
              <p:nvPr/>
            </p:nvSpPr>
            <p:spPr>
              <a:xfrm>
                <a:off x="1073520" y="5557680"/>
                <a:ext cx="131040" cy="123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141"/>
              <p:cNvSpPr/>
              <p:nvPr/>
            </p:nvSpPr>
            <p:spPr>
              <a:xfrm>
                <a:off x="1489680" y="441756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142"/>
              <p:cNvSpPr/>
              <p:nvPr/>
            </p:nvSpPr>
            <p:spPr>
              <a:xfrm>
                <a:off x="1423440" y="4312800"/>
                <a:ext cx="142200" cy="132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143"/>
              <p:cNvSpPr/>
              <p:nvPr/>
            </p:nvSpPr>
            <p:spPr>
              <a:xfrm>
                <a:off x="14040" y="608832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144"/>
              <p:cNvSpPr/>
              <p:nvPr/>
            </p:nvSpPr>
            <p:spPr>
              <a:xfrm>
                <a:off x="14040" y="405792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145"/>
              <p:cNvSpPr/>
              <p:nvPr/>
            </p:nvSpPr>
            <p:spPr>
              <a:xfrm>
                <a:off x="14040" y="60980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146"/>
              <p:cNvSpPr/>
              <p:nvPr/>
            </p:nvSpPr>
            <p:spPr>
              <a:xfrm rot="240000">
                <a:off x="1869120" y="507564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147"/>
              <p:cNvSpPr/>
              <p:nvPr/>
            </p:nvSpPr>
            <p:spPr>
              <a:xfrm rot="16020000">
                <a:off x="46656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148"/>
              <p:cNvSpPr/>
              <p:nvPr/>
            </p:nvSpPr>
            <p:spPr>
              <a:xfrm>
                <a:off x="222840" y="567036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149"/>
              <p:cNvSpPr/>
              <p:nvPr/>
            </p:nvSpPr>
            <p:spPr>
              <a:xfrm rot="18720000">
                <a:off x="980640" y="563436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150"/>
              <p:cNvSpPr/>
              <p:nvPr/>
            </p:nvSpPr>
            <p:spPr>
              <a:xfrm>
                <a:off x="374760" y="3975480"/>
                <a:ext cx="550440" cy="201456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Oval 151"/>
              <p:cNvSpPr/>
              <p:nvPr/>
            </p:nvSpPr>
            <p:spPr>
              <a:xfrm rot="19920000">
                <a:off x="467640" y="4840200"/>
                <a:ext cx="349560" cy="2757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09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2813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962D8A-876C-453A-9A70-F8CFD3A4700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1280"/>
            <a:ext cx="639612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5A771D-3FAD-480F-A6F6-CC751B47284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93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97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7713360" y="4232520"/>
            <a:ext cx="1167120" cy="1327680"/>
            <a:chOff x="7713360" y="4232520"/>
            <a:chExt cx="1167120" cy="1327680"/>
          </a:xfrm>
        </p:grpSpPr>
        <p:sp>
          <p:nvSpPr>
            <p:cNvPr id="103" name="Freeform 17"/>
            <p:cNvSpPr/>
            <p:nvPr/>
          </p:nvSpPr>
          <p:spPr>
            <a:xfrm rot="7320000">
              <a:off x="7797600" y="465588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 rot="7320000">
              <a:off x="7772400" y="463788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 rot="7320000">
              <a:off x="7941240" y="4628520"/>
              <a:ext cx="660240" cy="4204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7713360" y="4232520"/>
              <a:ext cx="1167120" cy="1327680"/>
              <a:chOff x="7713360" y="4232520"/>
              <a:chExt cx="1167120" cy="1327680"/>
            </a:xfrm>
          </p:grpSpPr>
          <p:sp>
            <p:nvSpPr>
              <p:cNvPr id="107" name="Freeform 21"/>
              <p:cNvSpPr/>
              <p:nvPr/>
            </p:nvSpPr>
            <p:spPr>
              <a:xfrm rot="7320000">
                <a:off x="7816680" y="5071680"/>
                <a:ext cx="102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7320000">
                <a:off x="7718040" y="4569480"/>
                <a:ext cx="1157040" cy="65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 rot="7320000">
                <a:off x="8041680" y="4708080"/>
                <a:ext cx="818640" cy="37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rot="7320000">
                <a:off x="8602920" y="4511880"/>
                <a:ext cx="109080" cy="24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7320000">
                <a:off x="8148960" y="4722840"/>
                <a:ext cx="33480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116208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657600" y="624312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508E32-DC71-4860-9EF7-92E21F5BE04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19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20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5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203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7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67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5C207E-7528-4122-9289-44EC6DCDF45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280AEC-F136-44C2-B9B3-DC184F5A33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252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5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301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304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0A8E04-D5BB-4A63-BD64-933235C3FA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355" name="Freeform 2"/>
            <p:cNvSpPr/>
            <p:nvPr/>
          </p:nvSpPr>
          <p:spPr>
            <a:xfrm>
              <a:off x="8007120" y="4167720"/>
              <a:ext cx="1141200" cy="268200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3"/>
            <p:cNvSpPr/>
            <p:nvPr/>
          </p:nvSpPr>
          <p:spPr>
            <a:xfrm>
              <a:off x="8548560" y="6021360"/>
              <a:ext cx="599760" cy="82836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"/>
            <p:cNvSpPr/>
            <p:nvPr/>
          </p:nvSpPr>
          <p:spPr>
            <a:xfrm>
              <a:off x="9015120" y="6688440"/>
              <a:ext cx="133200" cy="16128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5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359" name="Freeform 6"/>
              <p:cNvSpPr/>
              <p:nvPr/>
            </p:nvSpPr>
            <p:spPr>
              <a:xfrm>
                <a:off x="4425480" y="0"/>
                <a:ext cx="1137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7"/>
              <p:cNvSpPr/>
              <p:nvPr/>
            </p:nvSpPr>
            <p:spPr>
              <a:xfrm>
                <a:off x="4901400" y="0"/>
                <a:ext cx="2757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8"/>
              <p:cNvSpPr/>
              <p:nvPr/>
            </p:nvSpPr>
            <p:spPr>
              <a:xfrm>
                <a:off x="5328000" y="0"/>
                <a:ext cx="5346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"/>
              <p:cNvSpPr/>
              <p:nvPr/>
            </p:nvSpPr>
            <p:spPr>
              <a:xfrm>
                <a:off x="5832720" y="0"/>
                <a:ext cx="6775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0"/>
              <p:cNvSpPr/>
              <p:nvPr/>
            </p:nvSpPr>
            <p:spPr>
              <a:xfrm>
                <a:off x="6261120" y="0"/>
                <a:ext cx="8848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1"/>
              <p:cNvSpPr/>
              <p:nvPr/>
            </p:nvSpPr>
            <p:spPr>
              <a:xfrm>
                <a:off x="6737400" y="0"/>
                <a:ext cx="10944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2"/>
              <p:cNvSpPr/>
              <p:nvPr/>
            </p:nvSpPr>
            <p:spPr>
              <a:xfrm>
                <a:off x="7175160" y="0"/>
                <a:ext cx="13708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3"/>
              <p:cNvSpPr/>
              <p:nvPr/>
            </p:nvSpPr>
            <p:spPr>
              <a:xfrm>
                <a:off x="3806280" y="0"/>
                <a:ext cx="2376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4"/>
              <p:cNvSpPr/>
              <p:nvPr/>
            </p:nvSpPr>
            <p:spPr>
              <a:xfrm>
                <a:off x="3120840" y="0"/>
                <a:ext cx="4759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5"/>
              <p:cNvSpPr/>
              <p:nvPr/>
            </p:nvSpPr>
            <p:spPr>
              <a:xfrm>
                <a:off x="2484720" y="0"/>
                <a:ext cx="6742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6"/>
              <p:cNvSpPr/>
              <p:nvPr/>
            </p:nvSpPr>
            <p:spPr>
              <a:xfrm>
                <a:off x="1789560" y="0"/>
                <a:ext cx="91224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7"/>
              <p:cNvSpPr/>
              <p:nvPr/>
            </p:nvSpPr>
            <p:spPr>
              <a:xfrm>
                <a:off x="1113840" y="0"/>
                <a:ext cx="11692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8"/>
              <p:cNvSpPr/>
              <p:nvPr/>
            </p:nvSpPr>
            <p:spPr>
              <a:xfrm>
                <a:off x="456840" y="0"/>
                <a:ext cx="13327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" name="Freeform 19"/>
            <p:cNvSpPr/>
            <p:nvPr/>
          </p:nvSpPr>
          <p:spPr>
            <a:xfrm>
              <a:off x="9000" y="4604400"/>
              <a:ext cx="961920" cy="224532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9000" y="6174000"/>
              <a:ext cx="361800" cy="67572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1"/>
            <p:cNvSpPr/>
            <p:nvPr/>
          </p:nvSpPr>
          <p:spPr>
            <a:xfrm>
              <a:off x="7580160" y="0"/>
              <a:ext cx="1561680" cy="2834640"/>
            </a:xfrm>
            <a:prstGeom prst="pie">
              <a:avLst/>
            </a:pr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22"/>
            <p:cNvSpPr/>
            <p:nvPr/>
          </p:nvSpPr>
          <p:spPr>
            <a:xfrm>
              <a:off x="8000640" y="0"/>
              <a:ext cx="1141200" cy="13410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3"/>
            <p:cNvSpPr/>
            <p:nvPr/>
          </p:nvSpPr>
          <p:spPr>
            <a:xfrm>
              <a:off x="8494560" y="0"/>
              <a:ext cx="647280" cy="6570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4"/>
            <p:cNvSpPr/>
            <p:nvPr/>
          </p:nvSpPr>
          <p:spPr>
            <a:xfrm>
              <a:off x="9000" y="0"/>
              <a:ext cx="1361880" cy="2235960"/>
            </a:xfrm>
            <a:prstGeom prst="pie">
              <a:avLst/>
            </a:pr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5"/>
            <p:cNvSpPr/>
            <p:nvPr/>
          </p:nvSpPr>
          <p:spPr>
            <a:xfrm>
              <a:off x="9000" y="0"/>
              <a:ext cx="933120" cy="9504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6"/>
            <p:cNvSpPr/>
            <p:nvPr/>
          </p:nvSpPr>
          <p:spPr>
            <a:xfrm>
              <a:off x="9000" y="0"/>
              <a:ext cx="428400" cy="3996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7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8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9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30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384" name="Line 31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32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33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34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35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9" name="Line 36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7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9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537178-6F2F-4788-995B-85B8C2C1EAD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1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433" name="Freeform 2"/>
            <p:cNvSpPr/>
            <p:nvPr/>
          </p:nvSpPr>
          <p:spPr>
            <a:xfrm>
              <a:off x="8006040" y="4167720"/>
              <a:ext cx="1140840" cy="268200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3"/>
            <p:cNvSpPr/>
            <p:nvPr/>
          </p:nvSpPr>
          <p:spPr>
            <a:xfrm>
              <a:off x="8547120" y="6021360"/>
              <a:ext cx="599760" cy="82836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9014040" y="6688440"/>
              <a:ext cx="132840" cy="16128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5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437" name="Freeform 6"/>
              <p:cNvSpPr/>
              <p:nvPr/>
            </p:nvSpPr>
            <p:spPr>
              <a:xfrm>
                <a:off x="4424040" y="0"/>
                <a:ext cx="1141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7"/>
              <p:cNvSpPr/>
              <p:nvPr/>
            </p:nvSpPr>
            <p:spPr>
              <a:xfrm>
                <a:off x="4899960" y="0"/>
                <a:ext cx="2761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8"/>
              <p:cNvSpPr/>
              <p:nvPr/>
            </p:nvSpPr>
            <p:spPr>
              <a:xfrm>
                <a:off x="5326920" y="0"/>
                <a:ext cx="5349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9"/>
              <p:cNvSpPr/>
              <p:nvPr/>
            </p:nvSpPr>
            <p:spPr>
              <a:xfrm>
                <a:off x="5831640" y="0"/>
                <a:ext cx="6775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0"/>
              <p:cNvSpPr/>
              <p:nvPr/>
            </p:nvSpPr>
            <p:spPr>
              <a:xfrm>
                <a:off x="6260040" y="0"/>
                <a:ext cx="8856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6735960" y="0"/>
                <a:ext cx="10947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7174080" y="0"/>
                <a:ext cx="13708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3"/>
              <p:cNvSpPr/>
              <p:nvPr/>
            </p:nvSpPr>
            <p:spPr>
              <a:xfrm>
                <a:off x="3805200" y="0"/>
                <a:ext cx="2376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4"/>
              <p:cNvSpPr/>
              <p:nvPr/>
            </p:nvSpPr>
            <p:spPr>
              <a:xfrm>
                <a:off x="3119760" y="0"/>
                <a:ext cx="4755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5"/>
              <p:cNvSpPr/>
              <p:nvPr/>
            </p:nvSpPr>
            <p:spPr>
              <a:xfrm>
                <a:off x="2482920" y="0"/>
                <a:ext cx="6742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6"/>
              <p:cNvSpPr/>
              <p:nvPr/>
            </p:nvSpPr>
            <p:spPr>
              <a:xfrm>
                <a:off x="1788120" y="0"/>
                <a:ext cx="91224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7"/>
              <p:cNvSpPr/>
              <p:nvPr/>
            </p:nvSpPr>
            <p:spPr>
              <a:xfrm>
                <a:off x="1112040" y="0"/>
                <a:ext cx="11692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8"/>
              <p:cNvSpPr/>
              <p:nvPr/>
            </p:nvSpPr>
            <p:spPr>
              <a:xfrm>
                <a:off x="455400" y="0"/>
                <a:ext cx="13327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Freeform 19"/>
            <p:cNvSpPr/>
            <p:nvPr/>
          </p:nvSpPr>
          <p:spPr>
            <a:xfrm>
              <a:off x="7560" y="4604400"/>
              <a:ext cx="961560" cy="224532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20"/>
            <p:cNvSpPr/>
            <p:nvPr/>
          </p:nvSpPr>
          <p:spPr>
            <a:xfrm>
              <a:off x="7560" y="6174000"/>
              <a:ext cx="361440" cy="67572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21"/>
            <p:cNvSpPr/>
            <p:nvPr/>
          </p:nvSpPr>
          <p:spPr>
            <a:xfrm>
              <a:off x="7578720" y="0"/>
              <a:ext cx="1562040" cy="2834640"/>
            </a:xfrm>
            <a:prstGeom prst="pie">
              <a:avLst/>
            </a:pr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22"/>
            <p:cNvSpPr/>
            <p:nvPr/>
          </p:nvSpPr>
          <p:spPr>
            <a:xfrm>
              <a:off x="7999560" y="0"/>
              <a:ext cx="1141200" cy="13410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23"/>
            <p:cNvSpPr/>
            <p:nvPr/>
          </p:nvSpPr>
          <p:spPr>
            <a:xfrm>
              <a:off x="8493120" y="0"/>
              <a:ext cx="647640" cy="6570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4"/>
            <p:cNvSpPr/>
            <p:nvPr/>
          </p:nvSpPr>
          <p:spPr>
            <a:xfrm>
              <a:off x="7560" y="0"/>
              <a:ext cx="1361880" cy="2235960"/>
            </a:xfrm>
            <a:prstGeom prst="pie">
              <a:avLst/>
            </a:pr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25"/>
            <p:cNvSpPr/>
            <p:nvPr/>
          </p:nvSpPr>
          <p:spPr>
            <a:xfrm>
              <a:off x="7560" y="0"/>
              <a:ext cx="933120" cy="9504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26"/>
            <p:cNvSpPr/>
            <p:nvPr/>
          </p:nvSpPr>
          <p:spPr>
            <a:xfrm>
              <a:off x="7560" y="0"/>
              <a:ext cx="428400" cy="3996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7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8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29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Group 30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462" name="Line 31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Line 32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33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34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35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Line 36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7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22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1F1796-6889-4A91-8272-09FEA8562D7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510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511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6"/>
            <p:cNvGrpSpPr/>
            <p:nvPr/>
          </p:nvGrpSpPr>
          <p:grpSpPr>
            <a:xfrm>
              <a:off x="6840" y="3642480"/>
              <a:ext cx="2190240" cy="2688480"/>
              <a:chOff x="6840" y="3642480"/>
              <a:chExt cx="2190240" cy="2688480"/>
            </a:xfrm>
          </p:grpSpPr>
          <p:sp>
            <p:nvSpPr>
              <p:cNvPr id="525" name="Rectangle 17"/>
              <p:cNvSpPr/>
              <p:nvPr/>
            </p:nvSpPr>
            <p:spPr>
              <a:xfrm rot="6780000">
                <a:off x="104760" y="61556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18"/>
              <p:cNvSpPr/>
              <p:nvPr/>
            </p:nvSpPr>
            <p:spPr>
              <a:xfrm rot="6780000">
                <a:off x="58320" y="6152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19"/>
              <p:cNvSpPr/>
              <p:nvPr/>
            </p:nvSpPr>
            <p:spPr>
              <a:xfrm rot="6780000">
                <a:off x="16200" y="61444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20"/>
              <p:cNvSpPr/>
              <p:nvPr/>
            </p:nvSpPr>
            <p:spPr>
              <a:xfrm rot="6000000">
                <a:off x="339120" y="61603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21"/>
              <p:cNvSpPr/>
              <p:nvPr/>
            </p:nvSpPr>
            <p:spPr>
              <a:xfrm rot="6000000">
                <a:off x="296280" y="61700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22"/>
              <p:cNvSpPr/>
              <p:nvPr/>
            </p:nvSpPr>
            <p:spPr>
              <a:xfrm rot="6240000">
                <a:off x="244080" y="61668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23"/>
              <p:cNvSpPr/>
              <p:nvPr/>
            </p:nvSpPr>
            <p:spPr>
              <a:xfrm rot="6240000">
                <a:off x="198000" y="61635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24"/>
              <p:cNvSpPr/>
              <p:nvPr/>
            </p:nvSpPr>
            <p:spPr>
              <a:xfrm rot="5400000">
                <a:off x="582480" y="61383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25"/>
              <p:cNvSpPr/>
              <p:nvPr/>
            </p:nvSpPr>
            <p:spPr>
              <a:xfrm rot="5400000">
                <a:off x="533160" y="61430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26"/>
              <p:cNvSpPr/>
              <p:nvPr/>
            </p:nvSpPr>
            <p:spPr>
              <a:xfrm rot="5580000">
                <a:off x="486000" y="61509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27"/>
              <p:cNvSpPr/>
              <p:nvPr/>
            </p:nvSpPr>
            <p:spPr>
              <a:xfrm rot="5760000">
                <a:off x="432360" y="61588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28"/>
              <p:cNvSpPr/>
              <p:nvPr/>
            </p:nvSpPr>
            <p:spPr>
              <a:xfrm rot="4740000">
                <a:off x="822600" y="6074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29"/>
              <p:cNvSpPr/>
              <p:nvPr/>
            </p:nvSpPr>
            <p:spPr>
              <a:xfrm rot="4920000">
                <a:off x="774000" y="6081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30"/>
              <p:cNvSpPr/>
              <p:nvPr/>
            </p:nvSpPr>
            <p:spPr>
              <a:xfrm rot="4920000">
                <a:off x="725040" y="61048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31"/>
              <p:cNvSpPr/>
              <p:nvPr/>
            </p:nvSpPr>
            <p:spPr>
              <a:xfrm rot="5040000">
                <a:off x="677160" y="6109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32"/>
              <p:cNvSpPr/>
              <p:nvPr/>
            </p:nvSpPr>
            <p:spPr>
              <a:xfrm rot="3840000">
                <a:off x="1053720" y="5968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33"/>
              <p:cNvSpPr/>
              <p:nvPr/>
            </p:nvSpPr>
            <p:spPr>
              <a:xfrm rot="3840000">
                <a:off x="1006200" y="59972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34"/>
              <p:cNvSpPr/>
              <p:nvPr/>
            </p:nvSpPr>
            <p:spPr>
              <a:xfrm rot="4080000">
                <a:off x="963360" y="6011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35"/>
              <p:cNvSpPr/>
              <p:nvPr/>
            </p:nvSpPr>
            <p:spPr>
              <a:xfrm rot="4320000">
                <a:off x="912960" y="6035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36"/>
              <p:cNvSpPr/>
              <p:nvPr/>
            </p:nvSpPr>
            <p:spPr>
              <a:xfrm rot="3360000">
                <a:off x="1267200" y="58435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37"/>
              <p:cNvSpPr/>
              <p:nvPr/>
            </p:nvSpPr>
            <p:spPr>
              <a:xfrm rot="3360000">
                <a:off x="1224360" y="5869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38"/>
              <p:cNvSpPr/>
              <p:nvPr/>
            </p:nvSpPr>
            <p:spPr>
              <a:xfrm rot="3360000">
                <a:off x="1181880" y="58975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39"/>
              <p:cNvSpPr/>
              <p:nvPr/>
            </p:nvSpPr>
            <p:spPr>
              <a:xfrm rot="3840000">
                <a:off x="1137240" y="5924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40"/>
              <p:cNvSpPr/>
              <p:nvPr/>
            </p:nvSpPr>
            <p:spPr>
              <a:xfrm rot="2280000">
                <a:off x="1465560" y="56876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41"/>
              <p:cNvSpPr/>
              <p:nvPr/>
            </p:nvSpPr>
            <p:spPr>
              <a:xfrm rot="2280000">
                <a:off x="1427760" y="5717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42"/>
              <p:cNvSpPr/>
              <p:nvPr/>
            </p:nvSpPr>
            <p:spPr>
              <a:xfrm rot="2700000">
                <a:off x="1389600" y="5753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43"/>
              <p:cNvSpPr/>
              <p:nvPr/>
            </p:nvSpPr>
            <p:spPr>
              <a:xfrm rot="2700000">
                <a:off x="1348200" y="5781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44"/>
              <p:cNvSpPr/>
              <p:nvPr/>
            </p:nvSpPr>
            <p:spPr>
              <a:xfrm rot="1500000">
                <a:off x="1631520" y="55087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45"/>
              <p:cNvSpPr/>
              <p:nvPr/>
            </p:nvSpPr>
            <p:spPr>
              <a:xfrm rot="1500000">
                <a:off x="1603440" y="5546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46"/>
              <p:cNvSpPr/>
              <p:nvPr/>
            </p:nvSpPr>
            <p:spPr>
              <a:xfrm rot="1800000">
                <a:off x="1569960" y="5581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47"/>
              <p:cNvSpPr/>
              <p:nvPr/>
            </p:nvSpPr>
            <p:spPr>
              <a:xfrm rot="1800000">
                <a:off x="153504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48"/>
              <p:cNvSpPr/>
              <p:nvPr/>
            </p:nvSpPr>
            <p:spPr>
              <a:xfrm rot="840000">
                <a:off x="1762920" y="53200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49"/>
              <p:cNvSpPr/>
              <p:nvPr/>
            </p:nvSpPr>
            <p:spPr>
              <a:xfrm rot="840000">
                <a:off x="1744200" y="53611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50"/>
              <p:cNvSpPr/>
              <p:nvPr/>
            </p:nvSpPr>
            <p:spPr>
              <a:xfrm rot="1320000">
                <a:off x="1725120" y="540216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51"/>
              <p:cNvSpPr/>
              <p:nvPr/>
            </p:nvSpPr>
            <p:spPr>
              <a:xfrm rot="1320000">
                <a:off x="1690560" y="5433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52"/>
              <p:cNvSpPr/>
              <p:nvPr/>
            </p:nvSpPr>
            <p:spPr>
              <a:xfrm rot="480000">
                <a:off x="1856160" y="51141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53"/>
              <p:cNvSpPr/>
              <p:nvPr/>
            </p:nvSpPr>
            <p:spPr>
              <a:xfrm rot="540000">
                <a:off x="1842120" y="51588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54"/>
              <p:cNvSpPr/>
              <p:nvPr/>
            </p:nvSpPr>
            <p:spPr>
              <a:xfrm rot="720000">
                <a:off x="1827720" y="5199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55"/>
              <p:cNvSpPr/>
              <p:nvPr/>
            </p:nvSpPr>
            <p:spPr>
              <a:xfrm rot="720000">
                <a:off x="1807200" y="523872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56"/>
              <p:cNvSpPr/>
              <p:nvPr/>
            </p:nvSpPr>
            <p:spPr>
              <a:xfrm rot="21300000">
                <a:off x="1917720" y="49194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57"/>
              <p:cNvSpPr/>
              <p:nvPr/>
            </p:nvSpPr>
            <p:spPr>
              <a:xfrm>
                <a:off x="1902600" y="4955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58"/>
              <p:cNvSpPr/>
              <p:nvPr/>
            </p:nvSpPr>
            <p:spPr>
              <a:xfrm>
                <a:off x="1901160" y="49953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59"/>
              <p:cNvSpPr/>
              <p:nvPr/>
            </p:nvSpPr>
            <p:spPr>
              <a:xfrm rot="240000">
                <a:off x="1883160" y="50320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60"/>
              <p:cNvSpPr/>
              <p:nvPr/>
            </p:nvSpPr>
            <p:spPr>
              <a:xfrm rot="20880000">
                <a:off x="1930680" y="470880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61"/>
              <p:cNvSpPr/>
              <p:nvPr/>
            </p:nvSpPr>
            <p:spPr>
              <a:xfrm rot="21120000">
                <a:off x="1932120" y="4748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62"/>
              <p:cNvSpPr/>
              <p:nvPr/>
            </p:nvSpPr>
            <p:spPr>
              <a:xfrm rot="21120000">
                <a:off x="1932120" y="47858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63"/>
              <p:cNvSpPr/>
              <p:nvPr/>
            </p:nvSpPr>
            <p:spPr>
              <a:xfrm rot="21300000">
                <a:off x="1928880" y="4830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64"/>
              <p:cNvSpPr/>
              <p:nvPr/>
            </p:nvSpPr>
            <p:spPr>
              <a:xfrm rot="20460000">
                <a:off x="1913400" y="4514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65"/>
              <p:cNvSpPr/>
              <p:nvPr/>
            </p:nvSpPr>
            <p:spPr>
              <a:xfrm rot="20640000">
                <a:off x="1920960" y="4547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66"/>
              <p:cNvSpPr/>
              <p:nvPr/>
            </p:nvSpPr>
            <p:spPr>
              <a:xfrm rot="20640000">
                <a:off x="1925640" y="4585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67"/>
              <p:cNvSpPr/>
              <p:nvPr/>
            </p:nvSpPr>
            <p:spPr>
              <a:xfrm rot="20760000">
                <a:off x="1930320" y="46306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68"/>
              <p:cNvSpPr/>
              <p:nvPr/>
            </p:nvSpPr>
            <p:spPr>
              <a:xfrm rot="20040000">
                <a:off x="1850400" y="43297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69"/>
              <p:cNvSpPr/>
              <p:nvPr/>
            </p:nvSpPr>
            <p:spPr>
              <a:xfrm rot="20220000">
                <a:off x="1864440" y="43714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70"/>
              <p:cNvSpPr/>
              <p:nvPr/>
            </p:nvSpPr>
            <p:spPr>
              <a:xfrm rot="20220000">
                <a:off x="1877400" y="44078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71"/>
              <p:cNvSpPr/>
              <p:nvPr/>
            </p:nvSpPr>
            <p:spPr>
              <a:xfrm rot="20220000">
                <a:off x="1893240" y="44395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72"/>
              <p:cNvSpPr/>
              <p:nvPr/>
            </p:nvSpPr>
            <p:spPr>
              <a:xfrm rot="19680000">
                <a:off x="1744200" y="4178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73"/>
              <p:cNvSpPr/>
              <p:nvPr/>
            </p:nvSpPr>
            <p:spPr>
              <a:xfrm rot="19740000">
                <a:off x="1766160" y="42019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74"/>
              <p:cNvSpPr/>
              <p:nvPr/>
            </p:nvSpPr>
            <p:spPr>
              <a:xfrm rot="19860000">
                <a:off x="1789920" y="42397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75"/>
              <p:cNvSpPr/>
              <p:nvPr/>
            </p:nvSpPr>
            <p:spPr>
              <a:xfrm rot="19860000">
                <a:off x="1810440" y="4267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76"/>
              <p:cNvSpPr/>
              <p:nvPr/>
            </p:nvSpPr>
            <p:spPr>
              <a:xfrm rot="19140000">
                <a:off x="1611360" y="40338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77"/>
              <p:cNvSpPr/>
              <p:nvPr/>
            </p:nvSpPr>
            <p:spPr>
              <a:xfrm rot="19140000">
                <a:off x="1644120" y="40636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78"/>
              <p:cNvSpPr/>
              <p:nvPr/>
            </p:nvSpPr>
            <p:spPr>
              <a:xfrm rot="19140000">
                <a:off x="1667880" y="408924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79"/>
              <p:cNvSpPr/>
              <p:nvPr/>
            </p:nvSpPr>
            <p:spPr>
              <a:xfrm rot="19260000">
                <a:off x="1697040" y="41130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80"/>
              <p:cNvSpPr/>
              <p:nvPr/>
            </p:nvSpPr>
            <p:spPr>
              <a:xfrm>
                <a:off x="771480" y="407052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81"/>
              <p:cNvSpPr/>
              <p:nvPr/>
            </p:nvSpPr>
            <p:spPr>
              <a:xfrm rot="6600000">
                <a:off x="-341280" y="4975920"/>
                <a:ext cx="19414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82"/>
              <p:cNvSpPr/>
              <p:nvPr/>
            </p:nvSpPr>
            <p:spPr>
              <a:xfrm rot="240000">
                <a:off x="11880" y="4988880"/>
                <a:ext cx="1630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83"/>
              <p:cNvSpPr/>
              <p:nvPr/>
            </p:nvSpPr>
            <p:spPr>
              <a:xfrm rot="18660000">
                <a:off x="1438200" y="393156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84"/>
              <p:cNvSpPr/>
              <p:nvPr/>
            </p:nvSpPr>
            <p:spPr>
              <a:xfrm rot="18660000">
                <a:off x="1474560" y="39520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85"/>
              <p:cNvSpPr/>
              <p:nvPr/>
            </p:nvSpPr>
            <p:spPr>
              <a:xfrm rot="18660000">
                <a:off x="1511280" y="3966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86"/>
              <p:cNvSpPr/>
              <p:nvPr/>
            </p:nvSpPr>
            <p:spPr>
              <a:xfrm rot="18900000">
                <a:off x="154332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87"/>
              <p:cNvSpPr/>
              <p:nvPr/>
            </p:nvSpPr>
            <p:spPr>
              <a:xfrm rot="17940000">
                <a:off x="1251000" y="3857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88"/>
              <p:cNvSpPr/>
              <p:nvPr/>
            </p:nvSpPr>
            <p:spPr>
              <a:xfrm rot="17940000">
                <a:off x="1293480" y="3870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89"/>
              <p:cNvSpPr/>
              <p:nvPr/>
            </p:nvSpPr>
            <p:spPr>
              <a:xfrm rot="18060000">
                <a:off x="1326960" y="388080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90"/>
              <p:cNvSpPr/>
              <p:nvPr/>
            </p:nvSpPr>
            <p:spPr>
              <a:xfrm rot="18360000">
                <a:off x="1366920" y="3903480"/>
                <a:ext cx="1281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91"/>
              <p:cNvSpPr/>
              <p:nvPr/>
            </p:nvSpPr>
            <p:spPr>
              <a:xfrm rot="17280000">
                <a:off x="1032840" y="3810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92"/>
              <p:cNvSpPr/>
              <p:nvPr/>
            </p:nvSpPr>
            <p:spPr>
              <a:xfrm rot="17340000">
                <a:off x="1074240" y="38206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93"/>
              <p:cNvSpPr/>
              <p:nvPr/>
            </p:nvSpPr>
            <p:spPr>
              <a:xfrm rot="17340000">
                <a:off x="1121760" y="3828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94"/>
              <p:cNvSpPr/>
              <p:nvPr/>
            </p:nvSpPr>
            <p:spPr>
              <a:xfrm rot="17580000">
                <a:off x="1169280" y="3837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95"/>
              <p:cNvSpPr/>
              <p:nvPr/>
            </p:nvSpPr>
            <p:spPr>
              <a:xfrm rot="16740000">
                <a:off x="803880" y="3811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96"/>
              <p:cNvSpPr/>
              <p:nvPr/>
            </p:nvSpPr>
            <p:spPr>
              <a:xfrm rot="16920000">
                <a:off x="846000" y="3810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97"/>
              <p:cNvSpPr/>
              <p:nvPr/>
            </p:nvSpPr>
            <p:spPr>
              <a:xfrm rot="16920000">
                <a:off x="894240" y="3804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98"/>
              <p:cNvSpPr/>
              <p:nvPr/>
            </p:nvSpPr>
            <p:spPr>
              <a:xfrm rot="17040000">
                <a:off x="942840" y="3801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99"/>
              <p:cNvSpPr/>
              <p:nvPr/>
            </p:nvSpPr>
            <p:spPr>
              <a:xfrm rot="16380000">
                <a:off x="566640" y="3839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100"/>
              <p:cNvSpPr/>
              <p:nvPr/>
            </p:nvSpPr>
            <p:spPr>
              <a:xfrm rot="16260000">
                <a:off x="614160" y="3835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101"/>
              <p:cNvSpPr/>
              <p:nvPr/>
            </p:nvSpPr>
            <p:spPr>
              <a:xfrm rot="16320000">
                <a:off x="669240" y="38286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102"/>
              <p:cNvSpPr/>
              <p:nvPr/>
            </p:nvSpPr>
            <p:spPr>
              <a:xfrm rot="16440000">
                <a:off x="715680" y="3819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103"/>
              <p:cNvSpPr/>
              <p:nvPr/>
            </p:nvSpPr>
            <p:spPr>
              <a:xfrm rot="15480000">
                <a:off x="330840" y="39092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104"/>
              <p:cNvSpPr/>
              <p:nvPr/>
            </p:nvSpPr>
            <p:spPr>
              <a:xfrm rot="15360000">
                <a:off x="383040" y="3893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105"/>
              <p:cNvSpPr/>
              <p:nvPr/>
            </p:nvSpPr>
            <p:spPr>
              <a:xfrm rot="15480000">
                <a:off x="427320" y="38757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106"/>
              <p:cNvSpPr/>
              <p:nvPr/>
            </p:nvSpPr>
            <p:spPr>
              <a:xfrm rot="15660000">
                <a:off x="466920" y="38599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107"/>
              <p:cNvSpPr/>
              <p:nvPr/>
            </p:nvSpPr>
            <p:spPr>
              <a:xfrm rot="14220000">
                <a:off x="15840" y="4051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108"/>
              <p:cNvSpPr/>
              <p:nvPr/>
            </p:nvSpPr>
            <p:spPr>
              <a:xfrm rot="14400000">
                <a:off x="105840" y="4006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109"/>
              <p:cNvSpPr/>
              <p:nvPr/>
            </p:nvSpPr>
            <p:spPr>
              <a:xfrm rot="14760000">
                <a:off x="150480" y="39823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10"/>
              <p:cNvSpPr/>
              <p:nvPr/>
            </p:nvSpPr>
            <p:spPr>
              <a:xfrm rot="14760000">
                <a:off x="192960" y="3966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111"/>
              <p:cNvSpPr/>
              <p:nvPr/>
            </p:nvSpPr>
            <p:spPr>
              <a:xfrm rot="15120000">
                <a:off x="245520" y="3939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12"/>
              <p:cNvSpPr/>
              <p:nvPr/>
            </p:nvSpPr>
            <p:spPr>
              <a:xfrm rot="19740000">
                <a:off x="2880" y="5340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13"/>
              <p:cNvSpPr/>
              <p:nvPr/>
            </p:nvSpPr>
            <p:spPr>
              <a:xfrm rot="3300000">
                <a:off x="810360" y="5516280"/>
                <a:ext cx="383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14"/>
              <p:cNvSpPr/>
              <p:nvPr/>
            </p:nvSpPr>
            <p:spPr>
              <a:xfrm rot="3300000">
                <a:off x="57600" y="4439520"/>
                <a:ext cx="383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115"/>
              <p:cNvSpPr/>
              <p:nvPr/>
            </p:nvSpPr>
            <p:spPr>
              <a:xfrm rot="19740000">
                <a:off x="1111320" y="4530960"/>
                <a:ext cx="5011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116"/>
              <p:cNvSpPr/>
              <p:nvPr/>
            </p:nvSpPr>
            <p:spPr>
              <a:xfrm rot="5880000">
                <a:off x="318960" y="62118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117"/>
              <p:cNvSpPr/>
              <p:nvPr/>
            </p:nvSpPr>
            <p:spPr>
              <a:xfrm rot="6660000">
                <a:off x="75600" y="62103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118"/>
              <p:cNvSpPr/>
              <p:nvPr/>
            </p:nvSpPr>
            <p:spPr>
              <a:xfrm rot="5220000">
                <a:off x="573480" y="617688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119"/>
              <p:cNvSpPr/>
              <p:nvPr/>
            </p:nvSpPr>
            <p:spPr>
              <a:xfrm rot="4500000">
                <a:off x="828000" y="61041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120"/>
              <p:cNvSpPr/>
              <p:nvPr/>
            </p:nvSpPr>
            <p:spPr>
              <a:xfrm rot="3780000">
                <a:off x="1063440" y="599328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121"/>
              <p:cNvSpPr/>
              <p:nvPr/>
            </p:nvSpPr>
            <p:spPr>
              <a:xfrm rot="3060000">
                <a:off x="1288800" y="585216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22"/>
              <p:cNvSpPr/>
              <p:nvPr/>
            </p:nvSpPr>
            <p:spPr>
              <a:xfrm rot="2100000">
                <a:off x="1486080" y="56797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23"/>
              <p:cNvSpPr/>
              <p:nvPr/>
            </p:nvSpPr>
            <p:spPr>
              <a:xfrm rot="14400000">
                <a:off x="-22320" y="397980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24"/>
              <p:cNvSpPr/>
              <p:nvPr/>
            </p:nvSpPr>
            <p:spPr>
              <a:xfrm rot="15180000">
                <a:off x="217800" y="38696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25"/>
              <p:cNvSpPr/>
              <p:nvPr/>
            </p:nvSpPr>
            <p:spPr>
              <a:xfrm rot="16620000">
                <a:off x="712800" y="375948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26"/>
              <p:cNvSpPr/>
              <p:nvPr/>
            </p:nvSpPr>
            <p:spPr>
              <a:xfrm rot="17280000">
                <a:off x="94860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27"/>
              <p:cNvSpPr/>
              <p:nvPr/>
            </p:nvSpPr>
            <p:spPr>
              <a:xfrm rot="17940000">
                <a:off x="1172160" y="3797280"/>
                <a:ext cx="245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28"/>
              <p:cNvSpPr/>
              <p:nvPr/>
            </p:nvSpPr>
            <p:spPr>
              <a:xfrm rot="18420000">
                <a:off x="1377720" y="386676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29"/>
              <p:cNvSpPr/>
              <p:nvPr/>
            </p:nvSpPr>
            <p:spPr>
              <a:xfrm rot="18960000">
                <a:off x="1560960" y="397044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30"/>
              <p:cNvSpPr/>
              <p:nvPr/>
            </p:nvSpPr>
            <p:spPr>
              <a:xfrm rot="19380000">
                <a:off x="1706400" y="4110120"/>
                <a:ext cx="273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31"/>
              <p:cNvSpPr/>
              <p:nvPr/>
            </p:nvSpPr>
            <p:spPr>
              <a:xfrm rot="19860000">
                <a:off x="1820160" y="4273560"/>
                <a:ext cx="2638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32"/>
              <p:cNvSpPr/>
              <p:nvPr/>
            </p:nvSpPr>
            <p:spPr>
              <a:xfrm rot="20400000">
                <a:off x="1902240" y="44564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33"/>
              <p:cNvSpPr/>
              <p:nvPr/>
            </p:nvSpPr>
            <p:spPr>
              <a:xfrm rot="20820000">
                <a:off x="1933920" y="46544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34"/>
              <p:cNvSpPr/>
              <p:nvPr/>
            </p:nvSpPr>
            <p:spPr>
              <a:xfrm rot="21300000">
                <a:off x="1920960" y="486864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35"/>
              <p:cNvSpPr/>
              <p:nvPr/>
            </p:nvSpPr>
            <p:spPr>
              <a:xfrm rot="720000">
                <a:off x="1788840" y="529452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36"/>
              <p:cNvSpPr/>
              <p:nvPr/>
            </p:nvSpPr>
            <p:spPr>
              <a:xfrm rot="1500000">
                <a:off x="1649520" y="549936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37"/>
              <p:cNvSpPr/>
              <p:nvPr/>
            </p:nvSpPr>
            <p:spPr>
              <a:xfrm>
                <a:off x="1347120" y="497808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8"/>
              <p:cNvSpPr/>
              <p:nvPr/>
            </p:nvSpPr>
            <p:spPr>
              <a:xfrm>
                <a:off x="33120" y="4322160"/>
                <a:ext cx="142200" cy="123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39"/>
              <p:cNvSpPr/>
              <p:nvPr/>
            </p:nvSpPr>
            <p:spPr>
              <a:xfrm>
                <a:off x="156600" y="4209840"/>
                <a:ext cx="159480" cy="141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40"/>
              <p:cNvSpPr/>
              <p:nvPr/>
            </p:nvSpPr>
            <p:spPr>
              <a:xfrm>
                <a:off x="1073520" y="5557680"/>
                <a:ext cx="131040" cy="123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141"/>
              <p:cNvSpPr/>
              <p:nvPr/>
            </p:nvSpPr>
            <p:spPr>
              <a:xfrm>
                <a:off x="1489680" y="441756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142"/>
              <p:cNvSpPr/>
              <p:nvPr/>
            </p:nvSpPr>
            <p:spPr>
              <a:xfrm>
                <a:off x="1423440" y="4312800"/>
                <a:ext cx="142200" cy="132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143"/>
              <p:cNvSpPr/>
              <p:nvPr/>
            </p:nvSpPr>
            <p:spPr>
              <a:xfrm>
                <a:off x="14040" y="608832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144"/>
              <p:cNvSpPr/>
              <p:nvPr/>
            </p:nvSpPr>
            <p:spPr>
              <a:xfrm>
                <a:off x="14040" y="405792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145"/>
              <p:cNvSpPr/>
              <p:nvPr/>
            </p:nvSpPr>
            <p:spPr>
              <a:xfrm>
                <a:off x="14040" y="60980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46"/>
              <p:cNvSpPr/>
              <p:nvPr/>
            </p:nvSpPr>
            <p:spPr>
              <a:xfrm rot="240000">
                <a:off x="1869120" y="507564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47"/>
              <p:cNvSpPr/>
              <p:nvPr/>
            </p:nvSpPr>
            <p:spPr>
              <a:xfrm rot="16020000">
                <a:off x="46656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148"/>
              <p:cNvSpPr/>
              <p:nvPr/>
            </p:nvSpPr>
            <p:spPr>
              <a:xfrm>
                <a:off x="222840" y="567036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149"/>
              <p:cNvSpPr/>
              <p:nvPr/>
            </p:nvSpPr>
            <p:spPr>
              <a:xfrm rot="18720000">
                <a:off x="980640" y="563436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150"/>
              <p:cNvSpPr/>
              <p:nvPr/>
            </p:nvSpPr>
            <p:spPr>
              <a:xfrm>
                <a:off x="374760" y="3975480"/>
                <a:ext cx="550440" cy="201456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Oval 151"/>
              <p:cNvSpPr/>
              <p:nvPr/>
            </p:nvSpPr>
            <p:spPr>
              <a:xfrm rot="19920000">
                <a:off x="467640" y="4840200"/>
                <a:ext cx="349560" cy="2757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82440"/>
            <a:ext cx="8535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25"/>
          </p:nvPr>
        </p:nvSpPr>
        <p:spPr>
          <a:xfrm>
            <a:off x="301320" y="6245280"/>
            <a:ext cx="2284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2845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1A615B-177E-42B9-8492-B8C5452C11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5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90720" y="1666800"/>
            <a:ext cx="77724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Социальный проек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«Я и моя семья»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ождение новой семьи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ша школьная семья образована 1 сентября 2011 года. Мы хотим лучше узнать друг друга. Что мы для этого сделал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познакомились с одноклассниками и учительниц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участвовали в классных и школьных мероприяти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с помощью рисунков рассказали об увлечениях своих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885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720720" y="170028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временные семьи в основном состоят из мамы, папы и де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чень редко вместе с ними проживают люди более старше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коления, поэтому возникла проблема всоздании проек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я и моя семья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достаточные знания о своей семье, о бабушках и дедуш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ктуальность  проблем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763640" y="1915920"/>
            <a:ext cx="6400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еловеку необходимо знать, что он не один, что его всегда поддержат родные люд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учение занятий и увлечений членов семьи дает представление об окружающем мире. Семья-это самое главное в жизни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57440" y="3716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брать информацию о занятиях и увлечениях членов своей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стематизировать собранные данные и представить в презентации. Допустимы оформление альб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лан раб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Изучения занятий и увлечений членов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Систематизирование полученной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Презентация проекта «Я и моя семья» учеников  1б класса ПОДЛЕВСКИХ ПОЛИНЫ и  ПОГЛАЗОВА КОНСТАНТИ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ставить презентацию-отчёт о своём класс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грамма действ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182600" y="220500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беседовать с родителями, дедушками, бабушками и т. 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учить семейные архивы , фото и видео доку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спектива: работа может продолжаться в форме составления родословной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формация по пробл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82600" y="1125360"/>
            <a:ext cx="77724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следим, как реализуются задачи  на примере конкретной семь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дители еще достаточно молоды значит вероятно наличие бабушек и дедуш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непосредственном общении с папой и мамой можно получить сведения о более старших членах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ждой семье существуют фотоальбомы, видеозаписи. При сборе сведений  необходимо обязательно ознакомиться с ними и желательно , чтобы это было не просто рассматривание фотодокументов, но и беседа, которая принесет несомненную польз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ля того , чтобы получить более полную информацию используются не только рассказы членов семьи, но и семейные архив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циальная значимость проек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учая историю моей семьи я изучаю историю моего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звитие творческих способностей. Знакомство с занятиями и увлечениями моей семьи я решила изобразить в рисун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и учащихся 1б класса «Режим дня», «Любимый вид спорта», «Спасибо зарядке, здоровье в порядке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я ученицы 1б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левских Полины  и  Поглазова Константина «Я и моя семья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я о рождении  1 «б»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2:05:56Z</dcterms:created>
  <dc:creator>Vitalik</dc:creator>
  <dc:description/>
  <dc:language>en-US</dc:language>
  <cp:lastModifiedBy>Admin</cp:lastModifiedBy>
  <dcterms:modified xsi:type="dcterms:W3CDTF">2012-07-16T19:44:37Z</dcterms:modified>
  <cp:revision>94</cp:revision>
  <dc:subject/>
  <dc:title>Слайд 1</dc:title>
</cp:coreProperties>
</file>