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B86-6CF2-4A4C-9421-96C4BE6B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E688-FBEA-4A3C-80DF-4165B553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54E-F189-4E7C-959E-F5CFD142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DC6-76E3-46B9-8EE4-9CBEAD98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0DA6-2A89-44F2-AFDE-278A8E82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9FC1-A071-423F-B37C-F1AE2512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E2EC-FD0B-404F-B100-8C83B7F2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57A7-18DA-4E50-AED9-6AF8511B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2B88-2E38-494E-9DD0-556AF98F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6731-0AF0-4CEB-AF6E-5EE5404C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A809-470F-41B3-B88B-FBE60C8C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5B5A-7217-4AF3-83D2-F6BB6B92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B3FF-8936-4743-8202-8D0C73AA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1959-7131-446B-9C28-591AEA8F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FDB6-E558-4F8E-A8B6-6164FF48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75F9-BADB-4025-B848-1AB4CE23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8348-4094-463F-BDF9-75D9E84E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DAE-919B-4583-B97D-FE5CE171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9FFE-F370-44CA-A098-7DFBA3E2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44C-7F48-483A-B611-D32A3CBB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BF2-BA49-4EE4-8D6C-C7CA230E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648C-9494-4638-BC62-BEF1DA82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23C-AA51-418A-B3F9-C4BF8171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6A6-2204-4D07-8102-731C4B40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E42D-C439-4D0E-9AF0-681872126F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A44E-004F-4AA6-B3B9-856E01FF32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95280" y="549360"/>
          <a:ext cx="8413920" cy="5613480"/>
        </p:xfrm>
        <a:graphic>
          <a:graphicData uri="http://schemas.openxmlformats.org/drawingml/2006/table">
            <a:tbl>
              <a:tblPr/>
              <a:tblGrid>
                <a:gridCol w="8413920"/>
              </a:tblGrid>
              <a:tr h="697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17720" algn="ctr">
                        <a:lnSpc>
                          <a:spcPct val="100000"/>
                        </a:lnSpc>
                        <a:tabLst>
                          <a:tab algn="l" pos="0"/>
                          <a:tab algn="l" pos="1454040"/>
                          <a:tab algn="l" pos="1652760"/>
                          <a:tab algn="l" pos="1809720"/>
                          <a:tab algn="l" pos="4127400"/>
                          <a:tab algn="l" pos="4336920"/>
                          <a:tab algn="l" pos="4691160"/>
                          <a:tab algn="l" pos="4849920"/>
                          <a:tab algn="l" pos="5535720"/>
                          <a:tab algn="l" pos="5813280"/>
                          <a:tab algn="l" pos="616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Город наш любимый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17720">
                        <a:lnSpc>
                          <a:spcPct val="100000"/>
                        </a:lnSpc>
                        <a:tabLst>
                          <a:tab algn="l" pos="0"/>
                          <a:tab algn="l" pos="1454040"/>
                          <a:tab algn="l" pos="1652760"/>
                          <a:tab algn="l" pos="1809720"/>
                          <a:tab algn="l" pos="4127400"/>
                          <a:tab algn="l" pos="4336920"/>
                          <a:tab algn="l" pos="4691160"/>
                          <a:tab algn="l" pos="4849920"/>
                          <a:tab algn="l" pos="5535720"/>
                          <a:tab algn="l" pos="5813280"/>
                          <a:tab algn="l" pos="616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Bodoni MT Black"/>
                          <a:ea typeface="Times New Roman"/>
                        </a:rPr>
                        <a:t>            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Омск - административный центр Омской области, один из старейших городов Сибири.. Крепость в устье Оми была заложена в эпоху петровских преобразований. По указу Петра </a:t>
                      </a:r>
                      <a:r>
                        <a:rPr b="1" i="1" lang="en-US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I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подполковник Иван Дмитриевич Бухгольц снарядил в Тобольске военную экспедицию и весной 17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</a:rPr>
                        <a:t>16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 года, навоевавшись с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	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кочевниками-джунгарами, остановил свой отряд в устье Оми для строительства крепости, которая и была поставлена на мысе крутого южного берега Оми в сторону Иртыш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17720">
                        <a:lnSpc>
                          <a:spcPct val="100000"/>
                        </a:lnSpc>
                        <a:tabLst>
                          <a:tab algn="l" pos="0"/>
                          <a:tab algn="l" pos="1454040"/>
                          <a:tab algn="l" pos="1652760"/>
                          <a:tab algn="l" pos="1809720"/>
                          <a:tab algn="l" pos="4127400"/>
                          <a:tab algn="l" pos="4336920"/>
                          <a:tab algn="l" pos="4691160"/>
                          <a:tab algn="l" pos="4849920"/>
                          <a:tab algn="l" pos="5535720"/>
                          <a:tab algn="l" pos="5813280"/>
                          <a:tab algn="l" pos="616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	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        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Все 289 лет своей истории Омск строился и развивался, и сейчас он по-своему красив в любое время года, в любую пору дня. Сегодня это один из наиболее значительных центров не только Сибири, но и Российской Федер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17720">
                        <a:lnSpc>
                          <a:spcPct val="100000"/>
                        </a:lnSpc>
                        <a:tabLst>
                          <a:tab algn="l" pos="0"/>
                          <a:tab algn="l" pos="1454040"/>
                          <a:tab algn="l" pos="1652760"/>
                          <a:tab algn="l" pos="1809720"/>
                          <a:tab algn="l" pos="4127400"/>
                          <a:tab algn="l" pos="4336920"/>
                          <a:tab algn="l" pos="4691160"/>
                          <a:tab algn="l" pos="4849920"/>
                          <a:tab algn="l" pos="5535720"/>
                          <a:tab algn="l" pos="5813280"/>
                          <a:tab algn="l" pos="616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         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Театры, музеи, культурно-досуговые центры, цирк, музыкальные и художественные школы, стадионы – всё это доступно омичам и гостям города. Город хорошеет с каждым годом. Он не роняет своей славы «города-сада». Его набережные, улицы, площади, старые и новые кварталы летом смотрятся как один чудесный зелёный парк. Предприятия и организации с большой историей и образовавшиеся в последние годы всегда помогали городу расти и благоустраиваться, держать славу города-труженика, города высокой культуры.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1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64680" y="3608640"/>
            <a:ext cx="3449160" cy="22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253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0" r="833" b="0"/>
          <a:stretch/>
        </p:blipFill>
        <p:spPr>
          <a:xfrm>
            <a:off x="324000" y="1773360"/>
            <a:ext cx="8497800" cy="405288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611280" y="260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Омск. Областной музей изобразительных искусств им. Врубеля - один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крупнейших    музеев Сибир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Размещается в бывшем торговом корпусе.   191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Архитектор А. Д. Кряч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50591" r="39309" b="2313"/>
          <a:stretch/>
        </p:blipFill>
        <p:spPr>
          <a:xfrm>
            <a:off x="1403280" y="260280"/>
            <a:ext cx="6481800" cy="527688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1691640" y="5661000"/>
            <a:ext cx="59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Здание законодательного собрания Омской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Строилось как здание судебных установлений. 191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Архитектор В.А.Прусс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34895" t="0" r="33789" b="54827"/>
          <a:stretch/>
        </p:blipFill>
        <p:spPr>
          <a:xfrm>
            <a:off x="468360" y="189000"/>
            <a:ext cx="3672000" cy="544176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66839" t="0" r="0" b="54827"/>
          <a:stretch/>
        </p:blipFill>
        <p:spPr>
          <a:xfrm>
            <a:off x="4716360" y="189000"/>
            <a:ext cx="3888000" cy="544176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840600" y="5589720"/>
            <a:ext cx="779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Омск. Зал органной и камерной музыки Омской областной филармо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Размещается в здании бывшего кинематографа «Кристалл-Палас». 191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Архитектор Ф. А. Черноморченко. Авторы проекта реконструкции -архитектор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А. М. Клримов, Т. П. Малиновская, П. П. Игнатов. 200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49197" r="1757" b="3895"/>
          <a:stretch/>
        </p:blipFill>
        <p:spPr>
          <a:xfrm>
            <a:off x="539640" y="404640"/>
            <a:ext cx="8064720" cy="405468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468360" y="4724280"/>
            <a:ext cx="82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Мэрия города. Бывший дом Русско-азиатской компании на Втором Взво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1917 г.  Автор лепных работ скульптор В.Ф.Винкл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49951" r="1021" b="3893"/>
          <a:stretch/>
        </p:blipFill>
        <p:spPr>
          <a:xfrm>
            <a:off x="468360" y="404640"/>
            <a:ext cx="8280360" cy="40039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951840" y="4745160"/>
            <a:ext cx="71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Торговый центр «Омский» - крупнейшее предприятие розни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торговли. 1984. Архитекторы: Ю.И. Зайцев, В.Н.Парфиненк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В.П.Паровыш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0" t="49985" r="894" b="2315"/>
          <a:stretch/>
        </p:blipFill>
        <p:spPr>
          <a:xfrm>
            <a:off x="179280" y="189000"/>
            <a:ext cx="8713800" cy="4284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759240" y="5229360"/>
            <a:ext cx="79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Спортивно-концертный комплекс им.Виктора Блин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(Виктор Блинов – омич, выдающийся хоккеист, олимпийский чемпион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Построен в 1986г. Архитекторы: М.И. Хахаев, И.П.Голенко, Л.К.Ма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0" r="0" b="54576"/>
          <a:stretch/>
        </p:blipFill>
        <p:spPr>
          <a:xfrm>
            <a:off x="755640" y="277920"/>
            <a:ext cx="7920000" cy="407808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360" y="4437000"/>
            <a:ext cx="777240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Омск. Панорама Тарского бульвара. Слева - Департамент Федераль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государственном службы занятости населения по Омской области. 199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Архитекторы: Ю. А. Захаров, О. С. Белова. В глубине - Крестовоздвиже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кафедральный собор. За комплексный проект «Дорога к храму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(1997, Руководитель Г. Е. Чиркин) коллектив ОАО «Омскгражданпроект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награжден дипломом Союза архитекторов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Омск. Памятник жертвам политических репрессий в СССР. 199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Архитектор М. М. Хаха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>
            <a:lum bright="12000"/>
          </a:blip>
          <a:srcRect l="0" t="49133" r="1960" b="2941"/>
          <a:stretch/>
        </p:blipFill>
        <p:spPr>
          <a:xfrm>
            <a:off x="324000" y="260280"/>
            <a:ext cx="8569080" cy="43452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510840" y="5084640"/>
            <a:ext cx="812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Омск. Государственная медицинская академия. Бывший магаз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Фабрично-торгового товарищества «Братья Овсянниковы и А. Ганин с сыновьям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на ЛюбиНСКОМ ПРОСПЕК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Омск. Любинский просп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0" r="36576" b="54828"/>
          <a:stretch/>
        </p:blipFill>
        <p:spPr>
          <a:xfrm>
            <a:off x="826920" y="189000"/>
            <a:ext cx="7490160" cy="561816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607680" y="5848200"/>
            <a:ext cx="773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Христо-Рождественский собор. Строительство начато в феврале 1999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Освящён в Рождество 2001 года Митрополитом Омским и Тарским Феодос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Архитекторы: А.М. Каримов, А.М. Слинки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0" t="0" r="0" b="55103"/>
          <a:stretch/>
        </p:blipFill>
        <p:spPr>
          <a:xfrm>
            <a:off x="179280" y="333360"/>
            <a:ext cx="8713800" cy="40831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95280" y="5516640"/>
            <a:ext cx="84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Омск. Административное здание акционерного общества «Транссибнефть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2000. Архитектор М.Ю. Лежен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1308" t="3846" r="4850" b="1167"/>
          <a:stretch/>
        </p:blipFill>
        <p:spPr>
          <a:xfrm>
            <a:off x="0" y="692280"/>
            <a:ext cx="5904000" cy="550044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015240" y="3645000"/>
            <a:ext cx="309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Воскресе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крепостной соб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Строитель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завершено в 1773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Первое каменное з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второй Омской креп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Фотография 188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66430" t="0" r="1549" b="55337"/>
          <a:stretch/>
        </p:blipFill>
        <p:spPr>
          <a:xfrm>
            <a:off x="179280" y="189000"/>
            <a:ext cx="4179960" cy="6408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4789440" y="1916280"/>
            <a:ext cx="34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Часовня Ильи Прор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на площади им. Ленина. 200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Архитектор В.А.Бар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1774" t="0" r="66347" b="54827"/>
          <a:stretch/>
        </p:blipFill>
        <p:spPr>
          <a:xfrm>
            <a:off x="468360" y="333360"/>
            <a:ext cx="3908520" cy="56880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4643280" y="1844640"/>
            <a:ext cx="412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Омск. Памятник Ф. М. Достоевск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на территории бывшей Ом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крепости. 200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Скульптор С. А. Голованце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архитектор А. М. Карим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48373" r="869" b="3895"/>
          <a:stretch/>
        </p:blipFill>
        <p:spPr>
          <a:xfrm>
            <a:off x="468360" y="333360"/>
            <a:ext cx="8136000" cy="402588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10920" y="5013360"/>
            <a:ext cx="793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Омск. Памятный знак «Держава» на площади Ивана БухгольаА. 199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Скульптор В. А. Трохимчук. На этом месте весной 1716 года высади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отряд первопроходцев, заложивших Омскую креп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0" r="0" b="54828"/>
          <a:stretch/>
        </p:blipFill>
        <p:spPr>
          <a:xfrm>
            <a:off x="324000" y="189000"/>
            <a:ext cx="8569080" cy="40608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625680" y="4809960"/>
            <a:ext cx="7927200" cy="20408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Омск. Памятник Анастасии Ларионовой, жительнице села Саргатка Омс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области, потерявшей семерых сыновей во время Великой Отечественной вой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2000. Скульптор С. А. Голованцев, архитектор М. М. Хаха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Омск. Храм Всех Святых на территории бывшего Казачьего клад6ища.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Архитектор В. А. Бара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Омск. Мемориал «Сыновьям Омской земли, выполнившим свой воинский дол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перед Отечеством посвящается». 2005. Архитектор И. А. Вахитов, дизайн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С. В. Воевод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1470" b="54867"/>
          <a:stretch/>
        </p:blipFill>
        <p:spPr>
          <a:xfrm>
            <a:off x="395280" y="2492280"/>
            <a:ext cx="8424720" cy="39420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1547640" y="836640"/>
            <a:ext cx="7442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Омск. Кадетский корпус. Здание строилось для канцелярии Сибир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Казачьего войска (1822-1826). В 1826 году передано Казачьему училищ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преобразованному в 1 846 году в Сибирский кадетский корпу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С   1925 года здесь размещалась пехотная школа, затем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военное училище им. М. В. Фрунз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С 1999 года - Омский кадетский корпу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48653" t="50370" r="847" b="2678"/>
          <a:stretch/>
        </p:blipFill>
        <p:spPr>
          <a:xfrm>
            <a:off x="179280" y="479520"/>
            <a:ext cx="5616720" cy="553536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797440" y="2060640"/>
            <a:ext cx="317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Свято-Никольская церков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Ранее – Николь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казачья церков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(с 1916 года – соб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1833-18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65156" b="54299"/>
          <a:stretch/>
        </p:blipFill>
        <p:spPr>
          <a:xfrm>
            <a:off x="179280" y="260280"/>
            <a:ext cx="4503960" cy="626436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5079240" y="1916280"/>
            <a:ext cx="384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Кафедр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Крестовоздвиженский со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18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Архитек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ФФ.Вагнер, К.Е.Лазарев, Э.И.Эз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34972" b="55337"/>
          <a:stretch/>
        </p:blipFill>
        <p:spPr>
          <a:xfrm>
            <a:off x="971640" y="1265400"/>
            <a:ext cx="7704000" cy="548928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912680" y="0"/>
            <a:ext cx="65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Омск. Городской совет. Бывшая городская Дума. 1897-19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Архитекторы. Н.Е. Вараксин, Г.С. Бартков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39686" t="49847" r="0" b="3012"/>
          <a:stretch/>
        </p:blipFill>
        <p:spPr>
          <a:xfrm>
            <a:off x="1187280" y="1052640"/>
            <a:ext cx="6840720" cy="55753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1765080" y="0"/>
            <a:ext cx="59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Омск. Железнодорожный вокзал. Конец 1890-х г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Реконструировался в 1914 году, в 1956-1958 г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2009" b="0"/>
          <a:stretch/>
        </p:blipFill>
        <p:spPr>
          <a:xfrm>
            <a:off x="324000" y="333360"/>
            <a:ext cx="4032000" cy="583236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4503240" y="1628640"/>
            <a:ext cx="441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Музей народного художника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К.П.Бе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Ранее – дом Ф.Ф.Штумпфа.1900-е 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49562" r="52116" b="2313"/>
          <a:stretch/>
        </p:blipFill>
        <p:spPr>
          <a:xfrm>
            <a:off x="250920" y="404640"/>
            <a:ext cx="5473440" cy="5832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5942160" y="1484280"/>
            <a:ext cx="312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Государств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университ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путей со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Здание строилось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Управление Ом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железной дороги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1914-1914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Автор проекта фаса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архитектор Ф.И.Лидва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Автор лепных раб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на фасаде и в интерьер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Скульптор В.Ф.Винк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30:25Z</dcterms:created>
  <dc:creator>Андрюха</dc:creator>
  <dc:description/>
  <dc:language>en-US</dc:language>
  <cp:lastModifiedBy>Андрюха</cp:lastModifiedBy>
  <dcterms:modified xsi:type="dcterms:W3CDTF">2010-10-03T12:00:03Z</dcterms:modified>
  <cp:revision>6</cp:revision>
  <dc:subject/>
  <dc:title>Слайд 1</dc:title>
</cp:coreProperties>
</file>