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3B0-FF70-470A-B399-7F48E4BF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4B8-D4A5-4147-BA1E-947C3B92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5AC-AC2A-4C30-8CCF-B51A4503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CEC-62E4-4591-B371-07AE9DA7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D203-7DA0-41F2-BB7C-07689581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2BA5-07F6-430C-99AC-89BF3327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6A95-E507-47D1-8185-F535E1FA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8817-F6C6-40D6-8303-25396147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EB36-8A9A-4DEB-B07E-E5D8DA2D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8D32-39A9-4E0C-BC3C-5755E9D2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86EC-2215-4FFF-8ED3-E68B1E0E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AB00-7522-4B2D-ACC0-824116DF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1C61-718D-4D79-B914-BA421007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11E6-C6F5-4059-8219-65E437CF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4F1C-FB23-4982-8F5C-BB8D26DD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F437-CFCC-4E00-BE8B-F7D4ACD2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F0B4-57FA-493E-8128-6AA5A41C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EA9-675F-4AF6-8AD6-ACA7C973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4DBC-6CA9-4FDC-B7C8-069E9E87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32D-2A5A-46C8-99C4-A3B2ED73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A47-5E5C-4416-BFBD-BB9C1E40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9538-82DC-41C1-B0AB-A5434697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799-7080-4395-9D37-13D8A630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C82-A8F0-47CE-8C5D-D82F8509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EB0E-08D1-4B4B-B5E3-03ADB88388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7993-6745-43DE-BBE3-9DF9DE2999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95280" y="549360"/>
          <a:ext cx="8413920" cy="5613480"/>
        </p:xfrm>
        <a:graphic>
          <a:graphicData uri="http://schemas.openxmlformats.org/drawingml/2006/table">
            <a:tbl>
              <a:tblPr/>
              <a:tblGrid>
                <a:gridCol w="8413920"/>
              </a:tblGrid>
              <a:tr h="69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17720" algn="ctr">
                        <a:lnSpc>
                          <a:spcPct val="100000"/>
                        </a:lnSpc>
                        <a:tabLst>
                          <a:tab algn="l" pos="0"/>
                          <a:tab algn="l" pos="1454040"/>
                          <a:tab algn="l" pos="1652760"/>
                          <a:tab algn="l" pos="1809720"/>
                          <a:tab algn="l" pos="4127400"/>
                          <a:tab algn="l" pos="4336920"/>
                          <a:tab algn="l" pos="4691160"/>
                          <a:tab algn="l" pos="4849920"/>
                          <a:tab algn="l" pos="5535720"/>
                          <a:tab algn="l" pos="5813280"/>
                          <a:tab algn="l" pos="616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Город наш любимый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17720">
                        <a:lnSpc>
                          <a:spcPct val="100000"/>
                        </a:lnSpc>
                        <a:tabLst>
                          <a:tab algn="l" pos="0"/>
                          <a:tab algn="l" pos="1454040"/>
                          <a:tab algn="l" pos="1652760"/>
                          <a:tab algn="l" pos="1809720"/>
                          <a:tab algn="l" pos="4127400"/>
                          <a:tab algn="l" pos="4336920"/>
                          <a:tab algn="l" pos="4691160"/>
                          <a:tab algn="l" pos="4849920"/>
                          <a:tab algn="l" pos="5535720"/>
                          <a:tab algn="l" pos="5813280"/>
                          <a:tab algn="l" pos="616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doni MT Black"/>
                          <a:ea typeface="Times New Roman"/>
                        </a:rPr>
                        <a:t>            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Омск - административный центр Омской области, один из старейших городов Сибири.. Крепость в устье Оми была заложена в эпоху петровских преобразований. По указу Петра </a:t>
                      </a:r>
                      <a:r>
                        <a:rPr b="1" i="1" lang="en-US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I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подполковник Иван Дмитриевич Бухгольц снарядил в Тобольске военную экспедицию и весной 17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</a:rPr>
                        <a:t>16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 года, навоевавшись с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	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кочевниками-джунгарами, остановил свой отряд в устье Оми для строительства крепости, которая и была поставлена на мысе крутого южного берега Оми в сторону Иртыш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17720">
                        <a:lnSpc>
                          <a:spcPct val="100000"/>
                        </a:lnSpc>
                        <a:tabLst>
                          <a:tab algn="l" pos="0"/>
                          <a:tab algn="l" pos="1454040"/>
                          <a:tab algn="l" pos="1652760"/>
                          <a:tab algn="l" pos="1809720"/>
                          <a:tab algn="l" pos="4127400"/>
                          <a:tab algn="l" pos="4336920"/>
                          <a:tab algn="l" pos="4691160"/>
                          <a:tab algn="l" pos="4849920"/>
                          <a:tab algn="l" pos="5535720"/>
                          <a:tab algn="l" pos="5813280"/>
                          <a:tab algn="l" pos="616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	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        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Все 289 лет своей истории Омск строился и развивался, и сейчас он по-своему красив в любое время года, в любую пору дня. Сегодня это один из наиболее значительных центров не только Сибири, но и Российской Федер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17720">
                        <a:lnSpc>
                          <a:spcPct val="100000"/>
                        </a:lnSpc>
                        <a:tabLst>
                          <a:tab algn="l" pos="0"/>
                          <a:tab algn="l" pos="1454040"/>
                          <a:tab algn="l" pos="1652760"/>
                          <a:tab algn="l" pos="1809720"/>
                          <a:tab algn="l" pos="4127400"/>
                          <a:tab algn="l" pos="4336920"/>
                          <a:tab algn="l" pos="4691160"/>
                          <a:tab algn="l" pos="4849920"/>
                          <a:tab algn="l" pos="5535720"/>
                          <a:tab algn="l" pos="5813280"/>
                          <a:tab algn="l" pos="61628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         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Театры, музеи, культурно-досуговые центры, цирк, музыкальные и художественные школы, стадионы – всё это доступно омичам и гостям города. Город хорошеет с каждым годом. Он не роняет своей славы «города-сада». Его набережные, улицы, площади, старые и новые кварталы летом смотрятся как один чудесный зелёный парк. Предприятия и организации с большой историей и образовавшиеся в последние годы всегда помогали городу расти и благоустраиваться, держать славу города-труженика, города высокой культуры.</a:t>
                      </a:r>
                      <a:r>
                        <a:rPr b="1" i="1" lang="ru-RU" sz="1800" spc="-1" strike="noStrike">
                          <a:solidFill>
                            <a:srgbClr val="990033"/>
                          </a:solidFill>
                          <a:latin typeface="Bodoni MT Black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e1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64680" y="3608640"/>
            <a:ext cx="3449160" cy="22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253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0" t="0" r="833" b="0"/>
          <a:stretch/>
        </p:blipFill>
        <p:spPr>
          <a:xfrm>
            <a:off x="324000" y="1773360"/>
            <a:ext cx="8497800" cy="40528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611280" y="260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Омск. Областной музей изобразительных искусств им. Врубеля - один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крупнейших    музеев Сибир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Размещается в бывшем торговом корпусе.   19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Архитектор А. Д. Кряч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50591" r="39309" b="2313"/>
          <a:stretch/>
        </p:blipFill>
        <p:spPr>
          <a:xfrm>
            <a:off x="1403280" y="260280"/>
            <a:ext cx="6481800" cy="52768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1691640" y="5661000"/>
            <a:ext cx="59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Здание законодательного собрания Омской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Строилось как здание судебных установлений. 191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Архитектор В.А.Прусс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34895" t="0" r="33789" b="54827"/>
          <a:stretch/>
        </p:blipFill>
        <p:spPr>
          <a:xfrm>
            <a:off x="468360" y="189000"/>
            <a:ext cx="3672000" cy="54417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66839" t="0" r="0" b="54827"/>
          <a:stretch/>
        </p:blipFill>
        <p:spPr>
          <a:xfrm>
            <a:off x="4716360" y="189000"/>
            <a:ext cx="3888000" cy="54417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840600" y="5589720"/>
            <a:ext cx="779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мск. Зал органной и камерной музыки Омской областной филармо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Размещается в здании бывшего кинематографа «Кристалл-Палас». 19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рхитектор Ф. А. Черноморченко. Авторы проекта реконструкции -архитектор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. М. Клримов, Т. П. Малиновская, П. П. Игнатов. 200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49197" r="1757" b="3895"/>
          <a:stretch/>
        </p:blipFill>
        <p:spPr>
          <a:xfrm>
            <a:off x="539640" y="404640"/>
            <a:ext cx="8064720" cy="40546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468360" y="4724280"/>
            <a:ext cx="82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Мэрия города. Бывший дом Русско-азиатской компании на Втором Взво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1917 г.  Автор лепных работ скульптор В.Ф.Винк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49951" r="1021" b="3893"/>
          <a:stretch/>
        </p:blipFill>
        <p:spPr>
          <a:xfrm>
            <a:off x="468360" y="404640"/>
            <a:ext cx="8280360" cy="40039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951840" y="4745160"/>
            <a:ext cx="71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Торговый центр «Омский» - крупнейшее предприятие розни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торговли. 1984. Архитекторы: Ю.И. Зайцев, В.Н.Парфиненк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В.П.Паровыш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49985" r="894" b="2315"/>
          <a:stretch/>
        </p:blipFill>
        <p:spPr>
          <a:xfrm>
            <a:off x="179280" y="189000"/>
            <a:ext cx="8713800" cy="4284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759240" y="5229360"/>
            <a:ext cx="79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Спортивно-концертный комплекс им.Виктора Блин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(Виктор Блинов – омич, выдающийся хоккеист, олимпийский чемпион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Построен в 1986г. Архитекторы: М.И. Хахаев, И.П.Голенко, Л.К.Ма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0" t="0" r="0" b="54576"/>
          <a:stretch/>
        </p:blipFill>
        <p:spPr>
          <a:xfrm>
            <a:off x="755640" y="277920"/>
            <a:ext cx="7920000" cy="40780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360" y="4437000"/>
            <a:ext cx="77724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мск. Панорама Тарского бульвара. Слева - Департамент Федера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государственном службы занятости населения по Омской области. 199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рхитекторы: Ю. А. Захаров, О. С. Белова. В глубине - Крестовоздвижен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кафедральный собор. За комплексный проект «Дорога к храму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(1997, Руководитель Г. Е. Чиркин) коллектив ОАО «Омскгражданпроект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награжден дипломом Союза архитекторов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мск. Памятник жертвам политических репрессий в СССР. 199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рхитектор М. М. Хаха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>
            <a:lum bright="12000"/>
          </a:blip>
          <a:srcRect l="0" t="49133" r="1960" b="2941"/>
          <a:stretch/>
        </p:blipFill>
        <p:spPr>
          <a:xfrm>
            <a:off x="324000" y="260280"/>
            <a:ext cx="8569080" cy="43452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510840" y="5084640"/>
            <a:ext cx="812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мск. Государственная медицинская академия. Бывший магаз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Фабрично-торгового товарищества «Братья Овсянниковы и А. Ганин с сыновьям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на ЛюбиНСКОМ ПРОСПЕК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мск. Любинский просп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36576" b="54828"/>
          <a:stretch/>
        </p:blipFill>
        <p:spPr>
          <a:xfrm>
            <a:off x="826920" y="189000"/>
            <a:ext cx="7490160" cy="56181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607680" y="5848200"/>
            <a:ext cx="77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Христо-Рождественский собор. Строительство начато в феврале 1999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свящён в Рождество 2001 года Митрополитом Омским и Тарским Феодос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рхитекторы: А.М. Каримов, А.М. Слинк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0" r="0" b="55103"/>
          <a:stretch/>
        </p:blipFill>
        <p:spPr>
          <a:xfrm>
            <a:off x="179280" y="333360"/>
            <a:ext cx="8713800" cy="40831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95280" y="5516640"/>
            <a:ext cx="84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Омск. Административное здание акционерного общества «Транссибнефть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2000. Архитектор М.Ю. Лежен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1308" t="3846" r="4850" b="1167"/>
          <a:stretch/>
        </p:blipFill>
        <p:spPr>
          <a:xfrm>
            <a:off x="0" y="692280"/>
            <a:ext cx="5904000" cy="550044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015240" y="3645000"/>
            <a:ext cx="309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Воскрес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крепостной собо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Строите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завершено в 1773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Первое каменное 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второй Омской креп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Фотография 188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66430" t="0" r="1549" b="55337"/>
          <a:stretch/>
        </p:blipFill>
        <p:spPr>
          <a:xfrm>
            <a:off x="179280" y="189000"/>
            <a:ext cx="4179960" cy="6408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4789440" y="1916280"/>
            <a:ext cx="348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Часовня Ильи Прор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на площади им. Ленина. 200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Архитектор В.А.Бар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1774" t="0" r="66347" b="54827"/>
          <a:stretch/>
        </p:blipFill>
        <p:spPr>
          <a:xfrm>
            <a:off x="468360" y="333360"/>
            <a:ext cx="3908520" cy="56880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4643280" y="1844640"/>
            <a:ext cx="412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Омск. Памятник Ф. М. Достоевск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а территории бывшей Ом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крепости. 200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Скульптор С. А. Голованце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архитектор А. М. Кари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48373" r="869" b="3895"/>
          <a:stretch/>
        </p:blipFill>
        <p:spPr>
          <a:xfrm>
            <a:off x="468360" y="333360"/>
            <a:ext cx="8136000" cy="40258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10920" y="5013360"/>
            <a:ext cx="793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Омск. Памятный знак «Держава» на площади Ивана БухгольаА. 199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Скульптор В. А. Трохимчук. На этом месте весной 1716 года высади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отряд первопроходцев, заложивших Омскую креп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0" t="0" r="0" b="54828"/>
          <a:stretch/>
        </p:blipFill>
        <p:spPr>
          <a:xfrm>
            <a:off x="324000" y="189000"/>
            <a:ext cx="8569080" cy="40608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625680" y="4809960"/>
            <a:ext cx="7927200" cy="204084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мск. Памятник Анастасии Ларионовой, жительнице села Саргатка Ом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бласти, потерявшей семерых сыновей во время Великой Отечественной вой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2000. Скульптор С. А. Голованцев, архитектор М. М. Хаха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мск. Храм Всех Святых на территории бывшего Казачьего клад6ища.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Архитектор В. А. Бара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Омск. Мемориал «Сыновьям Омской земли, выполнившим свой воинский дол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перед Отечеством посвящается». 2005. Архитектор И. А. Вахитов, дизайн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33"/>
                </a:solidFill>
                <a:latin typeface="Arial"/>
              </a:rPr>
              <a:t>С. В. Воевод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1470" b="54867"/>
          <a:stretch/>
        </p:blipFill>
        <p:spPr>
          <a:xfrm>
            <a:off x="395280" y="2492280"/>
            <a:ext cx="8424720" cy="394200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1547640" y="836640"/>
            <a:ext cx="7442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Омск. Кадетский корпус. Здание строилось для канцелярии Сибир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Казачьего войска (1822-1826). В 1826 году передано Казачьему училищ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преобразованному в 1 846 году в Сибирский кадетский корпу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С   1925 года здесь размещалась пехотная школа, затем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военное училище им. М. В. Фрунз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С 1999 года - Омский кадетский корпу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48653" t="50370" r="847" b="2678"/>
          <a:stretch/>
        </p:blipFill>
        <p:spPr>
          <a:xfrm>
            <a:off x="179280" y="479520"/>
            <a:ext cx="5616720" cy="55353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797440" y="2060640"/>
            <a:ext cx="317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Свято-Никольская церков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Ранее – Николь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казачья церков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(с 1916 года – соб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1833-1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65156" b="54299"/>
          <a:stretch/>
        </p:blipFill>
        <p:spPr>
          <a:xfrm>
            <a:off x="179280" y="260280"/>
            <a:ext cx="4503960" cy="62643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5079240" y="1916280"/>
            <a:ext cx="3844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Кафедр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Крестовоздвиженский со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18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Архитек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ФФ.Вагнер, К.Е.Лазарев, Э.И.Эз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34972" b="55337"/>
          <a:stretch/>
        </p:blipFill>
        <p:spPr>
          <a:xfrm>
            <a:off x="971640" y="1265400"/>
            <a:ext cx="7704000" cy="548928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912680" y="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Омск. Городской совет. Бывшая городская Дума. 1897-19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Архитекторы. Н.Е. Вараксин, Г.С. Бартков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39686" t="49847" r="0" b="3012"/>
          <a:stretch/>
        </p:blipFill>
        <p:spPr>
          <a:xfrm>
            <a:off x="1187280" y="1052640"/>
            <a:ext cx="6840720" cy="55753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765080" y="0"/>
            <a:ext cx="59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Омск. Железнодорожный вокзал. Конец 1890-х г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Реконструировался в 1914 году, в 1956-1958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2009" b="0"/>
          <a:stretch/>
        </p:blipFill>
        <p:spPr>
          <a:xfrm>
            <a:off x="324000" y="333360"/>
            <a:ext cx="4032000" cy="583236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4503240" y="1628640"/>
            <a:ext cx="441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Музей народного художника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К.П.Бе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Ранее – дом Ф.Ф.Штумпфа.1900-е 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49562" r="52116" b="2313"/>
          <a:stretch/>
        </p:blipFill>
        <p:spPr>
          <a:xfrm>
            <a:off x="250920" y="404640"/>
            <a:ext cx="5473440" cy="5832720"/>
          </a:xfrm>
          <a:prstGeom prst="rect">
            <a:avLst/>
          </a:prstGeom>
          <a:ln w="28440">
            <a:solidFill>
              <a:srgbClr val="990033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942160" y="1484280"/>
            <a:ext cx="312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Государст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университ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путей со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Здание строилось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Управление Ом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железной дорог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1914-1914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Автор проекта фаса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архитектор Ф.И.Лидва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Автор лепных раб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на фасаде и в интерьер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Скульптор В.Ф.Винк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1:30:25Z</dcterms:created>
  <dc:creator>Андрюха</dc:creator>
  <dc:description/>
  <dc:language>en-US</dc:language>
  <cp:lastModifiedBy>Андрюха</cp:lastModifiedBy>
  <dcterms:modified xsi:type="dcterms:W3CDTF">2010-10-03T12:00:03Z</dcterms:modified>
  <cp:revision>6</cp:revision>
  <dc:subject/>
  <dc:title>Слайд 1</dc:title>
</cp:coreProperties>
</file>