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CD3-B5DF-4238-913B-719A0ACC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1A2-AAAD-462E-94FF-4EED3052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528-A85D-4294-8AA5-80629C63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B6F-FEA9-4AE7-BF51-8DD4079B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E075-8A60-4467-82AC-D1FD27BA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B4E9-55C6-4F90-BAFC-81EFE047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5971-31A5-48BE-9A02-312C34AA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3CD1-8F12-454E-9878-9FCF65F0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19BD-DF3C-4D8F-9E42-B7FB8ECE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748B-0594-4334-86DF-B398B530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438F-06D5-47C2-BAC9-BAD42840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AC9-AEFC-416C-B543-95ED2FC4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FB06-3651-41E3-80CA-BF06191C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ED41-972E-42C6-B85A-18F339A1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03EA-F2F5-4C32-9BBF-95DDAC92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D4C1-7346-4884-9158-00D8888B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0F7F-C9C3-4231-9377-4F1A6F97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1391D-0C4B-47EC-942F-D8DD622F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12731-E998-4596-A69D-77C54939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4368-230B-48B9-87F8-7A049156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FA7FF-29C6-490F-8965-3632954E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A87B-3F37-4095-A084-EE2B7AD1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DA8-74C4-4CC8-8C77-E40C84B6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9879-DEB5-4DD6-92BE-254B0D90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C87F-4B2B-4163-8C59-9F630912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63E8-C963-4B3C-8C0E-8FDEB845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62D0-6A31-43C6-9437-8BA559F0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B54D1-D053-4F06-B53D-5AE1B173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8A8B3-CA47-490A-A473-2B393A14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45FD4-2ACE-47B7-8B55-19ED4B7F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B1A5F-8523-4C0C-89E8-D158D711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BCFD9-F324-4E70-82A1-C4F9E936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8ABBE-DA0C-409E-8849-311654A9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379-7F06-4A63-9767-375EAE98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97AA3-6AFF-416B-99AE-9333982F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ACF49-C06B-4702-8AD8-5E37EF04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88C76-5E13-4035-AE7C-8DA26CEB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7A521-28E5-43AD-BB3F-E148D9A3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BC99F-401D-4325-8554-013341AC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DEBF0-7D0E-4641-A45C-0D4CB031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2484-0E3C-4378-A69B-D1D51CA8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E9B97-262C-4C2B-9B57-986E2779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83BAD-8432-48D3-A4DF-81BD2DA0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26956-9786-4788-AF66-820B4C6D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DD1-A480-41A4-A761-95273F1F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0B185-EB42-4C67-8B97-302DBB32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5FC85-42D1-449D-81B4-3E469425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CCDC0-47BB-4CB6-8898-8299D729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238D9-2454-439B-953E-3B5BDAAF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E8363-717B-48F8-B66A-8D720C2E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9EC37-17DF-47B1-9B28-0CA3ABBD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3AD67-6D1A-4D17-A878-7D4098D8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AD1C2-C273-42B1-B143-BAC395B3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ACAE9-87EA-4099-9328-3D15BB2A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DCFE3-557B-4AB4-A984-FD56B388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735-B015-4338-A8EE-E65258F9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ABE2A-7E7F-4606-A8C3-416F870B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0A3AE-C7B2-43A1-A18B-BFDC98E4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C2BBC-3233-4B74-8AD9-23261F48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1EB5C-B320-4671-B1A8-5CCA1BC5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FF267-24DC-46A8-9CD9-DA99CC76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2B295-F820-461E-8867-02EEBB9C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ABFE2-7C44-4F2E-B7CF-A1EE3DDD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4F227-F503-4DF5-99E1-B36454FB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90032-0BA6-4E07-BFAA-76913431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8E53D-E635-49B5-B946-A97E8578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3B2-C428-4401-9F67-E10BCB08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7D569-D8F1-4DA5-87B1-8A44B595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58C51-74C6-47BC-86DF-45C4E09F3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1D748-9732-4478-8A52-3F6696A0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8D156-0FB5-4E84-819B-F7F14921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C8875-6171-4B90-A163-7909133D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DEA7B-AE42-4EE1-B412-786A3F0A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6840C-B9FC-49D5-A7F0-6B16BC45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A09EF-13A0-4512-B927-075CB317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D2EED-206C-4EC2-A4CE-C6BBFED3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35A63-54B8-4031-8973-2EEFA37C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0B4-42C5-478D-8FA4-CB2A6436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D4C2A-F0BE-480E-8B96-6575E29A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D00D1-B729-48E8-94AF-53C68D23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AEB62-8DFC-4DAB-A574-1666E52E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8EB81-7EFA-4EBA-98F7-9F5E752F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65750-1862-4743-9490-D26EFF1F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9CAF1-BCA0-4C64-802B-8C0703EA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EA1DA-AAF0-4ABB-8F28-A041A8EF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22768-7625-4C9C-B13C-23AA489A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A9037-DB73-4FE8-983E-B29D73A0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EFD25-DCDD-446D-B53D-4466DE0E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E20-0D8F-42D0-854A-10897D9B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F268B-F4D3-4055-BEAB-23DADD98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58332-6DA4-4264-9552-F9CB0459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B821E-4CE4-4152-A7D0-83315E67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83E55-BA0F-45A9-BCE4-83DEF4DD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46C61-2081-46EC-AE13-9DB85F59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F3C65-F6B4-4F0E-9682-44B1AF7A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27D6C-DB34-430B-9584-A1E0ED00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B7C6-825F-4B55-AF1C-38AA43038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2B86-DB28-4115-840F-4290D2EB1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2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3300-6C6D-41EE-B8FB-627079773B5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77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11CF-BE4A-455A-BE6A-01286826D8A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34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C917-97D2-4402-B8AB-87BDCBFEA9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78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92AD-E4CC-463D-BABD-E2EE5F5F35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2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2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2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1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CEF8-3E3D-438A-80C4-03CC41D5858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9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9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0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1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1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2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2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2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4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0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0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1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3A74-2329-4960-B5AC-7D918F746AF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" Target="slide2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3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2555640" y="4653000"/>
            <a:ext cx="5832360" cy="16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 Black"/>
              </a:rPr>
              <a:t>Подготовила учитель истории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 Black"/>
              </a:rPr>
              <a:t>МОУ Талаканской СОШ №6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 Black"/>
              </a:rPr>
              <a:t>Черткова Ольга Александров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79280" y="765000"/>
            <a:ext cx="6112080" cy="34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рам Святой Софи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Константинопол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18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9216720" cy="691200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2881080" cy="725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9efee"/>
                </a:solidFill>
                <a:latin typeface="Arial"/>
              </a:rPr>
              <a:t>ВИЗАНТИЯ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3" name=""/>
          <p:cNvSpPr/>
          <p:nvPr/>
        </p:nvSpPr>
        <p:spPr>
          <a:xfrm>
            <a:off x="395280" y="1557360"/>
            <a:ext cx="48261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Arial"/>
              </a:rPr>
              <a:t>Восточная Римская импер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6588000" y="1052640"/>
            <a:ext cx="1886040" cy="25956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 txBox="1"/>
          <p:nvPr/>
        </p:nvSpPr>
        <p:spPr>
          <a:xfrm>
            <a:off x="6983280" y="2997360"/>
            <a:ext cx="21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db93"/>
                </a:solid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Константинополь</a:t>
            </a:r>
            <a:endParaRPr b="1" lang="en-US" sz="1800" spc="1" strike="noStrike">
              <a:ln w="0">
                <a:noFill/>
              </a:ln>
              <a:solidFill>
                <a:srgbClr val="ffdb93"/>
              </a:solid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219640" y="2708280"/>
            <a:ext cx="3886200" cy="4292640"/>
          </a:xfrm>
          <a:custGeom>
            <a:avLst/>
            <a:gdLst/>
            <a:ahLst/>
            <a:rect l="l" t="t" r="r" b="b"/>
            <a:pathLst>
              <a:path w="2448" h="2704">
                <a:moveTo>
                  <a:pt x="16" y="2344"/>
                </a:moveTo>
                <a:cubicBezTo>
                  <a:pt x="11" y="2336"/>
                  <a:pt x="0" y="2330"/>
                  <a:pt x="0" y="2320"/>
                </a:cubicBezTo>
                <a:cubicBezTo>
                  <a:pt x="1" y="1725"/>
                  <a:pt x="1" y="1131"/>
                  <a:pt x="4" y="536"/>
                </a:cubicBezTo>
                <a:cubicBezTo>
                  <a:pt x="4" y="490"/>
                  <a:pt x="38" y="459"/>
                  <a:pt x="72" y="436"/>
                </a:cubicBezTo>
                <a:cubicBezTo>
                  <a:pt x="90" y="424"/>
                  <a:pt x="132" y="408"/>
                  <a:pt x="132" y="408"/>
                </a:cubicBezTo>
                <a:cubicBezTo>
                  <a:pt x="147" y="386"/>
                  <a:pt x="132" y="347"/>
                  <a:pt x="160" y="336"/>
                </a:cubicBezTo>
                <a:cubicBezTo>
                  <a:pt x="169" y="332"/>
                  <a:pt x="179" y="331"/>
                  <a:pt x="188" y="328"/>
                </a:cubicBezTo>
                <a:cubicBezTo>
                  <a:pt x="201" y="319"/>
                  <a:pt x="215" y="313"/>
                  <a:pt x="228" y="304"/>
                </a:cubicBezTo>
                <a:cubicBezTo>
                  <a:pt x="234" y="242"/>
                  <a:pt x="226" y="258"/>
                  <a:pt x="280" y="236"/>
                </a:cubicBezTo>
                <a:cubicBezTo>
                  <a:pt x="291" y="225"/>
                  <a:pt x="316" y="208"/>
                  <a:pt x="316" y="208"/>
                </a:cubicBezTo>
                <a:cubicBezTo>
                  <a:pt x="324" y="191"/>
                  <a:pt x="325" y="182"/>
                  <a:pt x="340" y="172"/>
                </a:cubicBezTo>
                <a:cubicBezTo>
                  <a:pt x="391" y="173"/>
                  <a:pt x="441" y="173"/>
                  <a:pt x="492" y="176"/>
                </a:cubicBezTo>
                <a:cubicBezTo>
                  <a:pt x="512" y="177"/>
                  <a:pt x="544" y="190"/>
                  <a:pt x="564" y="192"/>
                </a:cubicBezTo>
                <a:cubicBezTo>
                  <a:pt x="579" y="189"/>
                  <a:pt x="594" y="190"/>
                  <a:pt x="608" y="184"/>
                </a:cubicBezTo>
                <a:cubicBezTo>
                  <a:pt x="617" y="180"/>
                  <a:pt x="613" y="165"/>
                  <a:pt x="616" y="156"/>
                </a:cubicBezTo>
                <a:cubicBezTo>
                  <a:pt x="621" y="140"/>
                  <a:pt x="628" y="132"/>
                  <a:pt x="640" y="120"/>
                </a:cubicBezTo>
                <a:cubicBezTo>
                  <a:pt x="647" y="66"/>
                  <a:pt x="649" y="76"/>
                  <a:pt x="676" y="40"/>
                </a:cubicBezTo>
                <a:cubicBezTo>
                  <a:pt x="682" y="22"/>
                  <a:pt x="680" y="11"/>
                  <a:pt x="696" y="0"/>
                </a:cubicBezTo>
                <a:cubicBezTo>
                  <a:pt x="737" y="8"/>
                  <a:pt x="776" y="18"/>
                  <a:pt x="816" y="28"/>
                </a:cubicBezTo>
                <a:cubicBezTo>
                  <a:pt x="829" y="41"/>
                  <a:pt x="844" y="49"/>
                  <a:pt x="860" y="56"/>
                </a:cubicBezTo>
                <a:cubicBezTo>
                  <a:pt x="868" y="59"/>
                  <a:pt x="884" y="64"/>
                  <a:pt x="884" y="64"/>
                </a:cubicBezTo>
                <a:cubicBezTo>
                  <a:pt x="889" y="80"/>
                  <a:pt x="900" y="81"/>
                  <a:pt x="908" y="96"/>
                </a:cubicBezTo>
                <a:cubicBezTo>
                  <a:pt x="915" y="110"/>
                  <a:pt x="922" y="125"/>
                  <a:pt x="928" y="140"/>
                </a:cubicBezTo>
                <a:cubicBezTo>
                  <a:pt x="907" y="172"/>
                  <a:pt x="904" y="169"/>
                  <a:pt x="868" y="176"/>
                </a:cubicBezTo>
                <a:cubicBezTo>
                  <a:pt x="845" y="211"/>
                  <a:pt x="857" y="187"/>
                  <a:pt x="864" y="272"/>
                </a:cubicBezTo>
                <a:cubicBezTo>
                  <a:pt x="865" y="288"/>
                  <a:pt x="884" y="316"/>
                  <a:pt x="884" y="316"/>
                </a:cubicBezTo>
                <a:cubicBezTo>
                  <a:pt x="872" y="395"/>
                  <a:pt x="887" y="347"/>
                  <a:pt x="868" y="380"/>
                </a:cubicBezTo>
                <a:cubicBezTo>
                  <a:pt x="860" y="394"/>
                  <a:pt x="844" y="420"/>
                  <a:pt x="844" y="420"/>
                </a:cubicBezTo>
                <a:cubicBezTo>
                  <a:pt x="859" y="442"/>
                  <a:pt x="844" y="425"/>
                  <a:pt x="864" y="436"/>
                </a:cubicBezTo>
                <a:cubicBezTo>
                  <a:pt x="872" y="441"/>
                  <a:pt x="888" y="452"/>
                  <a:pt x="888" y="452"/>
                </a:cubicBezTo>
                <a:cubicBezTo>
                  <a:pt x="902" y="473"/>
                  <a:pt x="905" y="516"/>
                  <a:pt x="924" y="520"/>
                </a:cubicBezTo>
                <a:cubicBezTo>
                  <a:pt x="937" y="523"/>
                  <a:pt x="951" y="523"/>
                  <a:pt x="964" y="524"/>
                </a:cubicBezTo>
                <a:cubicBezTo>
                  <a:pt x="993" y="534"/>
                  <a:pt x="981" y="527"/>
                  <a:pt x="1000" y="540"/>
                </a:cubicBezTo>
                <a:cubicBezTo>
                  <a:pt x="1087" y="529"/>
                  <a:pt x="1098" y="524"/>
                  <a:pt x="1208" y="536"/>
                </a:cubicBezTo>
                <a:cubicBezTo>
                  <a:pt x="1218" y="537"/>
                  <a:pt x="1222" y="552"/>
                  <a:pt x="1232" y="556"/>
                </a:cubicBezTo>
                <a:cubicBezTo>
                  <a:pt x="1240" y="559"/>
                  <a:pt x="1256" y="564"/>
                  <a:pt x="1256" y="564"/>
                </a:cubicBezTo>
                <a:cubicBezTo>
                  <a:pt x="1267" y="559"/>
                  <a:pt x="1287" y="560"/>
                  <a:pt x="1288" y="548"/>
                </a:cubicBezTo>
                <a:cubicBezTo>
                  <a:pt x="1293" y="501"/>
                  <a:pt x="1280" y="515"/>
                  <a:pt x="1324" y="504"/>
                </a:cubicBezTo>
                <a:cubicBezTo>
                  <a:pt x="1345" y="490"/>
                  <a:pt x="1359" y="486"/>
                  <a:pt x="1384" y="480"/>
                </a:cubicBezTo>
                <a:cubicBezTo>
                  <a:pt x="1406" y="447"/>
                  <a:pt x="1428" y="442"/>
                  <a:pt x="1464" y="424"/>
                </a:cubicBezTo>
                <a:cubicBezTo>
                  <a:pt x="1472" y="425"/>
                  <a:pt x="1480" y="426"/>
                  <a:pt x="1488" y="428"/>
                </a:cubicBezTo>
                <a:cubicBezTo>
                  <a:pt x="1496" y="430"/>
                  <a:pt x="1512" y="436"/>
                  <a:pt x="1512" y="436"/>
                </a:cubicBezTo>
                <a:cubicBezTo>
                  <a:pt x="1531" y="464"/>
                  <a:pt x="1589" y="458"/>
                  <a:pt x="1616" y="460"/>
                </a:cubicBezTo>
                <a:cubicBezTo>
                  <a:pt x="1645" y="470"/>
                  <a:pt x="1675" y="482"/>
                  <a:pt x="1704" y="488"/>
                </a:cubicBezTo>
                <a:cubicBezTo>
                  <a:pt x="1732" y="507"/>
                  <a:pt x="1744" y="493"/>
                  <a:pt x="1764" y="476"/>
                </a:cubicBezTo>
                <a:cubicBezTo>
                  <a:pt x="1771" y="470"/>
                  <a:pt x="1788" y="460"/>
                  <a:pt x="1788" y="460"/>
                </a:cubicBezTo>
                <a:cubicBezTo>
                  <a:pt x="1819" y="468"/>
                  <a:pt x="1849" y="476"/>
                  <a:pt x="1880" y="484"/>
                </a:cubicBezTo>
                <a:cubicBezTo>
                  <a:pt x="1884" y="487"/>
                  <a:pt x="1889" y="489"/>
                  <a:pt x="1892" y="492"/>
                </a:cubicBezTo>
                <a:cubicBezTo>
                  <a:pt x="1895" y="495"/>
                  <a:pt x="1896" y="501"/>
                  <a:pt x="1900" y="504"/>
                </a:cubicBezTo>
                <a:cubicBezTo>
                  <a:pt x="1908" y="510"/>
                  <a:pt x="1926" y="517"/>
                  <a:pt x="1936" y="520"/>
                </a:cubicBezTo>
                <a:cubicBezTo>
                  <a:pt x="1958" y="486"/>
                  <a:pt x="1931" y="521"/>
                  <a:pt x="2012" y="500"/>
                </a:cubicBezTo>
                <a:cubicBezTo>
                  <a:pt x="2017" y="499"/>
                  <a:pt x="2017" y="491"/>
                  <a:pt x="2020" y="488"/>
                </a:cubicBezTo>
                <a:cubicBezTo>
                  <a:pt x="2030" y="478"/>
                  <a:pt x="2048" y="471"/>
                  <a:pt x="2060" y="464"/>
                </a:cubicBezTo>
                <a:cubicBezTo>
                  <a:pt x="2070" y="458"/>
                  <a:pt x="2092" y="448"/>
                  <a:pt x="2092" y="448"/>
                </a:cubicBezTo>
                <a:cubicBezTo>
                  <a:pt x="2081" y="431"/>
                  <a:pt x="2084" y="426"/>
                  <a:pt x="2064" y="416"/>
                </a:cubicBezTo>
                <a:cubicBezTo>
                  <a:pt x="2055" y="402"/>
                  <a:pt x="2044" y="395"/>
                  <a:pt x="2064" y="388"/>
                </a:cubicBezTo>
                <a:cubicBezTo>
                  <a:pt x="2094" y="391"/>
                  <a:pt x="2127" y="390"/>
                  <a:pt x="2156" y="400"/>
                </a:cubicBezTo>
                <a:cubicBezTo>
                  <a:pt x="2173" y="451"/>
                  <a:pt x="2265" y="423"/>
                  <a:pt x="2296" y="424"/>
                </a:cubicBezTo>
                <a:cubicBezTo>
                  <a:pt x="2318" y="438"/>
                  <a:pt x="2310" y="458"/>
                  <a:pt x="2320" y="480"/>
                </a:cubicBezTo>
                <a:cubicBezTo>
                  <a:pt x="2326" y="495"/>
                  <a:pt x="2342" y="501"/>
                  <a:pt x="2348" y="516"/>
                </a:cubicBezTo>
                <a:cubicBezTo>
                  <a:pt x="2363" y="549"/>
                  <a:pt x="2366" y="587"/>
                  <a:pt x="2380" y="620"/>
                </a:cubicBezTo>
                <a:cubicBezTo>
                  <a:pt x="2388" y="638"/>
                  <a:pt x="2398" y="654"/>
                  <a:pt x="2404" y="672"/>
                </a:cubicBezTo>
                <a:cubicBezTo>
                  <a:pt x="2348" y="691"/>
                  <a:pt x="2388" y="680"/>
                  <a:pt x="2280" y="684"/>
                </a:cubicBezTo>
                <a:cubicBezTo>
                  <a:pt x="2283" y="710"/>
                  <a:pt x="2288" y="732"/>
                  <a:pt x="2296" y="756"/>
                </a:cubicBezTo>
                <a:cubicBezTo>
                  <a:pt x="2300" y="813"/>
                  <a:pt x="2293" y="825"/>
                  <a:pt x="2340" y="848"/>
                </a:cubicBezTo>
                <a:cubicBezTo>
                  <a:pt x="2344" y="865"/>
                  <a:pt x="2350" y="877"/>
                  <a:pt x="2360" y="892"/>
                </a:cubicBezTo>
                <a:cubicBezTo>
                  <a:pt x="2370" y="949"/>
                  <a:pt x="2351" y="945"/>
                  <a:pt x="2312" y="964"/>
                </a:cubicBezTo>
                <a:cubicBezTo>
                  <a:pt x="2303" y="977"/>
                  <a:pt x="2293" y="983"/>
                  <a:pt x="2284" y="996"/>
                </a:cubicBezTo>
                <a:cubicBezTo>
                  <a:pt x="2290" y="1032"/>
                  <a:pt x="2296" y="1079"/>
                  <a:pt x="2312" y="1112"/>
                </a:cubicBezTo>
                <a:cubicBezTo>
                  <a:pt x="2315" y="1117"/>
                  <a:pt x="2320" y="1120"/>
                  <a:pt x="2324" y="1124"/>
                </a:cubicBezTo>
                <a:cubicBezTo>
                  <a:pt x="2327" y="1128"/>
                  <a:pt x="2330" y="1132"/>
                  <a:pt x="2332" y="1136"/>
                </a:cubicBezTo>
                <a:cubicBezTo>
                  <a:pt x="2344" y="1163"/>
                  <a:pt x="2342" y="1191"/>
                  <a:pt x="2368" y="1208"/>
                </a:cubicBezTo>
                <a:cubicBezTo>
                  <a:pt x="2364" y="1209"/>
                  <a:pt x="2360" y="1213"/>
                  <a:pt x="2356" y="1212"/>
                </a:cubicBezTo>
                <a:cubicBezTo>
                  <a:pt x="2350" y="1210"/>
                  <a:pt x="2346" y="1196"/>
                  <a:pt x="2340" y="1200"/>
                </a:cubicBezTo>
                <a:cubicBezTo>
                  <a:pt x="2334" y="1204"/>
                  <a:pt x="2342" y="1214"/>
                  <a:pt x="2344" y="1220"/>
                </a:cubicBezTo>
                <a:cubicBezTo>
                  <a:pt x="2349" y="1234"/>
                  <a:pt x="2366" y="1242"/>
                  <a:pt x="2376" y="1252"/>
                </a:cubicBezTo>
                <a:cubicBezTo>
                  <a:pt x="2393" y="1304"/>
                  <a:pt x="2389" y="1357"/>
                  <a:pt x="2348" y="1388"/>
                </a:cubicBezTo>
                <a:cubicBezTo>
                  <a:pt x="2335" y="1414"/>
                  <a:pt x="2342" y="1442"/>
                  <a:pt x="2360" y="1464"/>
                </a:cubicBezTo>
                <a:cubicBezTo>
                  <a:pt x="2368" y="1473"/>
                  <a:pt x="2386" y="1477"/>
                  <a:pt x="2396" y="1484"/>
                </a:cubicBezTo>
                <a:cubicBezTo>
                  <a:pt x="2409" y="1509"/>
                  <a:pt x="2405" y="1537"/>
                  <a:pt x="2420" y="1560"/>
                </a:cubicBezTo>
                <a:cubicBezTo>
                  <a:pt x="2425" y="1579"/>
                  <a:pt x="2433" y="1600"/>
                  <a:pt x="2444" y="1616"/>
                </a:cubicBezTo>
                <a:cubicBezTo>
                  <a:pt x="2441" y="1643"/>
                  <a:pt x="2442" y="1670"/>
                  <a:pt x="2436" y="1696"/>
                </a:cubicBezTo>
                <a:cubicBezTo>
                  <a:pt x="2432" y="1713"/>
                  <a:pt x="2418" y="1727"/>
                  <a:pt x="2412" y="1744"/>
                </a:cubicBezTo>
                <a:cubicBezTo>
                  <a:pt x="2414" y="1791"/>
                  <a:pt x="2434" y="1875"/>
                  <a:pt x="2404" y="1920"/>
                </a:cubicBezTo>
                <a:cubicBezTo>
                  <a:pt x="2381" y="2000"/>
                  <a:pt x="2389" y="1992"/>
                  <a:pt x="2380" y="2116"/>
                </a:cubicBezTo>
                <a:cubicBezTo>
                  <a:pt x="2379" y="2129"/>
                  <a:pt x="2368" y="2140"/>
                  <a:pt x="2364" y="2152"/>
                </a:cubicBezTo>
                <a:cubicBezTo>
                  <a:pt x="2378" y="2195"/>
                  <a:pt x="2362" y="2141"/>
                  <a:pt x="2372" y="2252"/>
                </a:cubicBezTo>
                <a:cubicBezTo>
                  <a:pt x="2375" y="2284"/>
                  <a:pt x="2382" y="2321"/>
                  <a:pt x="2388" y="2352"/>
                </a:cubicBezTo>
                <a:cubicBezTo>
                  <a:pt x="2381" y="2394"/>
                  <a:pt x="2387" y="2419"/>
                  <a:pt x="2348" y="2396"/>
                </a:cubicBezTo>
                <a:cubicBezTo>
                  <a:pt x="2338" y="2381"/>
                  <a:pt x="2328" y="2357"/>
                  <a:pt x="2312" y="2348"/>
                </a:cubicBezTo>
                <a:cubicBezTo>
                  <a:pt x="2298" y="2340"/>
                  <a:pt x="2272" y="2324"/>
                  <a:pt x="2272" y="2324"/>
                </a:cubicBezTo>
                <a:cubicBezTo>
                  <a:pt x="2254" y="2296"/>
                  <a:pt x="2265" y="2303"/>
                  <a:pt x="2244" y="2296"/>
                </a:cubicBezTo>
                <a:cubicBezTo>
                  <a:pt x="2233" y="2273"/>
                  <a:pt x="2216" y="2270"/>
                  <a:pt x="2196" y="2256"/>
                </a:cubicBezTo>
                <a:cubicBezTo>
                  <a:pt x="2185" y="2239"/>
                  <a:pt x="2172" y="2219"/>
                  <a:pt x="2156" y="2208"/>
                </a:cubicBezTo>
                <a:cubicBezTo>
                  <a:pt x="2145" y="2176"/>
                  <a:pt x="2161" y="2213"/>
                  <a:pt x="2140" y="2192"/>
                </a:cubicBezTo>
                <a:cubicBezTo>
                  <a:pt x="2134" y="2186"/>
                  <a:pt x="2133" y="2175"/>
                  <a:pt x="2128" y="2168"/>
                </a:cubicBezTo>
                <a:cubicBezTo>
                  <a:pt x="2112" y="2145"/>
                  <a:pt x="2099" y="2137"/>
                  <a:pt x="2072" y="2128"/>
                </a:cubicBezTo>
                <a:cubicBezTo>
                  <a:pt x="2039" y="2136"/>
                  <a:pt x="2042" y="2166"/>
                  <a:pt x="2068" y="2180"/>
                </a:cubicBezTo>
                <a:cubicBezTo>
                  <a:pt x="2075" y="2184"/>
                  <a:pt x="2085" y="2184"/>
                  <a:pt x="2092" y="2188"/>
                </a:cubicBezTo>
                <a:cubicBezTo>
                  <a:pt x="2099" y="2192"/>
                  <a:pt x="2105" y="2196"/>
                  <a:pt x="2112" y="2200"/>
                </a:cubicBezTo>
                <a:cubicBezTo>
                  <a:pt x="2123" y="2217"/>
                  <a:pt x="2139" y="2229"/>
                  <a:pt x="2148" y="2248"/>
                </a:cubicBezTo>
                <a:cubicBezTo>
                  <a:pt x="2153" y="2258"/>
                  <a:pt x="2165" y="2283"/>
                  <a:pt x="2172" y="2288"/>
                </a:cubicBezTo>
                <a:cubicBezTo>
                  <a:pt x="2201" y="2307"/>
                  <a:pt x="2189" y="2297"/>
                  <a:pt x="2208" y="2316"/>
                </a:cubicBezTo>
                <a:cubicBezTo>
                  <a:pt x="2216" y="2346"/>
                  <a:pt x="2223" y="2348"/>
                  <a:pt x="2252" y="2360"/>
                </a:cubicBezTo>
                <a:cubicBezTo>
                  <a:pt x="2260" y="2372"/>
                  <a:pt x="2271" y="2382"/>
                  <a:pt x="2276" y="2396"/>
                </a:cubicBezTo>
                <a:cubicBezTo>
                  <a:pt x="2279" y="2404"/>
                  <a:pt x="2281" y="2412"/>
                  <a:pt x="2284" y="2420"/>
                </a:cubicBezTo>
                <a:cubicBezTo>
                  <a:pt x="2285" y="2424"/>
                  <a:pt x="2288" y="2432"/>
                  <a:pt x="2288" y="2432"/>
                </a:cubicBezTo>
                <a:cubicBezTo>
                  <a:pt x="2292" y="2463"/>
                  <a:pt x="2321" y="2528"/>
                  <a:pt x="2348" y="2548"/>
                </a:cubicBezTo>
                <a:cubicBezTo>
                  <a:pt x="2352" y="2551"/>
                  <a:pt x="2373" y="2558"/>
                  <a:pt x="2380" y="2560"/>
                </a:cubicBezTo>
                <a:cubicBezTo>
                  <a:pt x="2395" y="2575"/>
                  <a:pt x="2408" y="2591"/>
                  <a:pt x="2428" y="2596"/>
                </a:cubicBezTo>
                <a:cubicBezTo>
                  <a:pt x="2436" y="2619"/>
                  <a:pt x="2441" y="2642"/>
                  <a:pt x="2448" y="2664"/>
                </a:cubicBezTo>
                <a:cubicBezTo>
                  <a:pt x="2409" y="2677"/>
                  <a:pt x="2378" y="2669"/>
                  <a:pt x="2336" y="2664"/>
                </a:cubicBezTo>
                <a:cubicBezTo>
                  <a:pt x="2222" y="2626"/>
                  <a:pt x="2066" y="2623"/>
                  <a:pt x="1952" y="2680"/>
                </a:cubicBezTo>
                <a:cubicBezTo>
                  <a:pt x="1923" y="2695"/>
                  <a:pt x="1901" y="2699"/>
                  <a:pt x="1868" y="2704"/>
                </a:cubicBezTo>
                <a:cubicBezTo>
                  <a:pt x="1841" y="2700"/>
                  <a:pt x="1813" y="2701"/>
                  <a:pt x="1788" y="2692"/>
                </a:cubicBezTo>
                <a:cubicBezTo>
                  <a:pt x="1733" y="2671"/>
                  <a:pt x="1669" y="2633"/>
                  <a:pt x="1620" y="2600"/>
                </a:cubicBezTo>
                <a:cubicBezTo>
                  <a:pt x="1616" y="2587"/>
                  <a:pt x="1600" y="2568"/>
                  <a:pt x="1588" y="2564"/>
                </a:cubicBezTo>
                <a:cubicBezTo>
                  <a:pt x="1566" y="2546"/>
                  <a:pt x="1550" y="2513"/>
                  <a:pt x="1524" y="2500"/>
                </a:cubicBezTo>
                <a:cubicBezTo>
                  <a:pt x="1519" y="2498"/>
                  <a:pt x="1489" y="2490"/>
                  <a:pt x="1480" y="2488"/>
                </a:cubicBezTo>
                <a:cubicBezTo>
                  <a:pt x="1474" y="2471"/>
                  <a:pt x="1462" y="2466"/>
                  <a:pt x="1448" y="2456"/>
                </a:cubicBezTo>
                <a:cubicBezTo>
                  <a:pt x="1434" y="2386"/>
                  <a:pt x="1315" y="2399"/>
                  <a:pt x="1268" y="2396"/>
                </a:cubicBezTo>
                <a:cubicBezTo>
                  <a:pt x="1227" y="2382"/>
                  <a:pt x="1244" y="2384"/>
                  <a:pt x="1176" y="2376"/>
                </a:cubicBezTo>
                <a:cubicBezTo>
                  <a:pt x="1152" y="2360"/>
                  <a:pt x="1142" y="2350"/>
                  <a:pt x="1120" y="2328"/>
                </a:cubicBezTo>
                <a:cubicBezTo>
                  <a:pt x="1114" y="2322"/>
                  <a:pt x="1104" y="2323"/>
                  <a:pt x="1096" y="2320"/>
                </a:cubicBezTo>
                <a:cubicBezTo>
                  <a:pt x="1045" y="2303"/>
                  <a:pt x="989" y="2315"/>
                  <a:pt x="936" y="2312"/>
                </a:cubicBezTo>
                <a:cubicBezTo>
                  <a:pt x="905" y="2322"/>
                  <a:pt x="916" y="2336"/>
                  <a:pt x="896" y="2352"/>
                </a:cubicBezTo>
                <a:cubicBezTo>
                  <a:pt x="879" y="2365"/>
                  <a:pt x="838" y="2382"/>
                  <a:pt x="816" y="2388"/>
                </a:cubicBezTo>
                <a:cubicBezTo>
                  <a:pt x="694" y="2369"/>
                  <a:pt x="725" y="2371"/>
                  <a:pt x="516" y="2384"/>
                </a:cubicBezTo>
                <a:cubicBezTo>
                  <a:pt x="500" y="2385"/>
                  <a:pt x="500" y="2416"/>
                  <a:pt x="484" y="2420"/>
                </a:cubicBezTo>
                <a:cubicBezTo>
                  <a:pt x="414" y="2438"/>
                  <a:pt x="348" y="2463"/>
                  <a:pt x="276" y="2472"/>
                </a:cubicBezTo>
                <a:cubicBezTo>
                  <a:pt x="249" y="2469"/>
                  <a:pt x="222" y="2470"/>
                  <a:pt x="196" y="2464"/>
                </a:cubicBezTo>
                <a:cubicBezTo>
                  <a:pt x="191" y="2463"/>
                  <a:pt x="191" y="2455"/>
                  <a:pt x="188" y="2452"/>
                </a:cubicBezTo>
                <a:cubicBezTo>
                  <a:pt x="178" y="2442"/>
                  <a:pt x="164" y="2432"/>
                  <a:pt x="152" y="2424"/>
                </a:cubicBezTo>
                <a:cubicBezTo>
                  <a:pt x="140" y="2406"/>
                  <a:pt x="129" y="2404"/>
                  <a:pt x="108" y="2400"/>
                </a:cubicBezTo>
                <a:cubicBezTo>
                  <a:pt x="80" y="2381"/>
                  <a:pt x="41" y="2385"/>
                  <a:pt x="8" y="2372"/>
                </a:cubicBezTo>
                <a:cubicBezTo>
                  <a:pt x="1" y="2352"/>
                  <a:pt x="14" y="2339"/>
                  <a:pt x="20" y="2320"/>
                </a:cubicBezTo>
                <a:cubicBezTo>
                  <a:pt x="17" y="2308"/>
                  <a:pt x="16" y="2296"/>
                  <a:pt x="12" y="2284"/>
                </a:cubicBezTo>
                <a:cubicBezTo>
                  <a:pt x="10" y="2278"/>
                  <a:pt x="4" y="2268"/>
                  <a:pt x="4" y="2268"/>
                </a:cubicBezTo>
              </a:path>
            </a:pathLst>
          </a:custGeom>
          <a:solidFill>
            <a:srgbClr val="ff3300">
              <a:alpha val="27000"/>
            </a:srgbClr>
          </a:solidFill>
          <a:ln w="9360">
            <a:solidFill>
              <a:srgbClr val="ffff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659640" y="3429000"/>
            <a:ext cx="216000" cy="2221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3311640" cy="725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ЮСТИНИАН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1" name=""/>
          <p:cNvSpPr/>
          <p:nvPr/>
        </p:nvSpPr>
        <p:spPr>
          <a:xfrm>
            <a:off x="468360" y="2708280"/>
            <a:ext cx="3887640" cy="16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66"/>
                </a:solidFill>
                <a:latin typeface="Arial"/>
              </a:rPr>
              <a:t>Могущественный византийский император известный своим кодексом и постройкой храма    Святой Соф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3"/>
          <a:srcRect l="0" t="1427" r="0" b="0"/>
          <a:stretch/>
        </p:blipFill>
        <p:spPr>
          <a:xfrm>
            <a:off x="4572000" y="1052640"/>
            <a:ext cx="4119480" cy="504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68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839080" y="6572160"/>
            <a:ext cx="30492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360" y="-1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90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Собор святой Софии в Константинополе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е замечательное достижение византийских зодчих – центральный купол Софии, составляющий в диаметре 31,5 метра. Снизу купол кажется парящим в воздухе, т.к. тонкие части стены между окнами не видны. Оптический обман породил легенду о том, что купол подвешен с неба на золотой цеп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rcRect l="2301" t="0" r="2301" b="5369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23:48:39Z</dcterms:created>
  <dc:creator>1</dc:creator>
  <dc:description/>
  <dc:language>en-US</dc:language>
  <cp:lastModifiedBy>Ольга</cp:lastModifiedBy>
  <dcterms:modified xsi:type="dcterms:W3CDTF">2010-02-05T14:25:29Z</dcterms:modified>
  <cp:revision>3</cp:revision>
  <dc:subject/>
  <dc:title>Слайд 1</dc:title>
</cp:coreProperties>
</file>