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4.gif" ContentType="image/gif"/>
  <Override PartName="/ppt/media/image6.jpeg" ContentType="image/jpeg"/>
  <Override PartName="/ppt/media/image9.jpeg" ContentType="image/jpeg"/>
  <Override PartName="/ppt/media/image11.jpeg" ContentType="image/jpeg"/>
  <Override PartName="/ppt/media/image5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694B6-D1E6-4B87-8B82-E04CC8BCA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697C4-7542-4642-9995-ED7507C6A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238DD-15F6-4CBC-9752-C91EDF589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AD896-8F2F-4F0D-B7A3-9F36BC1A3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D0C76-9D26-4002-A3F1-3D2D327F7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9F5C5-D77B-4EBA-A550-CDECF7CC7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8B3F9-E645-4B66-8C8B-DA274156A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E991D-9691-4C05-A63B-F6FADDDCF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9408F-736C-4102-A362-09E10C8E7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C5BBC-0B6E-4290-9833-280E40BF8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B01FC-3D18-443C-85D1-4218B46AA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74667-BDAA-45F8-B149-E4EC2547F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0DDBC-A537-4B15-8BAD-657E3F7A1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016BD-43A9-44CA-B7D2-511C27262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63A0D-E8E2-4EA7-9EB3-2948D891B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8A266-2B8E-4365-BAB5-9918EEBD7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FA463-465C-4C02-B826-70F74B618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8EEC9D-43B4-43EA-A255-20F90ED75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51C282-56B1-4FE8-B5A6-D9EB26A9B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208E6D-6B0D-4A1C-AE05-13F1FD96A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14908E-0CB9-41C7-A40B-601A29F55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B8772D-42E1-47DA-98C0-67A0D4D04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AF5D8-DDDB-4F67-93F4-4AB0D304E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117A43-D03E-46A4-B9DB-5BA2209D5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0CAA16-7EA5-41C2-93B0-D8C4BA5AE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16C128-CA62-4ADD-AC6A-887E1D1D7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4F1592-CD94-4776-A8C5-708C06B9C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6F8BCC-14B9-46A4-AB18-4272C411C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FE6F25-D502-43D9-B057-A6F485284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388313-D8E3-4BF1-8896-A8960ED16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35F1F1-ACC2-43D5-B9AC-0F197FEC4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14D76A-72B1-494B-93EA-3026FF6DC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172635-342B-411F-9F14-C6E122DDE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39D84-81D2-487F-9BEC-B5DEEE314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29D247-1D6B-4545-9467-B8E2D559B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67EEB2-8DA0-456B-A577-EAC504EFC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003F47-52C9-47C6-8687-C5625C087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C2A078-8984-469B-8151-D916AEA01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AA0217-6E2C-447E-9E15-9E969D63C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BC0B0B-F2DE-4BF7-B708-297DDF6B0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4F532F-104D-41D5-94CC-5DDF6BDA5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C6F008-735A-424B-AD04-2A4896E8F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1249FF-2433-4AFC-842D-A52F56E88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77E1F0-F281-4BC2-9295-457A45B56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D80B5-9627-4252-B49F-6DE089D86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FF1DC9-D6C0-48CA-B66D-ECEE2C4FF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D23EF1-E92E-428D-9786-DF76C9ED9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31ACBA-D027-42C5-8835-7A9EE5744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3912B9-0203-4D96-8883-C62C077FD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A27B1B-FC39-42E0-B6CF-B78711AE3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B5DA5C-3FC3-4933-BB5F-BB4D58E6C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6EADF2-C606-4CE2-8870-1552F725B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F3C964-DCF5-4A13-9816-D6905CEAC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54EC3C-0B5E-4BF3-8E1D-8017C9506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261DCE-47F9-4EFC-9CCD-7168C812B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645B4-0066-47FA-BE92-A3EEA54F8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CBF520-D233-46A1-9D2C-A4871C950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DCC95E-F90C-4382-9C0C-2B43C700C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96FFAF-3148-4010-B20D-6F93CE7EE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4489E2-A0D4-495C-9051-F280652D0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4D36DB-3356-459F-918A-AB788C10A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F9903F-836B-4B84-8C85-2B6D12A00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62BF07-736B-440A-89C6-F17460803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CA56AD-A7B1-47A7-81D5-5CF10087D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B52F7D-1A5F-485B-BB3F-36299B7BB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2B9CEB-79FC-4193-8B9C-136240CA7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AD25D-4D7E-4E8A-9865-F2087EE22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29F150-4F69-460D-AA0E-CDF82F616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2E871C-1B6A-416D-B8AD-E025D8862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1BA615-A73E-4DC7-B05E-A243D61B8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346560-CD06-46A5-9A7D-E7B7E4326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DF16DE-6301-4D94-A0B9-E7D1DCC40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5A2F60-C8D0-44F5-B180-FB7D6FB59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ABC654-1B15-4066-9652-49F12E5EC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B6FC94-AE51-424E-AA5E-67062DAA6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B78BBB-4DB4-4127-9B8A-97E2144F9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DCD709-1AE2-4FD6-AD16-A27009AE9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72584-467C-4E2A-909F-BF8E23A2A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1DF84D-715B-496B-8EA3-ECE97E62A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267824-15BE-426D-AC8B-6AA402207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CC792C-81F9-4997-822A-FDFCAE68E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183FE7-E926-4965-914A-2E9AD5F54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51B0EC-B54E-453D-A5E6-81043E4F5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ECF7A4-6F07-4246-8D92-28A05C420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5CEB5B-BFF3-4B29-9393-3AC6828B0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2B5A94-0C22-4A6B-A188-1BC4EA8FC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F500C4-A373-434C-88F5-1C8E65D7C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C7053E-EA90-4DB7-A897-6734D9BAC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9DFEC-2860-4EF7-A5CF-19232C65A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16BE48-F72A-4ABD-AF01-64EEDC739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C60CB8-2FBD-4692-A764-3511EB0D6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D6E728-1374-4C21-A6D7-E9EAFD94F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7BB552-2F03-452E-9585-A9ACCCEE0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A796B0-770F-4CD4-8444-D80287D6B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78EBFD-CF89-4DC8-AA03-46A7368EC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407211-8242-43E6-9618-40F00ECFB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A8B3C-AA0D-48EB-87A2-08D1566F17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CDBE3-3690-4309-9684-1F0515A238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20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922D1-B4E3-4987-BD01-0055937D1071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77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8EA47-8112-4753-8F15-968F596C786C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b9efee"/>
              </a:buClr>
              <a:buFont typeface="Garamond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ccff66"/>
              </a:buClr>
              <a:buFont typeface="Garamond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234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92431-7815-4130-A2AB-E63DAA3184FE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7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278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0" name="PlaceHolder 1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30EAC-27B8-4E6F-9251-959FC7406AD2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32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32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32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2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32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3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33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33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33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33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33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34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34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34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5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5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5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36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36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36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36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37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37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37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38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38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38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39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39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39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0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40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40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40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41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41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41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41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42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42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42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43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3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5C7B9-8E32-4F73-9D16-853E5442DFDC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49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49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0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50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50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50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0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50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50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0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51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1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51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1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51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1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51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2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52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2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52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2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52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3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53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3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53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3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53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3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54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4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54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4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54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4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54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5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55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5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55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5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55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6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56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6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56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6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56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6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57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57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7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57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7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57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8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58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8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58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8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58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8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59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9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9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59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9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9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59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9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9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59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0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60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60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60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60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1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61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1E414-6FFA-4794-B333-95D46705C918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" Target="slide2.xml"/><Relationship Id="rId5" Type="http://schemas.openxmlformats.org/officeDocument/2006/relationships/image" Target="../media/image4.gif"/><Relationship Id="rId6" Type="http://schemas.openxmlformats.org/officeDocument/2006/relationships/slideLayout" Target="../slideLayouts/slideLayout3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" Target="slide2.xml"/><Relationship Id="rId5" Type="http://schemas.openxmlformats.org/officeDocument/2006/relationships/image" Target="../media/image4.gif"/><Relationship Id="rId6" Type="http://schemas.openxmlformats.org/officeDocument/2006/relationships/slideLayout" Target="../slideLayouts/slideLayout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/>
          </p:nvPr>
        </p:nvSpPr>
        <p:spPr>
          <a:xfrm>
            <a:off x="2555640" y="4653000"/>
            <a:ext cx="5832360" cy="16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cc00"/>
                </a:solidFill>
                <a:latin typeface="Arial Black"/>
              </a:rPr>
              <a:t>Подготовила учитель истории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cc00"/>
                </a:solidFill>
                <a:latin typeface="Arial Black"/>
              </a:rPr>
              <a:t>МОУ Талаканской СОШ №6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cc00"/>
                </a:solidFill>
                <a:latin typeface="Arial Black"/>
              </a:rPr>
              <a:t>Черткова Ольга Александровна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70" name=""/>
          <p:cNvSpPr txBox="1"/>
          <p:nvPr/>
        </p:nvSpPr>
        <p:spPr>
          <a:xfrm>
            <a:off x="179280" y="765000"/>
            <a:ext cx="6112080" cy="3465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9028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Храм Святой Софии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в Константинополе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70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2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09" name="" descr=""/>
          <p:cNvPicPr/>
          <p:nvPr/>
        </p:nvPicPr>
        <p:blipFill>
          <a:blip r:embed="rId1"/>
          <a:stretch/>
        </p:blipFill>
        <p:spPr>
          <a:xfrm>
            <a:off x="1692360" y="189000"/>
            <a:ext cx="5184720" cy="66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1" name="" descr=""/>
          <p:cNvPicPr/>
          <p:nvPr/>
        </p:nvPicPr>
        <p:blipFill>
          <a:blip r:embed="rId2"/>
          <a:stretch/>
        </p:blipFill>
        <p:spPr>
          <a:xfrm>
            <a:off x="-36360" y="-27000"/>
            <a:ext cx="9216720" cy="6912000"/>
          </a:xfrm>
          <a:prstGeom prst="rect">
            <a:avLst/>
          </a:prstGeom>
          <a:ln w="0">
            <a:noFill/>
          </a:ln>
        </p:spPr>
      </p:pic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684000" y="549000"/>
            <a:ext cx="2881080" cy="725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333300"/>
            </a:outerShdw>
          </a:effectLst>
        </p:spPr>
        <p:txBody>
          <a:bodyPr anchor="ctr">
            <a:noAutofit/>
          </a:bodyPr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9efee"/>
                </a:solidFill>
                <a:latin typeface="Arial"/>
              </a:rPr>
              <a:t>ВИЗАНТИЯ</a:t>
            </a:r>
            <a:endParaRPr b="1" lang="en-US" sz="3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73" name=""/>
          <p:cNvSpPr/>
          <p:nvPr/>
        </p:nvSpPr>
        <p:spPr>
          <a:xfrm>
            <a:off x="395280" y="1557360"/>
            <a:ext cx="482616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99"/>
                </a:solidFill>
                <a:latin typeface="Arial"/>
              </a:rPr>
              <a:t>Восточная Римская импер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4" name="" descr=""/>
          <p:cNvPicPr/>
          <p:nvPr/>
        </p:nvPicPr>
        <p:blipFill>
          <a:blip r:embed="rId3"/>
          <a:stretch/>
        </p:blipFill>
        <p:spPr>
          <a:xfrm>
            <a:off x="6588000" y="1052640"/>
            <a:ext cx="1886040" cy="2595600"/>
          </a:xfrm>
          <a:prstGeom prst="rect">
            <a:avLst/>
          </a:prstGeom>
          <a:ln w="0">
            <a:noFill/>
          </a:ln>
        </p:spPr>
      </p:pic>
      <p:pic>
        <p:nvPicPr>
          <p:cNvPr id="675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8839080" y="6572160"/>
            <a:ext cx="304920" cy="285840"/>
          </a:xfrm>
          <a:prstGeom prst="rect">
            <a:avLst/>
          </a:prstGeom>
          <a:ln w="0">
            <a:noFill/>
          </a:ln>
        </p:spPr>
      </p:pic>
      <p:sp>
        <p:nvSpPr>
          <p:cNvPr id="676" name=""/>
          <p:cNvSpPr txBox="1"/>
          <p:nvPr/>
        </p:nvSpPr>
        <p:spPr>
          <a:xfrm>
            <a:off x="6983280" y="2997360"/>
            <a:ext cx="216072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db93"/>
                </a:solidFill>
                <a:effectLst>
                  <a:outerShdw dist="40186" dir="1096358" blurRad="0" rotWithShape="0">
                    <a:srgbClr val="000000">
                      <a:alpha val="80000"/>
                    </a:srgbClr>
                  </a:outerShdw>
                </a:effectLst>
                <a:latin typeface="Arial"/>
              </a:rPr>
              <a:t>Константинополь</a:t>
            </a:r>
            <a:endParaRPr b="1" lang="en-US" sz="1800" spc="1" strike="noStrike">
              <a:ln w="0">
                <a:noFill/>
              </a:ln>
              <a:solidFill>
                <a:srgbClr val="ffdb93"/>
              </a:solidFill>
              <a:effectLst>
                <a:outerShdw dist="40186" dir="1096358" blurRad="0" rotWithShape="0">
                  <a:srgbClr val="00000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5219640" y="2708280"/>
            <a:ext cx="3886200" cy="4292640"/>
          </a:xfrm>
          <a:custGeom>
            <a:avLst/>
            <a:gdLst/>
            <a:ahLst/>
            <a:rect l="l" t="t" r="r" b="b"/>
            <a:pathLst>
              <a:path w="2448" h="2704">
                <a:moveTo>
                  <a:pt x="16" y="2344"/>
                </a:moveTo>
                <a:cubicBezTo>
                  <a:pt x="11" y="2336"/>
                  <a:pt x="0" y="2330"/>
                  <a:pt x="0" y="2320"/>
                </a:cubicBezTo>
                <a:cubicBezTo>
                  <a:pt x="1" y="1725"/>
                  <a:pt x="1" y="1131"/>
                  <a:pt x="4" y="536"/>
                </a:cubicBezTo>
                <a:cubicBezTo>
                  <a:pt x="4" y="490"/>
                  <a:pt x="38" y="459"/>
                  <a:pt x="72" y="436"/>
                </a:cubicBezTo>
                <a:cubicBezTo>
                  <a:pt x="90" y="424"/>
                  <a:pt x="132" y="408"/>
                  <a:pt x="132" y="408"/>
                </a:cubicBezTo>
                <a:cubicBezTo>
                  <a:pt x="147" y="386"/>
                  <a:pt x="132" y="347"/>
                  <a:pt x="160" y="336"/>
                </a:cubicBezTo>
                <a:cubicBezTo>
                  <a:pt x="169" y="332"/>
                  <a:pt x="179" y="331"/>
                  <a:pt x="188" y="328"/>
                </a:cubicBezTo>
                <a:cubicBezTo>
                  <a:pt x="201" y="319"/>
                  <a:pt x="215" y="313"/>
                  <a:pt x="228" y="304"/>
                </a:cubicBezTo>
                <a:cubicBezTo>
                  <a:pt x="234" y="242"/>
                  <a:pt x="226" y="258"/>
                  <a:pt x="280" y="236"/>
                </a:cubicBezTo>
                <a:cubicBezTo>
                  <a:pt x="291" y="225"/>
                  <a:pt x="316" y="208"/>
                  <a:pt x="316" y="208"/>
                </a:cubicBezTo>
                <a:cubicBezTo>
                  <a:pt x="324" y="191"/>
                  <a:pt x="325" y="182"/>
                  <a:pt x="340" y="172"/>
                </a:cubicBezTo>
                <a:cubicBezTo>
                  <a:pt x="391" y="173"/>
                  <a:pt x="441" y="173"/>
                  <a:pt x="492" y="176"/>
                </a:cubicBezTo>
                <a:cubicBezTo>
                  <a:pt x="512" y="177"/>
                  <a:pt x="544" y="190"/>
                  <a:pt x="564" y="192"/>
                </a:cubicBezTo>
                <a:cubicBezTo>
                  <a:pt x="579" y="189"/>
                  <a:pt x="594" y="190"/>
                  <a:pt x="608" y="184"/>
                </a:cubicBezTo>
                <a:cubicBezTo>
                  <a:pt x="617" y="180"/>
                  <a:pt x="613" y="165"/>
                  <a:pt x="616" y="156"/>
                </a:cubicBezTo>
                <a:cubicBezTo>
                  <a:pt x="621" y="140"/>
                  <a:pt x="628" y="132"/>
                  <a:pt x="640" y="120"/>
                </a:cubicBezTo>
                <a:cubicBezTo>
                  <a:pt x="647" y="66"/>
                  <a:pt x="649" y="76"/>
                  <a:pt x="676" y="40"/>
                </a:cubicBezTo>
                <a:cubicBezTo>
                  <a:pt x="682" y="22"/>
                  <a:pt x="680" y="11"/>
                  <a:pt x="696" y="0"/>
                </a:cubicBezTo>
                <a:cubicBezTo>
                  <a:pt x="737" y="8"/>
                  <a:pt x="776" y="18"/>
                  <a:pt x="816" y="28"/>
                </a:cubicBezTo>
                <a:cubicBezTo>
                  <a:pt x="829" y="41"/>
                  <a:pt x="844" y="49"/>
                  <a:pt x="860" y="56"/>
                </a:cubicBezTo>
                <a:cubicBezTo>
                  <a:pt x="868" y="59"/>
                  <a:pt x="884" y="64"/>
                  <a:pt x="884" y="64"/>
                </a:cubicBezTo>
                <a:cubicBezTo>
                  <a:pt x="889" y="80"/>
                  <a:pt x="900" y="81"/>
                  <a:pt x="908" y="96"/>
                </a:cubicBezTo>
                <a:cubicBezTo>
                  <a:pt x="915" y="110"/>
                  <a:pt x="922" y="125"/>
                  <a:pt x="928" y="140"/>
                </a:cubicBezTo>
                <a:cubicBezTo>
                  <a:pt x="907" y="172"/>
                  <a:pt x="904" y="169"/>
                  <a:pt x="868" y="176"/>
                </a:cubicBezTo>
                <a:cubicBezTo>
                  <a:pt x="845" y="211"/>
                  <a:pt x="857" y="187"/>
                  <a:pt x="864" y="272"/>
                </a:cubicBezTo>
                <a:cubicBezTo>
                  <a:pt x="865" y="288"/>
                  <a:pt x="884" y="316"/>
                  <a:pt x="884" y="316"/>
                </a:cubicBezTo>
                <a:cubicBezTo>
                  <a:pt x="872" y="395"/>
                  <a:pt x="887" y="347"/>
                  <a:pt x="868" y="380"/>
                </a:cubicBezTo>
                <a:cubicBezTo>
                  <a:pt x="860" y="394"/>
                  <a:pt x="844" y="420"/>
                  <a:pt x="844" y="420"/>
                </a:cubicBezTo>
                <a:cubicBezTo>
                  <a:pt x="859" y="442"/>
                  <a:pt x="844" y="425"/>
                  <a:pt x="864" y="436"/>
                </a:cubicBezTo>
                <a:cubicBezTo>
                  <a:pt x="872" y="441"/>
                  <a:pt x="888" y="452"/>
                  <a:pt x="888" y="452"/>
                </a:cubicBezTo>
                <a:cubicBezTo>
                  <a:pt x="902" y="473"/>
                  <a:pt x="905" y="516"/>
                  <a:pt x="924" y="520"/>
                </a:cubicBezTo>
                <a:cubicBezTo>
                  <a:pt x="937" y="523"/>
                  <a:pt x="951" y="523"/>
                  <a:pt x="964" y="524"/>
                </a:cubicBezTo>
                <a:cubicBezTo>
                  <a:pt x="993" y="534"/>
                  <a:pt x="981" y="527"/>
                  <a:pt x="1000" y="540"/>
                </a:cubicBezTo>
                <a:cubicBezTo>
                  <a:pt x="1087" y="529"/>
                  <a:pt x="1098" y="524"/>
                  <a:pt x="1208" y="536"/>
                </a:cubicBezTo>
                <a:cubicBezTo>
                  <a:pt x="1218" y="537"/>
                  <a:pt x="1222" y="552"/>
                  <a:pt x="1232" y="556"/>
                </a:cubicBezTo>
                <a:cubicBezTo>
                  <a:pt x="1240" y="559"/>
                  <a:pt x="1256" y="564"/>
                  <a:pt x="1256" y="564"/>
                </a:cubicBezTo>
                <a:cubicBezTo>
                  <a:pt x="1267" y="559"/>
                  <a:pt x="1287" y="560"/>
                  <a:pt x="1288" y="548"/>
                </a:cubicBezTo>
                <a:cubicBezTo>
                  <a:pt x="1293" y="501"/>
                  <a:pt x="1280" y="515"/>
                  <a:pt x="1324" y="504"/>
                </a:cubicBezTo>
                <a:cubicBezTo>
                  <a:pt x="1345" y="490"/>
                  <a:pt x="1359" y="486"/>
                  <a:pt x="1384" y="480"/>
                </a:cubicBezTo>
                <a:cubicBezTo>
                  <a:pt x="1406" y="447"/>
                  <a:pt x="1428" y="442"/>
                  <a:pt x="1464" y="424"/>
                </a:cubicBezTo>
                <a:cubicBezTo>
                  <a:pt x="1472" y="425"/>
                  <a:pt x="1480" y="426"/>
                  <a:pt x="1488" y="428"/>
                </a:cubicBezTo>
                <a:cubicBezTo>
                  <a:pt x="1496" y="430"/>
                  <a:pt x="1512" y="436"/>
                  <a:pt x="1512" y="436"/>
                </a:cubicBezTo>
                <a:cubicBezTo>
                  <a:pt x="1531" y="464"/>
                  <a:pt x="1589" y="458"/>
                  <a:pt x="1616" y="460"/>
                </a:cubicBezTo>
                <a:cubicBezTo>
                  <a:pt x="1645" y="470"/>
                  <a:pt x="1675" y="482"/>
                  <a:pt x="1704" y="488"/>
                </a:cubicBezTo>
                <a:cubicBezTo>
                  <a:pt x="1732" y="507"/>
                  <a:pt x="1744" y="493"/>
                  <a:pt x="1764" y="476"/>
                </a:cubicBezTo>
                <a:cubicBezTo>
                  <a:pt x="1771" y="470"/>
                  <a:pt x="1788" y="460"/>
                  <a:pt x="1788" y="460"/>
                </a:cubicBezTo>
                <a:cubicBezTo>
                  <a:pt x="1819" y="468"/>
                  <a:pt x="1849" y="476"/>
                  <a:pt x="1880" y="484"/>
                </a:cubicBezTo>
                <a:cubicBezTo>
                  <a:pt x="1884" y="487"/>
                  <a:pt x="1889" y="489"/>
                  <a:pt x="1892" y="492"/>
                </a:cubicBezTo>
                <a:cubicBezTo>
                  <a:pt x="1895" y="495"/>
                  <a:pt x="1896" y="501"/>
                  <a:pt x="1900" y="504"/>
                </a:cubicBezTo>
                <a:cubicBezTo>
                  <a:pt x="1908" y="510"/>
                  <a:pt x="1926" y="517"/>
                  <a:pt x="1936" y="520"/>
                </a:cubicBezTo>
                <a:cubicBezTo>
                  <a:pt x="1958" y="486"/>
                  <a:pt x="1931" y="521"/>
                  <a:pt x="2012" y="500"/>
                </a:cubicBezTo>
                <a:cubicBezTo>
                  <a:pt x="2017" y="499"/>
                  <a:pt x="2017" y="491"/>
                  <a:pt x="2020" y="488"/>
                </a:cubicBezTo>
                <a:cubicBezTo>
                  <a:pt x="2030" y="478"/>
                  <a:pt x="2048" y="471"/>
                  <a:pt x="2060" y="464"/>
                </a:cubicBezTo>
                <a:cubicBezTo>
                  <a:pt x="2070" y="458"/>
                  <a:pt x="2092" y="448"/>
                  <a:pt x="2092" y="448"/>
                </a:cubicBezTo>
                <a:cubicBezTo>
                  <a:pt x="2081" y="431"/>
                  <a:pt x="2084" y="426"/>
                  <a:pt x="2064" y="416"/>
                </a:cubicBezTo>
                <a:cubicBezTo>
                  <a:pt x="2055" y="402"/>
                  <a:pt x="2044" y="395"/>
                  <a:pt x="2064" y="388"/>
                </a:cubicBezTo>
                <a:cubicBezTo>
                  <a:pt x="2094" y="391"/>
                  <a:pt x="2127" y="390"/>
                  <a:pt x="2156" y="400"/>
                </a:cubicBezTo>
                <a:cubicBezTo>
                  <a:pt x="2173" y="451"/>
                  <a:pt x="2265" y="423"/>
                  <a:pt x="2296" y="424"/>
                </a:cubicBezTo>
                <a:cubicBezTo>
                  <a:pt x="2318" y="438"/>
                  <a:pt x="2310" y="458"/>
                  <a:pt x="2320" y="480"/>
                </a:cubicBezTo>
                <a:cubicBezTo>
                  <a:pt x="2326" y="495"/>
                  <a:pt x="2342" y="501"/>
                  <a:pt x="2348" y="516"/>
                </a:cubicBezTo>
                <a:cubicBezTo>
                  <a:pt x="2363" y="549"/>
                  <a:pt x="2366" y="587"/>
                  <a:pt x="2380" y="620"/>
                </a:cubicBezTo>
                <a:cubicBezTo>
                  <a:pt x="2388" y="638"/>
                  <a:pt x="2398" y="654"/>
                  <a:pt x="2404" y="672"/>
                </a:cubicBezTo>
                <a:cubicBezTo>
                  <a:pt x="2348" y="691"/>
                  <a:pt x="2388" y="680"/>
                  <a:pt x="2280" y="684"/>
                </a:cubicBezTo>
                <a:cubicBezTo>
                  <a:pt x="2283" y="710"/>
                  <a:pt x="2288" y="732"/>
                  <a:pt x="2296" y="756"/>
                </a:cubicBezTo>
                <a:cubicBezTo>
                  <a:pt x="2300" y="813"/>
                  <a:pt x="2293" y="825"/>
                  <a:pt x="2340" y="848"/>
                </a:cubicBezTo>
                <a:cubicBezTo>
                  <a:pt x="2344" y="865"/>
                  <a:pt x="2350" y="877"/>
                  <a:pt x="2360" y="892"/>
                </a:cubicBezTo>
                <a:cubicBezTo>
                  <a:pt x="2370" y="949"/>
                  <a:pt x="2351" y="945"/>
                  <a:pt x="2312" y="964"/>
                </a:cubicBezTo>
                <a:cubicBezTo>
                  <a:pt x="2303" y="977"/>
                  <a:pt x="2293" y="983"/>
                  <a:pt x="2284" y="996"/>
                </a:cubicBezTo>
                <a:cubicBezTo>
                  <a:pt x="2290" y="1032"/>
                  <a:pt x="2296" y="1079"/>
                  <a:pt x="2312" y="1112"/>
                </a:cubicBezTo>
                <a:cubicBezTo>
                  <a:pt x="2315" y="1117"/>
                  <a:pt x="2320" y="1120"/>
                  <a:pt x="2324" y="1124"/>
                </a:cubicBezTo>
                <a:cubicBezTo>
                  <a:pt x="2327" y="1128"/>
                  <a:pt x="2330" y="1132"/>
                  <a:pt x="2332" y="1136"/>
                </a:cubicBezTo>
                <a:cubicBezTo>
                  <a:pt x="2344" y="1163"/>
                  <a:pt x="2342" y="1191"/>
                  <a:pt x="2368" y="1208"/>
                </a:cubicBezTo>
                <a:cubicBezTo>
                  <a:pt x="2364" y="1209"/>
                  <a:pt x="2360" y="1213"/>
                  <a:pt x="2356" y="1212"/>
                </a:cubicBezTo>
                <a:cubicBezTo>
                  <a:pt x="2350" y="1210"/>
                  <a:pt x="2346" y="1196"/>
                  <a:pt x="2340" y="1200"/>
                </a:cubicBezTo>
                <a:cubicBezTo>
                  <a:pt x="2334" y="1204"/>
                  <a:pt x="2342" y="1214"/>
                  <a:pt x="2344" y="1220"/>
                </a:cubicBezTo>
                <a:cubicBezTo>
                  <a:pt x="2349" y="1234"/>
                  <a:pt x="2366" y="1242"/>
                  <a:pt x="2376" y="1252"/>
                </a:cubicBezTo>
                <a:cubicBezTo>
                  <a:pt x="2393" y="1304"/>
                  <a:pt x="2389" y="1357"/>
                  <a:pt x="2348" y="1388"/>
                </a:cubicBezTo>
                <a:cubicBezTo>
                  <a:pt x="2335" y="1414"/>
                  <a:pt x="2342" y="1442"/>
                  <a:pt x="2360" y="1464"/>
                </a:cubicBezTo>
                <a:cubicBezTo>
                  <a:pt x="2368" y="1473"/>
                  <a:pt x="2386" y="1477"/>
                  <a:pt x="2396" y="1484"/>
                </a:cubicBezTo>
                <a:cubicBezTo>
                  <a:pt x="2409" y="1509"/>
                  <a:pt x="2405" y="1537"/>
                  <a:pt x="2420" y="1560"/>
                </a:cubicBezTo>
                <a:cubicBezTo>
                  <a:pt x="2425" y="1579"/>
                  <a:pt x="2433" y="1600"/>
                  <a:pt x="2444" y="1616"/>
                </a:cubicBezTo>
                <a:cubicBezTo>
                  <a:pt x="2441" y="1643"/>
                  <a:pt x="2442" y="1670"/>
                  <a:pt x="2436" y="1696"/>
                </a:cubicBezTo>
                <a:cubicBezTo>
                  <a:pt x="2432" y="1713"/>
                  <a:pt x="2418" y="1727"/>
                  <a:pt x="2412" y="1744"/>
                </a:cubicBezTo>
                <a:cubicBezTo>
                  <a:pt x="2414" y="1791"/>
                  <a:pt x="2434" y="1875"/>
                  <a:pt x="2404" y="1920"/>
                </a:cubicBezTo>
                <a:cubicBezTo>
                  <a:pt x="2381" y="2000"/>
                  <a:pt x="2389" y="1992"/>
                  <a:pt x="2380" y="2116"/>
                </a:cubicBezTo>
                <a:cubicBezTo>
                  <a:pt x="2379" y="2129"/>
                  <a:pt x="2368" y="2140"/>
                  <a:pt x="2364" y="2152"/>
                </a:cubicBezTo>
                <a:cubicBezTo>
                  <a:pt x="2378" y="2195"/>
                  <a:pt x="2362" y="2141"/>
                  <a:pt x="2372" y="2252"/>
                </a:cubicBezTo>
                <a:cubicBezTo>
                  <a:pt x="2375" y="2284"/>
                  <a:pt x="2382" y="2321"/>
                  <a:pt x="2388" y="2352"/>
                </a:cubicBezTo>
                <a:cubicBezTo>
                  <a:pt x="2381" y="2394"/>
                  <a:pt x="2387" y="2419"/>
                  <a:pt x="2348" y="2396"/>
                </a:cubicBezTo>
                <a:cubicBezTo>
                  <a:pt x="2338" y="2381"/>
                  <a:pt x="2328" y="2357"/>
                  <a:pt x="2312" y="2348"/>
                </a:cubicBezTo>
                <a:cubicBezTo>
                  <a:pt x="2298" y="2340"/>
                  <a:pt x="2272" y="2324"/>
                  <a:pt x="2272" y="2324"/>
                </a:cubicBezTo>
                <a:cubicBezTo>
                  <a:pt x="2254" y="2296"/>
                  <a:pt x="2265" y="2303"/>
                  <a:pt x="2244" y="2296"/>
                </a:cubicBezTo>
                <a:cubicBezTo>
                  <a:pt x="2233" y="2273"/>
                  <a:pt x="2216" y="2270"/>
                  <a:pt x="2196" y="2256"/>
                </a:cubicBezTo>
                <a:cubicBezTo>
                  <a:pt x="2185" y="2239"/>
                  <a:pt x="2172" y="2219"/>
                  <a:pt x="2156" y="2208"/>
                </a:cubicBezTo>
                <a:cubicBezTo>
                  <a:pt x="2145" y="2176"/>
                  <a:pt x="2161" y="2213"/>
                  <a:pt x="2140" y="2192"/>
                </a:cubicBezTo>
                <a:cubicBezTo>
                  <a:pt x="2134" y="2186"/>
                  <a:pt x="2133" y="2175"/>
                  <a:pt x="2128" y="2168"/>
                </a:cubicBezTo>
                <a:cubicBezTo>
                  <a:pt x="2112" y="2145"/>
                  <a:pt x="2099" y="2137"/>
                  <a:pt x="2072" y="2128"/>
                </a:cubicBezTo>
                <a:cubicBezTo>
                  <a:pt x="2039" y="2136"/>
                  <a:pt x="2042" y="2166"/>
                  <a:pt x="2068" y="2180"/>
                </a:cubicBezTo>
                <a:cubicBezTo>
                  <a:pt x="2075" y="2184"/>
                  <a:pt x="2085" y="2184"/>
                  <a:pt x="2092" y="2188"/>
                </a:cubicBezTo>
                <a:cubicBezTo>
                  <a:pt x="2099" y="2192"/>
                  <a:pt x="2105" y="2196"/>
                  <a:pt x="2112" y="2200"/>
                </a:cubicBezTo>
                <a:cubicBezTo>
                  <a:pt x="2123" y="2217"/>
                  <a:pt x="2139" y="2229"/>
                  <a:pt x="2148" y="2248"/>
                </a:cubicBezTo>
                <a:cubicBezTo>
                  <a:pt x="2153" y="2258"/>
                  <a:pt x="2165" y="2283"/>
                  <a:pt x="2172" y="2288"/>
                </a:cubicBezTo>
                <a:cubicBezTo>
                  <a:pt x="2201" y="2307"/>
                  <a:pt x="2189" y="2297"/>
                  <a:pt x="2208" y="2316"/>
                </a:cubicBezTo>
                <a:cubicBezTo>
                  <a:pt x="2216" y="2346"/>
                  <a:pt x="2223" y="2348"/>
                  <a:pt x="2252" y="2360"/>
                </a:cubicBezTo>
                <a:cubicBezTo>
                  <a:pt x="2260" y="2372"/>
                  <a:pt x="2271" y="2382"/>
                  <a:pt x="2276" y="2396"/>
                </a:cubicBezTo>
                <a:cubicBezTo>
                  <a:pt x="2279" y="2404"/>
                  <a:pt x="2281" y="2412"/>
                  <a:pt x="2284" y="2420"/>
                </a:cubicBezTo>
                <a:cubicBezTo>
                  <a:pt x="2285" y="2424"/>
                  <a:pt x="2288" y="2432"/>
                  <a:pt x="2288" y="2432"/>
                </a:cubicBezTo>
                <a:cubicBezTo>
                  <a:pt x="2292" y="2463"/>
                  <a:pt x="2321" y="2528"/>
                  <a:pt x="2348" y="2548"/>
                </a:cubicBezTo>
                <a:cubicBezTo>
                  <a:pt x="2352" y="2551"/>
                  <a:pt x="2373" y="2558"/>
                  <a:pt x="2380" y="2560"/>
                </a:cubicBezTo>
                <a:cubicBezTo>
                  <a:pt x="2395" y="2575"/>
                  <a:pt x="2408" y="2591"/>
                  <a:pt x="2428" y="2596"/>
                </a:cubicBezTo>
                <a:cubicBezTo>
                  <a:pt x="2436" y="2619"/>
                  <a:pt x="2441" y="2642"/>
                  <a:pt x="2448" y="2664"/>
                </a:cubicBezTo>
                <a:cubicBezTo>
                  <a:pt x="2409" y="2677"/>
                  <a:pt x="2378" y="2669"/>
                  <a:pt x="2336" y="2664"/>
                </a:cubicBezTo>
                <a:cubicBezTo>
                  <a:pt x="2222" y="2626"/>
                  <a:pt x="2066" y="2623"/>
                  <a:pt x="1952" y="2680"/>
                </a:cubicBezTo>
                <a:cubicBezTo>
                  <a:pt x="1923" y="2695"/>
                  <a:pt x="1901" y="2699"/>
                  <a:pt x="1868" y="2704"/>
                </a:cubicBezTo>
                <a:cubicBezTo>
                  <a:pt x="1841" y="2700"/>
                  <a:pt x="1813" y="2701"/>
                  <a:pt x="1788" y="2692"/>
                </a:cubicBezTo>
                <a:cubicBezTo>
                  <a:pt x="1733" y="2671"/>
                  <a:pt x="1669" y="2633"/>
                  <a:pt x="1620" y="2600"/>
                </a:cubicBezTo>
                <a:cubicBezTo>
                  <a:pt x="1616" y="2587"/>
                  <a:pt x="1600" y="2568"/>
                  <a:pt x="1588" y="2564"/>
                </a:cubicBezTo>
                <a:cubicBezTo>
                  <a:pt x="1566" y="2546"/>
                  <a:pt x="1550" y="2513"/>
                  <a:pt x="1524" y="2500"/>
                </a:cubicBezTo>
                <a:cubicBezTo>
                  <a:pt x="1519" y="2498"/>
                  <a:pt x="1489" y="2490"/>
                  <a:pt x="1480" y="2488"/>
                </a:cubicBezTo>
                <a:cubicBezTo>
                  <a:pt x="1474" y="2471"/>
                  <a:pt x="1462" y="2466"/>
                  <a:pt x="1448" y="2456"/>
                </a:cubicBezTo>
                <a:cubicBezTo>
                  <a:pt x="1434" y="2386"/>
                  <a:pt x="1315" y="2399"/>
                  <a:pt x="1268" y="2396"/>
                </a:cubicBezTo>
                <a:cubicBezTo>
                  <a:pt x="1227" y="2382"/>
                  <a:pt x="1244" y="2384"/>
                  <a:pt x="1176" y="2376"/>
                </a:cubicBezTo>
                <a:cubicBezTo>
                  <a:pt x="1152" y="2360"/>
                  <a:pt x="1142" y="2350"/>
                  <a:pt x="1120" y="2328"/>
                </a:cubicBezTo>
                <a:cubicBezTo>
                  <a:pt x="1114" y="2322"/>
                  <a:pt x="1104" y="2323"/>
                  <a:pt x="1096" y="2320"/>
                </a:cubicBezTo>
                <a:cubicBezTo>
                  <a:pt x="1045" y="2303"/>
                  <a:pt x="989" y="2315"/>
                  <a:pt x="936" y="2312"/>
                </a:cubicBezTo>
                <a:cubicBezTo>
                  <a:pt x="905" y="2322"/>
                  <a:pt x="916" y="2336"/>
                  <a:pt x="896" y="2352"/>
                </a:cubicBezTo>
                <a:cubicBezTo>
                  <a:pt x="879" y="2365"/>
                  <a:pt x="838" y="2382"/>
                  <a:pt x="816" y="2388"/>
                </a:cubicBezTo>
                <a:cubicBezTo>
                  <a:pt x="694" y="2369"/>
                  <a:pt x="725" y="2371"/>
                  <a:pt x="516" y="2384"/>
                </a:cubicBezTo>
                <a:cubicBezTo>
                  <a:pt x="500" y="2385"/>
                  <a:pt x="500" y="2416"/>
                  <a:pt x="484" y="2420"/>
                </a:cubicBezTo>
                <a:cubicBezTo>
                  <a:pt x="414" y="2438"/>
                  <a:pt x="348" y="2463"/>
                  <a:pt x="276" y="2472"/>
                </a:cubicBezTo>
                <a:cubicBezTo>
                  <a:pt x="249" y="2469"/>
                  <a:pt x="222" y="2470"/>
                  <a:pt x="196" y="2464"/>
                </a:cubicBezTo>
                <a:cubicBezTo>
                  <a:pt x="191" y="2463"/>
                  <a:pt x="191" y="2455"/>
                  <a:pt x="188" y="2452"/>
                </a:cubicBezTo>
                <a:cubicBezTo>
                  <a:pt x="178" y="2442"/>
                  <a:pt x="164" y="2432"/>
                  <a:pt x="152" y="2424"/>
                </a:cubicBezTo>
                <a:cubicBezTo>
                  <a:pt x="140" y="2406"/>
                  <a:pt x="129" y="2404"/>
                  <a:pt x="108" y="2400"/>
                </a:cubicBezTo>
                <a:cubicBezTo>
                  <a:pt x="80" y="2381"/>
                  <a:pt x="41" y="2385"/>
                  <a:pt x="8" y="2372"/>
                </a:cubicBezTo>
                <a:cubicBezTo>
                  <a:pt x="1" y="2352"/>
                  <a:pt x="14" y="2339"/>
                  <a:pt x="20" y="2320"/>
                </a:cubicBezTo>
                <a:cubicBezTo>
                  <a:pt x="17" y="2308"/>
                  <a:pt x="16" y="2296"/>
                  <a:pt x="12" y="2284"/>
                </a:cubicBezTo>
                <a:cubicBezTo>
                  <a:pt x="10" y="2278"/>
                  <a:pt x="4" y="2268"/>
                  <a:pt x="4" y="2268"/>
                </a:cubicBezTo>
              </a:path>
            </a:pathLst>
          </a:custGeom>
          <a:solidFill>
            <a:srgbClr val="ff3300">
              <a:alpha val="27000"/>
            </a:srgbClr>
          </a:solidFill>
          <a:ln w="9360">
            <a:solidFill>
              <a:srgbClr val="ffff99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6659640" y="3429000"/>
            <a:ext cx="216000" cy="22212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3000"/>
                            </p:stCondLst>
                            <p:childTnLst>
                              <p:par>
                                <p:cTn id="1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8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8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8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8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4000"/>
                            </p:stCondLst>
                            <p:childTnLst>
                              <p:par>
                                <p:cTn id="2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755280" y="980640"/>
            <a:ext cx="3311640" cy="725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333300"/>
            </a:outerShdw>
          </a:effectLst>
        </p:spPr>
        <p:txBody>
          <a:bodyPr anchor="ctr">
            <a:noAutofit/>
          </a:bodyPr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Arial"/>
              </a:rPr>
              <a:t>ЮСТИНИАН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81" name=""/>
          <p:cNvSpPr/>
          <p:nvPr/>
        </p:nvSpPr>
        <p:spPr>
          <a:xfrm>
            <a:off x="468360" y="2708280"/>
            <a:ext cx="3887640" cy="1618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ff66"/>
                </a:solidFill>
                <a:latin typeface="Arial"/>
              </a:rPr>
              <a:t>Могущественный византийский император известный своим кодексом и постройкой храма    Святой Софии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2" name="" descr=""/>
          <p:cNvPicPr/>
          <p:nvPr/>
        </p:nvPicPr>
        <p:blipFill>
          <a:blip r:embed="rId3"/>
          <a:srcRect l="0" t="1427" r="0" b="0"/>
          <a:stretch/>
        </p:blipFill>
        <p:spPr>
          <a:xfrm>
            <a:off x="4572000" y="1052640"/>
            <a:ext cx="4119480" cy="504036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683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8839080" y="6572160"/>
            <a:ext cx="304920" cy="285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000"/>
                            </p:stCondLst>
                            <p:childTnLst>
                              <p:par>
                                <p:cTn id="5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" dur="10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-291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66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68360" y="-1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89" name="" descr=""/>
          <p:cNvPicPr/>
          <p:nvPr/>
        </p:nvPicPr>
        <p:blipFill>
          <a:blip r:embed="rId1"/>
          <a:stretch/>
        </p:blipFill>
        <p:spPr>
          <a:xfrm>
            <a:off x="1619280" y="0"/>
            <a:ext cx="5113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69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379080" cy="687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Собор святой Софии в Константинополе.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Самое замечательное достижение византийских зодчих – центральный купол Софии, составляющий в диаметре 31,5 метра. Снизу купол кажется парящим в воздухе, т.к. тонкие части стены между окнами не видны. Оптический обман породил легенду о том, что купол подвешен с неба на золотой цепи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700" name="" descr=""/>
          <p:cNvPicPr/>
          <p:nvPr/>
        </p:nvPicPr>
        <p:blipFill>
          <a:blip r:embed="rId2"/>
          <a:srcRect l="2301" t="0" r="2301" b="5369"/>
          <a:stretch/>
        </p:blipFill>
        <p:spPr>
          <a:xfrm>
            <a:off x="0" y="0"/>
            <a:ext cx="9144000" cy="688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7T23:48:39Z</dcterms:created>
  <dc:creator>1</dc:creator>
  <dc:description/>
  <dc:language>en-US</dc:language>
  <cp:lastModifiedBy>Ольга</cp:lastModifiedBy>
  <dcterms:modified xsi:type="dcterms:W3CDTF">2010-02-05T14:25:29Z</dcterms:modified>
  <cp:revision>3</cp:revision>
  <dc:subject/>
  <dc:title>Слайд 1</dc:title>
</cp:coreProperties>
</file>