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FE6-37C5-44EC-9DD8-B2D13918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0B0-DE11-4BA9-8D6C-FBB35B4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99F-BDEB-4B59-B0A8-8D6782A9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011-A2CC-46D3-A6B8-91CA891F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6D10-16A5-4835-B028-147675D1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7908-4DB4-4A2A-AA78-371A5BC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82F-4943-40F6-8560-524E526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07C9-2611-423D-9713-78FD89C9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71E-A066-4EE7-898C-50ED5F36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3741-E978-45BF-B200-ABCEF9A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8888-BC71-473C-9F79-8E6CA83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3BF-4E42-4E74-B30D-55020EB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80F-E52C-4E97-BA6F-600A7B4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28A3-0B59-4406-B996-84A0F8D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F57-4CE1-469C-91AC-F5B2CE7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18F-4E1D-4328-B0F5-F234B2AA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BC14-29B3-4495-8496-63DEB050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17B-EDCD-4919-BD7F-6065FEB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735-3821-42F1-B095-6E6A1C3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6DC-8A4F-48BE-899F-90380186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6B5-2F33-4A69-9E32-90BBB661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993-4F83-4FDC-A256-570647B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26F-18AD-4028-A0E9-3EEDD7B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A73-58FC-4DFD-BCA1-42ECCCC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5BB-A005-4580-8E9C-CC8DE087C4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66EC-B04B-4996-ACDA-B96327BF01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ТРОЕВАЯ КОМПОЗИЦИЯ С ОРУЖИЕМ (макет СК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детские классы МБОУ СОШ №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о.Железнодорожный Москов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 строевой подготовки – Кученов Г.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Admin.MICROSOF-36C98B\Рабочий стол\кадеты\IMG_98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Admin.MICROSOF-36C98B\Рабочий стол\кадеты\IMG_99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Admin.MICROSOF-36C98B\Рабочий стол\кадеты\IMG_99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Admin.MICROSOF-36C98B\Рабочий стол\кадеты\DSCN08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Admin.MICROSOF-36C98B\Рабочий стол\кадеты\IMG_99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.MICROSOF-36C98B\Рабочий стол\кадеты\IMG_9930g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6T16:43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