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2AB-335E-4502-8125-5D666613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823-6C0B-4080-800C-0DDFC86A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E12-2CF5-4DE8-82E2-6873B783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F9C-2465-4D3A-990E-8117E34F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D466-3646-4F30-B3C8-CC027AEF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EFD6-CA52-493F-A0BE-BB6DF908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38F-6120-4526-B0C3-202A8115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19D1-1BC7-4FB9-8D2C-362CA7F3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D255-8596-4561-92F4-BD9D1A55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E567-9269-49B9-B607-28CEBE60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578A-A653-4BB9-A0D1-28ECB8FF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66B-8F32-4ECA-97DF-BE4FDA0C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41C5-B23A-4BFF-B42A-78F493AF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084C-C63F-4788-87EF-CFB4E3D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C705-76C6-4F08-853A-04A33EE4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20E7-D77B-48BC-BA36-0F5172CF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FDB4-8663-4AE2-9FD4-C612D8EF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9551-46BC-4336-8608-BD065824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E0D-21D2-4D2B-8ABA-AF6E934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365-9E86-45D3-B462-0CAB4A95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965-D3B5-4BFA-AB95-A399E477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5A3-122B-4721-B35B-7947118C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450-4A25-42F0-82E1-E17B993D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C4F-BBCF-4557-8680-ADBF01D0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09D9-C334-4934-93E8-7A36794A06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DC0C-44D0-4CC4-A218-AF42D41916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ТРОЕВАЯ КОМПОЗИЦИЯ С ОРУЖИЕМ (макет СК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детские классы МБОУ СОШ №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о.Железнодорожный Москов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оводитель строевой подготовки – Кученов Г.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Admin.MICROSOF-36C98B\Рабочий стол\кадеты\IMG_987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Documents and Settings\Admin.MICROSOF-36C98B\Рабочий стол\кадеты\IMG_99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Admin.MICROSOF-36C98B\Рабочий стол\кадеты\IMG_99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Admin.MICROSOF-36C98B\Рабочий стол\кадеты\DSCN08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Admin.MICROSOF-36C98B\Рабочий стол\кадеты\IMG_99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Admin.MICROSOF-36C98B\Рабочий стол\кадеты\IMG_9930g.JPG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6T16:43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