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2.gif" ContentType="image/gif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.gif" ContentType="image/gif"/>
  <Override PartName="/ppt/media/image24.jpeg" ContentType="image/jpeg"/>
  <Override PartName="/ppt/media/image15.png" ContentType="image/pn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401-0FAD-4883-99E3-61FB0A1A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7D9-B4EC-4DEF-A5F1-F8B023BE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224-011C-4092-BCC4-1DD87730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D84-7611-48C9-A360-C9BDF075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E631-877E-4B59-B586-9622A1FE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BBD1-92F9-4642-AF6B-CBE3EB01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E8F1-9BFB-4DB6-9228-5205F30D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9AD6-715E-4FC0-8085-83EBB722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E0A1-F863-4923-AC78-EE80E38A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DB8E-C6BA-4AA9-BF51-7B687A9D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CFF8-D310-4C5B-BFA3-65C3C09C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DC6-4CFB-47C4-8F03-E043E8AF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6977-2C7F-48B7-8631-F5F514D1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F265-E738-4E32-8DB8-A98DFC34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CE90-E171-4D32-AE76-33132FF9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BD68-9F18-480C-9370-7725FE62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86A1-22AB-4A66-9C29-820CFE0C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33F-DDFC-4A82-8C3C-788FA59F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048-1D45-4C99-ABD6-429DF7E5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617-F709-4917-843B-5086CF2E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D7A0-67CF-477F-8AF2-D79C7F14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EE7-05C5-4777-895D-0FC43D80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321-47AC-475F-93B3-57AD7FC7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8C6-AE0C-44E2-B494-BB280118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69A5-EFBA-4575-A34F-A79347AFD2F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44A1-3A96-4F9A-8FA0-78D19660823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tolkslovar.ru/p7494.html" TargetMode="External"/><Relationship Id="rId2" Type="http://schemas.openxmlformats.org/officeDocument/2006/relationships/hyperlink" Target="http://tolkslovar.ru/l4365.html" TargetMode="External"/><Relationship Id="rId3" Type="http://schemas.openxmlformats.org/officeDocument/2006/relationships/hyperlink" Target="http://tolkslovar.ru/r452.html" TargetMode="External"/><Relationship Id="rId4" Type="http://schemas.openxmlformats.org/officeDocument/2006/relationships/hyperlink" Target="http://tolkslovar.ru/z6198.html" TargetMode="External"/><Relationship Id="rId5" Type="http://schemas.openxmlformats.org/officeDocument/2006/relationships/hyperlink" Target="http://tolkslovar.ru/o1175.html" TargetMode="External"/><Relationship Id="rId6" Type="http://schemas.openxmlformats.org/officeDocument/2006/relationships/hyperlink" Target="http://tolkslovar.ru/s7880.html" TargetMode="External"/><Relationship Id="rId7" Type="http://schemas.openxmlformats.org/officeDocument/2006/relationships/hyperlink" Target="http://images.yandex.ru/search?p=77&amp;bf=1&amp;ed=1&amp;text=&#1103;&#1073;&#1083;&#1086;&#1082;&#1080;%20&#1085;&#1072;%20&#1079;&#1077;&#1084;&#1083;&#1077;&amp;spsite=www.illaryaart.by&amp;img_url=www.illaryaart.by%2Fzal02%2F50xpanitel2.jpg&amp;rpt=simage" TargetMode="External"/><Relationship Id="rId8" Type="http://schemas.openxmlformats.org/officeDocument/2006/relationships/image" Target="../media/image16.jpeg"/><Relationship Id="rId9" Type="http://schemas.openxmlformats.org/officeDocument/2006/relationships/hyperlink" Target="http://images.yandex.ru/search?p=53&amp;bf=1&amp;text=%20&#1085;&#1072;&#1083;&#1080;&#1074;&#1085;&#1086;&#1077;%20&#1103;&#1073;&#1083;&#1086;&#1095;&#1082;&#1086;%20&#1074;%20&#1089;&#1082;&#1072;&#1079;&#1082;&#1077;%20&#1055;&#1091;&#1096;&#1082;&#1080;&#1085;&#1072;&amp;spsite=project68.narod.ru&amp;img_url=sc1173.narod.ru%2Fkonf%2Fprojects%2Fpushkin%2FPictures%2Finf6.jpg&amp;rpt=simage" TargetMode="External"/><Relationship Id="rId10" Type="http://schemas.openxmlformats.org/officeDocument/2006/relationships/image" Target="../media/image17.jpeg"/><Relationship Id="rId11" Type="http://schemas.openxmlformats.org/officeDocument/2006/relationships/hyperlink" Target="http://images.yandex.ru/search?p=0&amp;bf=1&amp;text=%20&#1078;&#1072;&#1088;%20&#1087;&#1090;&#1080;&#1094;&#1072;%20&#1082;&#1083;&#1102;&#1105;&#1090;%20&#1079;&#1086;&#1083;&#1086;&#1090;&#1099;&#1077;%20&#1103;&#1073;&#1083;&#1086;&#1082;&#1080;&amp;spsite=www.xrest.ru&amp;img_url=www.teremok.in%2Fimages%2Fvan_volk2.jpg&amp;rpt=simage" TargetMode="External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lib.deport.ru/slovar/bes/ya/jabloko.html" TargetMode="External"/><Relationship Id="rId2" Type="http://schemas.openxmlformats.org/officeDocument/2006/relationships/hyperlink" Target="http://images.yandex.ru/search?p=38&amp;ed=1&amp;text=&#1103;&#1073;&#1083;&#1086;&#1082;&#1086;%20&#1082;&#1072;&#1088;&#1090;&#1080;&#1085;&#1082;&#1080;&amp;spsite=fake-016-1600946.ru&amp;img_url=my-order.ru%2Ffiles%2Fimages%2F1180765057_f.jpg&amp;rpt=simage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yandex.ru/search?p=29&amp;bf=1&amp;ed=1&amp;text=%20&#1103;&#1073;&#1083;&#1086;&#1082;&#1086;%20&#1088;&#1072;&#1079;&#1076;&#1086;&#1088;&#1072;%20&#1082;&#1072;&#1088;&#1090;&#1080;&#1085;&#1099;&amp;spsite=www.nkj.ru&amp;img_url=www.nkj.ru%2Fupload%2Fiblock%2F7d7821c65539184b8c7f0f4f8d189f72.jpg&amp;rpt=simage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gpi.ru/wiki/index.php/&#1055;&#1077;&#1088;&#1074;&#1086;&#1088;&#1086;&#1076;&#1085;&#1099;&#1081;_&#1075;&#1088;&#1077;&#1093;" TargetMode="External"/><Relationship Id="rId2" Type="http://schemas.openxmlformats.org/officeDocument/2006/relationships/hyperlink" Target="http://ru.wikipedia.org/wiki/&#1040;&#1076;&#1072;&#1084;" TargetMode="External"/><Relationship Id="rId3" Type="http://schemas.openxmlformats.org/officeDocument/2006/relationships/hyperlink" Target="http://ru.wikipedia.org/wiki/&#1045;&#1074;&#1072;" TargetMode="External"/><Relationship Id="rId4" Type="http://schemas.openxmlformats.org/officeDocument/2006/relationships/hyperlink" Target="http://ru.wikipedia.org/wiki/&#1041;&#1086;&#1075;" TargetMode="External"/><Relationship Id="rId5" Type="http://schemas.openxmlformats.org/officeDocument/2006/relationships/hyperlink" Target="http://ru.wikipedia.org/wiki/&#1044;&#1088;&#1077;&#1074;&#1086;_&#1087;&#1086;&#1079;&#1085;&#1072;&#1085;&#1080;&#1103;_&#1076;&#1086;&#1073;&#1088;&#1072;_&#1080;_&#1079;&#1083;&#1072;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traditio.ru/wiki/&#1052;&#1086;&#1083;&#1086;&#1076;&#1080;&#1083;&#1100;&#1085;&#1099;&#1077;_&#1103;&#1073;&#1083;&#1086;&#1082;&#1080;" TargetMode="External"/><Relationship Id="rId2" Type="http://schemas.openxmlformats.org/officeDocument/2006/relationships/hyperlink" Target="http://traditio.ru/wiki/&#1052;&#1086;&#1083;&#1086;&#1076;&#1080;&#1083;&#1100;&#1085;&#1099;&#1077;_&#1103;&#1073;&#1083;&#1086;&#1082;&#1080;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3;&#1093;&#1080;&#1084;&#1080;&#1103;" TargetMode="External"/><Relationship Id="rId2" Type="http://schemas.openxmlformats.org/officeDocument/2006/relationships/hyperlink" Target="http://images.yandex.ru/search?p=655&amp;ed=1&amp;text=&#1103;&#1073;&#1083;&#1086;&#1082;&#1086;%20&#1082;&#1072;&#1088;&#1090;&#1080;&#1085;&#1082;&#1080;&amp;spsite=fake-009-27424.ru&amp;img_url=i27.photobucket.com%2Falbums%2Fc159%2FSawelon%2F-4.jpg&amp;rpt=simage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7;&#1088;&#1073;" TargetMode="External"/><Relationship Id="rId2" Type="http://schemas.openxmlformats.org/officeDocument/2006/relationships/hyperlink" Target="http://www.gerb.bel.ru/pages/rayon/img/korocha_3.gif" TargetMode="External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5;&#1100;_&#1103;&#1073;&#1083;&#1086;&#1082;&#1072;" TargetMode="External"/><Relationship Id="rId2" Type="http://schemas.openxmlformats.org/officeDocument/2006/relationships/hyperlink" Target="http://traditio.ru/w/index.php?title=&#1071;&#1073;&#1083;&#1086;&#1095;&#1085;&#1099;&#1081;_&#1057;&#1087;&#1072;&#1089;&amp;action=edit&amp;redlink=1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tionary.org/w/index.php?title=-&#1086;&#1082;&amp;action=edit&amp;redlink=1" TargetMode="External"/><Relationship Id="rId2" Type="http://schemas.openxmlformats.org/officeDocument/2006/relationships/hyperlink" Target="http://ru.wiktionary.org/w/index.php?title=-&#1086;&#1082;&amp;action=edit&amp;redlink=1" TargetMode="External"/><Relationship Id="rId3" Type="http://schemas.openxmlformats.org/officeDocument/2006/relationships/hyperlink" Target="http://ru.wiktionary.org/w/index.php?title=-&#1086;&#1082;&amp;action=edit&amp;redlink=1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32&amp;bf=1&amp;ed=1&amp;text=&#1103;&#1073;&#1083;&#1086;&#1082;&#1080;%20&#1085;&#1072;%20&#1079;&#1077;&#1084;&#1083;&#1077;&amp;spsite=fake-002-1232304.ru&amp;img_url=dreamfood.info%2Fuploads%2Fposts%2F2009-08%2F1250322955_apples.jpg&amp;rpt=simag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search?p=30&amp;bf=1&amp;ed=1&amp;text=&#1103;&#1073;&#1083;&#1086;&#1082;&#1091;%20&#1085;&#1077;&#1075;&#1076;&#1077;%20&#1091;&#1087;&#1072;&#1089;&#1090;&#1100;&amp;spsite=www.stihi.ru&amp;img_url=www.azur.ru%2Fanapa%2Fimg.php%3Fphoto%3D1413%26sz%3D87870&amp;rpt=simage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711&amp;ed=1&amp;text=&#1103;&#1073;&#1083;&#1086;&#1082;&#1086;%20&#1082;&#1072;&#1088;&#1090;&#1080;&#1085;&#1082;&#1080;&amp;spsite=fake-022-530230.ru&amp;img_url=lib.rus.ec%2Fi%2F50%2F130450%2Fcover.jpg&amp;rpt=simag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yandex.ru/search?p=3&amp;bf=1&amp;text=%20&#1085;&#1072;&#1083;&#1080;&#1074;&#1085;&#1086;&#1077;%20&#1103;&#1073;&#1083;&#1086;&#1095;&#1082;&#1086;%20&#1074;%20&#1089;&#1082;&#1072;&#1079;&#1082;&#1077;%20&#1055;&#1091;&#1096;&#1082;&#1080;&#1085;&#1072;&amp;spsite=fake-008-3633759.ru&amp;img_url=covers.shoprutuberu.soundkey.ru%2Fcovers%2Ffull%2F5393.jpg&amp;rpt=simage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64&amp;bf=1&amp;ed=1&amp;text=&#1103;&#1073;&#1083;&#1086;&#1082;&#1080;%20&#1085;&#1072;%20&#1079;&#1077;&#1084;&#1083;&#1077;&amp;spsite=fake-013-1355831.ru&amp;img_url=z1.foto.rambler.ru%2Fpublic%2Fkate1906%2F5%2F32%2F1-web.jpg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olkslovar.ru/p7458.html" TargetMode="External"/><Relationship Id="rId2" Type="http://schemas.openxmlformats.org/officeDocument/2006/relationships/hyperlink" Target="http://tolkslovar.ru/p7458.html" TargetMode="External"/><Relationship Id="rId3" Type="http://schemas.openxmlformats.org/officeDocument/2006/relationships/hyperlink" Target="http://tolkslovar.ru/p17172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Информационный проект</a:t>
            </a:r>
            <a:br>
              <a:rPr sz="3200"/>
            </a:br>
            <a:r>
              <a:rPr b="0" lang="en-US" sz="4400" spc="-1" strike="noStrike">
                <a:solidFill>
                  <a:srgbClr val="cc99ff"/>
                </a:solidFill>
                <a:latin typeface="Verdana"/>
              </a:rPr>
              <a:t>Такое знакомое слово «</a:t>
            </a:r>
            <a:r>
              <a:rPr b="1" lang="en-US" sz="4400" spc="-1" strike="noStrike">
                <a:solidFill>
                  <a:srgbClr val="cc99ff"/>
                </a:solidFill>
                <a:latin typeface="Verdana"/>
              </a:rPr>
              <a:t>…</a:t>
            </a:r>
            <a:r>
              <a:rPr b="0" lang="en-US" sz="4400" spc="-1" strike="noStrike">
                <a:solidFill>
                  <a:srgbClr val="cc99ff"/>
                </a:solidFill>
                <a:latin typeface="Verdana"/>
              </a:rPr>
              <a:t>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6560" y="2060640"/>
            <a:ext cx="77770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БОУ «СОШ №1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 углубленным изучением отдельных предметов </a:t>
            </a:r>
            <a:br>
              <a:rPr sz="2000"/>
            </a:b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г. Шебекино Белгородской области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втор:  Дзюба 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уководитель-консультант: Колесникова С.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        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2010г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                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8360" y="4941720"/>
            <a:ext cx="187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ердцевина в мишени для стрельбы в цель - яблочко.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252600" cy="3564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023840" y="5589720"/>
            <a:ext cx="75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и попадании точно в цель, говорят: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   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«В САМОЕ ЯБЛОЧКО»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Глазное яблоко - шарообразное тело глаза.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189160" y="2054160"/>
            <a:ext cx="47656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имвол власти – «державное яблоко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87720" y="1600200"/>
            <a:ext cx="29685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«Конь в яблоках» -расцветка с темными круглыми пятнами на шерсти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14680" y="1925640"/>
            <a:ext cx="57150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Кадык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 (адамово яблоко)</a:t>
            </a:r>
            <a:br>
              <a:rPr sz="40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Выпуклость на передней поверхности шеи у мужчин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2877840" cy="2520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359000" y="4740120"/>
            <a:ext cx="729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дам в Эдемском саду со страху подавился,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оглатывая украденное Евой яблоко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 до сих пор у всех мужчин это яблоко выпячивается из горла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44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76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омидор по-французски ротте d'or (пом д'ор) –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золотое яблоко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319560" y="2982960"/>
            <a:ext cx="25048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Яблоко как символ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Яблоко (в переводе с романских языков «райский плод») означает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плодородие,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любовь,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радость,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знание,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 мудрос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Но, вместе с тем слово «яблоко» означает,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5"/>
              </a:rPr>
              <a:t>обманчивость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 и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6"/>
              </a:rPr>
              <a:t>смер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71640" y="3068640"/>
            <a:ext cx="1428840" cy="971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59640" y="2924280"/>
            <a:ext cx="923760" cy="1228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987640" y="2924280"/>
            <a:ext cx="981000" cy="1323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3"/>
          <a:stretch/>
        </p:blipFill>
        <p:spPr>
          <a:xfrm>
            <a:off x="4643280" y="3141720"/>
            <a:ext cx="1181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34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634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834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34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258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греческой мифологии причиной спора между богинями стало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яблоко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с надписью «прекраснейшей». Его подбросила богиня раздора Эрида на свадебном пиру смертного Пелея и богини Фетиды за то,  что её забыли пригласить на свадьбу. С яблока раздора началась Троянская войн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яблоко раздор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о, что порождает ссору, раздор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1725480" y="236520"/>
            <a:ext cx="485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Яблоко Раздора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404640"/>
            <a:ext cx="1114560" cy="1057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4365720"/>
            <a:ext cx="1800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Яблоко с древа познания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.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уществует поверье, что яблоко было причиной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первородного греха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.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Адам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 и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Ева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, ослушавшись воли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Бога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, вкусили плод с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5"/>
              </a:rPr>
              <a:t>Древа познания добра и зла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 и были наказан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Бог изгнал их  из Рая и сделал смертны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3276720" y="1484280"/>
            <a:ext cx="18381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640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Молодильные яблок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Молодильные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 яблок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в  сказках возвращают здоровье и молодость, а иногда дарят бессмерти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сследования финских ученых подтвердили, что вещества, содержащиеся в яблоках, стимулируют мыслительные процессы и являются хорошей профилактикой болезни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ушай по яблоку в день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доктор не понадобитс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00720" y="4292640"/>
            <a:ext cx="1440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Задач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ыяснить, что мы знаем о слове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обрать материал, интересные факты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тобрать материал для презента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20000" y="429264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8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9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Яблоко в науке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77040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 известной легенде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учёный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саак                      Ньютон сделал научное открытие, когда яблоко упало ему на голов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лхимики</a:t>
            </a: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, заметив, что сердцевина разрезанного поперек яблока напоминает пятиконечную звезду, использовали яблоко как символ зна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08720" y="3933720"/>
            <a:ext cx="142884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Яблоко в геральдике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Яблоко является частью многих 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гербов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 является символом 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</a:rPr>
              <a:t>мира</a:t>
            </a:r>
            <a:r>
              <a:rPr b="0" lang="ru-RU" sz="28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овременные гербы Корочанского и Валуйского районов нашей обла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нашей области в Корочанском районе есть г. Яблон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95480" y="779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7" name="" descr="1. Герб Корочи и Корочанского район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2781360"/>
            <a:ext cx="1247760" cy="1542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Герб города Валуйки"/>
          <p:cNvPicPr/>
          <p:nvPr/>
        </p:nvPicPr>
        <p:blipFill>
          <a:blip r:embed="rId4"/>
          <a:stretch/>
        </p:blipFill>
        <p:spPr>
          <a:xfrm>
            <a:off x="5364000" y="2781360"/>
            <a:ext cx="1278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16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52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Это интересн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День яблока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 – праздник в Великобритании и СШ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Яблочный Спас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 –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усское название христианского праздника. Именно в этот день (19 августа) на Руси было принято срывать и освящать яблок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ишел Спас, яблочко припас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372360" y="4508640"/>
            <a:ext cx="15127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0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Заключе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92000" y="1915920"/>
            <a:ext cx="699444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 словам привыкаешь день ото дн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 они первородного смысла полны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60640" cy="2305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39640" y="3933720"/>
            <a:ext cx="847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слушайся. Вникни. Не позабудь.                                          У слова свой норов. Своё нутро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если ты в эту проникнешь суть –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лово тебе сотворит добро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руглое, румяное,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Я расту на ветке: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Любят меня взрослые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 маленькие детки.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348000" y="2997360"/>
            <a:ext cx="428616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уществительное, неодушевлённое, нарицательное, средний р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орень: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-ябл-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; суффикс: </a:t>
            </a:r>
            <a:r>
              <a:rPr b="0" lang="ru-RU" sz="32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-</a:t>
            </a:r>
            <a:r>
              <a:rPr b="0" lang="ru-RU" sz="32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ок</a:t>
            </a:r>
            <a:r>
              <a:rPr b="0" lang="ru-RU" sz="32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-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; окончание: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-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Запомни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-1075" t="14483" r="1079" b="18816"/>
          <a:stretch/>
        </p:blipFill>
        <p:spPr>
          <a:xfrm>
            <a:off x="1187280" y="1557360"/>
            <a:ext cx="662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Фразеологиз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яблоку негде упасть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чень тесн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700280"/>
            <a:ext cx="2014560" cy="1681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92360" y="3933720"/>
            <a:ext cx="2232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Яблоко в фольклоре и литературе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Яблоко спелое, красное, сладкое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Яблоко хрусткое, с кожицей гладкое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Яблоко я пополам разломлю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Яблоко с другом своим разделю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Я.Аки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ад—горою—солнце—встало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 неба—яблоко—упало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о—лазоре—вым—луга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ока—тилось—прямо—к нам!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ока—тилось—пока—тилось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 речку—с мос—тика—свалилось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Кто—увидел—не—дремли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о—скорей—его—лови!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Кто—поймал—тот моло—дец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едь—счита—лочке—конец!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57720"/>
            <a:ext cx="1547640" cy="1592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422100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Яблоко от яблони не далеко пада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Яблоко румяное, а внутри червоточина.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аков садовник, такое и яблок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  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Яблоко - дитя, ребенок, а яблоня и садовник – родители, семья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Дети «отражение» сво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4292640"/>
            <a:ext cx="17524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6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68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Но всё ли мы знаем о слове «яблоко»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Значение слова.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Яблоко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 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Плод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 яблони. </a:t>
            </a: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 перен. 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Плод,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предмет,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 имеющий шарообразную форму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8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48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6:18:38Z</dcterms:created>
  <dc:creator>Admin</dc:creator>
  <dc:description/>
  <dc:language>en-US</dc:language>
  <cp:lastModifiedBy>Илья</cp:lastModifiedBy>
  <dcterms:modified xsi:type="dcterms:W3CDTF">2012-07-26T06:48:04Z</dcterms:modified>
  <cp:revision>16</cp:revision>
  <dc:subject/>
  <dc:title>Такое знакомое слово «яблоко»</dc:title>
</cp:coreProperties>
</file>