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2.gif" ContentType="image/gif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.gif" ContentType="image/gif"/>
  <Override PartName="/ppt/media/image24.jpeg" ContentType="image/jpeg"/>
  <Override PartName="/ppt/media/image15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64C9-67DB-4897-87B0-6CBE0675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FEE-DCB1-4431-9CF2-4206F032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BB5-990F-41BE-A114-5F53A8A1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116-8238-49E2-AE7C-70BD9DA5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BC00-97B2-4C23-860F-B51901A1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90DD-AD5D-4323-9E31-FCB1C6CE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8B65-49C3-4660-8ECE-7656B89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AAD9-F2D8-4176-9767-4B601B6B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7ABA-48D8-4D63-92A0-0381DD1F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83B4-5A0E-4771-82E9-CA6E7ADB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AA1-9A0E-4AA7-B34C-F4C6914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5C3-23C2-4EFF-B5B9-D082D28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5C91-50AA-4776-BE31-16F4538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8411-9C3E-47A3-8D62-82BA7CB8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52CA-E4CB-4380-84BE-F9B99668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54D5-25C2-494A-9A2E-0B84B91A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780A-9205-41D7-A3B3-A9775C7A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4FE-52E7-43FD-B1F0-BF5142B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39C-4FE3-40CA-84F1-237669B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FBF-6688-4579-9D3F-234B0B50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50C-ADFC-43D5-9D7B-728AB656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9C2-43A5-451B-BFD4-F4EEC588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5480-726D-4A70-B175-B7B1947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14B-75CE-40D9-BD2F-E75B804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82BD-0F59-4E07-96F8-CF731526033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4CD-BEE3-4BDD-BAFB-5D1F63DCE21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olkslovar.ru/p7494.html" TargetMode="External"/><Relationship Id="rId2" Type="http://schemas.openxmlformats.org/officeDocument/2006/relationships/hyperlink" Target="http://tolkslovar.ru/l4365.html" TargetMode="External"/><Relationship Id="rId3" Type="http://schemas.openxmlformats.org/officeDocument/2006/relationships/hyperlink" Target="http://tolkslovar.ru/r452.html" TargetMode="External"/><Relationship Id="rId4" Type="http://schemas.openxmlformats.org/officeDocument/2006/relationships/hyperlink" Target="http://tolkslovar.ru/z6198.html" TargetMode="External"/><Relationship Id="rId5" Type="http://schemas.openxmlformats.org/officeDocument/2006/relationships/hyperlink" Target="http://tolkslovar.ru/o1175.html" TargetMode="External"/><Relationship Id="rId6" Type="http://schemas.openxmlformats.org/officeDocument/2006/relationships/hyperlink" Target="http://tolkslovar.ru/s7880.html" TargetMode="External"/><Relationship Id="rId7" Type="http://schemas.openxmlformats.org/officeDocument/2006/relationships/hyperlink" Target="http://images.yandex.ru/search?p=77&amp;bf=1&amp;ed=1&amp;text=&#1103;&#1073;&#1083;&#1086;&#1082;&#1080;%20&#1085;&#1072;%20&#1079;&#1077;&#1084;&#1083;&#1077;&amp;spsite=www.illaryaart.by&amp;img_url=www.illaryaart.by%2Fzal02%2F50xpanitel2.jpg&amp;rpt=simage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images.yandex.ru/search?p=53&amp;bf=1&amp;text=%20&#1085;&#1072;&#1083;&#1080;&#1074;&#1085;&#1086;&#1077;%20&#1103;&#1073;&#1083;&#1086;&#1095;&#1082;&#1086;%20&#1074;%20&#1089;&#1082;&#1072;&#1079;&#1082;&#1077;%20&#1055;&#1091;&#1096;&#1082;&#1080;&#1085;&#1072;&amp;spsite=project68.narod.ru&amp;img_url=sc1173.narod.ru%2Fkonf%2Fprojects%2Fpushkin%2FPictures%2Finf6.jpg&amp;rpt=simage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images.yandex.ru/search?p=0&amp;bf=1&amp;text=%20&#1078;&#1072;&#1088;%20&#1087;&#1090;&#1080;&#1094;&#1072;%20&#1082;&#1083;&#1102;&#1105;&#1090;%20&#1079;&#1086;&#1083;&#1086;&#1090;&#1099;&#1077;%20&#1103;&#1073;&#1083;&#1086;&#1082;&#1080;&amp;spsite=www.xrest.ru&amp;img_url=www.teremok.in%2Fimages%2Fvan_volk2.jpg&amp;rpt=simage" TargetMode="External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ib.deport.ru/slovar/bes/ya/jabloko.html" TargetMode="External"/><Relationship Id="rId2" Type="http://schemas.openxmlformats.org/officeDocument/2006/relationships/hyperlink" Target="http://images.yandex.ru/search?p=38&amp;ed=1&amp;text=&#1103;&#1073;&#1083;&#1086;&#1082;&#1086;%20&#1082;&#1072;&#1088;&#1090;&#1080;&#1085;&#1082;&#1080;&amp;spsite=fake-016-1600946.ru&amp;img_url=my-order.ru%2Ffiles%2Fimages%2F1180765057_f.jpg&amp;rpt=simage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images.yandex.ru/search?p=29&amp;bf=1&amp;ed=1&amp;text=%20&#1103;&#1073;&#1083;&#1086;&#1082;&#1086;%20&#1088;&#1072;&#1079;&#1076;&#1086;&#1088;&#1072;%20&#1082;&#1072;&#1088;&#1090;&#1080;&#1085;&#1099;&amp;spsite=www.nkj.ru&amp;img_url=www.nkj.ru%2Fupload%2Fiblock%2F7d7821c65539184b8c7f0f4f8d189f72.jpg&amp;rpt=simage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gpi.ru/wiki/index.php/&#1055;&#1077;&#1088;&#1074;&#1086;&#1088;&#1086;&#1076;&#1085;&#1099;&#1081;_&#1075;&#1088;&#1077;&#1093;" TargetMode="External"/><Relationship Id="rId2" Type="http://schemas.openxmlformats.org/officeDocument/2006/relationships/hyperlink" Target="http://ru.wikipedia.org/wiki/&#1040;&#1076;&#1072;&#1084;" TargetMode="External"/><Relationship Id="rId3" Type="http://schemas.openxmlformats.org/officeDocument/2006/relationships/hyperlink" Target="http://ru.wikipedia.org/wiki/&#1045;&#1074;&#1072;" TargetMode="External"/><Relationship Id="rId4" Type="http://schemas.openxmlformats.org/officeDocument/2006/relationships/hyperlink" Target="http://ru.wikipedia.org/wiki/&#1041;&#1086;&#1075;" TargetMode="External"/><Relationship Id="rId5" Type="http://schemas.openxmlformats.org/officeDocument/2006/relationships/hyperlink" Target="http://ru.wikipedia.org/wiki/&#1044;&#1088;&#1077;&#1074;&#1086;_&#1087;&#1086;&#1079;&#1085;&#1072;&#1085;&#1080;&#1103;_&#1076;&#1086;&#1073;&#1088;&#1072;_&#1080;_&#1079;&#1083;&#1072;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traditio.ru/wiki/&#1052;&#1086;&#1083;&#1086;&#1076;&#1080;&#1083;&#1100;&#1085;&#1099;&#1077;_&#1103;&#1073;&#1083;&#1086;&#1082;&#1080;" TargetMode="External"/><Relationship Id="rId2" Type="http://schemas.openxmlformats.org/officeDocument/2006/relationships/hyperlink" Target="http://traditio.ru/wiki/&#1052;&#1086;&#1083;&#1086;&#1076;&#1080;&#1083;&#1100;&#1085;&#1099;&#1077;_&#1103;&#1073;&#1083;&#1086;&#1082;&#1080;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3;&#1093;&#1080;&#1084;&#1080;&#1103;" TargetMode="External"/><Relationship Id="rId2" Type="http://schemas.openxmlformats.org/officeDocument/2006/relationships/hyperlink" Target="http://images.yandex.ru/search?p=655&amp;ed=1&amp;text=&#1103;&#1073;&#1083;&#1086;&#1082;&#1086;%20&#1082;&#1072;&#1088;&#1090;&#1080;&#1085;&#1082;&#1080;&amp;spsite=fake-009-27424.ru&amp;img_url=i27.photobucket.com%2Falbums%2Fc159%2FSawelon%2F-4.jpg&amp;rpt=simage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73;" TargetMode="External"/><Relationship Id="rId2" Type="http://schemas.openxmlformats.org/officeDocument/2006/relationships/hyperlink" Target="http://www.gerb.bel.ru/pages/rayon/img/korocha_3.gif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_&#1103;&#1073;&#1083;&#1086;&#1082;&#1072;" TargetMode="External"/><Relationship Id="rId2" Type="http://schemas.openxmlformats.org/officeDocument/2006/relationships/hyperlink" Target="http://traditio.ru/w/index.php?title=&#1071;&#1073;&#1083;&#1086;&#1095;&#1085;&#1099;&#1081;_&#1057;&#1087;&#1072;&#1089;&amp;action=edit&amp;redlink=1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tionary.org/w/index.php?title=-&#1086;&#1082;&amp;action=edit&amp;redlink=1" TargetMode="External"/><Relationship Id="rId2" Type="http://schemas.openxmlformats.org/officeDocument/2006/relationships/hyperlink" Target="http://ru.wiktionary.org/w/index.php?title=-&#1086;&#1082;&amp;action=edit&amp;redlink=1" TargetMode="External"/><Relationship Id="rId3" Type="http://schemas.openxmlformats.org/officeDocument/2006/relationships/hyperlink" Target="http://ru.wiktionary.org/w/index.php?title=-&#1086;&#1082;&amp;action=edit&amp;redlink=1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32&amp;bf=1&amp;ed=1&amp;text=&#1103;&#1073;&#1083;&#1086;&#1082;&#1080;%20&#1085;&#1072;%20&#1079;&#1077;&#1084;&#1083;&#1077;&amp;spsite=fake-002-1232304.ru&amp;img_url=dreamfood.info%2Fuploads%2Fposts%2F2009-08%2F1250322955_apples.jpg&amp;rpt=simag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search?p=30&amp;bf=1&amp;ed=1&amp;text=&#1103;&#1073;&#1083;&#1086;&#1082;&#1091;%20&#1085;&#1077;&#1075;&#1076;&#1077;%20&#1091;&#1087;&#1072;&#1089;&#1090;&#1100;&amp;spsite=www.stihi.ru&amp;img_url=www.azur.ru%2Fanapa%2Fimg.php%3Fphoto%3D1413%26sz%3D87870&amp;rpt=simage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711&amp;ed=1&amp;text=&#1103;&#1073;&#1083;&#1086;&#1082;&#1086;%20&#1082;&#1072;&#1088;&#1090;&#1080;&#1085;&#1082;&#1080;&amp;spsite=fake-022-530230.ru&amp;img_url=lib.rus.ec%2Fi%2F50%2F130450%2Fcover.jpg&amp;rpt=simag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yandex.ru/search?p=3&amp;bf=1&amp;text=%20&#1085;&#1072;&#1083;&#1080;&#1074;&#1085;&#1086;&#1077;%20&#1103;&#1073;&#1083;&#1086;&#1095;&#1082;&#1086;%20&#1074;%20&#1089;&#1082;&#1072;&#1079;&#1082;&#1077;%20&#1055;&#1091;&#1096;&#1082;&#1080;&#1085;&#1072;&amp;spsite=fake-008-3633759.ru&amp;img_url=covers.shoprutuberu.soundkey.ru%2Fcovers%2Ffull%2F5393.jpg&amp;rpt=simag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64&amp;bf=1&amp;ed=1&amp;text=&#1103;&#1073;&#1083;&#1086;&#1082;&#1080;%20&#1085;&#1072;%20&#1079;&#1077;&#1084;&#1083;&#1077;&amp;spsite=fake-013-1355831.ru&amp;img_url=z1.foto.rambler.ru%2Fpublic%2Fkate1906%2F5%2F32%2F1-web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olkslovar.ru/p7458.html" TargetMode="External"/><Relationship Id="rId2" Type="http://schemas.openxmlformats.org/officeDocument/2006/relationships/hyperlink" Target="http://tolkslovar.ru/p7458.html" TargetMode="External"/><Relationship Id="rId3" Type="http://schemas.openxmlformats.org/officeDocument/2006/relationships/hyperlink" Target="http://tolkslovar.ru/p17172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нформационный проект</a:t>
            </a:r>
            <a:br>
              <a:rPr sz="3200"/>
            </a:b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Такое знакомое слово «</a:t>
            </a:r>
            <a:r>
              <a:rPr b="1" lang="en-US" sz="4400" spc="-1" strike="noStrike">
                <a:solidFill>
                  <a:srgbClr val="cc99ff"/>
                </a:solidFill>
                <a:latin typeface="Verdana"/>
              </a:rPr>
              <a:t>…</a:t>
            </a: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560" y="2060640"/>
            <a:ext cx="7777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МБОУ «СОШ №1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 углубленным изучением отдельных предметов </a:t>
            </a:r>
            <a:br>
              <a:rPr sz="2000"/>
            </a:b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г. Шебекино Белгородской област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втор:  Дзюба 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уководитель-консультант: Колесникова С.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010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187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ердцевина в мишени для стрельбы в цель - яблочко.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252600" cy="356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23840" y="5589720"/>
            <a:ext cx="75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ри попадании точно в цель, говорят: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«В САМОЕ ЯБЛОЧКО»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Глазное яблоко - шарообразное тело глаза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89160" y="2054160"/>
            <a:ext cx="47656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имвол власти – «державное яблоко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87720" y="1600200"/>
            <a:ext cx="29685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«Конь в яблоках» -расцветка с темными круглыми пятнами на шерсти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714680" y="1925640"/>
            <a:ext cx="57150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Кадык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 (адамово яблоко)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Выпуклость на передней поверхности шеи у мужчин</a:t>
            </a: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2877840" cy="2520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359000" y="4740120"/>
            <a:ext cx="729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дам в Эдемском саду со страху подавился,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оглатывая украденное Евой яблоко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 до сих пор у всех мужчин это яблоко выпячивается из горл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44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76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мидор по-французски ротте d'or (пом д'ор) –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золотое яблоко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319560" y="2982960"/>
            <a:ext cx="25048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как символ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блоко (в переводе с романских языков «райский плод») означает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лодородие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любовь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радость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знание,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мудр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о, вместе с тем слово «яблоко» означает,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обманчивость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смер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306864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2924280"/>
            <a:ext cx="923760" cy="1228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87640" y="2924280"/>
            <a:ext cx="981000" cy="1323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4643280" y="3141720"/>
            <a:ext cx="1181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34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34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34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34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258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греческой мифологии причиной спора между богинями стало </a:t>
            </a: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яблоко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с надписью «прекраснейшей». Его подбросила богиня раздора Эрида на свадебном пиру смертного Пелея и богини Фетиды за то,  что её забыли пригласить на свадьбу. С яблока раздора началась Троянская войн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яблоко раздор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о, что порождает ссору, раздор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1725480" y="236520"/>
            <a:ext cx="485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Раздор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4360" y="404640"/>
            <a:ext cx="1114560" cy="10573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365720"/>
            <a:ext cx="180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с древа познания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Существует поверье, что яблоко было причиной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ервородного грех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.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Адам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Ев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, ослушавшись воли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Бог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, вкусили плод с </a:t>
            </a:r>
            <a:r>
              <a:rPr b="0" lang="en-US" sz="24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Древа познания добра и зла</a:t>
            </a: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 и были наказан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Бог изгнал их  из Рая и сделал смертны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276720" y="1484280"/>
            <a:ext cx="18381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6400"/>
                            </p:stCondLst>
                            <p:childTnLst>
                              <p:par>
                                <p:cTn id="4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Молодильные яблок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Молодильные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 яблок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 сказках возвращают здоровье и молодость, а иногда дарят бессмерт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сследования финских ученых подтвердили, что вещества, содержащиеся в яблоках, стимулируют мыслительные процессы и являются хорошей профилактикой болезни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шай по яблоку в день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доктор не понадобит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1440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дач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ыяснить, что мы знаем о слов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брать материал, интересные факт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тобрать материал для презентаци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20000" y="4292640"/>
            <a:ext cx="15336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8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в наук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7704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 известной легенде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учёный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саак                      Ньютон сделал научное открытие, когда яблоко упало ему на голов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лхимики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, заметив, что сердцевина разрезанного поперек яблока напоминает пятиконечную звезду, использовали яблоко как символ зна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3933720"/>
            <a:ext cx="1428840" cy="9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Яблоко в геральдик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Яблоко является частью многих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гербов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 является символом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Verdana"/>
              </a:rPr>
              <a:t>мира</a:t>
            </a: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временные гербы Корочанского и Валуйского районов нашей област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нашей области в Корочанском районе есть г. Яблон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095480" y="77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7" name="" descr="1. Герб Корочи и Корочанского райо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781360"/>
            <a:ext cx="1247760" cy="1542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Герб города Валуйки"/>
          <p:cNvPicPr/>
          <p:nvPr/>
        </p:nvPicPr>
        <p:blipFill>
          <a:blip r:embed="rId4"/>
          <a:stretch/>
        </p:blipFill>
        <p:spPr>
          <a:xfrm>
            <a:off x="5364000" y="2781360"/>
            <a:ext cx="1278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16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52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Это интересн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День яблока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– праздник в Великобритании и СШ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Яблочный Спас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усское название христианского праздника. Именно в этот день (19 августа) на Руси было принято срывать и освящать яблок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шел Спас, яблочко припас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6372360" y="4508640"/>
            <a:ext cx="15127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4000"/>
                            </p:stCondLst>
                            <p:childTnLst>
                              <p:par>
                                <p:cTn id="6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Заключ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92000" y="1915920"/>
            <a:ext cx="6994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 словам привыкаешь день ото дня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они первородного смысла полны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60640" cy="2305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39640" y="3933720"/>
            <a:ext cx="847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слушайся. Вникни. Не позабудь.                                          У слова свой норов. Своё нутро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если ты в эту проникнешь суть –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лово тебе сотворит добро!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руглое, румяное,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 расту на ветке: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юбят меня взрослые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маленькие детки.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428616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уществительное, неодушевлённое, нарицательное, средний ро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орень: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-ябл-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; суффикс: 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-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ок</a:t>
            </a:r>
            <a:r>
              <a:rPr b="0" lang="ru-RU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-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; окончание: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-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-1075" t="14483" r="1079" b="18816"/>
          <a:stretch/>
        </p:blipFill>
        <p:spPr>
          <a:xfrm>
            <a:off x="1187280" y="1557360"/>
            <a:ext cx="662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разеологизм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яблоку негде упа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чень тес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014560" cy="16812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92360" y="3933720"/>
            <a:ext cx="22320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Яблоко в фольклоре и литературе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спелое, красное, сладко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хрусткое, с кожицей гладко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я пополам разломл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блоко с другом своим раздел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.Аки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д—горою—солнце—встал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 неба—яблоко—упало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—лазоре—вым—луга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ка—тилось—прямо—к нам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ка—тилось—пока—тилос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речку—с мос—тика—свалилось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то—увидел—не—дремл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—скорей—его—лови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Кто—поймал—тот моло—дец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едь—счита—лочке—конец!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1547640" cy="1592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422100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Яблоко от яблони не далеко пад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Яблоко румяное, а внутри червоточина.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ов садовник, такое и яблок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  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Яблоко - дитя, ребенок, а яблоня и садовник – родители, семья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ети «отражение» сво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292640"/>
            <a:ext cx="1752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60"/>
                            </p:stCondLst>
                            <p:childTnLst>
                              <p:par>
                                <p:cTn id="2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68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о всё ли мы знаем о слове «яблоко»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начение слова. </a:t>
            </a:r>
            <a:br>
              <a:rPr sz="32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Яблоко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Плод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яблони. 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перен.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Плод,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</a:t>
            </a:r>
            <a:r>
              <a:rPr b="0" lang="en-US" sz="3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предмет,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 имеющий шарообразную форму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8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8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6:18:38Z</dcterms:created>
  <dc:creator>Admin</dc:creator>
  <dc:description/>
  <dc:language>en-US</dc:language>
  <cp:lastModifiedBy>Илья</cp:lastModifiedBy>
  <dcterms:modified xsi:type="dcterms:W3CDTF">2012-07-26T06:48:04Z</dcterms:modified>
  <cp:revision>16</cp:revision>
  <dc:subject/>
  <dc:title>Такое знакомое слово «яблоко»</dc:title>
</cp:coreProperties>
</file>