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021-3CDB-4FEC-B683-6DCD420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11C-BADA-48E8-8EB0-3108E1AA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BA7-A0B9-4AE7-9483-F3E40291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2C8-60EB-417D-BD5C-06C05385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0A5-83E3-4844-A94B-AF919D5A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9F6-6FA6-45CB-9413-997ED48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D7E-41CE-442C-A84A-CCD6840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4D4-2F6C-4D39-A6F0-2A2D123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495-07A3-43B6-959E-E83D048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DCA-E34E-4BF3-B033-031F0A7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6CA-0F62-48C5-A651-657E917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B22-2419-4910-A656-F47ED97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6D5-D5DF-4BD4-80A7-42D36BB1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стория города  Саратов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в названиях ул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962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ание окружного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19960" y="1523880"/>
            <a:ext cx="7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29200" y="19051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йчас    это  здание занима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ская гимн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мецкая улица (раньш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419720" cy="4619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мецкая улица  (сейча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0988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тиница “Европа”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38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дание «Росс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191120" cy="383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Саратовский Арба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осковская    улица    раньше   и    теп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38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сковская улица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своём начале сто двадцать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952880" cy="327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58136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4120" y="2286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оицкий собор прекрасно сохранился до наших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старный ряд – часть Верхнего базара, находился на Хлеб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0" y="990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096240" cy="33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22860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месте Верхнего базара – комплекс зданий  правительст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2:36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