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DA72-0619-419F-B36B-7DCBEE6A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34C5-AFBA-48CD-B0BC-6E53BDDF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3AD5-A51A-44BB-AB78-B375552C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A0FA-B249-4A2C-A2AA-8B41F37C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B46A-55B1-480F-A258-E784E3C0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10E-5FD9-467C-B052-3284A3B7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573-4EE9-4604-A178-7F924861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882-5A1E-4D19-AEB5-52424EA5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91F-166C-4B5A-B9E0-23979A4D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53F4-C408-425B-BA02-B259A3A8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0BE-80B9-4224-A738-32754CB5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B86-3BC1-4468-B229-819E3D4B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A068-D998-4211-9EB7-04D8D74AA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История города  Саратова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в названиях ули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3962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дание окружного с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219960" y="1523880"/>
            <a:ext cx="7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4191120" cy="3352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029200" y="1905120"/>
            <a:ext cx="393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ейчас    это  здание занимает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атарская гимназ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емецкая улица (раньш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419720" cy="4619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4419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емецкая улица  (сейчас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809880" cy="4286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4114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тиница “Европа”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848360" cy="5410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601200" y="1600200"/>
            <a:ext cx="38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дание «Росси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4191120" cy="3838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4267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«Саратовский Арба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381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осковская    улица    раньше   и    теп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601200" y="1600200"/>
            <a:ext cx="38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419720" cy="3124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44197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осковская улица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 своём начале сто двадцать лет наз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952880" cy="3270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4581360" cy="3429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4120" y="22860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оицкий собор прекрасно сохранился до наших д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4114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устарный ряд – часть Верхнего базара, находился на Хлебной площ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0" y="9907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6096240" cy="3352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24280" y="4038480"/>
            <a:ext cx="4419720" cy="2819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324480" y="228600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 месте Верхнего базара – комплекс зданий  правительства Саратов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27T12:36:5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