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1"/>
          <p:cNvSpPr/>
          <p:nvPr/>
        </p:nvSpPr>
        <p:spPr>
          <a:xfrm>
            <a:off x="8326440" y="6040440"/>
            <a:ext cx="817560" cy="817560"/>
          </a:xfrm>
          <a:custGeom>
            <a:avLst/>
            <a:gdLst/>
            <a:ahLst/>
            <a:rect l="l" t="t" r="r" b="b"/>
            <a:pathLst>
              <a:path w="2269" h="2269">
                <a:moveTo>
                  <a:pt x="0" y="2267"/>
                </a:moveTo>
                <a:lnTo>
                  <a:pt x="2267" y="0"/>
                </a:lnTo>
                <a:lnTo>
                  <a:pt x="2268" y="2268"/>
                </a:lnTo>
                <a:lnTo>
                  <a:pt x="0" y="226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0" y="0"/>
            <a:ext cx="9144000" cy="644400"/>
          </a:xfrm>
          <a:prstGeom prst="roundRect">
            <a:avLst>
              <a:gd name="adj" fmla="val 24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8601120" y="6335640"/>
            <a:ext cx="436680" cy="4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163440" y="92160"/>
            <a:ext cx="414360" cy="398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 rot="21000000">
            <a:off x="8259480" y="6424200"/>
            <a:ext cx="860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B177FE5-3AD4-46EE-B56F-8ACB5B98908B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0" y="4019400"/>
            <a:ext cx="2637000" cy="283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142920" y="1000080"/>
            <a:ext cx="871524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4b62"/>
                </a:solidFill>
                <a:latin typeface="Calibri"/>
                <a:ea typeface="Arial Unicode MS"/>
              </a:rPr>
              <a:t>Организация, участие и проведение дистанционных игр, олимпиад, конкур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71400" y="3733920"/>
            <a:ext cx="778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          </a:t>
            </a:r>
            <a:r>
              <a:rPr b="1" lang="ru-RU" sz="28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Автор </a:t>
            </a:r>
            <a:r>
              <a:rPr b="1" i="1" lang="ru-RU" sz="28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Крылова Еле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             </a:t>
            </a:r>
            <a:r>
              <a:rPr b="1" i="1" lang="ru-RU" sz="24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Апрель 2010 г</a:t>
            </a:r>
            <a:r>
              <a:rPr b="0" lang="ru-RU" sz="24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360360" y="1079640"/>
            <a:ext cx="87152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Дистанционные игры, олимпиады, конкурсы – </a:t>
            </a:r>
            <a:r>
              <a:rPr b="1" i="1" lang="ru-RU" sz="31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нтеллектуальные состязания</a:t>
            </a:r>
            <a:r>
              <a:rPr b="0" lang="ru-RU" sz="3100" spc="-1" strike="noStrike">
                <a:solidFill>
                  <a:srgbClr val="004b62"/>
                </a:solidFill>
                <a:latin typeface="Calibri"/>
                <a:ea typeface="Arial Unicode MS"/>
              </a:rPr>
              <a:t>, направленные на внедрение в учебный процесс проектного метода обучения, с использованием Интернета для связи между  учащимися из различных школ, городов, стран и пр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539640" y="53964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Цель дистанцио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гр, олимпиад, конкур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57120" y="2143080"/>
            <a:ext cx="84297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выявить и развить творческие способности участ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совершенствовать учеб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539640" y="539640"/>
            <a:ext cx="82296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Задачи дистанцио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гр, конкурсов, олимпиа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00040" y="2071800"/>
            <a:ext cx="822960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стимулирование интереса к изучаемому предмету с помощью Интернет-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внедрение в учебную практику новых и эффективных методов об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стимулирование активности и самостоятель-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87200" y="1096920"/>
            <a:ext cx="4132440" cy="214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2776680" y="3909960"/>
            <a:ext cx="5143320" cy="275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179280" y="4140360"/>
            <a:ext cx="1619280" cy="1439640"/>
          </a:xfrm>
          <a:prstGeom prst="rect">
            <a:avLst/>
          </a:prstGeom>
          <a:ln w="9360">
            <a:solidFill>
              <a:srgbClr val="008080"/>
            </a:solidFill>
            <a:round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>
            <a:off x="5040360" y="957240"/>
            <a:ext cx="3767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457200" y="539640"/>
            <a:ext cx="8229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нтеллектуальный чемпионат </a:t>
            </a:r>
            <a:r>
              <a:rPr b="1" i="1" lang="ru-RU" sz="4000" spc="-1" strike="noStrike">
                <a:solidFill>
                  <a:srgbClr val="004b62"/>
                </a:solidFill>
                <a:latin typeface="Calibri"/>
                <a:ea typeface="Arial Unicode MS"/>
              </a:rPr>
              <a:t>«Эрудиты Московской обла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511440" cy="2552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5857920" y="1928880"/>
            <a:ext cx="175896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7000920" y="3929040"/>
            <a:ext cx="1789200" cy="246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071800" y="4000680"/>
            <a:ext cx="3500280" cy="25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900000" y="539640"/>
            <a:ext cx="77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нтеллектуальная иг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«Родное Подмосков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00000" y="2178000"/>
            <a:ext cx="397980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959280" y="3657600"/>
            <a:ext cx="4284720" cy="26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10969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360360"/>
            <a:ext cx="9360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b62"/>
                </a:solidFill>
                <a:latin typeface="Times New Roman"/>
                <a:ea typeface="Segoe UI"/>
              </a:rPr>
              <a:t>Первая районная дистанционная 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b62"/>
                </a:solidFill>
                <a:latin typeface="Times New Roman"/>
                <a:ea typeface="Segoe UI"/>
              </a:rPr>
              <a:t>по географ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87320" y="2160720"/>
            <a:ext cx="3711600" cy="2828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500720" y="3736800"/>
            <a:ext cx="3958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2-07-27T13:53:36Z</dcterms:modified>
  <cp:revision>2</cp:revision>
  <dc:subject/>
  <dc:title>Слайд 1</dc:title>
</cp:coreProperties>
</file>