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340-F4BE-4977-8F0D-D330FE47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E5-AFBB-49BE-B9F2-84D4C56B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E3E-E049-43B5-9078-B38330A6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51A-4EFC-40EE-A059-F365E545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9533-76EA-464F-A643-66DEEE172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46D8-162C-4389-9A1A-7499A745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7F03-7C17-4407-BEF0-9C62E126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B523-4BF4-4B71-96D6-88DCCFCB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8B91-657D-4C04-B032-E87BE516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22F-017E-48E1-85FF-733CD04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36C-3C48-45C1-82A9-37716C6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E50-7A38-47A4-A472-E514684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5A5-9D69-46B4-B55D-D2A2F4E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5089-2CC7-4F90-BAF2-6615BF1D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8154-0AB2-4B47-A3FE-3CAE0F99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726-4ACB-4E94-BDA0-B0010808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FB6-BB34-4971-B156-EDD6D2DD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131-24AC-4E17-A587-05EE73AA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FC0-92FA-4FE1-9A79-E24B29F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73F-34EC-43CF-B38A-D263425D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634-AEA2-4E3C-9E3C-A52407B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8BD-EF42-4A87-9C0F-811EBEE5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A5A-87ED-40E4-99F6-51A925E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027-0800-491F-9D5F-6AA8B5E4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114-C224-4F81-B7E8-C8BCB1AA89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F22F-F6D0-4F41-80A7-C6065084C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8d8f"/>
            </a:gs>
            <a:gs pos="100000">
              <a:srgbClr val="3a404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здоровый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 жизн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79280" y="62064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Е Н Ь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08000" y="1601640"/>
            <a:ext cx="5256360" cy="525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611280" y="1427040"/>
            <a:ext cx="7988040" cy="5430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0" y="1268280"/>
            <a:ext cx="3770280" cy="5589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4503600" y="1268280"/>
            <a:ext cx="4640400" cy="5589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000"/>
                            </p:stCondLst>
                            <p:childTnLst>
                              <p:par>
                                <p:cTn id="5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000"/>
                            </p:stCondLst>
                            <p:childTnLst>
                              <p:par>
                                <p:cTn id="60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50920" y="549360"/>
            <a:ext cx="8642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доровый образ жизни  -  это:</a:t>
            </a:r>
            <a:endParaRPr b="0" lang="en-US" sz="1800" spc="1" strike="noStrike">
              <a:ln w="0">
                <a:noFill/>
              </a:ln>
              <a:solidFill>
                <a:srgbClr val="cc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050920" y="1773360"/>
            <a:ext cx="410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порт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95640" y="3110040"/>
            <a:ext cx="46083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грация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71640" y="4292640"/>
            <a:ext cx="5111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</a:t>
            </a: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сила;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5640" y="5445000"/>
            <a:ext cx="6264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 творчество!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82956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360" y="333360"/>
            <a:ext cx="172080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7 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042920" y="123840"/>
            <a:ext cx="7058160" cy="6610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8542 L 0.71684 0.7125 E">
                                      <p:cBhvr>
                                        <p:cTn id="69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902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549360"/>
            <a:ext cx="914400" cy="914400"/>
          </a:xfrm>
          <a:custGeom>
            <a:avLst/>
            <a:gdLst>
              <a:gd name="textAreaLeft" fmla="*/ 373320 w 914400"/>
              <a:gd name="textAreaRight" fmla="*/ 541080 w 914400"/>
              <a:gd name="textAreaTop" fmla="*/ 373320 h 914400"/>
              <a:gd name="textAreaBottom" fmla="*/ 541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821" y="8821"/>
                </a:lnTo>
                <a:lnTo>
                  <a:pt x="10800" y="0"/>
                </a:lnTo>
                <a:lnTo>
                  <a:pt x="12779" y="8821"/>
                </a:lnTo>
                <a:lnTo>
                  <a:pt x="21600" y="10800"/>
                </a:lnTo>
                <a:lnTo>
                  <a:pt x="12779" y="12779"/>
                </a:lnTo>
                <a:lnTo>
                  <a:pt x="10800" y="21600"/>
                </a:lnTo>
                <a:lnTo>
                  <a:pt x="8821" y="12779"/>
                </a:lnTo>
                <a:lnTo>
                  <a:pt x="0" y="10800"/>
                </a:lnTo>
                <a:close/>
              </a:path>
            </a:pathLst>
          </a:custGeom>
          <a:solidFill>
            <a:srgbClr val="e4f91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836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5589720"/>
            <a:ext cx="914400" cy="914400"/>
          </a:xfrm>
          <a:custGeom>
            <a:avLst/>
            <a:gdLst>
              <a:gd name="textAreaLeft" fmla="*/ 364320 w 914400"/>
              <a:gd name="textAreaRight" fmla="*/ 550080 w 914400"/>
              <a:gd name="textAreaTop" fmla="*/ 364320 h 914400"/>
              <a:gd name="textAreaBottom" fmla="*/ 550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10" y="8610"/>
                </a:lnTo>
                <a:lnTo>
                  <a:pt x="10800" y="0"/>
                </a:lnTo>
                <a:lnTo>
                  <a:pt x="12990" y="8610"/>
                </a:lnTo>
                <a:lnTo>
                  <a:pt x="21600" y="10800"/>
                </a:lnTo>
                <a:lnTo>
                  <a:pt x="12990" y="12990"/>
                </a:lnTo>
                <a:lnTo>
                  <a:pt x="10800" y="21600"/>
                </a:lnTo>
                <a:lnTo>
                  <a:pt x="8610" y="12990"/>
                </a:lnTo>
                <a:lnTo>
                  <a:pt x="0" y="10800"/>
                </a:lnTo>
                <a:close/>
              </a:path>
            </a:pathLst>
          </a:custGeom>
          <a:solidFill>
            <a:srgbClr val="34e3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1417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8b5a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79 0.07639 L -0.39653 0.3493 E">
                                      <p:cBhvr>
                                        <p:cTn id="4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40434 -0.42292 E">
                                      <p:cBhvr>
                                        <p:cTn id="48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1111E-006 L 0.39115 -0.39236 E">
                                      <p:cBhvr>
                                        <p:cTn id="5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6 L 0.35434 0.29398 E">
                                      <p:cBhvr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96 0.31204 C 0.42188 0.31343 0.44097 0.32408 0.45104 0.34005 L 0.47396 0.37732 C 0.47899 0.38542 0.48698 0.38936 0.49688 0.38936 C 0.51094 0.38936 0.52292 0.37871 0.52396 0.36274 C 0.52292 0.34931 0.51094 0.33727 0.49688 0.33727 C 0.48698 0.33727 0.47899 0.3426 0.47396 0.34931 L 0.45104 0.38681 C 0.44097 0.40278 0.42188 0.41343 0.39896 0.41482 C 0.37604 0.41343 0.35695 0.40278 0.34688 0.38681 L 0.32396 0.34931 C 0.31892 0.3426 0.31094 0.33727 0.30104 0.33727 C 0.28698 0.33727 0.275 0.34931 0.27396 0.36274 C 0.275 0.37871 0.28698 0.38936 0.30104 0.38936 C 0.31094 0.38936 0.31892 0.38542 0.32396 0.37732 L 0.34688 0.34005 C 0.35695 0.32408 0.37604 0.31343 0.39896 0.31204 Z">
                                      <p:cBhvr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652 0.34931 C -0.37361 0.3507 -0.35451 0.36134 -0.34444 0.37732 L -0.32152 0.41458 C -0.31649 0.42269 -0.3085 0.42662 -0.29861 0.42662 C -0.28455 0.42662 -0.27257 0.41597 -0.27152 0.4 C -0.27257 0.38658 -0.28455 0.37454 -0.29861 0.37454 C -0.3085 0.37454 -0.31649 0.37986 -0.32152 0.38658 L -0.34444 0.42408 C -0.35451 0.44005 -0.37361 0.4507 -0.39652 0.45208 C -0.41944 0.4507 -0.43854 0.44005 -0.44861 0.42408 L -0.47152 0.38658 C -0.47656 0.37986 -0.48455 0.37454 -0.49444 0.37454 C -0.5085 0.37454 -0.52048 0.38658 -0.52152 0.4 C -0.52048 0.41597 -0.5085 0.42662 -0.49444 0.42662 C -0.48455 0.42662 -0.47656 0.42269 -0.47152 0.41458 L -0.44861 0.37732 C -0.43854 0.36134 -0.41944 0.3507 -0.39652 0.34931 Z"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354 -0.53935 C 0.43646 -0.53797 0.45555 -0.52732 0.46562 -0.51134 L 0.48854 -0.47408 C 0.49357 -0.46597 0.50156 -0.46204 0.51146 -0.46204 C 0.52552 -0.46204 0.5375 -0.47269 0.53854 -0.48866 C 0.5375 -0.50209 0.52552 -0.51412 0.51146 -0.51412 C 0.50156 -0.51412 0.49357 -0.5088 0.48854 -0.50209 L 0.46562 -0.46459 C 0.45555 -0.44861 0.43646 -0.43797 0.41354 -0.43658 C 0.39062 -0.43797 0.37152 -0.44861 0.36146 -0.46459 L 0.33854 -0.50209 C 0.3335 -0.5088 0.32552 -0.51412 0.31562 -0.51412 C 0.30156 -0.51412 0.28958 -0.50209 0.28854 -0.48866 C 0.28958 -0.47269 0.30156 -0.46204 0.31562 -0.46204 C 0.32552 -0.46204 0.3335 -0.46597 0.33854 -0.47408 L 0.36146 -0.51134 C 0.37152 -0.52732 0.39062 -0.53797 0.41354 -0.53935 Z">
                                      <p:cBhvr>
                                        <p:cTn id="6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872 -0.46574 C -0.3658 -0.46435 -0.34671 -0.4537 -0.33664 -0.43773 L -0.31372 -0.40046 C -0.30868 -0.39236 -0.3007 -0.38842 -0.2908 -0.38842 C -0.27674 -0.38842 -0.26476 -0.39907 -0.26372 -0.41504 C -0.26476 -0.42847 -0.27674 -0.4405 -0.2908 -0.4405 C -0.3007 -0.4405 -0.30868 -0.43518 -0.31372 -0.42847 L -0.33664 -0.39097 C -0.34671 -0.375 -0.3658 -0.36435 -0.38872 -0.36296 C -0.41164 -0.36435 -0.43073 -0.375 -0.4408 -0.39097 L -0.46372 -0.42847 C -0.46875 -0.43518 -0.47674 -0.4405 -0.48664 -0.4405 C -0.5007 -0.4405 -0.51268 -0.42847 -0.51372 -0.41504 C -0.51268 -0.39907 -0.5007 -0.38842 -0.48664 -0.38842 C -0.47674 -0.38842 -0.46875 -0.39236 -0.46372 -0.40046 L -0.4408 -0.43773 C -0.43073 -0.4537 -0.41164 -0.46435 -0.38872 -0.46574 Z">
                                      <p:cBhvr>
                                        <p:cTn id="6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68360" y="404640"/>
            <a:ext cx="813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 И М 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41300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148428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112536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1268280"/>
            <a:ext cx="215640" cy="433440"/>
          </a:xfrm>
          <a:custGeom>
            <a:avLst/>
            <a:gdLst>
              <a:gd name="textAreaLeft" fmla="*/ 0 w 215640"/>
              <a:gd name="textAreaRight" fmla="*/ 216000 w 2156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112536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1052640"/>
            <a:ext cx="216000" cy="433440"/>
          </a:xfrm>
          <a:custGeom>
            <a:avLst/>
            <a:gdLst>
              <a:gd name="textAreaLeft" fmla="*/ 0 w 216000"/>
              <a:gd name="textAreaRight" fmla="*/ 216360 w 21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08000" y="1700280"/>
            <a:ext cx="216000" cy="360360"/>
          </a:xfrm>
          <a:custGeom>
            <a:avLst/>
            <a:gdLst>
              <a:gd name="textAreaLeft" fmla="*/ 360 w 216000"/>
              <a:gd name="textAreaRight" fmla="*/ 216720 w 216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352680" cy="4470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1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1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68360" y="404640"/>
            <a:ext cx="813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 И М 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43280" y="348156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26920" y="1384200"/>
            <a:ext cx="7378920" cy="5473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50920" y="1255680"/>
            <a:ext cx="8642160" cy="5602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2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b5ab4"/>
                                      </p:to>
                                    </p:animClr>
                                    <p:set>
                                      <p:cBhvr>
                                        <p:cTn id="2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8f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68360" y="54936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35640" cy="4751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42920" y="1736640"/>
            <a:ext cx="6769080" cy="5077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244000" cy="5157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24000" y="1700280"/>
            <a:ext cx="8351640" cy="5180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f91d"/>
                                      </p:to>
                                    </p:animClr>
                                    <p:set>
                                      <p:cBhvr>
                                        <p:cTn id="3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48bb"/>
                                      </p:to>
                                    </p:animClr>
                                    <p:set>
                                      <p:cBhvr>
                                        <p:cTn id="3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8f4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360" y="549360"/>
            <a:ext cx="835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Е С Н А 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535560" cy="5013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5111640" cy="511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54764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7000"/>
                            </p:stCondLst>
                            <p:childTnLst>
                              <p:par>
                                <p:cTn id="34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4f91d"/>
                                      </p:to>
                                    </p:animClr>
                                    <p:set>
                                      <p:cBhvr>
                                        <p:cTn id="37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99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549360"/>
            <a:ext cx="849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Е Т О 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70600" cy="4776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199280" cy="4886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95280" y="1366920"/>
            <a:ext cx="8126280" cy="5491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324000" y="1349280"/>
            <a:ext cx="8604000" cy="550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900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95280" y="549360"/>
            <a:ext cx="84978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Е Т О 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547640" y="1744560"/>
            <a:ext cx="5113440" cy="5113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547640" y="1720800"/>
            <a:ext cx="5137200" cy="51372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547640" y="1649520"/>
            <a:ext cx="5208840" cy="52084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403280" y="1384200"/>
            <a:ext cx="5473800" cy="5473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40328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24360" y="5084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 т о   З д о р о в о ! !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blinds dir="vert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000"/>
                            </p:stCondLst>
                            <p:childTnLst>
                              <p:par>
                                <p:cTn id="45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9000"/>
                            </p:stCondLst>
                            <p:childTnLst>
                              <p:par>
                                <p:cTn id="4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4e32b"/>
                                      </p:to>
                                    </p:animClr>
                                    <p:set>
                                      <p:cBhvr>
                                        <p:cTn id="508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1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51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0f634"/>
                                      </p:to>
                                    </p:animClr>
                                    <p:set>
                                      <p:cBhvr>
                                        <p:cTn id="51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79280" y="620640"/>
            <a:ext cx="871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 С Е Н Ь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4660920" y="3495600"/>
            <a:ext cx="4483080" cy="3362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611280" y="1413000"/>
            <a:ext cx="7708680" cy="520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53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32:35Z</dcterms:created>
  <dc:creator>Customer</dc:creator>
  <dc:description/>
  <dc:language>en-US</dc:language>
  <cp:lastModifiedBy>Customer</cp:lastModifiedBy>
  <dcterms:modified xsi:type="dcterms:W3CDTF">2009-02-18T18:47:11Z</dcterms:modified>
  <cp:revision>3</cp:revision>
  <dc:subject/>
  <dc:title>Слайд 1</dc:title>
</cp:coreProperties>
</file>