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006F-05A5-49D4-B568-A28B4A5BD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112C-552F-43EA-8D65-8DA091966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B7EB-8842-4E57-B141-01C96F2DC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8471-05AE-4E6F-A551-9B4F7CDEA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8CF2-5CC3-4BFC-AFAE-3B2CC20EB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B0B4-FACD-4446-A12F-45B673523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57EA-8AA1-425D-AC35-64ACD2AC7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4DB4-8A26-4CBB-9834-78EF6E91E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6C98-6A63-4128-8266-DBB17DF5E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5EFE-911D-42B0-8E62-C8267C81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703B-76E4-4B8D-9C5D-77743DA0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C947-ADDF-4CAE-AF98-AB609B6D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891A2-7E43-4F8E-B617-816A14382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4114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Кустарный ряд – часть Верхнего базара, находился на Хлебной площад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0" y="990720"/>
            <a:ext cx="63244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6096240" cy="3352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724280" y="4038480"/>
            <a:ext cx="4419720" cy="28195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324480" y="2286000"/>
            <a:ext cx="2819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На месте Верхнего базара – комплекс зданий  правительства Саратовской обл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990000"/>
                </a:solidFill>
                <a:latin typeface="Arial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66680" y="2819520"/>
            <a:ext cx="63248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3962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Здание окружного с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219960" y="1523880"/>
            <a:ext cx="75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4572000" cy="3124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800600" y="3048120"/>
            <a:ext cx="4191120" cy="3352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029200" y="1905120"/>
            <a:ext cx="393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ейчас    это  здание занимает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Татарская гимназ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4419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дание биржи и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лександро-Невская часовня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296280" y="1600200"/>
            <a:ext cx="76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4267440" cy="3352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724280" y="2438280"/>
            <a:ext cx="4267440" cy="3591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648320" y="13716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ыне здесь – ПАГС им. П.А.Столыпина  и   часовня «Живоносный источник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42674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Особняк купца М.А.Устинов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601200" y="1600200"/>
            <a:ext cx="76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4191120" cy="3124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495680" y="3276720"/>
            <a:ext cx="4419720" cy="3352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724280" y="236232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егодня в здании – Саратовский Областной Музей Краеведения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038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кзал Козлово - Саратовской железной дороги. Построен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в 19 ве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448560" y="1600200"/>
            <a:ext cx="228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4191120" cy="2590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800600" y="1689120"/>
            <a:ext cx="4076640" cy="2502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52280" y="4267080"/>
            <a:ext cx="4496040" cy="2438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876920" y="91080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лезнодорожный вокзал Рязано-Уральской железной доро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00600" y="5263200"/>
            <a:ext cx="342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о второй половине 20 ве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данию придан современный вид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текла и бето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лица Чернышевского (Царицынска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4724640" cy="2997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952880" y="3200400"/>
            <a:ext cx="403884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ергиевская церк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3962520" cy="27432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419720" y="3352680"/>
            <a:ext cx="44956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м, в котором жил русский революционный демократ Николай Чернышевский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029200" y="3657600"/>
            <a:ext cx="3895560" cy="2924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257800" y="274320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узей Н.Г.Чернышевского в Сарат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80880" y="1523880"/>
            <a:ext cx="4191120" cy="2799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-304920" y="1371600"/>
            <a:ext cx="30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3962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ольшая Мельница Шмидта 1900 г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181480" y="3352680"/>
            <a:ext cx="3810240" cy="2916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52280" y="1143000"/>
            <a:ext cx="4419720" cy="33526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257800" y="27432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АО «Саратовму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7-27T12:33:3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