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4A55-7D5C-4545-8844-758D9EB29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2373-6273-446F-921A-6A4ED3F6C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72D2-7264-4D92-9377-2680FFF62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F2C1-495F-4D08-A546-8573F7EC9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1521-F9BC-4BF0-88CB-F61388BF5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01F6-AD6C-4245-9659-6A4803843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F63A-9C76-4013-A625-2EDEF4037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0596-116D-4EE4-AF44-6EE9F6F54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B8B4-301B-4A3F-AC62-2CE8265C7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51F0-FD36-44A7-9632-92C2F7989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08CD-5180-4232-8D4E-894870B54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A548-E827-4B5C-A474-12DCCD013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B75FE-D795-464E-B1BD-38ABF599FB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4114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Кустарный ряд – часть Верхнего базара, находился на Хлебной площад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0" y="990720"/>
            <a:ext cx="63244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6096240" cy="3352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724280" y="4038480"/>
            <a:ext cx="4419720" cy="28195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324480" y="2286000"/>
            <a:ext cx="2819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На месте Верхнего базара – комплекс зданий  правительства Саратовской обла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990000"/>
                </a:solidFill>
                <a:latin typeface="Arial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66680" y="2819520"/>
            <a:ext cx="63248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3962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Здание окружного су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219960" y="1523880"/>
            <a:ext cx="75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4572000" cy="3124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800600" y="3048120"/>
            <a:ext cx="4191120" cy="3352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029200" y="1905120"/>
            <a:ext cx="3932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Сейчас    это  здание занимает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Татарская гимназ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609480"/>
            <a:ext cx="4419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дание биржи и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лександро-Невская часовня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296280" y="1600200"/>
            <a:ext cx="76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4267440" cy="33526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724280" y="2438280"/>
            <a:ext cx="4267440" cy="3591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648320" y="137160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ыне здесь – ПАГС им. П.А.Столыпина  и   часовня «Живоносный источник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42674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Особняк купца М.А.Устинов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601200" y="1600200"/>
            <a:ext cx="76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4191120" cy="31240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495680" y="3276720"/>
            <a:ext cx="4419720" cy="33526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724280" y="236232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Сегодня в здании – Саратовский Областной Музей Краеведения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038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кзал Козлово - Саратовской железной дороги. Построен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в 19 ве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448560" y="1600200"/>
            <a:ext cx="228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4191120" cy="2590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800600" y="1689120"/>
            <a:ext cx="4076640" cy="2502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52280" y="4267080"/>
            <a:ext cx="4496040" cy="24386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876920" y="910800"/>
            <a:ext cx="39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елезнодорожный вокзал Рязано-Уральской железной дорог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800600" y="5263200"/>
            <a:ext cx="3429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о второй половине 20 ве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зданию придан современный вид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текла и бето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лица Чернышевского (Царицынска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4724640" cy="2997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952880" y="3200400"/>
            <a:ext cx="403884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Сергиевская церк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3962520" cy="27432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419720" y="3352680"/>
            <a:ext cx="44956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м, в котором жил русский революционный демократ Николай Чернышевский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029200" y="3657600"/>
            <a:ext cx="3895560" cy="29242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257800" y="274320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узей Н.Г.Чернышевского в Сарато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80880" y="1523880"/>
            <a:ext cx="4191120" cy="2799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-304920" y="1371600"/>
            <a:ext cx="30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3962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ольшая Мельница Шмидта 1900 г.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181480" y="3352680"/>
            <a:ext cx="3810240" cy="29163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52280" y="1143000"/>
            <a:ext cx="4419720" cy="33526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257800" y="27432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АО «Саратовму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7-27T12:33:3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