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46.gif" ContentType="image/gif"/>
  <Override PartName="/ppt/media/image1.jpeg" ContentType="image/jpeg"/>
  <Override PartName="/ppt/media/image35.jpeg" ContentType="image/jpeg"/>
  <Override PartName="/ppt/media/image26.png" ContentType="image/png"/>
  <Override PartName="/ppt/media/image17.jpeg" ContentType="image/jpeg"/>
  <Override PartName="/ppt/media/image10.jpeg" ContentType="image/jpeg"/>
  <Override PartName="/ppt/media/image29.jpeg" ContentType="image/jpeg"/>
  <Override PartName="/ppt/media/image32.jpeg" ContentType="image/jpeg"/>
  <Override PartName="/ppt/media/image33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39.jpeg" ContentType="image/jpeg"/>
  <Override PartName="/ppt/media/image45.gif" ContentType="image/gif"/>
  <Override PartName="/ppt/media/image37.png" ContentType="image/png"/>
  <Override PartName="/ppt/media/image48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5.png" ContentType="image/png"/>
  <Override PartName="/ppt/media/image43.jpeg" ContentType="image/jpeg"/>
  <Override PartName="/ppt/media/image12.jpeg" ContentType="image/jpeg"/>
  <Override PartName="/ppt/media/image34.png" ContentType="image/png"/>
  <Override PartName="/ppt/media/image44.png" ContentType="image/png"/>
  <Override PartName="/ppt/media/image40.jpeg" ContentType="image/jpeg"/>
  <Override PartName="/ppt/media/image13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276A-DE9A-4A56-B33B-F52C4ADCA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6DD2-4B8C-4861-80DE-DEA8C126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795F-CAB6-41FB-8903-EA1807571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C490-1BCC-4743-A575-8325609C4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082A-DEAC-458A-AB8C-81E5B5753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7999-CC6A-4D56-B942-9CE3E0CDF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D3B2-BEC1-4E29-82B7-445DEAF1C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38B5-D51B-4721-9C10-E6C93C105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D894-1197-49CB-BEF7-91A8AF5EF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0B1B-96D5-439A-BF74-25346304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6EB3-B3D9-422E-B4CA-03A36E7F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32CF-B3A8-4E32-B6F5-F07DCB22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A321B-6593-4325-8134-AF25F5AF29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5.pn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3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4.png"/><Relationship Id="rId3" Type="http://schemas.openxmlformats.org/officeDocument/2006/relationships/image" Target="../media/image45.gif"/><Relationship Id="rId4" Type="http://schemas.openxmlformats.org/officeDocument/2006/relationships/image" Target="../media/image46.gi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ru.wikipedia.org/wiki/31_&#1103;&#1085;&#1074;&#1072;&#1088;&#1103;" TargetMode="External"/><Relationship Id="rId3" Type="http://schemas.openxmlformats.org/officeDocument/2006/relationships/hyperlink" Target="http://ru.wikipedia.org/wiki/1952_&#1075;&#1086;&#1076;" TargetMode="External"/><Relationship Id="rId4" Type="http://schemas.openxmlformats.org/officeDocument/2006/relationships/hyperlink" Target="http://ru.wikipedia.org/wiki/&#1059;&#1083;&#1072;&#1085;-&#1041;&#1072;&#1090;&#1086;&#1088;" TargetMode="External"/><Relationship Id="rId5" Type="http://schemas.openxmlformats.org/officeDocument/2006/relationships/hyperlink" Target="http://ru.wikipedia.org/wiki/&#1052;&#1086;&#1085;&#1075;&#1086;&#1083;&#1080;&#1103;" TargetMode="External"/><Relationship Id="rId6" Type="http://schemas.openxmlformats.org/officeDocument/2006/relationships/hyperlink" Target="http://ru.wikipedia.org/wiki/6_&#1084;&#1072;&#1088;&#1090;&#1072;" TargetMode="External"/><Relationship Id="rId7" Type="http://schemas.openxmlformats.org/officeDocument/2006/relationships/hyperlink" Target="http://ru.wikipedia.org/wiki/1969_&#1075;&#1086;&#1076;" TargetMode="External"/><Relationship Id="rId8" Type="http://schemas.openxmlformats.org/officeDocument/2006/relationships/hyperlink" Target="http://ru.wikipedia.org/wiki/&#1052;&#1086;&#1089;&#1082;&#1074;&#1072;" TargetMode="External"/><Relationship Id="rId9" Type="http://schemas.openxmlformats.org/officeDocument/2006/relationships/hyperlink" Target="http://ru.wikipedia.org/wiki/&#1060;&#1072;&#1081;&#1083;:Flag_of_the_Soviet_Union.svg" TargetMode="External"/><Relationship Id="rId10" Type="http://schemas.openxmlformats.org/officeDocument/2006/relationships/hyperlink" Target="http://ru.wikipedia.org/wiki/&#1060;&#1072;&#1081;&#1083;:Flag_of_the_Soviet_Union.svg" TargetMode="External"/><Relationship Id="rId11" Type="http://schemas.openxmlformats.org/officeDocument/2006/relationships/image" Target="../media/image26.png"/><Relationship Id="rId12" Type="http://schemas.openxmlformats.org/officeDocument/2006/relationships/image" Target="../media/image27.jpe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70000" contrast="-70000"/>
          </a:blip>
          <a:srcRect l="24280" t="0" r="1011" b="0"/>
          <a:stretch/>
        </p:blipFill>
        <p:spPr>
          <a:xfrm>
            <a:off x="0" y="0"/>
            <a:ext cx="421164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516720" y="333360"/>
            <a:ext cx="2233440" cy="3097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771640" y="549360"/>
            <a:ext cx="3260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Над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Руше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300720" y="3645000"/>
            <a:ext cx="2424240" cy="73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268360" y="4292640"/>
            <a:ext cx="58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Люди нуждаются в таком искусстве, как в глотке свежего воздух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Д.С.Лихачё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95280" y="3573360"/>
            <a:ext cx="1851120" cy="2880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308720" y="609300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Часть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13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з ответов Нади Рушевой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а вопросы анк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2019240" cy="3029040"/>
          </a:xfrm>
          <a:prstGeom prst="rect">
            <a:avLst/>
          </a:prstGeom>
          <a:ln w="57240">
            <a:solidFill>
              <a:srgbClr val="996600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3564000" y="1773360"/>
            <a:ext cx="4897440" cy="4724640"/>
          </a:xfrm>
          <a:prstGeom prst="rect">
            <a:avLst/>
          </a:prstGeom>
          <a:noFill/>
          <a:ln w="572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3300"/>
                </a:solidFill>
                <a:latin typeface="Georgia"/>
              </a:rPr>
              <a:t>Представление о счастье?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       - Дружба.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       </a:t>
            </a:r>
            <a:r>
              <a:rPr b="0" i="1" lang="en-US" sz="2000" spc="-1" strike="noStrike">
                <a:solidFill>
                  <a:srgbClr val="993300"/>
                </a:solidFill>
                <a:latin typeface="Georgia"/>
              </a:rPr>
              <a:t>О несчастье?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       - Одиночество (т.е. нет друга).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      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0" i="1" lang="en-US" sz="2000" spc="-1" strike="noStrike">
                <a:solidFill>
                  <a:srgbClr val="993300"/>
                </a:solidFill>
                <a:latin typeface="Georgia"/>
              </a:rPr>
              <a:t>Антипатия?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       - Математика, физика, химия и несколько мальчишек.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      </a:t>
            </a:r>
            <a:r>
              <a:rPr b="0" lang="en-US" sz="2000" spc="-1" strike="noStrike">
                <a:solidFill>
                  <a:srgbClr val="993300"/>
                </a:solidFill>
                <a:latin typeface="Georgia"/>
              </a:rPr>
              <a:t> </a:t>
            </a:r>
            <a:r>
              <a:rPr b="0" i="1" lang="en-US" sz="2000" spc="-1" strike="noStrike">
                <a:solidFill>
                  <a:srgbClr val="993300"/>
                </a:solidFill>
                <a:latin typeface="Georgia"/>
              </a:rPr>
              <a:t>Любимый прозаик?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       - Л.Толстой.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      </a:t>
            </a:r>
            <a:r>
              <a:rPr b="0" i="1" lang="en-US" sz="2000" spc="-1" strike="noStrike">
                <a:solidFill>
                  <a:srgbClr val="993300"/>
                </a:solidFill>
                <a:latin typeface="Georgia"/>
              </a:rPr>
              <a:t> Герой?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       - Пьер Безухов, Маленький принц.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      </a:t>
            </a:r>
            <a:r>
              <a:rPr b="0" lang="en-US" sz="2000" spc="-1" strike="noStrike">
                <a:solidFill>
                  <a:srgbClr val="993300"/>
                </a:solidFill>
                <a:latin typeface="Georgia"/>
              </a:rPr>
              <a:t> </a:t>
            </a:r>
            <a:r>
              <a:rPr b="0" i="1" lang="en-US" sz="2000" spc="-1" strike="noStrike">
                <a:solidFill>
                  <a:srgbClr val="993300"/>
                </a:solidFill>
                <a:latin typeface="Georgia"/>
              </a:rPr>
              <a:t>Героиня?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       - Наташа Ростова.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      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0" i="1" lang="en-US" sz="2000" spc="-1" strike="noStrike">
                <a:solidFill>
                  <a:srgbClr val="993300"/>
                </a:solidFill>
                <a:latin typeface="Georgia"/>
              </a:rPr>
              <a:t>Цвет?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       - Красный, черный, фиолетовый.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     </a:t>
            </a:r>
            <a:r>
              <a:rPr b="0" lang="en-US" sz="2000" spc="-1" strike="noStrike">
                <a:solidFill>
                  <a:srgbClr val="993300"/>
                </a:solidFill>
                <a:latin typeface="Georgia"/>
              </a:rPr>
              <a:t>  </a:t>
            </a:r>
            <a:r>
              <a:rPr b="0" i="1" lang="en-US" sz="2000" spc="-1" strike="noStrike">
                <a:solidFill>
                  <a:srgbClr val="993300"/>
                </a:solidFill>
                <a:latin typeface="Georgia"/>
              </a:rPr>
              <a:t>Блюдо?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       - Мороженое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39640" y="3716280"/>
            <a:ext cx="2084400" cy="2735280"/>
          </a:xfrm>
          <a:prstGeom prst="rect">
            <a:avLst/>
          </a:prstGeom>
          <a:ln w="57240">
            <a:solidFill>
              <a:srgbClr val="99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500720" y="2492280"/>
            <a:ext cx="3809880" cy="37242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1227960" y="4752000"/>
            <a:ext cx="24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Автопортре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Надежда Рушева. Автопортрет"/>
          <p:cNvPicPr/>
          <p:nvPr/>
        </p:nvPicPr>
        <p:blipFill>
          <a:blip r:embed="rId3"/>
          <a:stretch/>
        </p:blipFill>
        <p:spPr>
          <a:xfrm>
            <a:off x="395280" y="476280"/>
            <a:ext cx="1944720" cy="35290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2700360" y="549360"/>
            <a:ext cx="5275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Жила-была девочка. Мама у нее была балериной, а папа - художником. Девочка тоже рисовала. И умерла в 17 лет. В 1969 году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Звали ее Надя Рушева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2563920" cy="3961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3203640" y="692280"/>
            <a:ext cx="554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За эту короткую жизнь у Нади было 15 персональных выставок - в Москве, Ленинграде, Варшаве, Арте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Надежда Рушева"/>
          <p:cNvPicPr/>
          <p:nvPr/>
        </p:nvPicPr>
        <p:blipFill>
          <a:blip r:embed="rId3"/>
          <a:stretch/>
        </p:blipFill>
        <p:spPr>
          <a:xfrm>
            <a:off x="6732720" y="2492280"/>
            <a:ext cx="2089080" cy="4089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7026840" y="609444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Автопортр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7840" y="4600440"/>
            <a:ext cx="5779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В 70-е годы выставки Надиных работ объехали более ста городов России, несколько больших выставок было в Польше, Америке, Германии, Япо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2461" t="0" r="14556" b="16392"/>
          <a:stretch/>
        </p:blipFill>
        <p:spPr>
          <a:xfrm>
            <a:off x="4427640" y="1123920"/>
            <a:ext cx="4716360" cy="57340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rcRect l="6954" t="24793" r="14497" b="0"/>
          <a:stretch/>
        </p:blipFill>
        <p:spPr>
          <a:xfrm>
            <a:off x="0" y="0"/>
            <a:ext cx="4464000" cy="5157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211640" y="260280"/>
            <a:ext cx="4681440" cy="251460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pic>
        <p:nvPicPr>
          <p:cNvPr id="104" name="" descr=""/>
          <p:cNvPicPr/>
          <p:nvPr/>
        </p:nvPicPr>
        <p:blipFill>
          <a:blip r:embed="rId4"/>
          <a:srcRect l="6333" t="23547" r="13035" b="15195"/>
          <a:stretch/>
        </p:blipFill>
        <p:spPr>
          <a:xfrm>
            <a:off x="250920" y="3228840"/>
            <a:ext cx="3673440" cy="336888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4264200" y="3521160"/>
            <a:ext cx="44845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Забавная история была с картинкой "Лебедя" из "Лебединого озера". Надя Рушева нарисовала Плисецкую, та глянула и говорит: «А я такого лебедя не делаю, но очень понравилось!"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68360" y="476280"/>
            <a:ext cx="8156520" cy="3508920"/>
          </a:xfrm>
          <a:prstGeom prst="rect">
            <a:avLst/>
          </a:prstGeom>
          <a:noFill/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адя Рушева очень любила бывать на старом Арбате. Она говорила: “Идешь по старому Арбату… Вообще когда ходишь по нетронутым уголкам Москвы, ведь знаешь, что люди когда-то в этом доме жили, страдали, радовались. Согретые такие дома”. Без сомнения, Надя проходила мимо дома, где сейчас находится Музей-квартира Пушкина, что на Арбате, 53. Здесь жил Пушкин, здесь была его свадьба, бал, гости, друзья… Сегодня здесь хранятся рисунки Нади Рушев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Глядя на её рисунки, кажется, что книжки она читала, будто их сочиняла, а сочиняла – как рисовала, а рисовала – как дышала: легко и естественно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11280" y="4437000"/>
            <a:ext cx="2050920" cy="1538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3419640" y="4508640"/>
            <a:ext cx="2016000" cy="15080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6443640" y="4508640"/>
            <a:ext cx="1944720" cy="15555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732760" y="6116760"/>
            <a:ext cx="41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Гаппасов Рамиль. Старый Арб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4594320" y="115920"/>
            <a:ext cx="4262400" cy="64609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468360" y="404640"/>
            <a:ext cx="2543040" cy="33339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24000" y="3933720"/>
            <a:ext cx="6264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обираясь в школу утром 6 марта 1969 года, Надя неожиданно потеряла сознание. Она умерла в больнице из-за разрыва сосуда головного мозга и кровоизлияния в мозг. Врождённый дефект сосуда головного мозга оборвал её жизнь в 17 л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адю похоронили на Покровском кладбище. На могиле  поставили памятник с высеченны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«Кентавренком».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4"/>
          <a:srcRect l="19488" t="16003" r="12269" b="0"/>
          <a:stretch/>
        </p:blipFill>
        <p:spPr>
          <a:xfrm>
            <a:off x="6877080" y="3357720"/>
            <a:ext cx="1950840" cy="31683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276720" y="981000"/>
            <a:ext cx="5419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21 октября 1982 года крымский астроном Л. Г. Карачкина открыла малую планету № 3516, которую назвала в честь Нади — 3516 Рушева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а Кавказе есть перевал Нади Рушевой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 истории она осталась взрослым ребенком. Как ее любимый персонаж – Маленький Принц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00560" y="423720"/>
            <a:ext cx="47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Память, память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rcRect l="15352" t="16243" r="19090" b="22024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39640" y="765000"/>
            <a:ext cx="48960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Недетский почерк детского рисунка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Пера разбег - как будто взмах крыла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Певучих линий тоненькие струнки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Звенят, срываясь с кончика пера. 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Вальсирует свободно по паркету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Листа рука. 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Душе дар богом дан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Провидеть.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Проступают силуэты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Сквозь плотный белый  ватмана туман.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Нам сквозь туман неверья и сомнений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Из тайников бессмертного вчера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Протягивает вечно юный гений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Нить Ариадны с кончика пера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           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Татьяна Смирнова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724360" y="620640"/>
            <a:ext cx="2927520" cy="439092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6228720" y="5421240"/>
            <a:ext cx="20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Автопортрет 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6084720" y="5950080"/>
            <a:ext cx="208764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39640" y="1773360"/>
            <a:ext cx="80139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адя умерла очень рано – в 17. Накануне девочка вернулась из Питера, где снималась в документальном фильме о Пушкин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– В тот день дочь встретила меня оживленная, радостная, – вспоминает Наталья Дойдаловна, мама Нади. – В руке она держала горящую красную свечу, по которой стекал белый воск. «Мама, посмотри, как красиво!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А на следующее утро сгорела сама. Внезапное кровоизлияние в мозг.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Та свеча, с застывшими восковыми слезами, до сих пор стоит на письменном столе художницы. Только вот из алой она стала бледно-желтой. От времени все теряет краски – выгорают сделанные фломастерами рисунки, как ни прячет их Наталья Дойдаловна от света, желтеют страницы книг, которые листала дочь, – не выцветают только воспомин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7451640" y="333360"/>
            <a:ext cx="1447920" cy="27147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324160" y="474840"/>
            <a:ext cx="406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Пока не меркнет све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пока горит свеча...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395280" y="260280"/>
            <a:ext cx="84924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95280" y="692280"/>
            <a:ext cx="2381400" cy="363852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3059280" y="549360"/>
            <a:ext cx="5348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…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Если хочешь, чтобы они немного потлели, гори дотла сам.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Надя Руш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76720" y="1844640"/>
            <a:ext cx="51321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Ее рисунки далеко выходят за пределы детского творчества, но и среди взрослых художников едва ли многие могут поспорить с легкостью ее техники, чувством композиции, с остротой ее образов, с ее творческим восприятием мира", - говорил о Наде Рушевой скульптор Василий Алексеевич Ватаг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6516720" y="4724280"/>
            <a:ext cx="205092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нтернет-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http://www.liveinternet.ru/showjournal.php?journali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1september.ru/1999/39/4-1.ht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http://rusheva.com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15352" t="16243" r="19090" b="22024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вторы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Михайлов Дмитрий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ученик 10 класса МАОУ СОШ № 49 г. Улан-Удэ, Бурят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руководитель 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Очирова Татьяна Николаевна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учитель МАОУ СОШ № 4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15352" t="16243" r="19090" b="22024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ля вас учителя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знали на уроках о Наде Рушевой – задело за живое. Очень захотелось узнать побольше. Итогом работы стала эта презентация, хотя, нам кажется, будет продолжение, ведь мы еще встретимся с этой удивительной художницей  и в 11 классе («Мастер и Маргарита»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айды можно располагать по-своему. Может получиться интересный классный ча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уважением, Михайлов Дмитр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167520" y="404640"/>
            <a:ext cx="2292120" cy="338472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468360" y="404640"/>
            <a:ext cx="5327640" cy="32623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Люди нуждаются в таком искусстве, как в глотке свежего воздуха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Гениальная девочка обладала поразительным даром проникновения в область человеческого духа. Она работала почти с отчаянием, стремясь сказать людям как можно больше. Последние рисунки особенно поражают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Откуда у 16-летней девочки такое знание людей, эпох? Это загадка, которая никогда не будет разгадана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                       (Д.С.Лихачёв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227640" y="4375080"/>
            <a:ext cx="2592360" cy="218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3940200" y="3860640"/>
            <a:ext cx="2098800" cy="2729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2484360" y="3860640"/>
            <a:ext cx="1305000" cy="2735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291960" y="3860640"/>
            <a:ext cx="1952640" cy="273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39640" y="549360"/>
            <a:ext cx="8137800" cy="253332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Не в технической виртуозности суть, а в талантливости её ли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…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на работала почти с отчаянием, стремясь сказать людям как можно больше: о балете, об античности, о Шекспире, Пушкине, Лермонтове, Толстом, Тургеневе, Экзюпери и, наконец, о "Мастере и Маргарите" Булгакова. Последние рисунки особенно поражают.                                                                     И. Андрон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24000" y="3716280"/>
            <a:ext cx="2014560" cy="2809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484360" y="371628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6459480" y="3716280"/>
            <a:ext cx="23115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39640" y="32846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Уникальна была сама по себе техника исполнения Надиных рисунков. Надя не пользовалась карандашом и стирательной резинкой, не намечала предварительных линий будущего рисунка - линия её всегда была единична и окончательна, у нее была удивительная способность к безошибочной импровизации - тушь, перо, фломастер, лишь изредка подцвеченные пастелью или акварелью. 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Сама Надя говорила так: "Я вижу, как на бумаге проступают контуры будущего рисунка - мне остаётся только обвести их фломастером"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 Но прежде чем создать такую вот артистически законченную импровизацию, Надя вбирала в себя тот мир, тот исторический или культурный пласт, живой пульс которого она отобразит в своём рисунк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924360" y="333360"/>
            <a:ext cx="1469880" cy="2664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68360" y="333360"/>
            <a:ext cx="1998720" cy="2664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6637320" y="333360"/>
            <a:ext cx="21621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5280" y="476280"/>
            <a:ext cx="3084480" cy="3716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3780000" y="476280"/>
            <a:ext cx="5040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Она говорила, что только обводит на листах бумаги внезапно проступившие контуры рисунка лица и фигуры, контуры и сюже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Над рисунком всегда — затихала, замирала. Над рисунком она как бы погружалась в другой мир, неведомый остальным. Она властвовала в рисунке. Она жила в нем. Сама говорила не раз: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«Я живу жизнью тех, которых рисую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7020000" y="4221000"/>
            <a:ext cx="1739880" cy="2376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5318280" y="4221000"/>
            <a:ext cx="1539720" cy="2376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3708360" y="4221000"/>
            <a:ext cx="1416240" cy="2354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395280" y="4941720"/>
            <a:ext cx="3097080" cy="14907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826920" y="4437000"/>
            <a:ext cx="239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«Война и мир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5040360" cy="401652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324000" y="4869000"/>
            <a:ext cx="8351640" cy="19843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Родители Нади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познакомились в Туве, куда москвича Николая Рушева, театрального художника, отправили в командировку. Молодого человека привлекал Восток – из этой поездки он привез не только впечатления, но и жену – балерину, девушку экзотической красоты. По тем временам – редкий союз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6300720" y="1052640"/>
            <a:ext cx="212400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3893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539640" y="1052640"/>
          <a:ext cx="4795920" cy="3470040"/>
        </p:xfrm>
        <a:graphic>
          <a:graphicData uri="http://schemas.openxmlformats.org/drawingml/2006/table">
            <a:tbl>
              <a:tblPr/>
              <a:tblGrid>
                <a:gridCol w="2017800"/>
                <a:gridCol w="2778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Имя при рождении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Найдан Николаевна Руше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9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Дата рождения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Georgia"/>
                          <a:ea typeface="Arial"/>
                          <a:hlinkClick r:id="rId2"/>
                        </a:rPr>
                        <a:t>31 январ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 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Georgia"/>
                          <a:ea typeface="Arial"/>
                          <a:hlinkClick r:id="rId3"/>
                        </a:rPr>
                        <a:t>19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9f9"/>
                    </a:solidFill>
                  </a:tcPr>
                </a:tc>
              </a:tr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Место рождения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Georgia"/>
                          <a:ea typeface="Arial"/>
                          <a:hlinkClick r:id="rId4"/>
                        </a:rPr>
                        <a:t>Улан-Батор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, 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Georgia"/>
                          <a:ea typeface="Arial"/>
                          <a:hlinkClick r:id="rId5"/>
                        </a:rPr>
                        <a:t>Монгол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9f9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Дата смерти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Georgia"/>
                          <a:ea typeface="Arial"/>
                          <a:hlinkClick r:id="rId6"/>
                        </a:rPr>
                        <a:t>6 март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 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Georgia"/>
                          <a:ea typeface="Arial"/>
                          <a:hlinkClick r:id="rId7"/>
                        </a:rPr>
                        <a:t>196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 (17 ле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9f9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Место смерти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Georgia"/>
                          <a:ea typeface="Arial"/>
                          <a:hlinkClick r:id="rId8"/>
                        </a:rPr>
                        <a:t>Моск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9f9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Гражданство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Georgia"/>
                          <a:ea typeface="Arial"/>
                          <a:hlinkClick r:id="rId9"/>
                        </a:rPr>
                        <a:t>  </a:t>
                      </a:r>
                      <a:r>
                        <a:rPr b="0" lang="en-US" sz="1800" spc="-1" strike="noStrike" u="sng">
                          <a:solidFill>
                            <a:srgbClr val="0645ad"/>
                          </a:solidFill>
                          <a:uFillTx/>
                          <a:latin typeface="Georgia"/>
                          <a:ea typeface="Arial"/>
                        </a:rPr>
                        <a:t>      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645ad"/>
                          </a:solidFill>
                          <a:latin typeface="Georgia"/>
                          <a:ea typeface="Arial"/>
                        </a:rPr>
                        <a:t>ССС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9f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Стиль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граф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9f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Влияние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645ad"/>
                          </a:solidFill>
                          <a:latin typeface="Georgia"/>
                          <a:ea typeface="Arial"/>
                        </a:rPr>
                        <a:t>Пабло Пикасс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f9f9"/>
                    </a:solidFill>
                  </a:tcPr>
                </a:tc>
              </a:tr>
            </a:tbl>
          </a:graphicData>
        </a:graphic>
      </p:graphicFrame>
      <p:pic>
        <p:nvPicPr>
          <p:cNvPr id="83" name="" descr="Союз Советских Социалистических Республик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627280" y="3573360"/>
            <a:ext cx="209520" cy="1047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39640" y="5013360"/>
            <a:ext cx="8209080" cy="1008720"/>
          </a:xfrm>
          <a:prstGeom prst="rect">
            <a:avLst/>
          </a:prstGeom>
          <a:noFill/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-монгольски имя Надежда - Найдан означает "вечноживущая". Так всегда и звали миловидную девочку монгольские друзья родител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2"/>
          <a:stretch/>
        </p:blipFill>
        <p:spPr>
          <a:xfrm>
            <a:off x="6300720" y="404640"/>
            <a:ext cx="2335320" cy="432468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sp>
        <p:nvSpPr>
          <p:cNvPr id="86" name=""/>
          <p:cNvSpPr/>
          <p:nvPr/>
        </p:nvSpPr>
        <p:spPr>
          <a:xfrm>
            <a:off x="4788000" y="6237360"/>
            <a:ext cx="354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 материалам Википед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29360" y="333360"/>
            <a:ext cx="462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"Девочка по имени Жизнь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14:20:18Z</dcterms:created>
  <dc:creator>Админ</dc:creator>
  <dc:description/>
  <dc:language>en-US</dc:language>
  <cp:lastModifiedBy>Админ</cp:lastModifiedBy>
  <dcterms:modified xsi:type="dcterms:W3CDTF">2011-03-25T13:24:29Z</dcterms:modified>
  <cp:revision>17</cp:revision>
  <dc:subject/>
  <dc:title>Слайд 1</dc:title>
</cp:coreProperties>
</file>