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9.jpeg" ContentType="image/jpeg"/>
  <Override PartName="/ppt/media/image45.gif" ContentType="image/gif"/>
  <Override PartName="/ppt/media/image37.png" ContentType="image/png"/>
  <Override PartName="/ppt/media/image48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5.png" ContentType="image/png"/>
  <Override PartName="/ppt/media/image43.jpeg" ContentType="image/jpeg"/>
  <Override PartName="/ppt/media/image12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96E-1E0F-48C0-B30B-C405BE94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1EC-2054-41D5-B164-F6541949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13A-4660-4B96-88E0-73681771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C43-B4A9-4A78-B63C-38C74177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7B8-ABD0-4CFD-8536-466DB133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9F9-812E-4CCC-82D4-024FDDBB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389-986B-4DEF-AC7F-30922B9B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E82-804C-4C42-B981-97B6CC72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19F-A141-4B46-AAF9-81A7AED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079-C2BC-4B48-AB84-A8248A0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9F8-5D54-48B3-9EAE-B60667B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A03-F12D-499D-83B4-268363D5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3B9A-2E4A-42F4-89E3-25D0847A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ru.wikipedia.org/wiki/31_&#1103;&#1085;&#1074;&#1072;&#1088;&#1103;" TargetMode="External"/><Relationship Id="rId3" Type="http://schemas.openxmlformats.org/officeDocument/2006/relationships/hyperlink" Target="http://ru.wikipedia.org/wiki/1952_&#1075;&#1086;&#1076;" TargetMode="External"/><Relationship Id="rId4" Type="http://schemas.openxmlformats.org/officeDocument/2006/relationships/hyperlink" Target="http://ru.wikipedia.org/wiki/&#1059;&#1083;&#1072;&#1085;-&#1041;&#1072;&#1090;&#1086;&#1088;" TargetMode="External"/><Relationship Id="rId5" Type="http://schemas.openxmlformats.org/officeDocument/2006/relationships/hyperlink" Target="http://ru.wikipedia.org/wiki/&#1052;&#1086;&#1085;&#1075;&#1086;&#1083;&#1080;&#1103;" TargetMode="External"/><Relationship Id="rId6" Type="http://schemas.openxmlformats.org/officeDocument/2006/relationships/hyperlink" Target="http://ru.wikipedia.org/wiki/6_&#1084;&#1072;&#1088;&#1090;&#1072;" TargetMode="External"/><Relationship Id="rId7" Type="http://schemas.openxmlformats.org/officeDocument/2006/relationships/hyperlink" Target="http://ru.wikipedia.org/wiki/1969_&#1075;&#1086;&#1076;" TargetMode="External"/><Relationship Id="rId8" Type="http://schemas.openxmlformats.org/officeDocument/2006/relationships/hyperlink" Target="http://ru.wikipedia.org/wiki/&#1052;&#1086;&#1089;&#1082;&#1074;&#1072;" TargetMode="External"/><Relationship Id="rId9" Type="http://schemas.openxmlformats.org/officeDocument/2006/relationships/hyperlink" Target="http://ru.wikipedia.org/wiki/&#1060;&#1072;&#1081;&#1083;:Flag_of_the_Soviet_Union.svg" TargetMode="External"/><Relationship Id="rId10" Type="http://schemas.openxmlformats.org/officeDocument/2006/relationships/hyperlink" Target="http://ru.wikipedia.org/wiki/&#1060;&#1072;&#1081;&#1083;:Flag_of_the_Soviet_Union.svg" TargetMode="External"/><Relationship Id="rId11" Type="http://schemas.openxmlformats.org/officeDocument/2006/relationships/image" Target="../media/image26.png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24280" t="0" r="1011" b="0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233440" cy="309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71640" y="549360"/>
            <a:ext cx="32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д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уше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424240" cy="73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68360" y="4292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Люди нуждаются в таком искусстве, как в глотке свежего воздух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.С.Лих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1851120" cy="28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08720" y="609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асть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 ответов Нади Рушево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вопросы ан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019240" cy="302904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564000" y="1773360"/>
            <a:ext cx="4897440" cy="472464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Представление о счастье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Дружба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О несчастье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Одиночество (т.е. нет друга)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Антипатия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Математика, физика, химия и несколько мальчишек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lang="en-US" sz="2000" spc="-1" strike="noStrike">
                <a:solidFill>
                  <a:srgbClr val="993300"/>
                </a:solidFill>
                <a:latin typeface="Georgia"/>
              </a:rPr>
              <a:t>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Любимый прозаик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Л.Толстой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 Герой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Пьер Безухов, Маленький принц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lang="en-US" sz="2000" spc="-1" strike="noStrike">
                <a:solidFill>
                  <a:srgbClr val="993300"/>
                </a:solidFill>
                <a:latin typeface="Georgia"/>
              </a:rPr>
              <a:t>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Героиня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Наташа Ростова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Цвет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Красный, черный, фиолетовый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</a:t>
            </a:r>
            <a:r>
              <a:rPr b="0" lang="en-US" sz="2000" spc="-1" strike="noStrike">
                <a:solidFill>
                  <a:srgbClr val="993300"/>
                </a:solidFill>
                <a:latin typeface="Georgia"/>
              </a:rPr>
              <a:t> 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Блюдо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Морожено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2084400" cy="273528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3809880" cy="3724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227960" y="47520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Автопортр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Надежда Рушева. Автопортрет"/>
          <p:cNvPicPr/>
          <p:nvPr/>
        </p:nvPicPr>
        <p:blipFill>
          <a:blip r:embed="rId3"/>
          <a:stretch/>
        </p:blipFill>
        <p:spPr>
          <a:xfrm>
            <a:off x="395280" y="476280"/>
            <a:ext cx="1944720" cy="352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700360" y="549360"/>
            <a:ext cx="527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Жила-была девочка. Мама у нее была балериной, а папа - художником. Девочка тоже рисовала. И умерла в 17 лет. В 1969 год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вали ее Надя Рушев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563920" cy="39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203640" y="69228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За эту короткую жизнь у Нади было 15 персональных выставок - в Москве, Ленинграде, Варшаве, Арт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Надежда Рушева"/>
          <p:cNvPicPr/>
          <p:nvPr/>
        </p:nvPicPr>
        <p:blipFill>
          <a:blip r:embed="rId3"/>
          <a:stretch/>
        </p:blipFill>
        <p:spPr>
          <a:xfrm>
            <a:off x="6732720" y="2492280"/>
            <a:ext cx="2089080" cy="4089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7026840" y="60944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Автопортр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" y="4600440"/>
            <a:ext cx="577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 70-е годы выставки Надиных работ объехали более ста городов России, несколько больших выставок было в Польше, Америке, Германии,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2461" t="0" r="14556" b="16392"/>
          <a:stretch/>
        </p:blipFill>
        <p:spPr>
          <a:xfrm>
            <a:off x="4427640" y="1123920"/>
            <a:ext cx="4716360" cy="5734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6954" t="24793" r="14497" b="0"/>
          <a:stretch/>
        </p:blipFill>
        <p:spPr>
          <a:xfrm>
            <a:off x="0" y="0"/>
            <a:ext cx="4464000" cy="515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11640" y="260280"/>
            <a:ext cx="4681440" cy="2514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6333" t="23547" r="13035" b="15195"/>
          <a:stretch/>
        </p:blipFill>
        <p:spPr>
          <a:xfrm>
            <a:off x="250920" y="3228840"/>
            <a:ext cx="3673440" cy="33688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264200" y="3521160"/>
            <a:ext cx="448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бавная история была с картинкой "Лебедя" из "Лебединого озера". Надя Рушева нарисовала Плисецкую, та глянула и говорит: «А я такого лебедя не делаю, но очень понравилось!"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8360" y="476280"/>
            <a:ext cx="8156520" cy="350892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дя Рушева очень любила бывать на старом Арбате. Она говорила: “Идешь по старому Арбату… Вообще когда ходишь по нетронутым уголкам Москвы, ведь знаешь, что люди когда-то в этом доме жили, страдали, радовались. Согретые такие дома”. Без сомнения, Надя проходила мимо дома, где сейчас находится Музей-квартира Пушкина, что на Арбате, 53. Здесь жил Пушкин, здесь была его свадьба, бал, гости, друзья… Сегодня здесь хранятся рисунки Нади Руше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лядя на её рисунки, кажется, что книжки она читала, будто их сочиняла, а сочиняла – как рисовала, а рисовала – как дышала: легко и естественн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19640" y="450864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1944720" cy="1555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732760" y="611676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аппасов Рамиль. Старый Арб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94320" y="115920"/>
            <a:ext cx="4262400" cy="646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2543040" cy="3333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933720"/>
            <a:ext cx="626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бираясь в школу утром 6 марта 1969 года, Надя неожиданно потеряла сознание. Она умерла в больнице из-за разрыва сосуда головного мозга и кровоизлияния в мозг. Врождённый дефект сосуда головного мозга оборвал её жизнь в 17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дю похоронили на Покровском кладбище. На могиле  поставили памятник с высече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Кентавренком»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rcRect l="19488" t="16003" r="12269" b="0"/>
          <a:stretch/>
        </p:blipFill>
        <p:spPr>
          <a:xfrm>
            <a:off x="6877080" y="3357720"/>
            <a:ext cx="1950840" cy="316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76720" y="981000"/>
            <a:ext cx="541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1 октября 1982 года крымский астроном Л. Г. Карачкина открыла малую планету № 3516, которую назвала в честь Нади — 3516 Рушева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Кавказе есть перевал Нади Рушево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истории она осталась взрослым ребенком. Как ее любимый персонаж – Маленький Прин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00560" y="423720"/>
            <a:ext cx="47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амять, памя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15352" t="16243" r="19090" b="22024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765000"/>
            <a:ext cx="4896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детский почерк детского рисун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ера разбег - как будто взмах крыл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евучих линий тоненькие струнк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Звенят, срываясь с кончика пера.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Вальсирует свободно по паркету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Листа рука. 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Душе дар богом дан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ровидеть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роступают силуэ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Сквозь плотный белый  ватмана туман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ам сквозь туман неверья и сомнени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Из тайников бессмертного вчер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ротягивает вечно юный гени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ить Ариадны с кончика пера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Татьяна Смирнов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24360" y="620640"/>
            <a:ext cx="2927520" cy="43909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228720" y="54212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Автопортрет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5950080"/>
            <a:ext cx="20876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1773360"/>
            <a:ext cx="801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дя умерла очень рано – в 17. Накануне девочка вернулась из Питера, где снималась в документальном фильме о Пушки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В тот день дочь встретила меня оживленная, радостная, – вспоминает Наталья Дойдаловна, мама Нади. – В руке она держала горящую красную свечу, по которой стекал белый воск. «Мама, посмотри, как красиво!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 на следующее утро сгорела сама. Внезапное кровоизлияние в мозг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а свеча, с застывшими восковыми слезами, до сих пор стоит на письменном столе художницы. Только вот из алой она стала бледно-желтой. От времени все теряет краски – выгорают сделанные фломастерами рисунки, как ни прячет их Наталья Дойдаловна от света, желтеют страницы книг, которые листала дочь, – не выцветают только воспоми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44792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324160" y="474840"/>
            <a:ext cx="40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ка не меркнет с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ка горит свеча..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84924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2381400" cy="36385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059280" y="549360"/>
            <a:ext cx="534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Если хочешь, чтобы они немного потлели, гори дотла сам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адя Руш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1844640"/>
            <a:ext cx="513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е рисунки далеко выходят за пределы детского творчества, но и среди взрослых художников едва ли многие могут поспорить с легкостью ее техники, чувством композиции, с остротой ее образов, с ее творческим восприятием мира", - говорил о Наде Рушевой скульптор Василий Алексеевич Ватаг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516720" y="4724280"/>
            <a:ext cx="2050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http://www.liveinternet.ru/showjournal.php?journal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september.ru/1999/39/4-1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http://rusheva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5352" t="16243" r="19090" b="22024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р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Михайлов Дмитр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ученик 10 класса МАОУ СОШ № 49 г. Улан-Удэ, Буря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руководитель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Очирова Татьяна Николаевн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учитель МАОУ СОШ № 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5352" t="16243" r="19090" b="22024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ля вас учител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ли на уроках о Наде Рушевой – задело за живое. Очень захотелось узнать побольше. Итогом работы стала эта презентация, хотя, нам кажется, будет продолжение, ведь мы еще встретимся с этой удивительной художницей  и в 11 классе («Мастер и Маргарита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йды можно располагать по-своему. Может получиться интересный классный ч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важением, Михайлов Дмит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67520" y="404640"/>
            <a:ext cx="2292120" cy="3384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68360" y="404640"/>
            <a:ext cx="5327640" cy="3262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Люди нуждаются в таком искусстве, как в глотке свежего воздух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Гениальная девочка обладала поразительным даром проникновения в область человеческого духа. Она работала почти с отчаянием, стремясь сказать людям как можно больше. Последние рисунки особенно поражаю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Откуда у 16-летней девочки такое знание людей, эпох? Это загадка, которая никогда не будет разгадан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                (Д.С.Лихачё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27640" y="4375080"/>
            <a:ext cx="2592360" cy="21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940200" y="3860640"/>
            <a:ext cx="2098800" cy="27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484360" y="3860640"/>
            <a:ext cx="1305000" cy="2735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91960" y="3860640"/>
            <a:ext cx="1952640" cy="27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549360"/>
            <a:ext cx="8137800" cy="25333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в технической виртуозности суть, а в талантливости её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на работала почти с отчаянием, стремясь сказать людям как можно больше: о балете, об античности, о Шекспире, Пушкине, Лермонтове, Толстом, Тургеневе, Экзюпери и, наконец, о "Мастере и Маргарите" Булгакова. Последние рисунки особенно поражают.                                                                     И. Андр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201456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59480" y="3716280"/>
            <a:ext cx="2311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32846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никальна была сама по себе техника исполнения Надиных рисунков. Надя не пользовалась карандашом и стирательной резинкой, не намечала предварительных линий будущего рисунка - линия её всегда была единична и окончательна, у нее была удивительная способность к безошибочной импровизации - тушь, перо, фломастер, лишь изредка подцвеченные пастелью или акварелью.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ама Надя говорила так: "Я вижу, как на бумаге проступают контуры будущего рисунка - мне остаётся только обвести их фломастером"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Но прежде чем создать такую вот артистически законченную импровизацию, Надя вбирала в себя тот мир, тот исторический или культурный пласт, живой пульс которого она отобразит в своём рисун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146988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637320" y="333360"/>
            <a:ext cx="2162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084480" cy="3716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780000" y="476280"/>
            <a:ext cx="504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Она говорила, что только обводит на листах бумаги внезапно проступившие контуры рисунка лица и фигуры, контуры и сюж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ад рисунком всегда — затихала, замирала. Над рисунком она как бы погружалась в другой мир, неведомый остальным. Она властвовала в рисунке. Она жила в нем. Сама говорила не раз: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«Я живу жизнью тех, которых рису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020000" y="4221000"/>
            <a:ext cx="1739880" cy="23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318280" y="4221000"/>
            <a:ext cx="1539720" cy="237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708360" y="4221000"/>
            <a:ext cx="1416240" cy="235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95280" y="4941720"/>
            <a:ext cx="3097080" cy="1490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443700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«Война и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5040360" cy="4016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24000" y="4869000"/>
            <a:ext cx="8351640" cy="1984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одители Над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ознакомились в Туве, куда москвича Николая Рушева, театрального художника, отправили в командировку. Молодого человека привлекал Восток – из этой поездки он привез не только впечатления, но и жену – балерину, девушку экзотической красоты. По тем временам – редкий сою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124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89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1052640"/>
          <a:ext cx="4795920" cy="3470040"/>
        </p:xfrm>
        <a:graphic>
          <a:graphicData uri="http://schemas.openxmlformats.org/drawingml/2006/table">
            <a:tbl>
              <a:tblPr/>
              <a:tblGrid>
                <a:gridCol w="2017800"/>
                <a:gridCol w="277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Имя при рождени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Найдан Николаевна Руш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Дата рожд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2"/>
                        </a:rPr>
                        <a:t>31 январ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3"/>
                        </a:rPr>
                        <a:t>1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Место рожд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4"/>
                        </a:rPr>
                        <a:t>Улан-Бато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, 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5"/>
                        </a:rPr>
                        <a:t>Монго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Дата смер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6"/>
                        </a:rPr>
                        <a:t>6 мар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7"/>
                        </a:rPr>
                        <a:t>19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(17 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Место смер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8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Гражда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9"/>
                        </a:rPr>
                        <a:t>  </a:t>
                      </a:r>
                      <a:r>
                        <a:rPr b="0" lang="en-US" sz="1800" spc="-1" strike="noStrike" u="sng">
                          <a:solidFill>
                            <a:srgbClr val="0645ad"/>
                          </a:solidFill>
                          <a:uFillTx/>
                          <a:latin typeface="Georgia"/>
                          <a:ea typeface="Arial"/>
                        </a:rPr>
                        <a:t>   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645ad"/>
                          </a:solidFill>
                          <a:latin typeface="Georgia"/>
                          <a:ea typeface="Arial"/>
                        </a:rPr>
                        <a:t>СС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Сти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граф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Влия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45ad"/>
                          </a:solidFill>
                          <a:latin typeface="Georgia"/>
                          <a:ea typeface="Arial"/>
                        </a:rPr>
                        <a:t>Пабло Пикас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pic>
        <p:nvPicPr>
          <p:cNvPr id="83" name="" descr="Союз Советских Социалистических Республик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627280" y="3573360"/>
            <a:ext cx="209520" cy="104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5013360"/>
            <a:ext cx="8209080" cy="100872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-монгольски имя Надежда - Найдан означает "вечноживущая". Так всегда и звали миловидную девочку монгольские друзья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6300720" y="404640"/>
            <a:ext cx="2335320" cy="43246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788000" y="6237360"/>
            <a:ext cx="35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материалам Википе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9360" y="33336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"Девочка по имени Жизн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4:20:18Z</dcterms:created>
  <dc:creator>Админ</dc:creator>
  <dc:description/>
  <dc:language>en-US</dc:language>
  <cp:lastModifiedBy>Админ</cp:lastModifiedBy>
  <dcterms:modified xsi:type="dcterms:W3CDTF">2011-03-25T13:24:29Z</dcterms:modified>
  <cp:revision>17</cp:revision>
  <dc:subject/>
  <dc:title>Слайд 1</dc:title>
</cp:coreProperties>
</file>