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28.jpeg" ContentType="image/jpeg"/>
  <Override PartName="/ppt/media/image7.jpeg" ContentType="image/jpeg"/>
  <Override PartName="/ppt/media/image34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12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9.wmf" ContentType="image/x-wmf"/>
  <Override PartName="/ppt/media/image5.jpeg" ContentType="image/jpeg"/>
  <Override PartName="/ppt/media/image11.wmf" ContentType="image/x-wmf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357-083E-4664-A8E6-1EBDECA5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10F3-C742-45CB-84C1-2FC0B55D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427C-9DB2-43EE-9633-035191C1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AF2-4357-4355-B948-5BA6C2E6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38C-933F-47BA-B302-CFE6D389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535-E242-40DE-B2AA-28843391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D58-317F-4606-BF44-12DE6358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B74-8611-4390-9D17-46280FC0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627-3ADD-4A67-A78A-C43D7D03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9D54-3DB4-4769-B3C1-F62875B6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929-7A33-4D87-BD99-BE34D375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AAA3-0314-4B02-B39C-4BE159F1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F1E2-B798-4937-9CBB-7474A64B4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2030400"/>
            <a:ext cx="9144000" cy="4827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5800" y="457200"/>
            <a:ext cx="784872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Спасибо тебе, Азбука!"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86360" y="2895480"/>
            <a:ext cx="3490920" cy="3692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65760" y="455400"/>
            <a:ext cx="6261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ерный Ивашк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еревянная рубашк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де носом проведет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ам и след клад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00720" y="532080"/>
            <a:ext cx="7701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ерные, кривы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т рождения немы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ядут в ряд, все заговоря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1792440" cy="2111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238880" y="3809880"/>
            <a:ext cx="1559160" cy="2524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876920" y="3352680"/>
            <a:ext cx="1595160" cy="2024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2590920" y="2971800"/>
            <a:ext cx="19810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7560" y="532800"/>
            <a:ext cx="749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е куст, а с листочкам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е рубашка, а сши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е человек, а рассказывает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43762" t="7493" r="0" b="43756"/>
          <a:stretch/>
        </p:blipFill>
        <p:spPr>
          <a:xfrm>
            <a:off x="2743200" y="3276720"/>
            <a:ext cx="373392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7160" y="303120"/>
            <a:ext cx="8710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 этой узенькой короб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ы найдешь карандаш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учки, перья, скрепки, кнопк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Что угодно для душ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6039" t="0" r="205" b="10865"/>
          <a:stretch/>
        </p:blipFill>
        <p:spPr>
          <a:xfrm>
            <a:off x="5867280" y="2971800"/>
            <a:ext cx="2362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57640" y="397080"/>
            <a:ext cx="774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оя в клетку, то в линей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писать по мне сумей- 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то такое я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676520" y="2819520"/>
            <a:ext cx="541008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22500" t="7954" r="16669" b="0"/>
          <a:stretch/>
        </p:blipFill>
        <p:spPr>
          <a:xfrm>
            <a:off x="1447920" y="150840"/>
            <a:ext cx="68580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rcRect l="4292" t="9389" r="5576" b="9256"/>
          <a:stretch/>
        </p:blipFill>
        <p:spPr>
          <a:xfrm>
            <a:off x="0" y="1523880"/>
            <a:ext cx="91440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4283" t="0" r="0" b="2501"/>
          <a:stretch/>
        </p:blipFill>
        <p:spPr>
          <a:xfrm>
            <a:off x="1971720" y="0"/>
            <a:ext cx="534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62120" y="609480"/>
            <a:ext cx="35812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М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95480" y="2666880"/>
            <a:ext cx="2971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Р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343400" y="4724280"/>
            <a:ext cx="396252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ОДИН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7696" t="5928" r="276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95480" y="4419720"/>
            <a:ext cx="3276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збу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609480"/>
            <a:ext cx="1266840" cy="10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71600" y="2362320"/>
            <a:ext cx="36482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УДРОСТИ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 rot="1125600">
            <a:off x="4876920" y="1752120"/>
            <a:ext cx="35812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УПЕНЬ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2666880"/>
            <a:ext cx="883944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збука - к мудрости ступень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>
            <a:lum bright="12000"/>
          </a:blip>
          <a:srcRect l="4168" t="0" r="0" b="0"/>
          <a:stretch/>
        </p:blipFill>
        <p:spPr>
          <a:xfrm>
            <a:off x="838080" y="1523880"/>
            <a:ext cx="7315200" cy="5334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5800" y="152280"/>
            <a:ext cx="7543800" cy="18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тебе, Азбука!</a:t>
            </a:r>
            <a:endParaRPr b="0" lang="en-US" sz="1800" spc="1" strike="noStrike">
              <a:ln w="9360">
                <a:solidFill>
                  <a:srgbClr val="0000cc"/>
                </a:solidFill>
                <a:miter/>
              </a:ln>
              <a:solidFill>
                <a:srgbClr val="0000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4656" t="0" r="4676" b="0"/>
          <a:stretch/>
        </p:blipFill>
        <p:spPr>
          <a:xfrm>
            <a:off x="0" y="6480"/>
            <a:ext cx="92962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228600"/>
            <a:ext cx="4952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тавайте дружно каждый раз,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гда учитель входит в класс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05520" y="1066680"/>
            <a:ext cx="3504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льзя на уроке,-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лушай, дружок,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вачку жевать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кусать пирожок.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1752480"/>
            <a:ext cx="3886200" cy="17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та - это не кровать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на ней нельзя лежать.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ы сиди за партой стройно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веди себя достойно.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67080" y="3352680"/>
            <a:ext cx="42674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ить хочешь - не шуми,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только руку подними.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спросит - надо встать,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гда он сесть позволит - сядь.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5181480"/>
            <a:ext cx="46483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жедневно по утра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ниматься надо нам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с доски не сводим глаз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 учитель учит нас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4656" t="0" r="4676" b="0"/>
          <a:stretch/>
        </p:blipFill>
        <p:spPr>
          <a:xfrm>
            <a:off x="0" y="6480"/>
            <a:ext cx="92962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4705" t="12688" r="4705" b="0"/>
          <a:stretch/>
        </p:blipFill>
        <p:spPr>
          <a:xfrm>
            <a:off x="1752480" y="0"/>
            <a:ext cx="586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 rot="21370200">
            <a:off x="1752480" y="304920"/>
            <a:ext cx="5910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2878" r="1837" b="0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295280" y="266688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38280" y="266688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657600" y="2590920"/>
            <a:ext cx="46656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95280" y="373392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38280" y="373392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81280" y="373392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95280" y="480060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38280" y="487692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81280" y="4800600"/>
            <a:ext cx="4669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99800" y="379440"/>
            <a:ext cx="7203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овый дом несу в рук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вери дома на замк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 живут в доме то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нижки, ручки и альбом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57800" y="3827520"/>
            <a:ext cx="3327480" cy="2833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38080" y="3902040"/>
            <a:ext cx="281952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авный</cp:lastModifiedBy>
  <dcterms:modified xsi:type="dcterms:W3CDTF">2007-03-09T08:07:23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