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wmf" ContentType="image/x-wmf"/>
  <Override PartName="/ppt/media/image16.wmf" ContentType="image/x-wmf"/>
  <Override PartName="/ppt/media/image28.jpeg" ContentType="image/jpeg"/>
  <Override PartName="/ppt/media/image7.jpeg" ContentType="image/jpeg"/>
  <Override PartName="/ppt/media/image34.jpeg" ContentType="image/jpeg"/>
  <Override PartName="/ppt/media/image25.jpeg" ContentType="image/jpeg"/>
  <Override PartName="/ppt/media/image4.jpeg" ContentType="image/jpeg"/>
  <Override PartName="/ppt/media/image31.jpeg" ContentType="image/jpeg"/>
  <Override PartName="/ppt/media/image10.wmf" ContentType="image/x-wmf"/>
  <Override PartName="/ppt/media/image12.jpeg" ContentType="image/jpeg"/>
  <Override PartName="/ppt/media/image29.jpeg" ContentType="image/jpeg"/>
  <Override PartName="/ppt/media/image8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2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13.wmf" ContentType="image/x-wmf"/>
  <Override PartName="/ppt/media/image27.jpeg" ContentType="image/jpeg"/>
  <Override PartName="/ppt/media/image9.wmf" ContentType="image/x-wmf"/>
  <Override PartName="/ppt/media/image5.jpeg" ContentType="image/jpeg"/>
  <Override PartName="/ppt/media/image11.wmf" ContentType="image/x-wmf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15.wmf" ContentType="image/x-wmf"/>
  <Override PartName="/ppt/media/image22.jpeg" ContentType="image/jpeg"/>
  <Override PartName="/ppt/media/image1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5CBF-7A67-4A03-A8FC-78C005921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1FE5-369A-4E50-BE9C-64B212253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44D6-D6A0-4C95-81A4-5A3ECDCB2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F602-9C42-48BD-A353-B5A9CA576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0AFE-21AA-4C88-8AE1-50277C969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E72E-5207-4CA7-93EC-543F9CB85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0195-9F71-4DCB-A858-9DFCAA902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B343-F0E3-41D0-A3C4-AC3EE3FF1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14D0-70A2-40A5-B96B-FD71093B4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D702-964C-4CAE-8858-FD8652B64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CA53-9AAD-4893-829F-71204D88C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4B64-662A-41ED-8412-4D5C80B6C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F335E-E022-4845-8BF9-64ED1F9AD2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2030400"/>
            <a:ext cx="9144000" cy="48276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685800" y="457200"/>
            <a:ext cx="7848720" cy="203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"Спасибо тебе, Азбука!"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986360" y="2895480"/>
            <a:ext cx="3490920" cy="36925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65760" y="455400"/>
            <a:ext cx="62614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Черный Ивашка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Деревянная рубашка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Где носом проведет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Там и след кладет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7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2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800720" y="532080"/>
            <a:ext cx="77018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Черные, кривые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От рождения немые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Сядут в ряд, все заговорят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80880" y="2133720"/>
            <a:ext cx="1792440" cy="21114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7238880" y="3809880"/>
            <a:ext cx="1559160" cy="25243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4876920" y="3352680"/>
            <a:ext cx="1595160" cy="20242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5"/>
          <a:stretch/>
        </p:blipFill>
        <p:spPr>
          <a:xfrm>
            <a:off x="2590920" y="2971800"/>
            <a:ext cx="1981080" cy="17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9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907560" y="532800"/>
            <a:ext cx="749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Не куст, а с листочками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Не рубашка, а сшита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Не человек, а рассказывает.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rcRect l="43762" t="7493" r="0" b="43756"/>
          <a:stretch/>
        </p:blipFill>
        <p:spPr>
          <a:xfrm>
            <a:off x="2743200" y="3276720"/>
            <a:ext cx="3733920" cy="26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27160" y="303120"/>
            <a:ext cx="87105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В этой узенькой коробк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Ты найдешь карандаши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Ручки, перья, скрепки, кнопки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Что угодно для души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rcRect l="6039" t="0" r="205" b="10865"/>
          <a:stretch/>
        </p:blipFill>
        <p:spPr>
          <a:xfrm>
            <a:off x="5867280" y="2971800"/>
            <a:ext cx="236232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57640" y="397080"/>
            <a:ext cx="7741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Тоя в клетку, то в линейк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Написать по мне сумей- ка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Что такое я?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1676520" y="2819520"/>
            <a:ext cx="5410080" cy="36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1143000"/>
            <a:ext cx="91440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rcRect l="22500" t="7954" r="16669" b="0"/>
          <a:stretch/>
        </p:blipFill>
        <p:spPr>
          <a:xfrm>
            <a:off x="1447920" y="150840"/>
            <a:ext cx="6858000" cy="670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rcRect l="4292" t="9389" r="5576" b="9256"/>
          <a:stretch/>
        </p:blipFill>
        <p:spPr>
          <a:xfrm>
            <a:off x="0" y="1523880"/>
            <a:ext cx="9144000" cy="37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rcRect l="4283" t="0" r="0" b="2501"/>
          <a:stretch/>
        </p:blipFill>
        <p:spPr>
          <a:xfrm>
            <a:off x="1971720" y="0"/>
            <a:ext cx="5346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533520"/>
            <a:ext cx="9144000" cy="57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762120" y="609480"/>
            <a:ext cx="3581280" cy="105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МАМА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895480" y="2666880"/>
            <a:ext cx="2971800" cy="105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МИР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343400" y="4724280"/>
            <a:ext cx="3962520" cy="120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РОДИНА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rcRect l="7696" t="5928" r="2764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990720" y="0"/>
            <a:ext cx="7010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0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990720" y="0"/>
            <a:ext cx="7238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895480" y="4419720"/>
            <a:ext cx="327672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Азбук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219320" y="609480"/>
            <a:ext cx="1266840" cy="109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К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371600" y="2362320"/>
            <a:ext cx="364824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МУДРОСТИ</a:t>
            </a:r>
            <a:endParaRPr b="0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5" name=""/>
          <p:cNvSpPr txBox="1"/>
          <p:nvPr/>
        </p:nvSpPr>
        <p:spPr>
          <a:xfrm rot="1125600">
            <a:off x="4876920" y="1752120"/>
            <a:ext cx="3581280" cy="87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ТУПЕНЬК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52280" y="2666880"/>
            <a:ext cx="8839440" cy="159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збука - к мудрости ступеньк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30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33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36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39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>
            <a:lum bright="12000"/>
          </a:blip>
          <a:srcRect l="4168" t="0" r="0" b="0"/>
          <a:stretch/>
        </p:blipFill>
        <p:spPr>
          <a:xfrm>
            <a:off x="838080" y="1523880"/>
            <a:ext cx="7315200" cy="5334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685800" y="152280"/>
            <a:ext cx="7543800" cy="1805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cc"/>
                  </a:solidFill>
                  <a:miter/>
                </a:ln>
                <a:solidFill>
                  <a:srgbClr val="0000cc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пасибо тебе, Азбука!</a:t>
            </a:r>
            <a:endParaRPr b="0" lang="en-US" sz="1800" spc="1" strike="noStrike">
              <a:ln w="9360">
                <a:solidFill>
                  <a:srgbClr val="0000cc"/>
                </a:solidFill>
                <a:miter/>
              </a:ln>
              <a:solidFill>
                <a:srgbClr val="0000cc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4656" t="0" r="4676" b="0"/>
          <a:stretch/>
        </p:blipFill>
        <p:spPr>
          <a:xfrm>
            <a:off x="0" y="6480"/>
            <a:ext cx="9296280" cy="68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228600" y="228600"/>
            <a:ext cx="49528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ставайте дружно каждый раз,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огда учитель входит в класс.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105520" y="1066680"/>
            <a:ext cx="350496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ельзя на уроке,-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слушай, дружок,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Жвачку жевать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 кусать пирожок.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04920" y="1752480"/>
            <a:ext cx="3886200" cy="173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арта - это не кровать</a:t>
            </a:r>
            <a:endParaRPr b="0" lang="en-US" sz="1800" spc="1" strike="noStrike">
              <a:ln w="0">
                <a:noFill/>
              </a:ln>
              <a:solidFill>
                <a:srgbClr val="ff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 на ней нельзя лежать.</a:t>
            </a:r>
            <a:endParaRPr b="0" lang="en-US" sz="1800" spc="1" strike="noStrike">
              <a:ln w="0">
                <a:noFill/>
              </a:ln>
              <a:solidFill>
                <a:srgbClr val="ff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ы сиди за партой стройно</a:t>
            </a:r>
            <a:endParaRPr b="0" lang="en-US" sz="1800" spc="1" strike="noStrike">
              <a:ln w="0">
                <a:noFill/>
              </a:ln>
              <a:solidFill>
                <a:srgbClr val="ff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 веди себя достойно.</a:t>
            </a:r>
            <a:endParaRPr b="0" lang="en-US" sz="1800" spc="1" strike="noStrike">
              <a:ln w="0">
                <a:noFill/>
              </a:ln>
              <a:solidFill>
                <a:srgbClr val="ff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267080" y="3352680"/>
            <a:ext cx="426744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тветить хочешь - не шуми,</a:t>
            </a:r>
            <a:endParaRPr b="0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 только руку подними.</a:t>
            </a:r>
            <a:endParaRPr b="0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читель спросит - надо встать,</a:t>
            </a:r>
            <a:endParaRPr b="0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огда он сесть позволит - сядь.</a:t>
            </a:r>
            <a:endParaRPr b="0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80880" y="5181480"/>
            <a:ext cx="46483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Ежедневно по утрам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аниматься надо нам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ы с доски не сводим глаз,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 учитель учит нас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4656" t="0" r="4676" b="0"/>
          <a:stretch/>
        </p:blipFill>
        <p:spPr>
          <a:xfrm>
            <a:off x="0" y="6480"/>
            <a:ext cx="9296280" cy="68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rcRect l="4705" t="12688" r="4705" b="0"/>
          <a:stretch/>
        </p:blipFill>
        <p:spPr>
          <a:xfrm>
            <a:off x="1752480" y="0"/>
            <a:ext cx="5867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 rot="21370200">
            <a:off x="1752480" y="304920"/>
            <a:ext cx="591048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878" r="1837" b="0"/>
          <a:stretch/>
        </p:blipFill>
        <p:spPr>
          <a:xfrm>
            <a:off x="0" y="0"/>
            <a:ext cx="9144000" cy="67057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1295280" y="2666880"/>
            <a:ext cx="466920" cy="41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438280" y="2666880"/>
            <a:ext cx="466920" cy="41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657600" y="2590920"/>
            <a:ext cx="466560" cy="41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295280" y="3733920"/>
            <a:ext cx="466920" cy="41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438280" y="3733920"/>
            <a:ext cx="466920" cy="41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581280" y="3733920"/>
            <a:ext cx="466920" cy="41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295280" y="4800600"/>
            <a:ext cx="466920" cy="41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438280" y="4876920"/>
            <a:ext cx="466920" cy="41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581280" y="4800600"/>
            <a:ext cx="466920" cy="41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099800" y="379440"/>
            <a:ext cx="72032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Новый дом несу в руке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Двери дома на замке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А живут в доме том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Книжки, ручки и альбом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5257800" y="3827520"/>
            <a:ext cx="3327480" cy="28335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838080" y="3902040"/>
            <a:ext cx="2819520" cy="24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Главный</cp:lastModifiedBy>
  <dcterms:modified xsi:type="dcterms:W3CDTF">2007-03-09T08:07:23Z</dcterms:modified>
  <cp:revision>2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