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29.gif" ContentType="image/gif"/>
  <Override PartName="/ppt/media/image5.jpeg" ContentType="image/jpeg"/>
  <Override PartName="/ppt/media/image26.jpeg" ContentType="image/jpeg"/>
  <Override PartName="/ppt/media/image4.gif" ContentType="image/gif"/>
  <Override PartName="/ppt/media/image22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2DE-BA46-41FA-ADFB-EBBD60CC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4412-E9E5-46E4-8E48-0307DCB0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F08-DC49-40A6-997B-F33B95B0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6E5-97A0-4FBA-A0E8-814332FC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44E8-B6A9-4BBC-A1C3-F2CBE6C6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81D3-AC9B-40CA-9B6E-323D5CE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AEDB-C982-43DC-A6FC-02ADC5BA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9C90-7948-4DB4-8C7E-3C6B35B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97F-C69B-4F44-A5B7-90572848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73EE-2435-4FD0-98BE-DB04E0F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8D12-B3CC-4250-A6C2-558B8860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7AE-AB8C-409C-A2B6-66A9FEB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D912-FDF2-4FCB-9318-82F00BE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A5E-09B4-4752-9B21-0E97A3F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D28E-1700-4541-AB52-896797D7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668D-0402-4965-A90B-E5C1A4A7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4A5-B799-4F2D-8E5A-21069D9C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1A6-4F83-497F-AE6D-341144EF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026-D5D8-428E-A6D7-5560B47E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335-9B99-4E2A-9135-2B08151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69A-E72B-4DA6-B217-E93143C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770-432F-4A73-B607-67F4C744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439-B724-4F5C-ACC8-21F2D57B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473-608A-43E0-A334-0162432A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105F-F9C7-4F77-BDB6-BCC35DA2C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8AAB-B3C8-4CDE-8E7B-13C29FDEF8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МБОУ «Гимназия №11 им. С.П.Дягилева»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НОУ «Путь к успеху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6400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Что изучает нумиз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у выполн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ник 5 «А»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аренко И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мь, 20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2808360" cy="227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87640" y="2276640"/>
            <a:ext cx="2808360" cy="201600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60280"/>
            <a:ext cx="3600360" cy="1297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тичные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3933720"/>
            <a:ext cx="26640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ном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4941720"/>
            <a:ext cx="3097080" cy="1130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ель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3860640"/>
            <a:ext cx="24480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ар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2997360"/>
            <a:ext cx="21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кан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3573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4292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124000" y="357336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700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404640"/>
            <a:ext cx="338436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мские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700280"/>
            <a:ext cx="316872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ые отде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781360"/>
            <a:ext cx="4537080" cy="1214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спубликан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06920" y="2781360"/>
            <a:ext cx="4537080" cy="1214280"/>
          </a:xfrm>
          <a:prstGeom prst="diamond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ерато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4076640"/>
            <a:ext cx="2016360" cy="68112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084640"/>
            <a:ext cx="2211480" cy="1346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а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5084640"/>
            <a:ext cx="2570400" cy="14194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то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им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339640" y="263700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2637000"/>
            <a:ext cx="57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651640" y="3716280"/>
            <a:ext cx="72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995640" y="472428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4724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монете различают лицевую сторону, оборотную и обрез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вая сторона монеты(аверс) содержит официальную символику, номинал монеты, год выпуска, пробу сплава, массу химического чистого драгоценного мет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ротная сторона (реверс) содержит изображения, посвященные тематике мон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ез - боковая сторона 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 резьбу, узор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ую зап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72360" y="4164120"/>
            <a:ext cx="2447640" cy="23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Степень распространенности или редкости монеты обозначается знаками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(= commune, обыкн.), R 1 (часто встречающаяся), R 2 (несколько более редкая), R 3 (довольно редкая), R 4 (редкая), R 5 (очень редкая), R 6 (весьма редкая), R 7 (чрезвычайно редкая), R 8 (в высшей степени редкая) и R* — уник, т. е. известная в одном экземпляре толь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рговая ценность древней монеты обусловливается, кроме редкости, ее историческим значением, художественным достоинством и сохранностью. В настоящее время особенно ценятся коллекционерами в древней монете два последние ка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Сохранность моне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ще всего в плохой сохранности являются медные монеты, благодаря легкой окисляемости их металла; лучше сохранились серебряные, еще лучше — золотые, благодаря мало изменяющемуся от действия среды металлу, а также и тому, что они менее других находились в обращ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ежних сочинениях монеты описывались обыкновенно по металлам, причем впереди шло золото, затем серебро, наконец, медь; но теперь общим правилом сделалось расположение монет в хронологическом порядке по царствованиям, сохраняя, однако, внутри каждого года ту же последовательность метал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Нумизматика как нау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подавание Нумизматики с кафедры университетов, как отдельной науки, началось в Западной Европе только с конца прошлого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стоящее время она читается во многих университетах Западной Европы, например, Берлинском, Гёттингенском, Цюрихском, парижской Сорбонне, Высшем училище во Флоренции и т. д., а в России — на восточном факультете в Санкт- Петербургском университете и в Археологическом институ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оль нумизматик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изматика сыграла большую роль в изучени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стории архитекту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Как ни миниатюрны изображения древних зданий, встречающихся на монетах, все же они помогают архитекторам восстановить некоторые черты разрушенных древних по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113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0136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онкости исполнения, выразительности рисунка, простоте и изяществу композиции некоторые монеты являются шедевра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зобразительного искус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Особенно славятся монеты Сицилии V в. до н. 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4044960"/>
            <a:ext cx="5040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цилийским и другим греческим монетами восхищался Микеланджело, а Гёте сказал о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Эти чудесные монеты представляют собой бесконечную весну цветов и плодов искусства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Актуаль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умизматика вначале развивалась как коллекционирование. Сознательно стали собирать монеты в Италии в эпоху Возрождения. Знаменитая коллекция была у поэта Петрарки, жившего в XIV веке, у флорентийского мецената Козимо Медичи – в XV в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моей семье имеется коллекция монет. Мой папа собирает различные монеты разных стран и разных времен. Мне стало интересно, когда начали собирать монеты, и какие монеты бываю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764240"/>
        </p:xfrm>
        <a:graphic>
          <a:graphicData uri="http://schemas.openxmlformats.org/drawingml/2006/table">
            <a:tbl>
              <a:tblPr/>
              <a:tblGrid>
                <a:gridCol w="2243160"/>
                <a:gridCol w="1584360"/>
                <a:gridCol w="1511280"/>
                <a:gridCol w="1512720"/>
                <a:gridCol w="1378080"/>
              </a:tblGrid>
              <a:tr h="22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цар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 мо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тр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689- 17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пейка 171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96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1640" y="3933720"/>
            <a:ext cx="2952720" cy="1447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628640"/>
          <a:ext cx="8569080" cy="5488200"/>
        </p:xfrm>
        <a:graphic>
          <a:graphicData uri="http://schemas.openxmlformats.org/drawingml/2006/table">
            <a:tbl>
              <a:tblPr/>
              <a:tblGrid>
                <a:gridCol w="2519280"/>
                <a:gridCol w="1657440"/>
                <a:gridCol w="1511280"/>
                <a:gridCol w="1512720"/>
                <a:gridCol w="136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царств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ве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2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а II (1762-17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5 копеек 1763 и 177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2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32000" y="41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ekaterina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2087640" cy="2376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16360" y="2349360"/>
            <a:ext cx="2981160" cy="1467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843280" y="4076640"/>
            <a:ext cx="3168720" cy="146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28600" y="2060640"/>
            <a:ext cx="1494000" cy="18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914400" y="1600200"/>
          <a:ext cx="7772400" cy="4530240"/>
        </p:xfrm>
        <a:graphic>
          <a:graphicData uri="http://schemas.openxmlformats.org/drawingml/2006/table">
            <a:tbl>
              <a:tblPr/>
              <a:tblGrid>
                <a:gridCol w="1554480"/>
                <a:gridCol w="1991160"/>
                <a:gridCol w="1769040"/>
                <a:gridCol w="1290960"/>
                <a:gridCol w="1166760"/>
              </a:tblGrid>
              <a:tr h="22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е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6-18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2 копейки 1797 и 1801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3429000" cy="1695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700360" y="3860640"/>
            <a:ext cx="3467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40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549360"/>
          <a:ext cx="8229600" cy="5576760"/>
        </p:xfrm>
        <a:graphic>
          <a:graphicData uri="http://schemas.openxmlformats.org/drawingml/2006/table">
            <a:tbl>
              <a:tblPr/>
              <a:tblGrid>
                <a:gridCol w="1954080"/>
                <a:gridCol w="1729080"/>
                <a:gridCol w="1800000"/>
                <a:gridCol w="1440000"/>
                <a:gridCol w="1306440"/>
              </a:tblGrid>
              <a:tr h="33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 (1801-18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убль 1819 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пей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0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4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1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467160" cy="1695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771920" cy="201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331164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404640"/>
          <a:ext cx="8229600" cy="6262920"/>
        </p:xfrm>
        <a:graphic>
          <a:graphicData uri="http://schemas.openxmlformats.org/drawingml/2006/table">
            <a:tbl>
              <a:tblPr/>
              <a:tblGrid>
                <a:gridCol w="1954080"/>
                <a:gridCol w="1800360"/>
                <a:gridCol w="1655640"/>
                <a:gridCol w="1441440"/>
                <a:gridCol w="1378080"/>
              </a:tblGrid>
              <a:tr h="54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ла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25- 1855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9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- 188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(A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 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1 г 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871640" cy="2016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3333960" cy="1695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3284640"/>
            <a:ext cx="177192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2484360" y="3213000"/>
            <a:ext cx="333396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2411280" y="4869000"/>
            <a:ext cx="34387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620640"/>
          <a:ext cx="8229600" cy="5907240"/>
        </p:xfrm>
        <a:graphic>
          <a:graphicData uri="http://schemas.openxmlformats.org/drawingml/2006/table">
            <a:tbl>
              <a:tblPr/>
              <a:tblGrid>
                <a:gridCol w="2098800"/>
                <a:gridCol w="1800000"/>
                <a:gridCol w="1800360"/>
                <a:gridCol w="1368360"/>
                <a:gridCol w="1162080"/>
              </a:tblGrid>
              <a:tr h="23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 84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ола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4-1917 г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еты по 3 копейки, по 1 копейке и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пейке 1916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2023920" cy="2303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56000" y="692280"/>
            <a:ext cx="3528720" cy="1787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3448080" cy="1695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2627280" y="4797360"/>
            <a:ext cx="33861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Каталог семейной коллекции моне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489040" y="1916280"/>
            <a:ext cx="3229200" cy="169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1554120"/>
                <a:gridCol w="1650960"/>
                <a:gridCol w="1565280"/>
                <a:gridCol w="1563840"/>
                <a:gridCol w="1438200"/>
              </a:tblGrid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убль 1897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3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1 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3116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в научно- популярную литературу, я узнал о нумизматике как о коллекционировании, так и о науке. О ее роли в археологии, истории, искус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л собственный каталог коллекции монет России в разные периоды цар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хорова Н.В. Монеты и банкноты России.- М.: «Дом славянской книги»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елоков А.А. Увлекательная нумизматика. Факты, легенды, открытия в мире монет. – М.: Эксмо, 200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йт Нумизматика, монеты СССР, юбилейные монеты СССР и России – ussr-coins.ru: http://ussr-coin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300" spc="-1" strike="noStrike">
                <a:solidFill>
                  <a:srgbClr val="ff0000"/>
                </a:solidFill>
                <a:latin typeface="Times New Roman"/>
              </a:rPr>
              <a:t>Спасибо за внимание !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003640" y="3357720"/>
            <a:ext cx="3311640" cy="309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Це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учить, что такое нумизма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Задач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аучно-популярную литерату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очнить, что изучает нумизматика в разные исторические пери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снить, какие существуют критерии описания монет при их изуч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 семейную коллекцию монет, составить каталог монет царск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 ли создание собственного каталога при систематизации коллекции монет разных времен царствования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1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мизматика - наука о монетах. Это вспомогательная историческая дисциплина, изучающая историю монетной чеканки и денежного обра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е этого слова лежит греческое имя существительное "номос" - закон, законное платежное средство и производное от него "номизма" - мон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Европе коллекционирование монет зародилось в эпоху Возрождения сначала в Италии, а затем в других странах. Тогда же стали появляться первые труды, объясняющие изображения и надписи на мон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оссии начало коллекционированию монет положил Петр I, купивший в 1721 году в Гамбурге нумизматическую коллекцию Модерса для кунсткамеры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ое нумизматическое сочинение в России было напечатано академиком Байером в Санкт-Петербурге в 1734 г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5560" y="189000"/>
            <a:ext cx="2211480" cy="25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Отцом Нумизматики считается аббат И. Экель (I. Eckhel, родился в 1737 г.)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до него существовала уже целая литература, посвященная исследованию греческих и римских монет, но он первый дал систему для их классификации и правильного из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го "Doctrina Numorum Veterum" послужила основанием для всех последующих сочинений по древней нумизматике и даже теперь еще не утратила своего зна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98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98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6:41:10Z</dcterms:created>
  <dc:creator>USER</dc:creator>
  <dc:description/>
  <dc:language>en-US</dc:language>
  <cp:lastModifiedBy>ЕЛЕНА</cp:lastModifiedBy>
  <dcterms:modified xsi:type="dcterms:W3CDTF">2012-05-08T21:50:11Z</dcterms:modified>
  <cp:revision>37</cp:revision>
  <dc:subject/>
  <dc:title> МБОУ «Гимназия №11 им. С.П.Дягилева НОУ «Путь к успеху»</dc:title>
</cp:coreProperties>
</file>