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gif" ContentType="image/gif"/>
  <Override PartName="/ppt/media/image29.gif" ContentType="image/gif"/>
  <Override PartName="/ppt/media/image5.jpeg" ContentType="image/jpeg"/>
  <Override PartName="/ppt/media/image26.jpeg" ContentType="image/jpeg"/>
  <Override PartName="/ppt/media/image4.gif" ContentType="image/gif"/>
  <Override PartName="/ppt/media/image22.jpeg" ContentType="image/jpeg"/>
  <Override PartName="/ppt/media/image3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1.gif" ContentType="image/gi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B57-A539-4567-A656-F1A342D3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416-F31A-48D9-A4B0-C35601A1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B5FA-4472-4B0A-ACFB-8532B170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F42C-E23E-4E32-8C68-B4EE967E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84AF-0B71-4AD7-815E-9A35D222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87F3-8FDF-49A4-8589-D4E9D058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D4C5-21A4-45FE-84A1-ABE9A547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0DE5-3870-4855-B080-82BE9D2C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8792-0235-460B-AC24-0B5FBFD5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08CE-F30A-4CBB-9A98-C8B6DAD1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E384-3309-4517-B134-0EF521E5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5E5-57BD-4A15-9153-7915AD14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4547-2B78-49AE-AD1A-5273AFD5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A4F9-0DFB-4EFC-8C80-9776BC9F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B26D-6707-4644-BF3D-CAF0875B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894C-F5E9-4814-A175-0756FE6D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5081-4824-46C5-8C3D-8770B49C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847-5780-4BC4-9B38-E37EE4EF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B1C-DB2E-4C78-BCF3-43251831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4D0-5B07-466E-9763-66E11FD9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AC9C-5BBB-4A6C-BB49-16D22CFD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5E77-15E4-43D1-A694-2233CC4E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6A1-5346-4834-BA75-6FA8315A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864A-D000-4696-9C72-0165C69A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1513-EA99-44E2-823E-2818419DAA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9432-48BE-4199-83DB-A8ABE90910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МБОУ «Гимназия №11 им. С.П.Дягилева»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НОУ «Путь к успеху»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32000" y="1773360"/>
            <a:ext cx="6400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Что изучает нумиз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у выполн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ник 5 «А»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каренко Ив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мь, 2012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58920" y="3141720"/>
            <a:ext cx="2808360" cy="2279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987640" y="2276640"/>
            <a:ext cx="2808360" cy="2016000"/>
          </a:xfrm>
          <a:prstGeom prst="diamond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260280"/>
            <a:ext cx="3600360" cy="1297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тичные мон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3933720"/>
            <a:ext cx="266400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тономны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р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9280" y="4941720"/>
            <a:ext cx="3097080" cy="1130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дельны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р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4720" y="3860640"/>
            <a:ext cx="244800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ар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48000" y="2997360"/>
            <a:ext cx="216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кан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35640" y="3573360"/>
            <a:ext cx="1512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4292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124000" y="357336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1700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404640"/>
            <a:ext cx="338436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мские мон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700280"/>
            <a:ext cx="316872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вные отде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781360"/>
            <a:ext cx="4537080" cy="1214280"/>
          </a:xfrm>
          <a:prstGeom prst="diamond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спубликан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06920" y="2781360"/>
            <a:ext cx="4537080" cy="1214280"/>
          </a:xfrm>
          <a:prstGeom prst="diamond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ператор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16360" y="4076640"/>
            <a:ext cx="2016360" cy="68112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а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5084640"/>
            <a:ext cx="2211480" cy="1346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а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5084640"/>
            <a:ext cx="2570400" cy="14194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то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м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пе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1636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339640" y="2637000"/>
            <a:ext cx="863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72360" y="2637000"/>
            <a:ext cx="57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651640" y="3716280"/>
            <a:ext cx="72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995640" y="472428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472428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В монете различают лицевую сторону, оборотную и обрез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цевая сторона монеты(аверс) содержит официальную символику, номинал монеты, год выпуска, пробу сплава, массу химического чистого драгоценного метал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ротная сторона (реверс) содержит изображения, посвященные тематике мон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ез - боковая сторона мон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ет резьбу, узор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циальную зап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372360" y="4164120"/>
            <a:ext cx="244764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Степень распространенности или редкости монеты обозначается знаками: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(= commune, обыкн.), R 1 (часто встречающаяся), R 2 (несколько более редкая), R 3 (довольно редкая), R 4 (редкая), R 5 (очень редкая), R 6 (весьма редкая), R 7 (чрезвычайно редкая), R 8 (в высшей степени редкая) и R* — уник, т. е. известная в одном экземпляре тольк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рговая ценность древней монеты обусловливается, кроме редкости, ее историческим значением, художественным достоинством и сохранностью. В настоящее время особенно ценятся коллекционерами в древней монете два последние кач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Сохранность мон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аще всего в плохой сохранности являются медные монеты, благодаря легкой окисляемости их металла; лучше сохранились серебряные, еще лучше — золотые, благодаря мало изменяющемуся от действия среды металлу, а также и тому, что они менее других находились в обращ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72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режних сочинениях монеты описывались обыкновенно по металлам, причем впереди шло золото, затем серебро, наконец, медь; но теперь общим правилом сделалось расположение монет в хронологическом порядке по царствованиям, сохраняя, однако, внутри каждого года ту же последовательность металл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Нумизматика как нау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подавание Нумизматики с кафедры университетов, как отдельной науки, началось в Западной Европе только с конца прошлого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стоящее время она читается во многих университетах Западной Европы, например, Берлинском, Гёттингенском, Цюрихском, парижской Сорбонне, Высшем училище во Флоренции и т. д., а в России — на восточном факультете в Санкт- Петербургском университете и в Археологическом институ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оль нумизмат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мизматика сыграла большую роль в изучени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стории архитектур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Как ни миниатюрны изображения древних зданий, встречающихся на монетах, все же они помогают архитекторам восстановить некоторые черты разрушенных древних постро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130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70136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тонкости исполнения, выразительности рисунка, простоте и изяществу композиции некоторые монеты являются шедевра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зобразительного искус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Особенно славятся монеты Сицилии V в. до н. э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92360" y="4044960"/>
            <a:ext cx="50403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цилийским и другим греческим монетами восхищался Микеланджело, а Гёте сказал о ни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Эти чудесные монеты представляют собой бесконечную весну цветов и плодов искусства!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Актуальност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мизматика вначале развивалась как коллекционирование. Сознательно стали собирать монеты в Италии в эпоху Возрождения. Знаменитая коллекция была у поэта Петрарки, жившего в XIV веке, у флорентийского мецената Козимо Медичи – в XV ве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в моей семье имеется коллекция монет. Мой папа собирает различные монеты разных стран и разных времен. Мне стало интересно, когда начали собирать монеты, и какие монеты бываю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талог семейной коллекции моне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764240"/>
        </p:xfrm>
        <a:graphic>
          <a:graphicData uri="http://schemas.openxmlformats.org/drawingml/2006/table">
            <a:tbl>
              <a:tblPr/>
              <a:tblGrid>
                <a:gridCol w="2243160"/>
                <a:gridCol w="1584360"/>
                <a:gridCol w="1511280"/>
                <a:gridCol w="1512720"/>
                <a:gridCol w="1378080"/>
              </a:tblGrid>
              <a:tr h="22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 царств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е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ве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 мо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689- 172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опейка 1710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54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1962000" cy="223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771640" y="3933720"/>
            <a:ext cx="2952720" cy="1447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68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68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талог семейной коллекции моне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4000" y="1628640"/>
          <a:ext cx="8569080" cy="5488200"/>
        </p:xfrm>
        <a:graphic>
          <a:graphicData uri="http://schemas.openxmlformats.org/drawingml/2006/table">
            <a:tbl>
              <a:tblPr/>
              <a:tblGrid>
                <a:gridCol w="2519280"/>
                <a:gridCol w="1657440"/>
                <a:gridCol w="1511280"/>
                <a:gridCol w="1512720"/>
                <a:gridCol w="136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 царств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е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ве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21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атерина II (1762-17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еты по 5 копеек 1763 и 1776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21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1332000" y="41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ekaterina2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2087640" cy="2376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916360" y="2349360"/>
            <a:ext cx="2981160" cy="1467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843280" y="4076640"/>
            <a:ext cx="3168720" cy="1467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768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768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7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9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талог семейной коллекции моне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28600" y="2060640"/>
            <a:ext cx="1494000" cy="180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914400" y="1600200"/>
          <a:ext cx="7772400" cy="4530240"/>
        </p:xfrm>
        <a:graphic>
          <a:graphicData uri="http://schemas.openxmlformats.org/drawingml/2006/table">
            <a:tbl>
              <a:tblPr/>
              <a:tblGrid>
                <a:gridCol w="1554480"/>
                <a:gridCol w="1991160"/>
                <a:gridCol w="1769040"/>
                <a:gridCol w="1290960"/>
                <a:gridCol w="1166760"/>
              </a:tblGrid>
              <a:tr h="22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u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9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ве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6-180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еты по 2 копейки 1797 и 1801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u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9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771640" y="1916280"/>
            <a:ext cx="3429000" cy="1695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700360" y="3860640"/>
            <a:ext cx="34671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403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549360"/>
          <a:ext cx="8229600" cy="5576760"/>
        </p:xfrm>
        <a:graphic>
          <a:graphicData uri="http://schemas.openxmlformats.org/drawingml/2006/table">
            <a:tbl>
              <a:tblPr/>
              <a:tblGrid>
                <a:gridCol w="1954080"/>
                <a:gridCol w="1729080"/>
                <a:gridCol w="1800000"/>
                <a:gridCol w="1440000"/>
                <a:gridCol w="1306440"/>
              </a:tblGrid>
              <a:tr h="33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нд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  (1801-182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убль 1819 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(A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74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опей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0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84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1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411280" y="620640"/>
            <a:ext cx="3467160" cy="1695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1771920" cy="2016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484360" y="3933720"/>
            <a:ext cx="331164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404640"/>
          <a:ext cx="8229600" cy="6262920"/>
        </p:xfrm>
        <a:graphic>
          <a:graphicData uri="http://schemas.openxmlformats.org/drawingml/2006/table">
            <a:tbl>
              <a:tblPr/>
              <a:tblGrid>
                <a:gridCol w="1954080"/>
                <a:gridCol w="1800360"/>
                <a:gridCol w="1655640"/>
                <a:gridCol w="1441440"/>
                <a:gridCol w="1378080"/>
              </a:tblGrid>
              <a:tr h="54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ола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25- 1855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9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ндр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5- 188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(Ag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(A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 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1 г (R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1871640" cy="2016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484360" y="476280"/>
            <a:ext cx="3333960" cy="1695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3284640"/>
            <a:ext cx="1771920" cy="201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484360" y="3213000"/>
            <a:ext cx="333396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2411280" y="4869000"/>
            <a:ext cx="34387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620640"/>
          <a:ext cx="8229600" cy="5907240"/>
        </p:xfrm>
        <a:graphic>
          <a:graphicData uri="http://schemas.openxmlformats.org/drawingml/2006/table">
            <a:tbl>
              <a:tblPr/>
              <a:tblGrid>
                <a:gridCol w="2098800"/>
                <a:gridCol w="1800000"/>
                <a:gridCol w="1800360"/>
                <a:gridCol w="1368360"/>
                <a:gridCol w="1162080"/>
              </a:tblGrid>
              <a:tr h="23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 84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ола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4-1917 г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еты по 3 копейки, по 1 копейке и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пейке 1916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6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5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2023920" cy="2303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56000" y="692280"/>
            <a:ext cx="3528720" cy="1787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556000" y="2997360"/>
            <a:ext cx="3448080" cy="1695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627280" y="4797360"/>
            <a:ext cx="338616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талог семейной коллекции моне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489040" y="1916280"/>
            <a:ext cx="3229200" cy="169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914400" y="1600200"/>
          <a:ext cx="7772400" cy="4530600"/>
        </p:xfrm>
        <a:graphic>
          <a:graphicData uri="http://schemas.openxmlformats.org/drawingml/2006/table">
            <a:tbl>
              <a:tblPr/>
              <a:tblGrid>
                <a:gridCol w="1554120"/>
                <a:gridCol w="1650960"/>
                <a:gridCol w="1565280"/>
                <a:gridCol w="1563840"/>
                <a:gridCol w="1438200"/>
              </a:tblGrid>
              <a:tr h="22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убль 1897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g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1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3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1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33116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ив научно- популярную литературу, я узнал о нумизматике как о коллекционировании, так и о науке. О ее роли в археологии, истории, искус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л собственный каталог коллекции монет России в разные периоды царств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хорова Н.В. Монеты и банкноты России.- М.: «Дом славянской книги»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елоков А.А. Увлекательная нумизматика. Факты, легенды, открытия в мире монет. – М.: Эксмо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йт Нумизматика, монеты СССР, юбилейные монеты СССР и России – ussr-coins.ru: http://ussr-coins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300" spc="-1" strike="noStrike">
                <a:solidFill>
                  <a:srgbClr val="ff0000"/>
                </a:solidFill>
                <a:latin typeface="Times New Roman"/>
              </a:rPr>
              <a:t>Спасибо за внимание !</a:t>
            </a:r>
            <a:endParaRPr b="0" lang="en-US" sz="63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003640" y="3357720"/>
            <a:ext cx="3311640" cy="309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Цел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учить, что такое нумизм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516720" y="422100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Задач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ить научно-популярную литерату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точнить, что изучает нумизматика в разные исторические перио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яснить, какие существуют критерии описания монет при их изуч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овать семейную коллекцию монет, составить каталог монет царской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Гипотез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можно ли создание собственного каталога при систематизации коллекции монет разных времен царствования в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1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мизматика - наука о монетах. Это вспомогательная историческая дисциплина, изучающая историю монетной чеканки и денежного обращ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снове этого слова лежит греческое имя существительное "номос" - закон, законное платежное средство и производное от него "номизма" - мон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72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Европе коллекционирование монет зародилось в эпоху Возрождения сначала в Италии, а затем в других странах. Тогда же стали появляться первые труды, объясняющие изображения и надписи на моне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940360" y="364500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72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оссии начало коллекционированию монет положил Петр I, купивший в 1721 году в Гамбурге нумизматическую коллекцию Модерса для кунсткамеры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ое нумизматическое сочинение в России было напечатано академиком Байером в Санкт-Петербурге в 1734 г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5560" y="189000"/>
            <a:ext cx="2211480" cy="2519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Отцом Нумизматики считается аббат И. Экель (I. Eckhel, родился в 1737 г.)</a:t>
            </a:r>
            <a:endParaRPr b="0" lang="en-US" sz="3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до него существовала уже целая литература, посвященная исследованию греческих и римских монет, но он первый дал систему для их классификации и правильного из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го "Doctrina Numorum Veterum" послужила основанием для всех последующих сочинений по древней нумизматике и даже теперь еще не утратила своего зна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9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98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98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6:41:10Z</dcterms:created>
  <dc:creator>USER</dc:creator>
  <dc:description/>
  <dc:language>en-US</dc:language>
  <cp:lastModifiedBy>ЕЛЕНА</cp:lastModifiedBy>
  <dcterms:modified xsi:type="dcterms:W3CDTF">2012-05-08T21:50:11Z</dcterms:modified>
  <cp:revision>37</cp:revision>
  <dc:subject/>
  <dc:title> МБОУ «Гимназия №11 им. С.П.Дягилева НОУ «Путь к успеху»</dc:title>
</cp:coreProperties>
</file>