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17.jpeg" ContentType="image/jpeg"/>
  <Override PartName="/ppt/media/image12.wmf" ContentType="image/x-wmf"/>
  <Override PartName="/ppt/media/image4.png" ContentType="image/png"/>
  <Override PartName="/ppt/media/image8.png" ContentType="image/png"/>
  <Override PartName="/ppt/media/image10.wmf" ContentType="image/x-wmf"/>
  <Override PartName="/ppt/media/image7.jpeg" ContentType="image/jpeg"/>
  <Override PartName="/ppt/media/image20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5.jpeg" ContentType="image/jpe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762-22E2-40CB-9013-D9D0DF14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565-D121-4C3A-8E41-30701E63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19B-2F0E-4622-B3D9-0A4DF08E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F8D-5134-497B-B510-6C673C5F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D416-74C5-41FB-A6DD-E852B631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DF89-DB8D-454B-9087-99F36977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7279-A48B-438B-BC82-3E9D58D8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8945-91C4-49CC-93D5-6BD77527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0C42-F6FA-4B7C-B1BA-968E1FBD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49BE-6D29-43E6-B2AA-935F335F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0614-4A7F-4E14-AF26-BC379EE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0BC-1339-4CA3-8BB6-A56A0214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8CD8-F34A-4BD0-B581-1D0CD9E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915A-A03A-4A9E-956C-B0ACE80C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8733-D96D-475F-B997-7FCA1D10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6D47-B6CE-4638-BC52-8DCDC439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ABCB-B35D-4B33-A28A-B9220A9B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9FF-4F94-443E-B191-15A4D632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FA5-F09B-4836-85D2-B38D80B5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99E-8D2A-4462-A7FE-47EA3FDE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9D8-E40C-4EDC-B124-12C698CD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2A0-CA7E-47DB-9395-1B20D369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A32-C95A-4456-9CCE-84D516C3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8FD-8DAB-4F52-A855-B7357845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C725-61B9-45C2-A944-6AA141D2D4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1259-F56D-4E1B-BE97-BE1E090503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905120"/>
            <a:ext cx="836784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Библиографический калейдоскоп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гра для 5-6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MCj04281130000[1]"/>
          <p:cNvPicPr/>
          <p:nvPr/>
        </p:nvPicPr>
        <p:blipFill>
          <a:blip r:embed="rId1"/>
          <a:stretch/>
        </p:blipFill>
        <p:spPr>
          <a:xfrm>
            <a:off x="214200" y="0"/>
            <a:ext cx="15224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водный текст, который предваряет изложение основного материал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2627280" y="2708280"/>
            <a:ext cx="432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ислови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5" name="Picture 5" descr="MCj04300490000[1]"/>
          <p:cNvPicPr/>
          <p:nvPr/>
        </p:nvPicPr>
        <p:blipFill>
          <a:blip r:embed="rId1"/>
          <a:stretch/>
        </p:blipFill>
        <p:spPr>
          <a:xfrm>
            <a:off x="6516720" y="4581360"/>
            <a:ext cx="2232000" cy="1760760"/>
          </a:xfrm>
          <a:prstGeom prst="rect">
            <a:avLst/>
          </a:prstGeom>
          <a:ln w="0">
            <a:noFill/>
          </a:ln>
        </p:spPr>
      </p:pic>
      <p:sp>
        <p:nvSpPr>
          <p:cNvPr id="166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асть справочного аппарата, в которой дается краткая характеристика издан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2771640" y="278136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нотац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9" name="Picture 6" descr="j0299125"/>
          <p:cNvPicPr/>
          <p:nvPr/>
        </p:nvPicPr>
        <p:blipFill>
          <a:blip r:embed="rId1"/>
          <a:stretch/>
        </p:blipFill>
        <p:spPr>
          <a:xfrm>
            <a:off x="900000" y="3860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70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раткие справки, дополняющие и уточняющие текст, подстрочные объясняют непонятные мест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2627280" y="2852640"/>
            <a:ext cx="4392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мечан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Picture 5" descr="MCj04282810000[1]"/>
          <p:cNvPicPr/>
          <p:nvPr/>
        </p:nvPicPr>
        <p:blipFill>
          <a:blip r:embed="rId1"/>
          <a:stretch/>
        </p:blipFill>
        <p:spPr>
          <a:xfrm>
            <a:off x="826920" y="4365720"/>
            <a:ext cx="1841760" cy="179712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назад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пециальные термины, использованные в книге, расположенные в алфавитном порядк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1795320" y="2908440"/>
            <a:ext cx="6448680" cy="13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минологический словар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6" descr="MCj04123980000[1]"/>
          <p:cNvPicPr/>
          <p:nvPr/>
        </p:nvPicPr>
        <p:blipFill>
          <a:blip r:embed="rId1"/>
          <a:stretch/>
        </p:blipFill>
        <p:spPr>
          <a:xfrm>
            <a:off x="1187280" y="4508640"/>
            <a:ext cx="2422800" cy="1623960"/>
          </a:xfrm>
          <a:prstGeom prst="rect">
            <a:avLst/>
          </a:prstGeom>
          <a:ln w="0">
            <a:noFill/>
          </a:ln>
        </p:spPr>
      </p:pic>
      <p:sp>
        <p:nvSpPr>
          <p:cNvPr id="178" name="Управляющая кнопка: назад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омогают быстрее отыскать в тексте имена, предметы, географические названия и т.д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1835280" y="2565360"/>
            <a:ext cx="64008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помогательные указател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1" name="Picture 5" descr="MCj04107490000[1]"/>
          <p:cNvPicPr/>
          <p:nvPr/>
        </p:nvPicPr>
        <p:blipFill>
          <a:blip r:embed="rId1"/>
          <a:stretch/>
        </p:blipFill>
        <p:spPr>
          <a:xfrm>
            <a:off x="611280" y="4221000"/>
            <a:ext cx="2087640" cy="202248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назад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еречень имеющихся в наличии предметов, в библиотеке – книг, других издани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"/>
              </a:rPr>
              <a:t>Катало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MCj02371980000[1]"/>
          <p:cNvPicPr/>
          <p:nvPr/>
        </p:nvPicPr>
        <p:blipFill>
          <a:blip r:embed="rId1"/>
          <a:stretch/>
        </p:blipFill>
        <p:spPr>
          <a:xfrm>
            <a:off x="4859280" y="2205000"/>
            <a:ext cx="2600280" cy="365112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Основной вид справочных изданий, содержащий наиболее существенную, изложенную в виде кратких статей информацию в порядке, удобном для быстрого поиск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2637000"/>
            <a:ext cx="80074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Энциклопед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к2"/>
          <p:cNvPicPr/>
          <p:nvPr/>
        </p:nvPicPr>
        <p:blipFill>
          <a:blip r:embed="rId1"/>
          <a:stretch/>
        </p:blipFill>
        <p:spPr>
          <a:xfrm>
            <a:off x="4859280" y="3230640"/>
            <a:ext cx="3997440" cy="2998800"/>
          </a:xfrm>
          <a:prstGeom prst="rect">
            <a:avLst/>
          </a:prstGeom>
          <a:ln w="0">
            <a:noFill/>
          </a:ln>
        </p:spPr>
      </p:pic>
      <p:sp>
        <p:nvSpPr>
          <p:cNvPr id="190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 каком словаре мы узнаем о происхождении сл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В этимологическ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1204459863_2008_02_23_095626"/>
          <p:cNvPicPr/>
          <p:nvPr/>
        </p:nvPicPr>
        <p:blipFill>
          <a:blip r:embed="rId1"/>
          <a:stretch/>
        </p:blipFill>
        <p:spPr>
          <a:xfrm>
            <a:off x="4572000" y="2637000"/>
            <a:ext cx="2457360" cy="38098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акой каталог поможет нам найти книги на определенную тему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Систематиче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katalog1"/>
          <p:cNvPicPr/>
          <p:nvPr/>
        </p:nvPicPr>
        <p:blipFill>
          <a:blip r:embed="rId1"/>
          <a:stretch/>
        </p:blipFill>
        <p:spPr>
          <a:xfrm>
            <a:off x="3203640" y="2997360"/>
            <a:ext cx="3456000" cy="25905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акой словарь объяснит нам, что значит «оставить с носом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Фразеологическ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180493"/>
          <p:cNvPicPr/>
          <p:nvPr/>
        </p:nvPicPr>
        <p:blipFill>
          <a:blip r:embed="rId1"/>
          <a:stretch/>
        </p:blipFill>
        <p:spPr>
          <a:xfrm>
            <a:off x="3708360" y="2852640"/>
            <a:ext cx="2013120" cy="3240360"/>
          </a:xfrm>
          <a:prstGeom prst="rect">
            <a:avLst/>
          </a:prstGeom>
          <a:ln w="0">
            <a:noFill/>
          </a:ln>
        </p:spPr>
      </p:pic>
      <p:sp>
        <p:nvSpPr>
          <p:cNvPr id="202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>
            <a:off x="179280" y="1197000"/>
            <a:ext cx="19447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стория кни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179280" y="2421000"/>
            <a:ext cx="201636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Струк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кни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79280" y="3645000"/>
            <a:ext cx="19447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ои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2268360" y="1197000"/>
            <a:ext cx="104328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3348000" y="1197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427640" y="1197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5508720" y="1197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6588000" y="1197000"/>
            <a:ext cx="104328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7667640" y="1197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234000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341964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7"/>
          <p:cNvSpPr/>
          <p:nvPr/>
        </p:nvSpPr>
        <p:spPr>
          <a:xfrm>
            <a:off x="450072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>
            <a:off x="558000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9"/>
          <p:cNvSpPr/>
          <p:nvPr/>
        </p:nvSpPr>
        <p:spPr>
          <a:xfrm>
            <a:off x="665964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>
            <a:off x="774072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2268360" y="3645000"/>
            <a:ext cx="104328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3348000" y="3645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4427640" y="3645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4"/>
          <p:cNvSpPr/>
          <p:nvPr/>
        </p:nvSpPr>
        <p:spPr>
          <a:xfrm>
            <a:off x="5508720" y="3645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5"/>
          <p:cNvSpPr/>
          <p:nvPr/>
        </p:nvSpPr>
        <p:spPr>
          <a:xfrm>
            <a:off x="6588000" y="3645000"/>
            <a:ext cx="104328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7667640" y="3645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3" descr="MCj01570910000[1]"/>
          <p:cNvPicPr/>
          <p:nvPr/>
        </p:nvPicPr>
        <p:blipFill>
          <a:blip r:embed="rId9"/>
          <a:stretch/>
        </p:blipFill>
        <p:spPr>
          <a:xfrm>
            <a:off x="539640" y="260280"/>
            <a:ext cx="7993080" cy="59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4" descr="MCj01570910000[1]"/>
          <p:cNvPicPr/>
          <p:nvPr/>
        </p:nvPicPr>
        <p:blipFill>
          <a:blip r:embed="rId10"/>
          <a:stretch/>
        </p:blipFill>
        <p:spPr>
          <a:xfrm rot="10800000">
            <a:off x="684000" y="5299920"/>
            <a:ext cx="7993080" cy="59868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далее 24">
            <a:hlinkClick r:id="rId11" action="ppaction://hlinksldjump"/>
          </p:cNvPr>
          <p:cNvSpPr/>
          <p:nvPr/>
        </p:nvSpPr>
        <p:spPr>
          <a:xfrm>
            <a:off x="2928960" y="2500200"/>
            <a:ext cx="357120" cy="9003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360"/>
              <a:gd name="textAreaBottom" fmla="*/ 877320 h 900360"/>
            </a:gdLst>
            <a:ahLst/>
            <a:rect l="textAreaLeft" t="textAreaTop" r="textAreaRight" b="textAreaBottom"/>
            <a:pathLst>
              <a:path w="21600" h="54424">
                <a:moveTo>
                  <a:pt x="0" y="0"/>
                </a:moveTo>
                <a:lnTo>
                  <a:pt x="21600" y="0"/>
                </a:lnTo>
                <a:lnTo>
                  <a:pt x="21600" y="54424"/>
                </a:lnTo>
                <a:lnTo>
                  <a:pt x="0" y="54424"/>
                </a:lnTo>
                <a:close/>
              </a:path>
              <a:path fill="lightenLess" w="21600" h="54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24">
                <a:moveTo>
                  <a:pt x="21600" y="0"/>
                </a:moveTo>
                <a:lnTo>
                  <a:pt x="21600" y="54424"/>
                </a:lnTo>
                <a:lnTo>
                  <a:pt x="20200" y="53024"/>
                </a:lnTo>
                <a:lnTo>
                  <a:pt x="20200" y="1400"/>
                </a:lnTo>
                <a:close/>
              </a:path>
              <a:path fill="darkenLess" w="21600" h="54424">
                <a:moveTo>
                  <a:pt x="21600" y="54424"/>
                </a:moveTo>
                <a:lnTo>
                  <a:pt x="0" y="54424"/>
                </a:lnTo>
                <a:lnTo>
                  <a:pt x="1400" y="53024"/>
                </a:lnTo>
                <a:lnTo>
                  <a:pt x="20200" y="53024"/>
                </a:lnTo>
                <a:close/>
              </a:path>
              <a:path fill="lighten" w="21600" h="54424">
                <a:moveTo>
                  <a:pt x="0" y="54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24"/>
                </a:lnTo>
                <a:close/>
              </a:path>
              <a:path fill="darken" w="21600" h="54424">
                <a:moveTo>
                  <a:pt x="3794" y="20206"/>
                </a:moveTo>
                <a:lnTo>
                  <a:pt x="17806" y="27212"/>
                </a:lnTo>
                <a:lnTo>
                  <a:pt x="3794" y="34219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Управляющая кнопка: далее 25">
            <a:hlinkClick r:id="rId12" action="ppaction://hlinksldjump"/>
          </p:cNvPr>
          <p:cNvSpPr/>
          <p:nvPr/>
        </p:nvSpPr>
        <p:spPr>
          <a:xfrm>
            <a:off x="4071960" y="2500200"/>
            <a:ext cx="357120" cy="8287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828720"/>
              <a:gd name="textAreaBottom" fmla="*/ 805680 h 828720"/>
            </a:gdLst>
            <a:ahLst/>
            <a:rect l="textAreaLeft" t="textAreaTop" r="textAreaRight" b="textAreaBottom"/>
            <a:pathLst>
              <a:path w="21600" h="50095">
                <a:moveTo>
                  <a:pt x="0" y="0"/>
                </a:moveTo>
                <a:lnTo>
                  <a:pt x="21600" y="0"/>
                </a:lnTo>
                <a:lnTo>
                  <a:pt x="21600" y="50095"/>
                </a:lnTo>
                <a:lnTo>
                  <a:pt x="0" y="50095"/>
                </a:lnTo>
                <a:close/>
              </a:path>
              <a:path fill="lightenLess" w="21600" h="50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095">
                <a:moveTo>
                  <a:pt x="21600" y="0"/>
                </a:moveTo>
                <a:lnTo>
                  <a:pt x="21600" y="50095"/>
                </a:lnTo>
                <a:lnTo>
                  <a:pt x="20200" y="48695"/>
                </a:lnTo>
                <a:lnTo>
                  <a:pt x="20200" y="1400"/>
                </a:lnTo>
                <a:close/>
              </a:path>
              <a:path fill="darkenLess" w="21600" h="50095">
                <a:moveTo>
                  <a:pt x="21600" y="50095"/>
                </a:moveTo>
                <a:lnTo>
                  <a:pt x="0" y="50095"/>
                </a:lnTo>
                <a:lnTo>
                  <a:pt x="1400" y="48695"/>
                </a:lnTo>
                <a:lnTo>
                  <a:pt x="20200" y="48695"/>
                </a:lnTo>
                <a:close/>
              </a:path>
              <a:path fill="lighten" w="21600" h="50095">
                <a:moveTo>
                  <a:pt x="0" y="50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48695"/>
                </a:lnTo>
                <a:close/>
              </a:path>
              <a:path fill="darken" w="21600" h="50095">
                <a:moveTo>
                  <a:pt x="3794" y="18041"/>
                </a:moveTo>
                <a:lnTo>
                  <a:pt x="17806" y="25048"/>
                </a:lnTo>
                <a:lnTo>
                  <a:pt x="3794" y="32054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Управляющая кнопка: далее 26">
            <a:hlinkClick r:id="rId13" action="ppaction://hlinksldjump"/>
          </p:cNvPr>
          <p:cNvSpPr/>
          <p:nvPr/>
        </p:nvSpPr>
        <p:spPr>
          <a:xfrm>
            <a:off x="6215040" y="2500200"/>
            <a:ext cx="357120" cy="9003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360"/>
              <a:gd name="textAreaBottom" fmla="*/ 877320 h 900360"/>
            </a:gdLst>
            <a:ahLst/>
            <a:rect l="textAreaLeft" t="textAreaTop" r="textAreaRight" b="textAreaBottom"/>
            <a:pathLst>
              <a:path w="21600" h="54424">
                <a:moveTo>
                  <a:pt x="0" y="0"/>
                </a:moveTo>
                <a:lnTo>
                  <a:pt x="21600" y="0"/>
                </a:lnTo>
                <a:lnTo>
                  <a:pt x="21600" y="54424"/>
                </a:lnTo>
                <a:lnTo>
                  <a:pt x="0" y="54424"/>
                </a:lnTo>
                <a:close/>
              </a:path>
              <a:path fill="lightenLess" w="21600" h="54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24">
                <a:moveTo>
                  <a:pt x="21600" y="0"/>
                </a:moveTo>
                <a:lnTo>
                  <a:pt x="21600" y="54424"/>
                </a:lnTo>
                <a:lnTo>
                  <a:pt x="20200" y="53024"/>
                </a:lnTo>
                <a:lnTo>
                  <a:pt x="20200" y="1400"/>
                </a:lnTo>
                <a:close/>
              </a:path>
              <a:path fill="darkenLess" w="21600" h="54424">
                <a:moveTo>
                  <a:pt x="21600" y="54424"/>
                </a:moveTo>
                <a:lnTo>
                  <a:pt x="0" y="54424"/>
                </a:lnTo>
                <a:lnTo>
                  <a:pt x="1400" y="53024"/>
                </a:lnTo>
                <a:lnTo>
                  <a:pt x="20200" y="53024"/>
                </a:lnTo>
                <a:close/>
              </a:path>
              <a:path fill="lighten" w="21600" h="54424">
                <a:moveTo>
                  <a:pt x="0" y="54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24"/>
                </a:lnTo>
                <a:close/>
              </a:path>
              <a:path fill="darken" w="21600" h="54424">
                <a:moveTo>
                  <a:pt x="3794" y="20206"/>
                </a:moveTo>
                <a:lnTo>
                  <a:pt x="17806" y="27212"/>
                </a:lnTo>
                <a:lnTo>
                  <a:pt x="3794" y="34219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Управляющая кнопка: далее 27">
            <a:hlinkClick r:id="rId14" action="ppaction://hlinksldjump"/>
          </p:cNvPr>
          <p:cNvSpPr/>
          <p:nvPr/>
        </p:nvSpPr>
        <p:spPr>
          <a:xfrm>
            <a:off x="7286760" y="2500200"/>
            <a:ext cx="285480" cy="90036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900360"/>
              <a:gd name="textAreaBottom" fmla="*/ 882000 h 900360"/>
            </a:gdLst>
            <a:ahLst/>
            <a:rect l="textAreaLeft" t="textAreaTop" r="textAreaRight" b="textAreaBottom"/>
            <a:pathLst>
              <a:path w="21600" h="68064">
                <a:moveTo>
                  <a:pt x="0" y="0"/>
                </a:moveTo>
                <a:lnTo>
                  <a:pt x="21600" y="0"/>
                </a:lnTo>
                <a:lnTo>
                  <a:pt x="21600" y="68064"/>
                </a:lnTo>
                <a:lnTo>
                  <a:pt x="0" y="68064"/>
                </a:lnTo>
                <a:close/>
              </a:path>
              <a:path fill="lightenLess" w="21600" h="68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8064">
                <a:moveTo>
                  <a:pt x="21600" y="0"/>
                </a:moveTo>
                <a:lnTo>
                  <a:pt x="21600" y="68064"/>
                </a:lnTo>
                <a:lnTo>
                  <a:pt x="20200" y="66664"/>
                </a:lnTo>
                <a:lnTo>
                  <a:pt x="20200" y="1400"/>
                </a:lnTo>
                <a:close/>
              </a:path>
              <a:path fill="darkenLess" w="21600" h="68064">
                <a:moveTo>
                  <a:pt x="21600" y="68064"/>
                </a:moveTo>
                <a:lnTo>
                  <a:pt x="0" y="68064"/>
                </a:lnTo>
                <a:lnTo>
                  <a:pt x="1400" y="66664"/>
                </a:lnTo>
                <a:lnTo>
                  <a:pt x="20200" y="66664"/>
                </a:lnTo>
                <a:close/>
              </a:path>
              <a:path fill="lighten" w="21600" h="68064">
                <a:moveTo>
                  <a:pt x="0" y="68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66664"/>
                </a:lnTo>
                <a:close/>
              </a:path>
              <a:path fill="darken" w="21600" h="68064">
                <a:moveTo>
                  <a:pt x="3794" y="27026"/>
                </a:moveTo>
                <a:lnTo>
                  <a:pt x="17806" y="34032"/>
                </a:lnTo>
                <a:lnTo>
                  <a:pt x="3794" y="41039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Управляющая кнопка: далее 28">
            <a:hlinkClick r:id="rId15" action="ppaction://hlinksldjump"/>
          </p:cNvPr>
          <p:cNvSpPr/>
          <p:nvPr/>
        </p:nvSpPr>
        <p:spPr>
          <a:xfrm>
            <a:off x="8358120" y="2500200"/>
            <a:ext cx="357120" cy="9003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360"/>
              <a:gd name="textAreaBottom" fmla="*/ 877320 h 900360"/>
            </a:gdLst>
            <a:ahLst/>
            <a:rect l="textAreaLeft" t="textAreaTop" r="textAreaRight" b="textAreaBottom"/>
            <a:pathLst>
              <a:path w="21600" h="54424">
                <a:moveTo>
                  <a:pt x="0" y="0"/>
                </a:moveTo>
                <a:lnTo>
                  <a:pt x="21600" y="0"/>
                </a:lnTo>
                <a:lnTo>
                  <a:pt x="21600" y="54424"/>
                </a:lnTo>
                <a:lnTo>
                  <a:pt x="0" y="54424"/>
                </a:lnTo>
                <a:close/>
              </a:path>
              <a:path fill="lightenLess" w="21600" h="54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24">
                <a:moveTo>
                  <a:pt x="21600" y="0"/>
                </a:moveTo>
                <a:lnTo>
                  <a:pt x="21600" y="54424"/>
                </a:lnTo>
                <a:lnTo>
                  <a:pt x="20200" y="53024"/>
                </a:lnTo>
                <a:lnTo>
                  <a:pt x="20200" y="1400"/>
                </a:lnTo>
                <a:close/>
              </a:path>
              <a:path fill="darkenLess" w="21600" h="54424">
                <a:moveTo>
                  <a:pt x="21600" y="54424"/>
                </a:moveTo>
                <a:lnTo>
                  <a:pt x="0" y="54424"/>
                </a:lnTo>
                <a:lnTo>
                  <a:pt x="1400" y="53024"/>
                </a:lnTo>
                <a:lnTo>
                  <a:pt x="20200" y="53024"/>
                </a:lnTo>
                <a:close/>
              </a:path>
              <a:path fill="lighten" w="21600" h="54424">
                <a:moveTo>
                  <a:pt x="0" y="54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24"/>
                </a:lnTo>
                <a:close/>
              </a:path>
              <a:path fill="darken" w="21600" h="54424">
                <a:moveTo>
                  <a:pt x="3794" y="20206"/>
                </a:moveTo>
                <a:lnTo>
                  <a:pt x="17806" y="27212"/>
                </a:lnTo>
                <a:lnTo>
                  <a:pt x="3794" y="34219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Управляющая кнопка: далее 29">
            <a:hlinkClick r:id="rId16" action="ppaction://hlinksldjump"/>
          </p:cNvPr>
          <p:cNvSpPr/>
          <p:nvPr/>
        </p:nvSpPr>
        <p:spPr>
          <a:xfrm>
            <a:off x="2928960" y="3714840"/>
            <a:ext cx="357120" cy="9000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000"/>
              <a:gd name="textAreaBottom" fmla="*/ 876960 h 900000"/>
            </a:gdLst>
            <a:ahLst/>
            <a:rect l="textAreaLeft" t="textAreaTop" r="textAreaRight" b="textAreaBottom"/>
            <a:pathLst>
              <a:path w="21600" h="54402">
                <a:moveTo>
                  <a:pt x="0" y="0"/>
                </a:moveTo>
                <a:lnTo>
                  <a:pt x="21600" y="0"/>
                </a:lnTo>
                <a:lnTo>
                  <a:pt x="21600" y="54402"/>
                </a:lnTo>
                <a:lnTo>
                  <a:pt x="0" y="54402"/>
                </a:lnTo>
                <a:close/>
              </a:path>
              <a:path fill="lightenLess" w="21600" h="54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02">
                <a:moveTo>
                  <a:pt x="21600" y="0"/>
                </a:moveTo>
                <a:lnTo>
                  <a:pt x="21600" y="54402"/>
                </a:lnTo>
                <a:lnTo>
                  <a:pt x="20200" y="53002"/>
                </a:lnTo>
                <a:lnTo>
                  <a:pt x="20200" y="1400"/>
                </a:lnTo>
                <a:close/>
              </a:path>
              <a:path fill="darkenLess" w="21600" h="54402">
                <a:moveTo>
                  <a:pt x="21600" y="54402"/>
                </a:moveTo>
                <a:lnTo>
                  <a:pt x="0" y="54402"/>
                </a:lnTo>
                <a:lnTo>
                  <a:pt x="1400" y="53002"/>
                </a:lnTo>
                <a:lnTo>
                  <a:pt x="20200" y="53002"/>
                </a:lnTo>
                <a:close/>
              </a:path>
              <a:path fill="lighten" w="21600" h="54402">
                <a:moveTo>
                  <a:pt x="0" y="54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02"/>
                </a:lnTo>
                <a:close/>
              </a:path>
              <a:path fill="darken" w="21600" h="54402">
                <a:moveTo>
                  <a:pt x="3794" y="20195"/>
                </a:moveTo>
                <a:lnTo>
                  <a:pt x="17806" y="27201"/>
                </a:lnTo>
                <a:lnTo>
                  <a:pt x="3794" y="34208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Управляющая кнопка: далее 30">
            <a:hlinkClick r:id="rId17" action="ppaction://hlinksldjump"/>
          </p:cNvPr>
          <p:cNvSpPr/>
          <p:nvPr/>
        </p:nvSpPr>
        <p:spPr>
          <a:xfrm>
            <a:off x="4000680" y="3714840"/>
            <a:ext cx="357120" cy="9000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000"/>
              <a:gd name="textAreaBottom" fmla="*/ 876960 h 900000"/>
            </a:gdLst>
            <a:ahLst/>
            <a:rect l="textAreaLeft" t="textAreaTop" r="textAreaRight" b="textAreaBottom"/>
            <a:pathLst>
              <a:path w="21600" h="54402">
                <a:moveTo>
                  <a:pt x="0" y="0"/>
                </a:moveTo>
                <a:lnTo>
                  <a:pt x="21600" y="0"/>
                </a:lnTo>
                <a:lnTo>
                  <a:pt x="21600" y="54402"/>
                </a:lnTo>
                <a:lnTo>
                  <a:pt x="0" y="54402"/>
                </a:lnTo>
                <a:close/>
              </a:path>
              <a:path fill="lightenLess" w="21600" h="54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02">
                <a:moveTo>
                  <a:pt x="21600" y="0"/>
                </a:moveTo>
                <a:lnTo>
                  <a:pt x="21600" y="54402"/>
                </a:lnTo>
                <a:lnTo>
                  <a:pt x="20200" y="53002"/>
                </a:lnTo>
                <a:lnTo>
                  <a:pt x="20200" y="1400"/>
                </a:lnTo>
                <a:close/>
              </a:path>
              <a:path fill="darkenLess" w="21600" h="54402">
                <a:moveTo>
                  <a:pt x="21600" y="54402"/>
                </a:moveTo>
                <a:lnTo>
                  <a:pt x="0" y="54402"/>
                </a:lnTo>
                <a:lnTo>
                  <a:pt x="1400" y="53002"/>
                </a:lnTo>
                <a:lnTo>
                  <a:pt x="20200" y="53002"/>
                </a:lnTo>
                <a:close/>
              </a:path>
              <a:path fill="lighten" w="21600" h="54402">
                <a:moveTo>
                  <a:pt x="0" y="54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02"/>
                </a:lnTo>
                <a:close/>
              </a:path>
              <a:path fill="darken" w="21600" h="54402">
                <a:moveTo>
                  <a:pt x="3794" y="20195"/>
                </a:moveTo>
                <a:lnTo>
                  <a:pt x="17806" y="27201"/>
                </a:lnTo>
                <a:lnTo>
                  <a:pt x="3794" y="34208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Управляющая кнопка: далее 31">
            <a:hlinkClick r:id="rId18" action="ppaction://hlinksldjump"/>
          </p:cNvPr>
          <p:cNvSpPr/>
          <p:nvPr/>
        </p:nvSpPr>
        <p:spPr>
          <a:xfrm>
            <a:off x="7215120" y="3714840"/>
            <a:ext cx="357120" cy="8287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828720"/>
              <a:gd name="textAreaBottom" fmla="*/ 805680 h 828720"/>
            </a:gdLst>
            <a:ahLst/>
            <a:rect l="textAreaLeft" t="textAreaTop" r="textAreaRight" b="textAreaBottom"/>
            <a:pathLst>
              <a:path w="21600" h="50095">
                <a:moveTo>
                  <a:pt x="0" y="0"/>
                </a:moveTo>
                <a:lnTo>
                  <a:pt x="21600" y="0"/>
                </a:lnTo>
                <a:lnTo>
                  <a:pt x="21600" y="50095"/>
                </a:lnTo>
                <a:lnTo>
                  <a:pt x="0" y="50095"/>
                </a:lnTo>
                <a:close/>
              </a:path>
              <a:path fill="lightenLess" w="21600" h="50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095">
                <a:moveTo>
                  <a:pt x="21600" y="0"/>
                </a:moveTo>
                <a:lnTo>
                  <a:pt x="21600" y="50095"/>
                </a:lnTo>
                <a:lnTo>
                  <a:pt x="20200" y="48695"/>
                </a:lnTo>
                <a:lnTo>
                  <a:pt x="20200" y="1400"/>
                </a:lnTo>
                <a:close/>
              </a:path>
              <a:path fill="darkenLess" w="21600" h="50095">
                <a:moveTo>
                  <a:pt x="21600" y="50095"/>
                </a:moveTo>
                <a:lnTo>
                  <a:pt x="0" y="50095"/>
                </a:lnTo>
                <a:lnTo>
                  <a:pt x="1400" y="48695"/>
                </a:lnTo>
                <a:lnTo>
                  <a:pt x="20200" y="48695"/>
                </a:lnTo>
                <a:close/>
              </a:path>
              <a:path fill="lighten" w="21600" h="50095">
                <a:moveTo>
                  <a:pt x="0" y="50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48695"/>
                </a:lnTo>
                <a:close/>
              </a:path>
              <a:path fill="darken" w="21600" h="50095">
                <a:moveTo>
                  <a:pt x="3794" y="18041"/>
                </a:moveTo>
                <a:lnTo>
                  <a:pt x="17806" y="25048"/>
                </a:lnTo>
                <a:lnTo>
                  <a:pt x="3794" y="32054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Управляющая кнопка: далее 32">
            <a:hlinkClick r:id="rId19" action="ppaction://hlinksldjump"/>
          </p:cNvPr>
          <p:cNvSpPr/>
          <p:nvPr/>
        </p:nvSpPr>
        <p:spPr>
          <a:xfrm>
            <a:off x="8286840" y="3714840"/>
            <a:ext cx="357120" cy="9000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000"/>
              <a:gd name="textAreaBottom" fmla="*/ 876960 h 900000"/>
            </a:gdLst>
            <a:ahLst/>
            <a:rect l="textAreaLeft" t="textAreaTop" r="textAreaRight" b="textAreaBottom"/>
            <a:pathLst>
              <a:path w="21600" h="54402">
                <a:moveTo>
                  <a:pt x="0" y="0"/>
                </a:moveTo>
                <a:lnTo>
                  <a:pt x="21600" y="0"/>
                </a:lnTo>
                <a:lnTo>
                  <a:pt x="21600" y="54402"/>
                </a:lnTo>
                <a:lnTo>
                  <a:pt x="0" y="54402"/>
                </a:lnTo>
                <a:close/>
              </a:path>
              <a:path fill="lightenLess" w="21600" h="54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02">
                <a:moveTo>
                  <a:pt x="21600" y="0"/>
                </a:moveTo>
                <a:lnTo>
                  <a:pt x="21600" y="54402"/>
                </a:lnTo>
                <a:lnTo>
                  <a:pt x="20200" y="53002"/>
                </a:lnTo>
                <a:lnTo>
                  <a:pt x="20200" y="1400"/>
                </a:lnTo>
                <a:close/>
              </a:path>
              <a:path fill="darkenLess" w="21600" h="54402">
                <a:moveTo>
                  <a:pt x="21600" y="54402"/>
                </a:moveTo>
                <a:lnTo>
                  <a:pt x="0" y="54402"/>
                </a:lnTo>
                <a:lnTo>
                  <a:pt x="1400" y="53002"/>
                </a:lnTo>
                <a:lnTo>
                  <a:pt x="20200" y="53002"/>
                </a:lnTo>
                <a:close/>
              </a:path>
              <a:path fill="lighten" w="21600" h="54402">
                <a:moveTo>
                  <a:pt x="0" y="54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02"/>
                </a:lnTo>
                <a:close/>
              </a:path>
              <a:path fill="darken" w="21600" h="54402">
                <a:moveTo>
                  <a:pt x="3794" y="20195"/>
                </a:moveTo>
                <a:lnTo>
                  <a:pt x="17806" y="27201"/>
                </a:lnTo>
                <a:lnTo>
                  <a:pt x="3794" y="34208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Управляющая кнопка: далее 33"/>
          <p:cNvSpPr/>
          <p:nvPr/>
        </p:nvSpPr>
        <p:spPr>
          <a:xfrm>
            <a:off x="5143680" y="2500200"/>
            <a:ext cx="399960" cy="828720"/>
          </a:xfrm>
          <a:custGeom>
            <a:avLst/>
            <a:gdLst>
              <a:gd name="textAreaLeft" fmla="*/ 25920 w 399960"/>
              <a:gd name="textAreaRight" fmla="*/ 374040 w 399960"/>
              <a:gd name="textAreaTop" fmla="*/ 25920 h 828720"/>
              <a:gd name="textAreaBottom" fmla="*/ 802800 h 828720"/>
            </a:gdLst>
            <a:ahLst/>
            <a:rect l="textAreaLeft" t="textAreaTop" r="textAreaRight" b="textAreaBottom"/>
            <a:pathLst>
              <a:path w="21600" h="44735">
                <a:moveTo>
                  <a:pt x="0" y="0"/>
                </a:moveTo>
                <a:lnTo>
                  <a:pt x="21600" y="0"/>
                </a:lnTo>
                <a:lnTo>
                  <a:pt x="21600" y="44735"/>
                </a:lnTo>
                <a:lnTo>
                  <a:pt x="0" y="44735"/>
                </a:lnTo>
                <a:close/>
              </a:path>
              <a:path fill="lightenLess" w="21600" h="44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4735">
                <a:moveTo>
                  <a:pt x="21600" y="0"/>
                </a:moveTo>
                <a:lnTo>
                  <a:pt x="21600" y="44735"/>
                </a:lnTo>
                <a:lnTo>
                  <a:pt x="20200" y="43335"/>
                </a:lnTo>
                <a:lnTo>
                  <a:pt x="20200" y="1400"/>
                </a:lnTo>
                <a:close/>
              </a:path>
              <a:path fill="darkenLess" w="21600" h="44735">
                <a:moveTo>
                  <a:pt x="21600" y="44735"/>
                </a:moveTo>
                <a:lnTo>
                  <a:pt x="0" y="44735"/>
                </a:lnTo>
                <a:lnTo>
                  <a:pt x="1400" y="43335"/>
                </a:lnTo>
                <a:lnTo>
                  <a:pt x="20200" y="43335"/>
                </a:lnTo>
                <a:close/>
              </a:path>
              <a:path fill="lighten" w="21600" h="44735">
                <a:moveTo>
                  <a:pt x="0" y="44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43335"/>
                </a:lnTo>
                <a:close/>
              </a:path>
              <a:path fill="darken" w="21600" h="44735">
                <a:moveTo>
                  <a:pt x="3794" y="15361"/>
                </a:moveTo>
                <a:lnTo>
                  <a:pt x="17806" y="22367"/>
                </a:lnTo>
                <a:lnTo>
                  <a:pt x="3794" y="29374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Управляющая кнопка: далее 34"/>
          <p:cNvSpPr/>
          <p:nvPr/>
        </p:nvSpPr>
        <p:spPr>
          <a:xfrm>
            <a:off x="8501040" y="62150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нига, которая содержит список книг или других источников информации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Библиографический указа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427384"/>
          <p:cNvPicPr/>
          <p:nvPr/>
        </p:nvPicPr>
        <p:blipFill>
          <a:blip r:embed="rId1"/>
          <a:stretch/>
        </p:blipFill>
        <p:spPr>
          <a:xfrm>
            <a:off x="6156360" y="2852640"/>
            <a:ext cx="2365200" cy="3057480"/>
          </a:xfrm>
          <a:prstGeom prst="rect">
            <a:avLst/>
          </a:prstGeom>
          <a:ln w="0">
            <a:noFill/>
          </a:ln>
        </p:spPr>
      </p:pic>
      <p:sp>
        <p:nvSpPr>
          <p:cNvPr id="206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1258920" y="2708280"/>
            <a:ext cx="66261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8" name="Picture 5" descr="MCj04281050000[1]"/>
          <p:cNvPicPr/>
          <p:nvPr/>
        </p:nvPicPr>
        <p:blipFill>
          <a:blip r:embed="rId1"/>
          <a:stretch/>
        </p:blipFill>
        <p:spPr>
          <a:xfrm>
            <a:off x="5076720" y="476280"/>
            <a:ext cx="1936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к выглядели книги древних египтян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Свит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MCj01941020000[1]"/>
          <p:cNvPicPr/>
          <p:nvPr/>
        </p:nvPicPr>
        <p:blipFill>
          <a:blip r:embed="rId1"/>
          <a:stretch/>
        </p:blipFill>
        <p:spPr>
          <a:xfrm>
            <a:off x="3564000" y="2205000"/>
            <a:ext cx="4224240" cy="46530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/>
          <p:cNvSpPr/>
          <p:nvPr/>
        </p:nvSpPr>
        <p:spPr>
          <a:xfrm>
            <a:off x="755640" y="609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к называется форма современной кни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"/>
              </a:rPr>
              <a:t>Кодек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MCj04326450000[1]"/>
          <p:cNvPicPr/>
          <p:nvPr/>
        </p:nvPicPr>
        <p:blipFill>
          <a:blip r:embed="rId1"/>
          <a:stretch/>
        </p:blipFill>
        <p:spPr>
          <a:xfrm>
            <a:off x="3714840" y="257184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зовите создателей славянской азбу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Кирилл и Мефод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2458800" cy="273708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цевые картинки в древних рукопися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"/>
              </a:rPr>
              <a:t>Миниатю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3635280" y="2781360"/>
            <a:ext cx="2459160" cy="273528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сковая дощечка для пись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"/>
              </a:rPr>
              <a:t>Це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008"/>
          <p:cNvPicPr/>
          <p:nvPr/>
        </p:nvPicPr>
        <p:blipFill>
          <a:blip r:embed="rId1"/>
          <a:stretch/>
        </p:blipFill>
        <p:spPr>
          <a:xfrm>
            <a:off x="3348000" y="2708280"/>
            <a:ext cx="3024360" cy="28926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каком веке жил Иоганн Гуттенберг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В 15 век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211640" y="2708280"/>
            <a:ext cx="2589120" cy="28814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Лист, соединяющий переплет с книжным блоко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"/>
              </a:rPr>
              <a:t>Форза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95anekdot2"/>
          <p:cNvPicPr/>
          <p:nvPr/>
        </p:nvPicPr>
        <p:blipFill>
          <a:blip r:embed="rId1"/>
          <a:stretch/>
        </p:blipFill>
        <p:spPr>
          <a:xfrm>
            <a:off x="3780000" y="2492280"/>
            <a:ext cx="4214520" cy="3287880"/>
          </a:xfrm>
          <a:prstGeom prst="rect">
            <a:avLst/>
          </a:prstGeom>
          <a:ln w="0">
            <a:noFill/>
          </a:ln>
        </p:spPr>
      </p:pic>
      <p:sp>
        <p:nvSpPr>
          <p:cNvPr id="162" name="Управляющая кнопка: назад 4"/>
          <p:cNvSpPr/>
          <p:nvPr/>
        </p:nvSpPr>
        <p:spPr>
          <a:xfrm>
            <a:off x="8215200" y="5857920"/>
            <a:ext cx="928800" cy="100008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1000080"/>
              <a:gd name="textAreaBottom" fmla="*/ 939960 h 1000080"/>
            </a:gdLst>
            <a:ahLst/>
            <a:rect l="textAreaLeft" t="textAreaTop" r="textAreaRight" b="textAreaBottom"/>
            <a:pathLst>
              <a:path w="21600" h="23257">
                <a:moveTo>
                  <a:pt x="0" y="0"/>
                </a:moveTo>
                <a:lnTo>
                  <a:pt x="21600" y="0"/>
                </a:lnTo>
                <a:lnTo>
                  <a:pt x="21600" y="23257"/>
                </a:lnTo>
                <a:lnTo>
                  <a:pt x="0" y="23257"/>
                </a:lnTo>
                <a:close/>
              </a:path>
              <a:path fill="lightenLess" w="21600" h="232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7">
                <a:moveTo>
                  <a:pt x="21600" y="0"/>
                </a:moveTo>
                <a:lnTo>
                  <a:pt x="21600" y="23257"/>
                </a:lnTo>
                <a:lnTo>
                  <a:pt x="20200" y="21857"/>
                </a:lnTo>
                <a:lnTo>
                  <a:pt x="20200" y="1400"/>
                </a:lnTo>
                <a:close/>
              </a:path>
              <a:path fill="darkenLess" w="21600" h="23257">
                <a:moveTo>
                  <a:pt x="21600" y="23257"/>
                </a:moveTo>
                <a:lnTo>
                  <a:pt x="0" y="23257"/>
                </a:lnTo>
                <a:lnTo>
                  <a:pt x="1400" y="21857"/>
                </a:lnTo>
                <a:lnTo>
                  <a:pt x="20200" y="21857"/>
                </a:lnTo>
                <a:close/>
              </a:path>
              <a:path fill="lighten" w="21600" h="23257">
                <a:moveTo>
                  <a:pt x="0" y="232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7"/>
                </a:lnTo>
                <a:close/>
              </a:path>
              <a:path fill="darken" w="21600" h="23257">
                <a:moveTo>
                  <a:pt x="3794" y="11629"/>
                </a:moveTo>
                <a:lnTo>
                  <a:pt x="17806" y="4622"/>
                </a:lnTo>
                <a:lnTo>
                  <a:pt x="17806" y="18635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3:28:01Z</dcterms:created>
  <dc:creator>Светлана Юрьевна</dc:creator>
  <dc:description/>
  <dc:language>en-US</dc:language>
  <cp:lastModifiedBy>Admin</cp:lastModifiedBy>
  <dcterms:modified xsi:type="dcterms:W3CDTF">2010-02-09T17:45:33Z</dcterms:modified>
  <cp:revision>15</cp:revision>
  <dc:subject/>
  <dc:title>Библиографический калейдоскоп</dc:title>
</cp:coreProperties>
</file>