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17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10.wmf" ContentType="image/x-wmf"/>
  <Override PartName="/ppt/media/image7.jpeg" ContentType="image/jpeg"/>
  <Override PartName="/ppt/media/image20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5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356-CF4F-4EBB-B355-07D52230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548-3EBB-4E1C-B6A3-6279CFD0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56A-4827-4950-932E-6A13AE19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694-346B-47F2-B14D-B8B61252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BEC4-0175-4D13-94B0-8C1C7167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9A6B-481D-48C4-AE84-282C1534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9AB9-C232-449C-808A-E5388BB3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57F3-8E01-4131-9E4B-FEB6EE8D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4B02-388C-485B-A89C-5153921E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0529-2864-46D4-8964-A0F3365F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D61C-5D1C-42EA-AA82-15127B75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162-275E-497F-90AF-E24D85D8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9D50-1EA1-4EC6-A823-BDE5F2D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41B3-6092-43D2-803D-30E3B3F3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F838-2AE5-4B9A-8E05-216DCC3F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ED0B-498A-41ED-9C54-771BE966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53D1-6F4A-4AE3-BAFD-7020A604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17A-936F-4BB2-A136-2A19A10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C67-EAF8-4EE9-8DB8-A10CCA5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668-7254-4EF4-9AA5-842B12E8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68D-7C6E-4013-81EC-5A34AE8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172-FD5C-44BE-8457-3A951CD4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901-8AC1-4820-B1C5-3C4C5BC4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6B6-3823-4AD7-84FD-24EAA33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989A-BBBC-4245-B0C3-D5E5E07BD2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9AE9-3707-45A1-8857-B98B352EE7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905120"/>
            <a:ext cx="836784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Библиографический калейдоскоп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гра для 5-6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MCj04281130000[1]"/>
          <p:cNvPicPr/>
          <p:nvPr/>
        </p:nvPicPr>
        <p:blipFill>
          <a:blip r:embed="rId1"/>
          <a:stretch/>
        </p:blipFill>
        <p:spPr>
          <a:xfrm>
            <a:off x="214200" y="0"/>
            <a:ext cx="15224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водный текст, который предваряет изложение основного материал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2627280" y="2708280"/>
            <a:ext cx="4321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ислови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5" name="Picture 5" descr="MCj04300490000[1]"/>
          <p:cNvPicPr/>
          <p:nvPr/>
        </p:nvPicPr>
        <p:blipFill>
          <a:blip r:embed="rId1"/>
          <a:stretch/>
        </p:blipFill>
        <p:spPr>
          <a:xfrm>
            <a:off x="6516720" y="4581360"/>
            <a:ext cx="2232000" cy="1760760"/>
          </a:xfrm>
          <a:prstGeom prst="rect">
            <a:avLst/>
          </a:prstGeom>
          <a:ln w="0">
            <a:noFill/>
          </a:ln>
        </p:spPr>
      </p:pic>
      <p:sp>
        <p:nvSpPr>
          <p:cNvPr id="166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Часть справочного аппарата, в которой дается краткая характеристика издания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2771640" y="278136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ннота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9" name="Picture 6" descr="j0299125"/>
          <p:cNvPicPr/>
          <p:nvPr/>
        </p:nvPicPr>
        <p:blipFill>
          <a:blip r:embed="rId1"/>
          <a:stretch/>
        </p:blipFill>
        <p:spPr>
          <a:xfrm>
            <a:off x="900000" y="3860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70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раткие справки, дополняющие и уточняющие текст, подстрочные объясняют непонятные мест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2627280" y="2852640"/>
            <a:ext cx="4392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мечан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Picture 5" descr="MCj04282810000[1]"/>
          <p:cNvPicPr/>
          <p:nvPr/>
        </p:nvPicPr>
        <p:blipFill>
          <a:blip r:embed="rId1"/>
          <a:stretch/>
        </p:blipFill>
        <p:spPr>
          <a:xfrm>
            <a:off x="826920" y="4365720"/>
            <a:ext cx="1841760" cy="1797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Специальные термины, использованные в книге, расположенные в алфавитном порядк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1795320" y="2908440"/>
            <a:ext cx="6448680" cy="13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минологический словар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Picture 6" descr="MCj04123980000[1]"/>
          <p:cNvPicPr/>
          <p:nvPr/>
        </p:nvPicPr>
        <p:blipFill>
          <a:blip r:embed="rId1"/>
          <a:stretch/>
        </p:blipFill>
        <p:spPr>
          <a:xfrm>
            <a:off x="1187280" y="4508640"/>
            <a:ext cx="2422800" cy="1623960"/>
          </a:xfrm>
          <a:prstGeom prst="rect">
            <a:avLst/>
          </a:prstGeom>
          <a:ln w="0">
            <a:noFill/>
          </a:ln>
        </p:spPr>
      </p:pic>
      <p:sp>
        <p:nvSpPr>
          <p:cNvPr id="178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омогают быстрее отыскать в тексте имена, предметы, географические названия и т.д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WordArt 4"/>
          <p:cNvSpPr txBox="1"/>
          <p:nvPr/>
        </p:nvSpPr>
        <p:spPr>
          <a:xfrm>
            <a:off x="1835280" y="2565360"/>
            <a:ext cx="64008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помогательные указател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1" name="Picture 5" descr="MCj04107490000[1]"/>
          <p:cNvPicPr/>
          <p:nvPr/>
        </p:nvPicPr>
        <p:blipFill>
          <a:blip r:embed="rId1"/>
          <a:stretch/>
        </p:blipFill>
        <p:spPr>
          <a:xfrm>
            <a:off x="611280" y="4221000"/>
            <a:ext cx="2087640" cy="202248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назад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еречень имеющихся в наличии предметов, в библиотеке – книг, других издани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Катало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MCj02371980000[1]"/>
          <p:cNvPicPr/>
          <p:nvPr/>
        </p:nvPicPr>
        <p:blipFill>
          <a:blip r:embed="rId1"/>
          <a:stretch/>
        </p:blipFill>
        <p:spPr>
          <a:xfrm>
            <a:off x="4859280" y="2205000"/>
            <a:ext cx="2600280" cy="365112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Основной вид справочных изданий, содержащий наиболее существенную, изложенную в виде кратких статей информацию в порядке, удобном для быстрого поиска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2637000"/>
            <a:ext cx="80074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Энциклопед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к2"/>
          <p:cNvPicPr/>
          <p:nvPr/>
        </p:nvPicPr>
        <p:blipFill>
          <a:blip r:embed="rId1"/>
          <a:stretch/>
        </p:blipFill>
        <p:spPr>
          <a:xfrm>
            <a:off x="4859280" y="3230640"/>
            <a:ext cx="3997440" cy="299880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 каком словаре мы узнаем о происхождении слов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В этимологическ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1204459863_2008_02_23_095626"/>
          <p:cNvPicPr/>
          <p:nvPr/>
        </p:nvPicPr>
        <p:blipFill>
          <a:blip r:embed="rId1"/>
          <a:stretch/>
        </p:blipFill>
        <p:spPr>
          <a:xfrm>
            <a:off x="4572000" y="2637000"/>
            <a:ext cx="245736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акой каталог поможет нам найти книги на определенную тему?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"/>
              </a:rPr>
              <a:t>Систематическ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4" descr="katalog1"/>
          <p:cNvPicPr/>
          <p:nvPr/>
        </p:nvPicPr>
        <p:blipFill>
          <a:blip r:embed="rId1"/>
          <a:stretch/>
        </p:blipFill>
        <p:spPr>
          <a:xfrm>
            <a:off x="3203640" y="299736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акой словарь объяснит нам, что значит «оставить с носом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Фразеологиче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4" descr="180493"/>
          <p:cNvPicPr/>
          <p:nvPr/>
        </p:nvPicPr>
        <p:blipFill>
          <a:blip r:embed="rId1"/>
          <a:stretch/>
        </p:blipFill>
        <p:spPr>
          <a:xfrm>
            <a:off x="3708360" y="2852640"/>
            <a:ext cx="2013120" cy="324036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5"/>
          <p:cNvSpPr/>
          <p:nvPr/>
        </p:nvSpPr>
        <p:spPr>
          <a:xfrm>
            <a:off x="179280" y="1197000"/>
            <a:ext cx="19447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стория кни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79280" y="2421000"/>
            <a:ext cx="201636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Струк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кни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79280" y="3645000"/>
            <a:ext cx="19447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ои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2268360" y="1197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334800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42764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550872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6588000" y="1197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7667640" y="1197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234000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341964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>
            <a:off x="450072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>
            <a:off x="558000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>
            <a:off x="665964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>
            <a:off x="7740720" y="2421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>
            <a:off x="2268360" y="3645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334800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442764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 action="ppaction://hlinksldjump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4"/>
          <p:cNvSpPr/>
          <p:nvPr/>
        </p:nvSpPr>
        <p:spPr>
          <a:xfrm>
            <a:off x="550872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 action="ppaction://hlinksldjump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6588000" y="3645000"/>
            <a:ext cx="104328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7667640" y="3645000"/>
            <a:ext cx="1042920" cy="10429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3" descr="MCj01570910000[1]"/>
          <p:cNvPicPr/>
          <p:nvPr/>
        </p:nvPicPr>
        <p:blipFill>
          <a:blip r:embed="rId9"/>
          <a:stretch/>
        </p:blipFill>
        <p:spPr>
          <a:xfrm>
            <a:off x="539640" y="260280"/>
            <a:ext cx="7993080" cy="59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4" descr="MCj01570910000[1]"/>
          <p:cNvPicPr/>
          <p:nvPr/>
        </p:nvPicPr>
        <p:blipFill>
          <a:blip r:embed="rId10"/>
          <a:stretch/>
        </p:blipFill>
        <p:spPr>
          <a:xfrm rot="10800000">
            <a:off x="684000" y="5299920"/>
            <a:ext cx="7993080" cy="59868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далее 24">
            <a:hlinkClick r:id="rId11" action="ppaction://hlinksldjump"/>
          </p:cNvPr>
          <p:cNvSpPr/>
          <p:nvPr/>
        </p:nvSpPr>
        <p:spPr>
          <a:xfrm>
            <a:off x="2928960" y="2500200"/>
            <a:ext cx="357120" cy="9003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360"/>
              <a:gd name="textAreaBottom" fmla="*/ 877320 h 900360"/>
            </a:gdLst>
            <a:ahLst/>
            <a:rect l="textAreaLeft" t="textAreaTop" r="textAreaRight" b="textAreaBottom"/>
            <a:pathLst>
              <a:path w="21600" h="54424">
                <a:moveTo>
                  <a:pt x="0" y="0"/>
                </a:moveTo>
                <a:lnTo>
                  <a:pt x="21600" y="0"/>
                </a:lnTo>
                <a:lnTo>
                  <a:pt x="21600" y="54424"/>
                </a:lnTo>
                <a:lnTo>
                  <a:pt x="0" y="54424"/>
                </a:lnTo>
                <a:close/>
              </a:path>
              <a:path fill="lightenLess" w="21600" h="54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24">
                <a:moveTo>
                  <a:pt x="21600" y="0"/>
                </a:moveTo>
                <a:lnTo>
                  <a:pt x="21600" y="54424"/>
                </a:lnTo>
                <a:lnTo>
                  <a:pt x="20200" y="53024"/>
                </a:lnTo>
                <a:lnTo>
                  <a:pt x="20200" y="1400"/>
                </a:lnTo>
                <a:close/>
              </a:path>
              <a:path fill="darkenLess" w="21600" h="54424">
                <a:moveTo>
                  <a:pt x="21600" y="54424"/>
                </a:moveTo>
                <a:lnTo>
                  <a:pt x="0" y="54424"/>
                </a:lnTo>
                <a:lnTo>
                  <a:pt x="1400" y="53024"/>
                </a:lnTo>
                <a:lnTo>
                  <a:pt x="20200" y="53024"/>
                </a:lnTo>
                <a:close/>
              </a:path>
              <a:path fill="lighten" w="21600" h="54424">
                <a:moveTo>
                  <a:pt x="0" y="54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24"/>
                </a:lnTo>
                <a:close/>
              </a:path>
              <a:path fill="darken" w="21600" h="54424">
                <a:moveTo>
                  <a:pt x="3794" y="20206"/>
                </a:moveTo>
                <a:lnTo>
                  <a:pt x="17806" y="27212"/>
                </a:lnTo>
                <a:lnTo>
                  <a:pt x="3794" y="3421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Управляющая кнопка: далее 25">
            <a:hlinkClick r:id="rId12" action="ppaction://hlinksldjump"/>
          </p:cNvPr>
          <p:cNvSpPr/>
          <p:nvPr/>
        </p:nvSpPr>
        <p:spPr>
          <a:xfrm>
            <a:off x="4071960" y="2500200"/>
            <a:ext cx="357120" cy="8287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828720"/>
              <a:gd name="textAreaBottom" fmla="*/ 805680 h 828720"/>
            </a:gdLst>
            <a:ahLst/>
            <a:rect l="textAreaLeft" t="textAreaTop" r="textAreaRight" b="textAreaBottom"/>
            <a:pathLst>
              <a:path w="21600" h="50095">
                <a:moveTo>
                  <a:pt x="0" y="0"/>
                </a:moveTo>
                <a:lnTo>
                  <a:pt x="21600" y="0"/>
                </a:lnTo>
                <a:lnTo>
                  <a:pt x="21600" y="50095"/>
                </a:lnTo>
                <a:lnTo>
                  <a:pt x="0" y="50095"/>
                </a:lnTo>
                <a:close/>
              </a:path>
              <a:path fill="lightenLess" w="21600" h="50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095">
                <a:moveTo>
                  <a:pt x="21600" y="0"/>
                </a:moveTo>
                <a:lnTo>
                  <a:pt x="21600" y="50095"/>
                </a:lnTo>
                <a:lnTo>
                  <a:pt x="20200" y="48695"/>
                </a:lnTo>
                <a:lnTo>
                  <a:pt x="20200" y="1400"/>
                </a:lnTo>
                <a:close/>
              </a:path>
              <a:path fill="darkenLess" w="21600" h="50095">
                <a:moveTo>
                  <a:pt x="21600" y="50095"/>
                </a:moveTo>
                <a:lnTo>
                  <a:pt x="0" y="50095"/>
                </a:lnTo>
                <a:lnTo>
                  <a:pt x="1400" y="48695"/>
                </a:lnTo>
                <a:lnTo>
                  <a:pt x="20200" y="48695"/>
                </a:lnTo>
                <a:close/>
              </a:path>
              <a:path fill="lighten" w="21600" h="50095">
                <a:moveTo>
                  <a:pt x="0" y="50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48695"/>
                </a:lnTo>
                <a:close/>
              </a:path>
              <a:path fill="darken" w="21600" h="50095">
                <a:moveTo>
                  <a:pt x="3794" y="18041"/>
                </a:moveTo>
                <a:lnTo>
                  <a:pt x="17806" y="25048"/>
                </a:lnTo>
                <a:lnTo>
                  <a:pt x="3794" y="32054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Управляющая кнопка: далее 26">
            <a:hlinkClick r:id="rId13" action="ppaction://hlinksldjump"/>
          </p:cNvPr>
          <p:cNvSpPr/>
          <p:nvPr/>
        </p:nvSpPr>
        <p:spPr>
          <a:xfrm>
            <a:off x="6215040" y="2500200"/>
            <a:ext cx="357120" cy="9003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360"/>
              <a:gd name="textAreaBottom" fmla="*/ 877320 h 900360"/>
            </a:gdLst>
            <a:ahLst/>
            <a:rect l="textAreaLeft" t="textAreaTop" r="textAreaRight" b="textAreaBottom"/>
            <a:pathLst>
              <a:path w="21600" h="54424">
                <a:moveTo>
                  <a:pt x="0" y="0"/>
                </a:moveTo>
                <a:lnTo>
                  <a:pt x="21600" y="0"/>
                </a:lnTo>
                <a:lnTo>
                  <a:pt x="21600" y="54424"/>
                </a:lnTo>
                <a:lnTo>
                  <a:pt x="0" y="54424"/>
                </a:lnTo>
                <a:close/>
              </a:path>
              <a:path fill="lightenLess" w="21600" h="54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24">
                <a:moveTo>
                  <a:pt x="21600" y="0"/>
                </a:moveTo>
                <a:lnTo>
                  <a:pt x="21600" y="54424"/>
                </a:lnTo>
                <a:lnTo>
                  <a:pt x="20200" y="53024"/>
                </a:lnTo>
                <a:lnTo>
                  <a:pt x="20200" y="1400"/>
                </a:lnTo>
                <a:close/>
              </a:path>
              <a:path fill="darkenLess" w="21600" h="54424">
                <a:moveTo>
                  <a:pt x="21600" y="54424"/>
                </a:moveTo>
                <a:lnTo>
                  <a:pt x="0" y="54424"/>
                </a:lnTo>
                <a:lnTo>
                  <a:pt x="1400" y="53024"/>
                </a:lnTo>
                <a:lnTo>
                  <a:pt x="20200" y="53024"/>
                </a:lnTo>
                <a:close/>
              </a:path>
              <a:path fill="lighten" w="21600" h="54424">
                <a:moveTo>
                  <a:pt x="0" y="54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24"/>
                </a:lnTo>
                <a:close/>
              </a:path>
              <a:path fill="darken" w="21600" h="54424">
                <a:moveTo>
                  <a:pt x="3794" y="20206"/>
                </a:moveTo>
                <a:lnTo>
                  <a:pt x="17806" y="27212"/>
                </a:lnTo>
                <a:lnTo>
                  <a:pt x="3794" y="3421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Управляющая кнопка: далее 27">
            <a:hlinkClick r:id="rId14" action="ppaction://hlinksldjump"/>
          </p:cNvPr>
          <p:cNvSpPr/>
          <p:nvPr/>
        </p:nvSpPr>
        <p:spPr>
          <a:xfrm>
            <a:off x="7286760" y="2500200"/>
            <a:ext cx="285480" cy="90036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900360"/>
              <a:gd name="textAreaBottom" fmla="*/ 882000 h 900360"/>
            </a:gdLst>
            <a:ahLst/>
            <a:rect l="textAreaLeft" t="textAreaTop" r="textAreaRight" b="textAreaBottom"/>
            <a:pathLst>
              <a:path w="21600" h="68064">
                <a:moveTo>
                  <a:pt x="0" y="0"/>
                </a:moveTo>
                <a:lnTo>
                  <a:pt x="21600" y="0"/>
                </a:lnTo>
                <a:lnTo>
                  <a:pt x="21600" y="68064"/>
                </a:lnTo>
                <a:lnTo>
                  <a:pt x="0" y="68064"/>
                </a:lnTo>
                <a:close/>
              </a:path>
              <a:path fill="lightenLess" w="21600" h="68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68064">
                <a:moveTo>
                  <a:pt x="21600" y="0"/>
                </a:moveTo>
                <a:lnTo>
                  <a:pt x="21600" y="68064"/>
                </a:lnTo>
                <a:lnTo>
                  <a:pt x="20200" y="66664"/>
                </a:lnTo>
                <a:lnTo>
                  <a:pt x="20200" y="1400"/>
                </a:lnTo>
                <a:close/>
              </a:path>
              <a:path fill="darkenLess" w="21600" h="68064">
                <a:moveTo>
                  <a:pt x="21600" y="68064"/>
                </a:moveTo>
                <a:lnTo>
                  <a:pt x="0" y="68064"/>
                </a:lnTo>
                <a:lnTo>
                  <a:pt x="1400" y="66664"/>
                </a:lnTo>
                <a:lnTo>
                  <a:pt x="20200" y="66664"/>
                </a:lnTo>
                <a:close/>
              </a:path>
              <a:path fill="lighten" w="21600" h="68064">
                <a:moveTo>
                  <a:pt x="0" y="68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66664"/>
                </a:lnTo>
                <a:close/>
              </a:path>
              <a:path fill="darken" w="21600" h="68064">
                <a:moveTo>
                  <a:pt x="3794" y="27026"/>
                </a:moveTo>
                <a:lnTo>
                  <a:pt x="17806" y="34032"/>
                </a:lnTo>
                <a:lnTo>
                  <a:pt x="3794" y="4103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Управляющая кнопка: далее 28">
            <a:hlinkClick r:id="rId15" action="ppaction://hlinksldjump"/>
          </p:cNvPr>
          <p:cNvSpPr/>
          <p:nvPr/>
        </p:nvSpPr>
        <p:spPr>
          <a:xfrm>
            <a:off x="8358120" y="2500200"/>
            <a:ext cx="357120" cy="90036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360"/>
              <a:gd name="textAreaBottom" fmla="*/ 877320 h 900360"/>
            </a:gdLst>
            <a:ahLst/>
            <a:rect l="textAreaLeft" t="textAreaTop" r="textAreaRight" b="textAreaBottom"/>
            <a:pathLst>
              <a:path w="21600" h="54424">
                <a:moveTo>
                  <a:pt x="0" y="0"/>
                </a:moveTo>
                <a:lnTo>
                  <a:pt x="21600" y="0"/>
                </a:lnTo>
                <a:lnTo>
                  <a:pt x="21600" y="54424"/>
                </a:lnTo>
                <a:lnTo>
                  <a:pt x="0" y="54424"/>
                </a:lnTo>
                <a:close/>
              </a:path>
              <a:path fill="lightenLess" w="21600" h="544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24">
                <a:moveTo>
                  <a:pt x="21600" y="0"/>
                </a:moveTo>
                <a:lnTo>
                  <a:pt x="21600" y="54424"/>
                </a:lnTo>
                <a:lnTo>
                  <a:pt x="20200" y="53024"/>
                </a:lnTo>
                <a:lnTo>
                  <a:pt x="20200" y="1400"/>
                </a:lnTo>
                <a:close/>
              </a:path>
              <a:path fill="darkenLess" w="21600" h="54424">
                <a:moveTo>
                  <a:pt x="21600" y="54424"/>
                </a:moveTo>
                <a:lnTo>
                  <a:pt x="0" y="54424"/>
                </a:lnTo>
                <a:lnTo>
                  <a:pt x="1400" y="53024"/>
                </a:lnTo>
                <a:lnTo>
                  <a:pt x="20200" y="53024"/>
                </a:lnTo>
                <a:close/>
              </a:path>
              <a:path fill="lighten" w="21600" h="54424">
                <a:moveTo>
                  <a:pt x="0" y="54424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24"/>
                </a:lnTo>
                <a:close/>
              </a:path>
              <a:path fill="darken" w="21600" h="54424">
                <a:moveTo>
                  <a:pt x="3794" y="20206"/>
                </a:moveTo>
                <a:lnTo>
                  <a:pt x="17806" y="27212"/>
                </a:lnTo>
                <a:lnTo>
                  <a:pt x="3794" y="34219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Управляющая кнопка: далее 29">
            <a:hlinkClick r:id="rId16" action="ppaction://hlinksldjump"/>
          </p:cNvPr>
          <p:cNvSpPr/>
          <p:nvPr/>
        </p:nvSpPr>
        <p:spPr>
          <a:xfrm>
            <a:off x="2928960" y="3714840"/>
            <a:ext cx="357120" cy="9000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000"/>
              <a:gd name="textAreaBottom" fmla="*/ 876960 h 900000"/>
            </a:gdLst>
            <a:ahLst/>
            <a:rect l="textAreaLeft" t="textAreaTop" r="textAreaRight" b="textAreaBottom"/>
            <a:pathLst>
              <a:path w="21600" h="54402">
                <a:moveTo>
                  <a:pt x="0" y="0"/>
                </a:moveTo>
                <a:lnTo>
                  <a:pt x="21600" y="0"/>
                </a:lnTo>
                <a:lnTo>
                  <a:pt x="21600" y="54402"/>
                </a:lnTo>
                <a:lnTo>
                  <a:pt x="0" y="54402"/>
                </a:lnTo>
                <a:close/>
              </a:path>
              <a:path fill="lightenLess" w="21600" h="54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02">
                <a:moveTo>
                  <a:pt x="21600" y="0"/>
                </a:moveTo>
                <a:lnTo>
                  <a:pt x="21600" y="54402"/>
                </a:lnTo>
                <a:lnTo>
                  <a:pt x="20200" y="53002"/>
                </a:lnTo>
                <a:lnTo>
                  <a:pt x="20200" y="1400"/>
                </a:lnTo>
                <a:close/>
              </a:path>
              <a:path fill="darkenLess" w="21600" h="54402">
                <a:moveTo>
                  <a:pt x="21600" y="54402"/>
                </a:moveTo>
                <a:lnTo>
                  <a:pt x="0" y="54402"/>
                </a:lnTo>
                <a:lnTo>
                  <a:pt x="1400" y="53002"/>
                </a:lnTo>
                <a:lnTo>
                  <a:pt x="20200" y="53002"/>
                </a:lnTo>
                <a:close/>
              </a:path>
              <a:path fill="lighten" w="21600" h="54402">
                <a:moveTo>
                  <a:pt x="0" y="54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02"/>
                </a:lnTo>
                <a:close/>
              </a:path>
              <a:path fill="darken" w="21600" h="54402">
                <a:moveTo>
                  <a:pt x="3794" y="20195"/>
                </a:moveTo>
                <a:lnTo>
                  <a:pt x="17806" y="27201"/>
                </a:lnTo>
                <a:lnTo>
                  <a:pt x="3794" y="34208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Управляющая кнопка: далее 30">
            <a:hlinkClick r:id="rId17" action="ppaction://hlinksldjump"/>
          </p:cNvPr>
          <p:cNvSpPr/>
          <p:nvPr/>
        </p:nvSpPr>
        <p:spPr>
          <a:xfrm>
            <a:off x="4000680" y="3714840"/>
            <a:ext cx="357120" cy="9000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000"/>
              <a:gd name="textAreaBottom" fmla="*/ 876960 h 900000"/>
            </a:gdLst>
            <a:ahLst/>
            <a:rect l="textAreaLeft" t="textAreaTop" r="textAreaRight" b="textAreaBottom"/>
            <a:pathLst>
              <a:path w="21600" h="54402">
                <a:moveTo>
                  <a:pt x="0" y="0"/>
                </a:moveTo>
                <a:lnTo>
                  <a:pt x="21600" y="0"/>
                </a:lnTo>
                <a:lnTo>
                  <a:pt x="21600" y="54402"/>
                </a:lnTo>
                <a:lnTo>
                  <a:pt x="0" y="54402"/>
                </a:lnTo>
                <a:close/>
              </a:path>
              <a:path fill="lightenLess" w="21600" h="54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02">
                <a:moveTo>
                  <a:pt x="21600" y="0"/>
                </a:moveTo>
                <a:lnTo>
                  <a:pt x="21600" y="54402"/>
                </a:lnTo>
                <a:lnTo>
                  <a:pt x="20200" y="53002"/>
                </a:lnTo>
                <a:lnTo>
                  <a:pt x="20200" y="1400"/>
                </a:lnTo>
                <a:close/>
              </a:path>
              <a:path fill="darkenLess" w="21600" h="54402">
                <a:moveTo>
                  <a:pt x="21600" y="54402"/>
                </a:moveTo>
                <a:lnTo>
                  <a:pt x="0" y="54402"/>
                </a:lnTo>
                <a:lnTo>
                  <a:pt x="1400" y="53002"/>
                </a:lnTo>
                <a:lnTo>
                  <a:pt x="20200" y="53002"/>
                </a:lnTo>
                <a:close/>
              </a:path>
              <a:path fill="lighten" w="21600" h="54402">
                <a:moveTo>
                  <a:pt x="0" y="54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02"/>
                </a:lnTo>
                <a:close/>
              </a:path>
              <a:path fill="darken" w="21600" h="54402">
                <a:moveTo>
                  <a:pt x="3794" y="20195"/>
                </a:moveTo>
                <a:lnTo>
                  <a:pt x="17806" y="27201"/>
                </a:lnTo>
                <a:lnTo>
                  <a:pt x="3794" y="34208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Управляющая кнопка: далее 31">
            <a:hlinkClick r:id="rId18" action="ppaction://hlinksldjump"/>
          </p:cNvPr>
          <p:cNvSpPr/>
          <p:nvPr/>
        </p:nvSpPr>
        <p:spPr>
          <a:xfrm>
            <a:off x="7215120" y="3714840"/>
            <a:ext cx="357120" cy="8287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828720"/>
              <a:gd name="textAreaBottom" fmla="*/ 805680 h 828720"/>
            </a:gdLst>
            <a:ahLst/>
            <a:rect l="textAreaLeft" t="textAreaTop" r="textAreaRight" b="textAreaBottom"/>
            <a:pathLst>
              <a:path w="21600" h="50095">
                <a:moveTo>
                  <a:pt x="0" y="0"/>
                </a:moveTo>
                <a:lnTo>
                  <a:pt x="21600" y="0"/>
                </a:lnTo>
                <a:lnTo>
                  <a:pt x="21600" y="50095"/>
                </a:lnTo>
                <a:lnTo>
                  <a:pt x="0" y="50095"/>
                </a:lnTo>
                <a:close/>
              </a:path>
              <a:path fill="lightenLess" w="21600" h="500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095">
                <a:moveTo>
                  <a:pt x="21600" y="0"/>
                </a:moveTo>
                <a:lnTo>
                  <a:pt x="21600" y="50095"/>
                </a:lnTo>
                <a:lnTo>
                  <a:pt x="20200" y="48695"/>
                </a:lnTo>
                <a:lnTo>
                  <a:pt x="20200" y="1400"/>
                </a:lnTo>
                <a:close/>
              </a:path>
              <a:path fill="darkenLess" w="21600" h="50095">
                <a:moveTo>
                  <a:pt x="21600" y="50095"/>
                </a:moveTo>
                <a:lnTo>
                  <a:pt x="0" y="50095"/>
                </a:lnTo>
                <a:lnTo>
                  <a:pt x="1400" y="48695"/>
                </a:lnTo>
                <a:lnTo>
                  <a:pt x="20200" y="48695"/>
                </a:lnTo>
                <a:close/>
              </a:path>
              <a:path fill="lighten" w="21600" h="50095">
                <a:moveTo>
                  <a:pt x="0" y="50095"/>
                </a:moveTo>
                <a:lnTo>
                  <a:pt x="0" y="0"/>
                </a:lnTo>
                <a:lnTo>
                  <a:pt x="1400" y="1400"/>
                </a:lnTo>
                <a:lnTo>
                  <a:pt x="1400" y="48695"/>
                </a:lnTo>
                <a:close/>
              </a:path>
              <a:path fill="darken" w="21600" h="50095">
                <a:moveTo>
                  <a:pt x="3794" y="18041"/>
                </a:moveTo>
                <a:lnTo>
                  <a:pt x="17806" y="25048"/>
                </a:lnTo>
                <a:lnTo>
                  <a:pt x="3794" y="32054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Управляющая кнопка: далее 32">
            <a:hlinkClick r:id="rId19" action="ppaction://hlinksldjump"/>
          </p:cNvPr>
          <p:cNvSpPr/>
          <p:nvPr/>
        </p:nvSpPr>
        <p:spPr>
          <a:xfrm>
            <a:off x="8286840" y="3714840"/>
            <a:ext cx="357120" cy="90000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900000"/>
              <a:gd name="textAreaBottom" fmla="*/ 876960 h 900000"/>
            </a:gdLst>
            <a:ahLst/>
            <a:rect l="textAreaLeft" t="textAreaTop" r="textAreaRight" b="textAreaBottom"/>
            <a:pathLst>
              <a:path w="21600" h="54402">
                <a:moveTo>
                  <a:pt x="0" y="0"/>
                </a:moveTo>
                <a:lnTo>
                  <a:pt x="21600" y="0"/>
                </a:lnTo>
                <a:lnTo>
                  <a:pt x="21600" y="54402"/>
                </a:lnTo>
                <a:lnTo>
                  <a:pt x="0" y="54402"/>
                </a:lnTo>
                <a:close/>
              </a:path>
              <a:path fill="lightenLess" w="21600" h="54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4402">
                <a:moveTo>
                  <a:pt x="21600" y="0"/>
                </a:moveTo>
                <a:lnTo>
                  <a:pt x="21600" y="54402"/>
                </a:lnTo>
                <a:lnTo>
                  <a:pt x="20200" y="53002"/>
                </a:lnTo>
                <a:lnTo>
                  <a:pt x="20200" y="1400"/>
                </a:lnTo>
                <a:close/>
              </a:path>
              <a:path fill="darkenLess" w="21600" h="54402">
                <a:moveTo>
                  <a:pt x="21600" y="54402"/>
                </a:moveTo>
                <a:lnTo>
                  <a:pt x="0" y="54402"/>
                </a:lnTo>
                <a:lnTo>
                  <a:pt x="1400" y="53002"/>
                </a:lnTo>
                <a:lnTo>
                  <a:pt x="20200" y="53002"/>
                </a:lnTo>
                <a:close/>
              </a:path>
              <a:path fill="lighten" w="21600" h="54402">
                <a:moveTo>
                  <a:pt x="0" y="54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53002"/>
                </a:lnTo>
                <a:close/>
              </a:path>
              <a:path fill="darken" w="21600" h="54402">
                <a:moveTo>
                  <a:pt x="3794" y="20195"/>
                </a:moveTo>
                <a:lnTo>
                  <a:pt x="17806" y="27201"/>
                </a:lnTo>
                <a:lnTo>
                  <a:pt x="3794" y="34208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Управляющая кнопка: далее 33"/>
          <p:cNvSpPr/>
          <p:nvPr/>
        </p:nvSpPr>
        <p:spPr>
          <a:xfrm>
            <a:off x="5143680" y="2500200"/>
            <a:ext cx="399960" cy="828720"/>
          </a:xfrm>
          <a:custGeom>
            <a:avLst/>
            <a:gdLst>
              <a:gd name="textAreaLeft" fmla="*/ 25920 w 399960"/>
              <a:gd name="textAreaRight" fmla="*/ 374040 w 399960"/>
              <a:gd name="textAreaTop" fmla="*/ 25920 h 828720"/>
              <a:gd name="textAreaBottom" fmla="*/ 802800 h 828720"/>
            </a:gdLst>
            <a:ahLst/>
            <a:rect l="textAreaLeft" t="textAreaTop" r="textAreaRight" b="textAreaBottom"/>
            <a:pathLst>
              <a:path w="21600" h="44735">
                <a:moveTo>
                  <a:pt x="0" y="0"/>
                </a:moveTo>
                <a:lnTo>
                  <a:pt x="21600" y="0"/>
                </a:lnTo>
                <a:lnTo>
                  <a:pt x="21600" y="44735"/>
                </a:lnTo>
                <a:lnTo>
                  <a:pt x="0" y="44735"/>
                </a:lnTo>
                <a:close/>
              </a:path>
              <a:path fill="lightenLess" w="21600" h="447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4735">
                <a:moveTo>
                  <a:pt x="21600" y="0"/>
                </a:moveTo>
                <a:lnTo>
                  <a:pt x="21600" y="44735"/>
                </a:lnTo>
                <a:lnTo>
                  <a:pt x="20200" y="43335"/>
                </a:lnTo>
                <a:lnTo>
                  <a:pt x="20200" y="1400"/>
                </a:lnTo>
                <a:close/>
              </a:path>
              <a:path fill="darkenLess" w="21600" h="44735">
                <a:moveTo>
                  <a:pt x="21600" y="44735"/>
                </a:moveTo>
                <a:lnTo>
                  <a:pt x="0" y="44735"/>
                </a:lnTo>
                <a:lnTo>
                  <a:pt x="1400" y="43335"/>
                </a:lnTo>
                <a:lnTo>
                  <a:pt x="20200" y="43335"/>
                </a:lnTo>
                <a:close/>
              </a:path>
              <a:path fill="lighten" w="21600" h="44735">
                <a:moveTo>
                  <a:pt x="0" y="44735"/>
                </a:moveTo>
                <a:lnTo>
                  <a:pt x="0" y="0"/>
                </a:lnTo>
                <a:lnTo>
                  <a:pt x="1400" y="1400"/>
                </a:lnTo>
                <a:lnTo>
                  <a:pt x="1400" y="43335"/>
                </a:lnTo>
                <a:close/>
              </a:path>
              <a:path fill="darken" w="21600" h="44735">
                <a:moveTo>
                  <a:pt x="3794" y="15361"/>
                </a:moveTo>
                <a:lnTo>
                  <a:pt x="17806" y="22367"/>
                </a:lnTo>
                <a:lnTo>
                  <a:pt x="3794" y="29374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Управляющая кнопка: далее 34"/>
          <p:cNvSpPr/>
          <p:nvPr/>
        </p:nvSpPr>
        <p:spPr>
          <a:xfrm>
            <a:off x="8501040" y="621504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нига, которая содержит список книг или других источников информаци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Библиографический указате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427384"/>
          <p:cNvPicPr/>
          <p:nvPr/>
        </p:nvPicPr>
        <p:blipFill>
          <a:blip r:embed="rId1"/>
          <a:stretch/>
        </p:blipFill>
        <p:spPr>
          <a:xfrm>
            <a:off x="6156360" y="2852640"/>
            <a:ext cx="2365200" cy="3057480"/>
          </a:xfrm>
          <a:prstGeom prst="rect">
            <a:avLst/>
          </a:prstGeom>
          <a:ln w="0">
            <a:noFill/>
          </a:ln>
        </p:spPr>
      </p:pic>
      <p:sp>
        <p:nvSpPr>
          <p:cNvPr id="206" name="Управляющая кнопка: назад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1258920" y="2708280"/>
            <a:ext cx="6626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5" descr="MCj04281050000[1]"/>
          <p:cNvPicPr/>
          <p:nvPr/>
        </p:nvPicPr>
        <p:blipFill>
          <a:blip r:embed="rId1"/>
          <a:stretch/>
        </p:blipFill>
        <p:spPr>
          <a:xfrm>
            <a:off x="5076720" y="476280"/>
            <a:ext cx="1936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выглядели книги древних египтян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Свит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MCj01941020000[1]"/>
          <p:cNvPicPr/>
          <p:nvPr/>
        </p:nvPicPr>
        <p:blipFill>
          <a:blip r:embed="rId1"/>
          <a:stretch/>
        </p:blipFill>
        <p:spPr>
          <a:xfrm>
            <a:off x="3564000" y="2205000"/>
            <a:ext cx="4224240" cy="46530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/>
          <p:cNvSpPr/>
          <p:nvPr/>
        </p:nvSpPr>
        <p:spPr>
          <a:xfrm>
            <a:off x="755640" y="609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ак называется форма современной книг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Кодек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Cj04326450000[1]"/>
          <p:cNvPicPr/>
          <p:nvPr/>
        </p:nvPicPr>
        <p:blipFill>
          <a:blip r:embed="rId1"/>
          <a:stretch/>
        </p:blipFill>
        <p:spPr>
          <a:xfrm>
            <a:off x="3714840" y="257184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зовите создателей славянской азбу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Кирилл и Мефод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2458800" cy="27370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цевые картинки в древних рукописях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Миниатю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635280" y="2781360"/>
            <a:ext cx="2459160" cy="273528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сковая дощечка для пись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Це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008"/>
          <p:cNvPicPr/>
          <p:nvPr/>
        </p:nvPicPr>
        <p:blipFill>
          <a:blip r:embed="rId1"/>
          <a:stretch/>
        </p:blipFill>
        <p:spPr>
          <a:xfrm>
            <a:off x="3348000" y="2708280"/>
            <a:ext cx="3024360" cy="28926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каком веке жил Иоганн Гуттенберг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050"/>
                </a:solidFill>
                <a:latin typeface="Arial"/>
              </a:rPr>
              <a:t>В 15 ве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211640" y="2708280"/>
            <a:ext cx="2589120" cy="28814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/>
          <p:cNvSpPr/>
          <p:nvPr/>
        </p:nvSpPr>
        <p:spPr>
          <a:xfrm>
            <a:off x="1116000" y="6165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Лист, соединяющий переплет с книжным блоко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"/>
              </a:rPr>
              <a:t>Форза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95anekdot2"/>
          <p:cNvPicPr/>
          <p:nvPr/>
        </p:nvPicPr>
        <p:blipFill>
          <a:blip r:embed="rId1"/>
          <a:stretch/>
        </p:blipFill>
        <p:spPr>
          <a:xfrm>
            <a:off x="3780000" y="2492280"/>
            <a:ext cx="4214520" cy="3287880"/>
          </a:xfrm>
          <a:prstGeom prst="rect">
            <a:avLst/>
          </a:prstGeom>
          <a:ln w="0">
            <a:noFill/>
          </a:ln>
        </p:spPr>
      </p:pic>
      <p:sp>
        <p:nvSpPr>
          <p:cNvPr id="162" name="Управляющая кнопка: назад 4"/>
          <p:cNvSpPr/>
          <p:nvPr/>
        </p:nvSpPr>
        <p:spPr>
          <a:xfrm>
            <a:off x="8215200" y="5857920"/>
            <a:ext cx="928800" cy="100008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1000080"/>
              <a:gd name="textAreaBottom" fmla="*/ 939960 h 1000080"/>
            </a:gdLst>
            <a:ahLst/>
            <a:rect l="textAreaLeft" t="textAreaTop" r="textAreaRight" b="textAreaBottom"/>
            <a:pathLst>
              <a:path w="21600" h="23257">
                <a:moveTo>
                  <a:pt x="0" y="0"/>
                </a:moveTo>
                <a:lnTo>
                  <a:pt x="21600" y="0"/>
                </a:lnTo>
                <a:lnTo>
                  <a:pt x="21600" y="23257"/>
                </a:lnTo>
                <a:lnTo>
                  <a:pt x="0" y="23257"/>
                </a:lnTo>
                <a:close/>
              </a:path>
              <a:path fill="lightenLess" w="21600" h="232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7">
                <a:moveTo>
                  <a:pt x="21600" y="0"/>
                </a:moveTo>
                <a:lnTo>
                  <a:pt x="21600" y="23257"/>
                </a:lnTo>
                <a:lnTo>
                  <a:pt x="20200" y="21857"/>
                </a:lnTo>
                <a:lnTo>
                  <a:pt x="20200" y="1400"/>
                </a:lnTo>
                <a:close/>
              </a:path>
              <a:path fill="darkenLess" w="21600" h="23257">
                <a:moveTo>
                  <a:pt x="21600" y="23257"/>
                </a:moveTo>
                <a:lnTo>
                  <a:pt x="0" y="23257"/>
                </a:lnTo>
                <a:lnTo>
                  <a:pt x="1400" y="21857"/>
                </a:lnTo>
                <a:lnTo>
                  <a:pt x="20200" y="21857"/>
                </a:lnTo>
                <a:close/>
              </a:path>
              <a:path fill="lighten" w="21600" h="23257">
                <a:moveTo>
                  <a:pt x="0" y="232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7"/>
                </a:lnTo>
                <a:close/>
              </a:path>
              <a:path fill="darken" w="21600" h="23257">
                <a:moveTo>
                  <a:pt x="3794" y="11629"/>
                </a:moveTo>
                <a:lnTo>
                  <a:pt x="17806" y="4622"/>
                </a:lnTo>
                <a:lnTo>
                  <a:pt x="17806" y="18635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3:28:01Z</dcterms:created>
  <dc:creator>Светлана Юрьевна</dc:creator>
  <dc:description/>
  <dc:language>en-US</dc:language>
  <cp:lastModifiedBy>Admin</cp:lastModifiedBy>
  <dcterms:modified xsi:type="dcterms:W3CDTF">2010-02-09T17:45:33Z</dcterms:modified>
  <cp:revision>15</cp:revision>
  <dc:subject/>
  <dc:title>Библиографический калейдоскоп</dc:title>
</cp:coreProperties>
</file>