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9B1-755F-4F60-8BE0-F06BD562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A33-A0FC-4B7A-B98A-87DD9A74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AB5-9109-4CA5-A419-9D9458E6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812-7FF7-4470-AEEF-F8C81B02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84CC-94AC-4D30-8618-5AB0BFF6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B946-819E-42FE-B8CC-C480D598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8BE5-DAB1-4C15-897F-639FE3A3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015F-7F06-4FC7-8744-F4686A6E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027E-FF3C-4625-9C82-8F5D3D21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A322-F7DF-4DCB-B681-7493E4E5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5AA2-7968-4CCD-B6E2-D24E8B44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F29-560A-4486-B312-98D9EDD2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E452-FD78-4293-B808-79D71AA4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4C89-4F1D-4F92-BA57-A8DE47EF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B8C3-5446-4510-A72C-29045EBC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7837-90E6-44BC-BC39-C8C10090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22A2-9336-4E3B-8988-3B37F755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062-DF82-4451-AB6C-7C8484E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CC3-2487-4137-A978-7E2B3B7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6B3-5623-4D0E-93D3-EA998685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FFA-EFAE-4E7A-8E58-7995732A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7DA-C7C6-4A22-B19B-CA32BD2F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3A7-CB42-4C5F-8028-5492198D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3E8-04E4-43A7-A8F6-EDA63B8C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FA5B-56BB-4D86-A47F-3DC8C42007C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42B9-A33F-4ABE-8806-23185031BEEE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Низкий уровень мотивац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учащих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старших класс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3789360"/>
            <a:ext cx="705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Дифференцированный подход в обучении как фактор повышения мотивации к учению через развитие познавательной активности уча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Использование «ступенчатого» подхода в процессе достижения выбранного уровня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90520" y="3357720"/>
          <a:ext cx="8839080" cy="32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3357720"/>
                    <a:ext cx="883908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готовка учителя в системе уровневой дифференциац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спределение часов, отведенных программой на тему, по этапам работы (возможно выделение резерва)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деление типовых заданий и заданий 2-3 уровне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готовка многовариантных карточек с заданиями по уровня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деление заданий на итоговый контрол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Этапы работы по тем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Теория в виде типовых задач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абота с типовыми заданиям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роверочная работа 1 уровня сложност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абота с комбинированными заданиями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роверочная работа 1-2 уровней сложности 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Проверочная работа 1-2-3 уровне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Урок-консультация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нтрольная работ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езерв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7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езультати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4768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5600" y="1554120"/>
          <a:ext cx="8540640" cy="33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554120"/>
                    <a:ext cx="854064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7:52:18Z</dcterms:created>
  <dc:creator>student</dc:creator>
  <dc:description/>
  <dc:language>en-US</dc:language>
  <cp:lastModifiedBy>Учитель</cp:lastModifiedBy>
  <dcterms:modified xsi:type="dcterms:W3CDTF">2011-03-08T08:13:04Z</dcterms:modified>
  <cp:revision>87</cp:revision>
  <dc:subject/>
  <dc:title>Муниципальное общеобразовательное учреждение средняя общеобразовательная школа №34 г.Владимира</dc:title>
</cp:coreProperties>
</file>