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180-3011-45FF-90F4-8747D3E7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16C-287A-4772-8917-F0BA526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4A6-BEB2-4B30-976F-AD036AD1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657-03E9-4E09-9891-F8E4B58E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C41-B178-4421-A3E0-ED2BB77A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CA7-8A74-4BFE-9224-6C45E31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6F7-C252-4F87-86C4-B8ADACE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45BB-A96D-4B1A-A9A6-53FFD5FD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AFF-D5BD-4341-860A-D94C94BD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6CB-5302-41E0-A892-E4C2910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B654-6348-40D5-A5DF-74FDA4D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458-09D7-4B82-A848-838724A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D32-E804-407E-B23E-7FB5436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1A23-AC20-4862-95A7-E499E53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56E-E596-4EBF-A7C6-43FBAF6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E62-7237-4E33-970D-48CC5998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0D8F-B8A9-4DF9-BC60-38FBC898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835-4E1F-4E52-93E1-6AB55E1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0BC-0414-4776-8DEE-197B540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2DE-BE31-4567-8492-44C1E12F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992-871F-4BED-97FA-580330B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7B0-64EF-413F-89BE-D03C69E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A5A-FF94-4EC6-9553-69802D7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950-0131-4117-B8B2-71DC5EA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C05-13CB-4F9A-BB6C-D3CA12C98B0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FBE4-76A3-49FA-A670-27B762AA70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Низкий уровень мотив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арших класс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3789360"/>
            <a:ext cx="705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Дифференцированный подход в обучении как фактор повышения мотивации к учению через развитие познавательной активности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спользование «ступенчатого» подхода в процессе достижения выбранного уровн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90520" y="3357720"/>
          <a:ext cx="883908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357720"/>
                    <a:ext cx="883908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готовка учителя в системе уровневой дифференци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спределение часов, отведенных программой на тему, по этапам работы (возможно выделение резерв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деление типовых заданий и заданий 2-3 уровн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готовка многовариантных карточек с заданиями по уровня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деление заданий на итоговый контро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Этапы работы по те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еория в виде типовых задач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абота с типовыми задани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 уровня слож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абота с комбинированными задани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-2 уровней сложности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-2-3 уровн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рок-консультац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трольная рабо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езерв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4768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5600" y="1554120"/>
          <a:ext cx="854064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554120"/>
                    <a:ext cx="85406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52:18Z</dcterms:created>
  <dc:creator>student</dc:creator>
  <dc:description/>
  <dc:language>en-US</dc:language>
  <cp:lastModifiedBy>Учитель</cp:lastModifiedBy>
  <dcterms:modified xsi:type="dcterms:W3CDTF">2011-03-08T08:13:04Z</dcterms:modified>
  <cp:revision>87</cp:revision>
  <dc:subject/>
  <dc:title>Муниципальное общеобразовательное учреждение средняя общеобразовательная школа №34 г.Владимира</dc:title>
</cp:coreProperties>
</file>