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6EB-0784-4B4D-A085-3BCB8430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316-DD72-4E65-84B3-6F5CE35A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B215-2CA5-41D8-9C62-112C98BA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F0A-9C3F-4D9A-9D92-4433ACF8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25C-7040-4315-BCBF-0393C89C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27DC-A2C1-4C83-B883-BE77743E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1F5-B540-46CA-99D1-74423828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BC5-87BC-478A-8C4C-E1E7A1C7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052-F13F-4D43-B839-CC3A8A45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D4A-DC0C-4C34-BD7A-A53D0DB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150-E207-41DC-BE58-DDA8C5B9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5A8-7ABC-4827-85F6-628DC43A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5A40-A151-4D3B-9790-CA15C51A9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ПОРТФЕЛЬ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И ЗДОРОВЬЕ ДЕТ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4476960" cy="5105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080" y="4648320"/>
            <a:ext cx="243864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Электронные учеб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Какую электронную книгу купить для школьника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Анкетирование учащихся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Кто выбирает для вас портфел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Я сам (са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) М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 Па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) С родителями вмес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По каким критериям (признакам) выбираете? (Можете отметить несколько признаков сраз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) Ц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)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) 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) Удоб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акого цвета, формы портфель вам нравится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Как долго пользуетесь одним портфелем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По какой причине меняете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Оса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7"/>
          <p:cNvGraphicFramePr/>
          <p:nvPr/>
        </p:nvGraphicFramePr>
        <p:xfrm>
          <a:off x="990720" y="2214720"/>
          <a:ext cx="6933960" cy="34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14720"/>
                    <a:ext cx="69339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Существенное влияние  на формирование осанки  школьников  оказывает ношение  тяжелых ранцев, рюкзаков  и  особенно портфеле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4587" t="1366" r="3814" b="2793"/>
          <a:stretch/>
        </p:blipFill>
        <p:spPr>
          <a:xfrm>
            <a:off x="122400" y="1371600"/>
            <a:ext cx="246852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624040" cy="4343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19520" y="3263760"/>
            <a:ext cx="3429000" cy="34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Arial"/>
              </a:rPr>
              <a:t>Рюкзак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– не лучший выбор для учеников начальной школы  у него мягкая спи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205000" cy="2629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7162920"/>
            <a:ext cx="7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05120" y="2057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2286000"/>
            <a:ext cx="45720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Ранец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должен иметь твердое дно, чтобы не падал около парты. Ручка должна быть не матерчатой, а пластмассовой. Лямки хорошего ранца регулируются, имеют жесткую, хорошо прилегающую к спине ортопедическую спинк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3581280" cy="3382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751120"/>
            <a:ext cx="34671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8483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Как правильно выбрать рюкзак или ранец    для шк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52880" y="2097000"/>
            <a:ext cx="3581640" cy="3568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39625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2971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Из соображений практичности лучше выбирать тот материал, который не потрескается в зимние морозы и не слишком сильно запачкаетс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017"/>
          <p:cNvPicPr/>
          <p:nvPr/>
        </p:nvPicPr>
        <p:blipFill>
          <a:blip r:embed="rId1"/>
          <a:stretch/>
        </p:blipFill>
        <p:spPr>
          <a:xfrm>
            <a:off x="3352680" y="380880"/>
            <a:ext cx="5486400" cy="60199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ативы веса школьного портф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1 и 2 класс – 1 500 г (1,5 к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3 и 4 класс – 2 500 г (2,5 к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5 и 6 класс – 3 000 г (3 к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7 и 8 класс – 3 500 г (3,5 к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9 и 11 класс – до 4 000 г (4 к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Arial"/>
              </a:rPr>
              <a:t>Масса пустого ранца не должна превышать 700 грам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к правильно выбрать ранец?"/>
          <p:cNvPicPr/>
          <p:nvPr/>
        </p:nvPicPr>
        <p:blipFill>
          <a:blip r:embed="rId1"/>
          <a:stretch/>
        </p:blipFill>
        <p:spPr>
          <a:xfrm>
            <a:off x="227160" y="4343400"/>
            <a:ext cx="204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Электронные школьные ранцы заменят 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26T19:45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