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3F1-3DDC-451D-9176-EC40803D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1BB-B65E-4A0D-98E9-BD238D85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B62-FFE7-495C-AB6F-A926FDA5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5D1-BA29-40CE-B717-362D360C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94D-BF75-4C1B-ACC4-F37C1CB6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793-AC13-46D6-A3D6-FCA1D4C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4E7-91F7-465E-8B0E-7F65493A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279-FD42-452C-AA4A-6DD0E0A3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50F-1312-46FB-9C05-B4EB9239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D8D-387D-4A3A-B1F0-C1611392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BD9-D767-48E2-9B32-5FAE2BAE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1BF-1BE2-43B3-9202-C2DE9DB7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1634-4C33-4585-ADE7-52F8BCED1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ПОРТФЕЛЬ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И ЗДОРОВЬЕ ДЕ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4476960" cy="5105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4648320"/>
            <a:ext cx="243864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Электронные учеб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акую электронную книгу купить для школьник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Анкетирование учащихся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Кто выбирает для вас портфел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Я сам (са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) М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 Па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) С родителями в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По каким критериям (признакам) выбираете? (Можете отметить несколько признаков сраз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Ц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)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 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) Удоб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акого цвета, формы портфель вам нравится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Как долго пользуетесь одним портфелем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По какой причине меняете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Оса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7"/>
          <p:cNvGraphicFramePr/>
          <p:nvPr/>
        </p:nvGraphicFramePr>
        <p:xfrm>
          <a:off x="990720" y="2214720"/>
          <a:ext cx="6933960" cy="34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14720"/>
                    <a:ext cx="69339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ущественное влияние  на формирование осанки  школьников  оказывает ношение  тяжелых ранцев, рюкзаков  и  особенно портфел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rcRect l="4587" t="1366" r="3814" b="2793"/>
          <a:stretch/>
        </p:blipFill>
        <p:spPr>
          <a:xfrm>
            <a:off x="122400" y="1371600"/>
            <a:ext cx="246852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62404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819520" y="3263760"/>
            <a:ext cx="342900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Рюкзак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– не лучший выбор для учеников начальной школы  у него мягкая спи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205000" cy="2629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7162920"/>
            <a:ext cx="7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2286000"/>
            <a:ext cx="45720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Ранец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должен иметь твердое дно, чтобы не падал около парты. Ручка должна быть не матерчатой, а пластмассовой. Лямки хорошего ранца регулируются, имеют жесткую, хорошо прилегающую к спине ортопедическую спинк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3581280" cy="3382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751120"/>
            <a:ext cx="34671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8483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Как правильно выбрать рюкзак или ранец    для шк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52880" y="2097000"/>
            <a:ext cx="3581640" cy="356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9625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2971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Из соображений практичности лучше выбирать тот материал, который не потрескается в зимние морозы и не слишком сильно запачкаетс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017"/>
          <p:cNvPicPr/>
          <p:nvPr/>
        </p:nvPicPr>
        <p:blipFill>
          <a:blip r:embed="rId1"/>
          <a:stretch/>
        </p:blipFill>
        <p:spPr>
          <a:xfrm>
            <a:off x="3352680" y="380880"/>
            <a:ext cx="5486400" cy="60199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рмативы веса школьного портф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1 и 2 класс – 1 500 г (1,5 к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3 и 4 класс – 2 500 г (2,5 к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5 и 6 класс – 3 000 г (3 к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7 и 8 класс – 3 500 г (3,5 к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9 и 11 класс – до 4 000 г (4 к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Масса пустого ранца не должна превышать 700 грам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к правильно выбрать ранец?"/>
          <p:cNvPicPr/>
          <p:nvPr/>
        </p:nvPicPr>
        <p:blipFill>
          <a:blip r:embed="rId1"/>
          <a:stretch/>
        </p:blipFill>
        <p:spPr>
          <a:xfrm>
            <a:off x="227160" y="4343400"/>
            <a:ext cx="204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Электронные школьные ранцы заменят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26T19:45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