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7.png" ContentType="image/png"/>
  <Override PartName="/ppt/media/image9.jpeg" ContentType="image/jpeg"/>
  <Override PartName="/ppt/media/image23.wmf" ContentType="image/x-wmf"/>
  <Override PartName="/ppt/media/image26.wmf" ContentType="image/x-wmf"/>
  <Override PartName="/ppt/media/image15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29.gif" ContentType="image/gi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9D8-3D74-4339-88DD-1B667DBC5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4E8-7F13-466A-B7F5-018B73AD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6A6-C67C-499A-B243-C94A77F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B0C-0BF4-4BC1-A00D-B9100F5B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729-C0AD-4ABB-8D3B-6ACC2F6E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BC9-C6F7-414D-8BD4-0E8C7BD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413-52E1-4D78-8BFE-15E0002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39A-AAA0-42F6-A1C7-49BE80E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18A-248B-4DC4-9529-1C91D92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3E6-1496-462B-8DA8-2621B37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732-F032-43E4-BE71-754EE01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9D6-01AF-4AFF-9221-AEBDF59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147-B855-49EE-9FE1-40A60A6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EAA-6E0C-46F0-81FC-78F071281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2" descr="{3D2381FD-4D4D-4CD1-9557-49BD58E36454}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82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 rot="606600">
            <a:off x="1576080" y="3071880"/>
            <a:ext cx="36003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едлог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Синквей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6920" y="1988640"/>
            <a:ext cx="4825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ng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" во французском языке значит пять. Синквейн — это пятистрочная строф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D00316_"/>
          <p:cNvPicPr/>
          <p:nvPr/>
        </p:nvPicPr>
        <p:blipFill>
          <a:blip r:embed="rId1"/>
          <a:stretch/>
        </p:blipFill>
        <p:spPr>
          <a:xfrm>
            <a:off x="395280" y="1484280"/>
            <a:ext cx="3097080" cy="2400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84360" y="306864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Kozuka Mincho Pro M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Picture 6" descr="ED00317_"/>
          <p:cNvPicPr/>
          <p:nvPr/>
        </p:nvPicPr>
        <p:blipFill>
          <a:blip r:embed="rId2"/>
          <a:stretch/>
        </p:blipFill>
        <p:spPr>
          <a:xfrm>
            <a:off x="7020000" y="333360"/>
            <a:ext cx="184608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19120" y="4889520"/>
            <a:ext cx="36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8" descr="DD01004_"/>
          <p:cNvPicPr/>
          <p:nvPr/>
        </p:nvPicPr>
        <p:blipFill>
          <a:blip r:embed="rId3"/>
          <a:stretch/>
        </p:blipFill>
        <p:spPr>
          <a:xfrm>
            <a:off x="4788000" y="3716280"/>
            <a:ext cx="316872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95280" y="4221000"/>
            <a:ext cx="835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инквейн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стихотворение, представляющее собой синтез информации в лаконичной форме, что позволяет описывать суть понятия или явления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омпозиция синкв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первой строк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заявляется тема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мет (одно существительное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второй строк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дается описание темы/предмета (два прилагательных или причастия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Третья стро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остоит из трех глаголов, характеризующих действия темы/предм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Четвертая строк</a:t>
            </a: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ставляет собой фразу, обычно из четырех значимых слов, выражающих отношение автора к теме/предмет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Georgia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Заставка7"/>
          <p:cNvPicPr/>
          <p:nvPr/>
        </p:nvPicPr>
        <p:blipFill>
          <a:blip r:embed="rId1"/>
          <a:stretch/>
        </p:blipFill>
        <p:spPr>
          <a:xfrm>
            <a:off x="7164360" y="1890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BS01145_"/>
          <p:cNvPicPr/>
          <p:nvPr/>
        </p:nvPicPr>
        <p:blipFill>
          <a:blip r:embed="rId2"/>
          <a:stretch/>
        </p:blipFill>
        <p:spPr>
          <a:xfrm>
            <a:off x="250920" y="5157720"/>
            <a:ext cx="1428480" cy="1511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971640" y="4437000"/>
            <a:ext cx="748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Пятая стро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иноним, обобщающий или  расширяющий смысл темы (одно слово)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74680"/>
            <a:ext cx="497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инквейн на тему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“Человек эпохи Возрождени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324000" y="333360"/>
            <a:ext cx="2858760" cy="424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409716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семогущий, богоподобны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ворит, восхищает, воспева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нец созданья – мера всех вещ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ита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5" descr="vinci-11012006181736_s"/>
          <p:cNvPicPr/>
          <p:nvPr/>
        </p:nvPicPr>
        <p:blipFill>
          <a:blip r:embed="rId2"/>
          <a:stretch/>
        </p:blipFill>
        <p:spPr>
          <a:xfrm>
            <a:off x="6659640" y="2349360"/>
            <a:ext cx="2114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68360" y="56844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ва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нквейна — слово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ЦОР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тора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ения к этому существительному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ть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а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твёрт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умозаключение, вывод к написанному выше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ят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иноним к слову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Ц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ибо слово, раскрывающее его смысл, образную оценку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Picture 3" descr="AG00222_"/>
          <p:cNvPicPr/>
          <p:nvPr/>
        </p:nvPicPr>
        <p:blipFill>
          <a:blip r:embed="rId1"/>
          <a:stretch/>
        </p:blipFill>
        <p:spPr>
          <a:xfrm>
            <a:off x="5867280" y="5013360"/>
            <a:ext cx="1511280" cy="1425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084720" y="515772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Сочиняем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словарному диктанту по изученной теме, используя слова из учебного словаря "Правописание предлогов" (N 110188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310, орфограммы № 64, 65, 6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Очирова Т. Н. (школа №49, г. Улан-Удэ, Р. Бурят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ть слайды можно по-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Picture 4" descr="Литература_1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39640" y="5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ема урока: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равопис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роизводных предлог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84360" y="1844640"/>
            <a:ext cx="784836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держание уро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изводные и непроизводные предлоги – это…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равописание производных предлогов: что надо знат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Творческий отдых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Все понять и закрепить с помощью ЦОРов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так, вперед к знаниям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8" descr="J0076194"/>
          <p:cNvPicPr/>
          <p:nvPr/>
        </p:nvPicPr>
        <p:blipFill>
          <a:blip r:embed="rId2"/>
          <a:stretch/>
        </p:blipFill>
        <p:spPr>
          <a:xfrm>
            <a:off x="395280" y="4941720"/>
            <a:ext cx="1081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382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7416720" cy="1565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24000" y="26028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Georgia"/>
              </a:rPr>
              <a:t>Вспоминаем, вспоминаем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709308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84360" y="173160"/>
            <a:ext cx="3600360" cy="94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ogo1"/>
          <p:cNvPicPr/>
          <p:nvPr/>
        </p:nvPicPr>
        <p:blipFill>
          <a:blip r:embed="rId4"/>
          <a:stretch/>
        </p:blipFill>
        <p:spPr>
          <a:xfrm>
            <a:off x="7236000" y="2708280"/>
            <a:ext cx="1384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4" descr="ЯпонСотей"/>
          <p:cNvPicPr/>
          <p:nvPr/>
        </p:nvPicPr>
        <p:blipFill>
          <a:blip r:embed="rId2"/>
          <a:stretch/>
        </p:blipFill>
        <p:spPr>
          <a:xfrm>
            <a:off x="5940360" y="404640"/>
            <a:ext cx="2768760" cy="619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wolke5"/>
          <p:cNvPicPr/>
          <p:nvPr/>
        </p:nvPicPr>
        <p:blipFill>
          <a:blip r:embed="rId3"/>
          <a:stretch/>
        </p:blipFill>
        <p:spPr>
          <a:xfrm>
            <a:off x="5148360" y="260280"/>
            <a:ext cx="3771720" cy="2030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9640" y="5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Осенний дождь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во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мг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Нет, не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ко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мне,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к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сосе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Зонт прошелестел. </a:t>
            </a:r>
            <a:r>
              <a:rPr b="1" i="1" lang="en-US" sz="2400" spc="-1" strike="noStrike">
                <a:solidFill>
                  <a:srgbClr val="333399"/>
                </a:solidFill>
                <a:latin typeface="Georg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(Ранран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4000" y="227664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  Где находится автор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 Как вы думаете, какое у него настроение? Почему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  Что значи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онт прошелестел»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автор не говори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шел человек»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 Какое состояние передано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стихотворении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  Какую картину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представляете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итая стихотворение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" name="Picture 8" descr="334"/>
          <p:cNvPicPr/>
          <p:nvPr/>
        </p:nvPicPr>
        <p:blipFill>
          <a:blip r:embed="rId4"/>
          <a:stretch/>
        </p:blipFill>
        <p:spPr>
          <a:xfrm>
            <a:off x="3924360" y="2852640"/>
            <a:ext cx="1743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119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166760" y="1000080"/>
            <a:ext cx="657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1073160"/>
            <a:ext cx="770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пасаясь снежных заносов руководитель отменил восхождение на вершину находящуюся (не)далеко от лагеря до установления хорошей погоды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авить знаки препинания, прокомментировать их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труирование предложения: ввести в предложение непроизводные и производные предлог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8" descr="n08-24_1"/>
          <p:cNvPicPr/>
          <p:nvPr/>
        </p:nvPicPr>
        <p:blipFill>
          <a:blip r:embed="rId2"/>
          <a:stretch/>
        </p:blipFill>
        <p:spPr>
          <a:xfrm>
            <a:off x="6732720" y="404640"/>
            <a:ext cx="20858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" name="Picture 4" descr="001_1280"/>
          <p:cNvPicPr/>
          <p:nvPr/>
        </p:nvPicPr>
        <p:blipFill>
          <a:blip r:embed="rId1"/>
          <a:srcRect l="0" t="3628" r="0" b="0"/>
          <a:stretch/>
        </p:blipFill>
        <p:spPr>
          <a:xfrm>
            <a:off x="0" y="66600"/>
            <a:ext cx="9144000" cy="617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D00146_"/>
          <p:cNvPicPr/>
          <p:nvPr/>
        </p:nvPicPr>
        <p:blipFill>
          <a:blip r:embed="rId2"/>
          <a:stretch/>
        </p:blipFill>
        <p:spPr>
          <a:xfrm>
            <a:off x="250920" y="189000"/>
            <a:ext cx="2043000" cy="2027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191120" y="56988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№ 3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39640" y="2492280"/>
            <a:ext cx="8209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вига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перед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колонны, Находи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нутр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троллейбуса, останови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близ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амятника, обойти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округ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амятника, спешить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австречу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асности, пройти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позад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тоящего трамв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жите, что это производные предлог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07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преодолеть трудности в написании производных предлогов да и в жизни, надо «дойти до самой сути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фографические трудности возникают при написании предлогов 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 течение, в продолжение, вследствие, несмотря 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т.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D07213_"/>
          <p:cNvPicPr/>
          <p:nvPr/>
        </p:nvPicPr>
        <p:blipFill>
          <a:blip r:embed="rId1"/>
          <a:stretch/>
        </p:blipFill>
        <p:spPr>
          <a:xfrm>
            <a:off x="468360" y="404640"/>
            <a:ext cx="225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557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6767640" cy="105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6624360" cy="11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5" descr="BS01072_"/>
          <p:cNvPicPr/>
          <p:nvPr/>
        </p:nvPicPr>
        <p:blipFill>
          <a:blip r:embed="rId4"/>
          <a:stretch/>
        </p:blipFill>
        <p:spPr>
          <a:xfrm>
            <a:off x="7093080" y="1916280"/>
            <a:ext cx="179856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3:00:17Z</dcterms:created>
  <dc:creator>www.PHILka.RU</dc:creator>
  <dc:description/>
  <dc:language>en-US</dc:language>
  <cp:lastModifiedBy>Tanya</cp:lastModifiedBy>
  <dcterms:modified xsi:type="dcterms:W3CDTF">2012-07-25T14:36:22Z</dcterms:modified>
  <cp:revision>5</cp:revision>
  <dc:subject/>
  <dc:title>Слайд 1</dc:title>
</cp:coreProperties>
</file>