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0.jpeg" ContentType="image/jpeg"/>
  <Override PartName="/ppt/media/image5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16.wmf" ContentType="image/x-wmf"/>
  <Override PartName="/ppt/media/image6.png" ContentType="image/png"/>
  <Override PartName="/ppt/media/image3.gif" ContentType="image/gif"/>
  <Override PartName="/ppt/media/image4.png" ContentType="image/png"/>
  <Override PartName="/ppt/media/image27.png" ContentType="image/png"/>
  <Override PartName="/ppt/media/image7.png" ContentType="image/png"/>
  <Override PartName="/ppt/media/image9.jpeg" ContentType="image/jpeg"/>
  <Override PartName="/ppt/media/image23.wmf" ContentType="image/x-wmf"/>
  <Override PartName="/ppt/media/image26.wmf" ContentType="image/x-wmf"/>
  <Override PartName="/ppt/media/image15.png" ContentType="image/png"/>
  <Override PartName="/ppt/media/image24.wmf" ContentType="image/x-wmf"/>
  <Override PartName="/ppt/media/image22.wmf" ContentType="image/x-wmf"/>
  <Override PartName="/ppt/media/image21.wmf" ContentType="image/x-wmf"/>
  <Override PartName="/ppt/media/image19.png" ContentType="image/png"/>
  <Override PartName="/ppt/media/image1.png" ContentType="image/png"/>
  <Override PartName="/ppt/media/image2.png" ContentType="image/png"/>
  <Override PartName="/ppt/media/image25.jpeg" ContentType="image/jpeg"/>
  <Override PartName="/ppt/media/image28.jpeg" ContentType="image/jpeg"/>
  <Override PartName="/ppt/media/image20.png" ContentType="image/png"/>
  <Override PartName="/ppt/media/image18.png" ContentType="image/png"/>
  <Override PartName="/ppt/media/image29.gif" ContentType="image/gi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чирова Т. Н., МОУ "СОШ № 49" г. Улан-Удэ, Р. Бурятия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BA91A-ACF7-4138-AFD7-A2F082372F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чирова Т. Н., МОУ "СОШ № 49" г. Улан-Удэ, Р. Бурятия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чирова Т. Н., МОУ "СОШ № 49" г. Улан-Удэ, Р. Бурятия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чирова Т. Н., МОУ "СОШ № 49" г. Улан-Удэ, Р. Бурятия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чирова Т. Н., МОУ "СОШ № 49" г. Улан-Удэ, Р. Бурятия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EBC1-1F61-4EC7-BFFE-05BE81D16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643B-F5D9-4A81-B527-8BBF5F2A4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3E5B-9581-4DFE-B3AA-9D190511A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A0BE-88E9-4739-8F15-B38E06469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73C7-091C-4F34-B389-C95A2266B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A1C0-7B6F-48EA-AC26-4B96EE45A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597A-1ED3-42CF-9169-3A825CCBC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92D2-3D87-4EB0-B46C-D45364452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AF56-BB47-4E0C-8704-00154259C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1F2B-734B-4A97-8A0A-EB6E3B512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4B9A-FF3C-40BD-AB90-AB942EDD4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28AB-D70E-4C34-A51B-ACF6AE8CB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чирова Т. Н., МОУ "СОШ № 49", г. Улан-Удэ, Р. Бурятия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60BE0-BB1B-4E86-B078-05C5A98188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gif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чирова Т. Н., МОУ "Сош № 49", г. Улан-Удэ, Р. Бурятия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49" name="Picture 2" descr="{3D2381FD-4D4D-4CD1-9557-49BD58E36454}"/>
          <p:cNvPicPr/>
          <p:nvPr/>
        </p:nvPicPr>
        <p:blipFill>
          <a:blip r:embed="rId1"/>
          <a:stretch/>
        </p:blipFill>
        <p:spPr>
          <a:xfrm>
            <a:off x="611280" y="333360"/>
            <a:ext cx="7993080" cy="58244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 rot="606600">
            <a:off x="1576080" y="3071880"/>
            <a:ext cx="3600360" cy="76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eorgia"/>
              </a:rPr>
              <a:t>Предлог 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чирова Т. Н., МОУ "СОШ № 49", г. Улан-Удэ, Р. Бурятия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Monotype Corsiva"/>
              </a:rPr>
              <a:t>Синквей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066920" y="1988640"/>
            <a:ext cx="48258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ing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" во французском языке значит пять. Синквейн — это пятистрочная строф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ED00316_"/>
          <p:cNvPicPr/>
          <p:nvPr/>
        </p:nvPicPr>
        <p:blipFill>
          <a:blip r:embed="rId1"/>
          <a:stretch/>
        </p:blipFill>
        <p:spPr>
          <a:xfrm>
            <a:off x="395280" y="1484280"/>
            <a:ext cx="3097080" cy="24004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684360" y="3068640"/>
            <a:ext cx="236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Kozuka Mincho Pro M"/>
              </a:rPr>
              <a:t>Синквейн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95" name="Picture 6" descr="ED00317_"/>
          <p:cNvPicPr/>
          <p:nvPr/>
        </p:nvPicPr>
        <p:blipFill>
          <a:blip r:embed="rId2"/>
          <a:stretch/>
        </p:blipFill>
        <p:spPr>
          <a:xfrm>
            <a:off x="7020000" y="333360"/>
            <a:ext cx="1846080" cy="12970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7"/>
          <p:cNvSpPr/>
          <p:nvPr/>
        </p:nvSpPr>
        <p:spPr>
          <a:xfrm>
            <a:off x="519120" y="4889520"/>
            <a:ext cx="36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97" name="Picture 8" descr="DD01004_"/>
          <p:cNvPicPr/>
          <p:nvPr/>
        </p:nvPicPr>
        <p:blipFill>
          <a:blip r:embed="rId3"/>
          <a:stretch/>
        </p:blipFill>
        <p:spPr>
          <a:xfrm>
            <a:off x="4788000" y="3716280"/>
            <a:ext cx="3168720" cy="5493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9"/>
          <p:cNvSpPr/>
          <p:nvPr/>
        </p:nvSpPr>
        <p:spPr>
          <a:xfrm>
            <a:off x="395280" y="4221000"/>
            <a:ext cx="835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Синквейн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– стихотворение, представляющее собой синтез информации в лаконичной форме, что позволяет описывать суть понятия или явления 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чирова Т. Н., МОУ "СОШ № 49", г. Улан-Удэ, Р. Бурятия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986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Композиция синквей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 </a:t>
            </a:r>
            <a:r>
              <a:rPr b="1" i="1" lang="ru-RU" sz="2000" spc="-1" strike="noStrike">
                <a:solidFill>
                  <a:srgbClr val="3333ff"/>
                </a:solidFill>
                <a:latin typeface="Georgia"/>
              </a:rPr>
              <a:t>первой строке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заявляется тема и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редмет (одно существительное)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о </a:t>
            </a:r>
            <a:r>
              <a:rPr b="1" i="1" lang="ru-RU" sz="2000" spc="-1" strike="noStrike">
                <a:solidFill>
                  <a:srgbClr val="3333ff"/>
                </a:solidFill>
                <a:latin typeface="Georgia"/>
              </a:rPr>
              <a:t>второй строке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дается описание темы/предмета (два прилагательных или причастия)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ff"/>
                </a:solidFill>
                <a:latin typeface="Georgia"/>
              </a:rPr>
              <a:t>Третья строка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состоит из трех глаголов, характеризующих действия темы/предмет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ff"/>
                </a:solidFill>
                <a:latin typeface="Georgia"/>
              </a:rPr>
              <a:t>Четвертая строк</a:t>
            </a:r>
            <a:r>
              <a:rPr b="1" lang="ru-RU" sz="2000" spc="-1" strike="noStrike">
                <a:solidFill>
                  <a:srgbClr val="3333ff"/>
                </a:solidFill>
                <a:latin typeface="Georgia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представляет собой фразу, обычно из четырех значимых слов, выражающих отношение автора к теме/предмету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ff"/>
                </a:solidFill>
                <a:latin typeface="Georgia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Заставка7"/>
          <p:cNvPicPr/>
          <p:nvPr/>
        </p:nvPicPr>
        <p:blipFill>
          <a:blip r:embed="rId1"/>
          <a:stretch/>
        </p:blipFill>
        <p:spPr>
          <a:xfrm>
            <a:off x="7164360" y="189000"/>
            <a:ext cx="1800360" cy="1620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BS01145_"/>
          <p:cNvPicPr/>
          <p:nvPr/>
        </p:nvPicPr>
        <p:blipFill>
          <a:blip r:embed="rId2"/>
          <a:stretch/>
        </p:blipFill>
        <p:spPr>
          <a:xfrm>
            <a:off x="250920" y="5157720"/>
            <a:ext cx="1428480" cy="15112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971640" y="4437000"/>
            <a:ext cx="7488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ff"/>
                </a:solidFill>
                <a:latin typeface="Georgia"/>
              </a:rPr>
              <a:t>Пятая строка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– синоним, обобщающий или  расширяющий смысл темы (одно слово).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чирова Т. Н., МОУ "СОШ № 49", г. Улан-Удэ, Р. Бурятия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708000" y="274680"/>
            <a:ext cx="4978440" cy="26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Синквейн на тему: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“Человек эпохи Возрождения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1"/>
          <p:cNvPicPr/>
          <p:nvPr/>
        </p:nvPicPr>
        <p:blipFill>
          <a:blip r:embed="rId1"/>
          <a:stretch/>
        </p:blipFill>
        <p:spPr>
          <a:xfrm>
            <a:off x="324000" y="333360"/>
            <a:ext cx="2858760" cy="4248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4"/>
          <p:cNvSpPr/>
          <p:nvPr/>
        </p:nvSpPr>
        <p:spPr>
          <a:xfrm>
            <a:off x="395280" y="4097160"/>
            <a:ext cx="7345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Человек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Всемогущий, богоподобный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Творит, восхищает, воспевает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Венец созданья – мера всех веще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Титан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09" name="Picture 5" descr="vinci-11012006181736_s"/>
          <p:cNvPicPr/>
          <p:nvPr/>
        </p:nvPicPr>
        <p:blipFill>
          <a:blip r:embed="rId2"/>
          <a:stretch/>
        </p:blipFill>
        <p:spPr>
          <a:xfrm>
            <a:off x="6659640" y="2349360"/>
            <a:ext cx="2114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чирова Т. Н., МОУ "СОШ № 49", г. Улан-Удэ, Р. Бурятия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68360" y="568440"/>
            <a:ext cx="82803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так,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ервая стро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инквейна — слово </a:t>
            </a: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ЦОР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вторая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определения к этому существительному;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третья стро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ключает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лагола;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четвёрта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— умозаключение, вывод к написанному выше;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ята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синоним к слову </a:t>
            </a: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ЦО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либо слово, раскрывающее его смысл, образную оценку.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12" name="Picture 3" descr="AG00222_"/>
          <p:cNvPicPr/>
          <p:nvPr/>
        </p:nvPicPr>
        <p:blipFill>
          <a:blip r:embed="rId1"/>
          <a:stretch/>
        </p:blipFill>
        <p:spPr>
          <a:xfrm>
            <a:off x="5867280" y="5013360"/>
            <a:ext cx="1511280" cy="14256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4"/>
          <p:cNvSpPr/>
          <p:nvPr/>
        </p:nvSpPr>
        <p:spPr>
          <a:xfrm>
            <a:off x="6084720" y="5157720"/>
            <a:ext cx="275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Georgia"/>
              </a:rPr>
              <a:t>Сочиняем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чирова Т. Н., МОУ "СОШ № 49", г. Улан-Удэ, Р. Бурятия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готовиться к словарному диктанту по изученной теме, используя слова из учебного словаря "Правописание предлогов" (N 110188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пр.310, орфограммы № 64, 65, 66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: Очирова Т. Н. (школа №49, г. Улан-Удэ, Р. Бурятия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формить слайды можно по-сво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чирова Т. Н., МОУ "СОШ № 49", г. Улан-Удэ, Р. Бурятия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2" name="Picture 4" descr="Литература_115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539640" y="54936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Тема урока: </a:t>
            </a:r>
            <a:r>
              <a:rPr b="1" i="1" lang="ru-RU" sz="3200" spc="-1" strike="noStrike">
                <a:solidFill>
                  <a:srgbClr val="990000"/>
                </a:solidFill>
                <a:latin typeface="Georgia"/>
              </a:rPr>
              <a:t>Правописание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Georgia"/>
              </a:rPr>
              <a:t>производных предлогов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684360" y="1844640"/>
            <a:ext cx="7848360" cy="43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Содержание урока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1. Производные и непроизводные предлоги – это…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2. Правописание производных предлогов: что надо знать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3. Творческий отдых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4. Все понять и закрепить с помощью ЦОРов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Итак, вперед к знаниям!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5" name="Picture 8" descr="J0076194"/>
          <p:cNvPicPr/>
          <p:nvPr/>
        </p:nvPicPr>
        <p:blipFill>
          <a:blip r:embed="rId2"/>
          <a:stretch/>
        </p:blipFill>
        <p:spPr>
          <a:xfrm>
            <a:off x="395280" y="4941720"/>
            <a:ext cx="108108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чирова Т. Н., МОУ "СОШ № 49", г. Улан-Удэ, Р. Бурятия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3821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"/>
          <p:cNvPicPr/>
          <p:nvPr/>
        </p:nvPicPr>
        <p:blipFill>
          <a:blip r:embed="rId2"/>
          <a:stretch/>
        </p:blipFill>
        <p:spPr>
          <a:xfrm>
            <a:off x="971640" y="4724280"/>
            <a:ext cx="7416720" cy="15652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324000" y="260280"/>
            <a:ext cx="794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0000"/>
                </a:solidFill>
                <a:latin typeface="Georgia"/>
              </a:rPr>
              <a:t>Вспоминаем, вспоминаем…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чирова Т. Н., МОУ "СОШ № 49", г. Улан-Удэ, Р. Бурятия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4572000" y="0"/>
            <a:ext cx="4392720" cy="1871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0" y="1052640"/>
            <a:ext cx="7093080" cy="5184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3"/>
          <a:stretch/>
        </p:blipFill>
        <p:spPr>
          <a:xfrm>
            <a:off x="684360" y="173160"/>
            <a:ext cx="3600360" cy="944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logo1"/>
          <p:cNvPicPr/>
          <p:nvPr/>
        </p:nvPicPr>
        <p:blipFill>
          <a:blip r:embed="rId4"/>
          <a:stretch/>
        </p:blipFill>
        <p:spPr>
          <a:xfrm>
            <a:off x="7236000" y="2708280"/>
            <a:ext cx="138420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чирова Т. Н., МОУ "СОШ № 49", г. Улан-Удэ, Р. Бурятия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6" name="Picture 4" descr="ЯпонСотей"/>
          <p:cNvPicPr/>
          <p:nvPr/>
        </p:nvPicPr>
        <p:blipFill>
          <a:blip r:embed="rId2"/>
          <a:stretch/>
        </p:blipFill>
        <p:spPr>
          <a:xfrm>
            <a:off x="5940360" y="404640"/>
            <a:ext cx="2768760" cy="6191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wolke5"/>
          <p:cNvPicPr/>
          <p:nvPr/>
        </p:nvPicPr>
        <p:blipFill>
          <a:blip r:embed="rId3"/>
          <a:stretch/>
        </p:blipFill>
        <p:spPr>
          <a:xfrm>
            <a:off x="5148360" y="260280"/>
            <a:ext cx="3771720" cy="20304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6"/>
          <p:cNvSpPr/>
          <p:nvPr/>
        </p:nvSpPr>
        <p:spPr>
          <a:xfrm>
            <a:off x="539640" y="54936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Georgia"/>
              </a:rPr>
              <a:t>Осенний дождь </a:t>
            </a:r>
            <a:r>
              <a:rPr b="1" i="1" lang="ru-RU" sz="2400" spc="-1" strike="noStrike">
                <a:solidFill>
                  <a:srgbClr val="990000"/>
                </a:solidFill>
                <a:latin typeface="Georgia"/>
              </a:rPr>
              <a:t>во</a:t>
            </a:r>
            <a:r>
              <a:rPr b="1" i="1" lang="ru-RU" sz="2400" spc="-1" strike="noStrike">
                <a:solidFill>
                  <a:srgbClr val="333399"/>
                </a:solidFill>
                <a:latin typeface="Georgia"/>
              </a:rPr>
              <a:t> мгле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Georgia"/>
              </a:rPr>
              <a:t>Нет, не </a:t>
            </a:r>
            <a:r>
              <a:rPr b="1" i="1" lang="ru-RU" sz="2400" spc="-1" strike="noStrike">
                <a:solidFill>
                  <a:srgbClr val="990000"/>
                </a:solidFill>
                <a:latin typeface="Georgia"/>
              </a:rPr>
              <a:t>ко</a:t>
            </a:r>
            <a:r>
              <a:rPr b="1" i="1" lang="ru-RU" sz="2400" spc="-1" strike="noStrike">
                <a:solidFill>
                  <a:srgbClr val="333399"/>
                </a:solidFill>
                <a:latin typeface="Georgia"/>
              </a:rPr>
              <a:t> мне, </a:t>
            </a:r>
            <a:r>
              <a:rPr b="1" i="1" lang="ru-RU" sz="2400" spc="-1" strike="noStrike">
                <a:solidFill>
                  <a:srgbClr val="990000"/>
                </a:solidFill>
                <a:latin typeface="Georgia"/>
              </a:rPr>
              <a:t>к</a:t>
            </a:r>
            <a:r>
              <a:rPr b="1" i="1" lang="ru-RU" sz="2400" spc="-1" strike="noStrike">
                <a:solidFill>
                  <a:srgbClr val="333399"/>
                </a:solidFill>
                <a:latin typeface="Georgia"/>
              </a:rPr>
              <a:t> соседу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Georgia"/>
              </a:rPr>
              <a:t>    </a:t>
            </a:r>
            <a:r>
              <a:rPr b="1" i="1" lang="ru-RU" sz="2400" spc="-1" strike="noStrike">
                <a:solidFill>
                  <a:srgbClr val="333399"/>
                </a:solidFill>
                <a:latin typeface="Georgia"/>
              </a:rPr>
              <a:t>Зонт прошелестел. </a:t>
            </a:r>
            <a:r>
              <a:rPr b="1" i="1" lang="en-US" sz="2400" spc="-1" strike="noStrike">
                <a:solidFill>
                  <a:srgbClr val="333399"/>
                </a:solidFill>
                <a:latin typeface="Georgi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Georgia"/>
              </a:rPr>
              <a:t>(Ранран)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324000" y="2276640"/>
            <a:ext cx="568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  Где находится автор?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  Как вы думаете, какое у него настроение? Почему?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  Что значит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зонт прошелестел»?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чему автор не говорит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прошел человек»?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  Какое состояние передано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этом стихотворении?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.  Какую картину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 представляете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читая стихотворение?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0" name="Picture 8" descr="334"/>
          <p:cNvPicPr/>
          <p:nvPr/>
        </p:nvPicPr>
        <p:blipFill>
          <a:blip r:embed="rId4"/>
          <a:stretch/>
        </p:blipFill>
        <p:spPr>
          <a:xfrm>
            <a:off x="3924360" y="2852640"/>
            <a:ext cx="174312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чирова Т. Н., МОУ "СОШ № 49", г. Улан-Удэ, Р. Бурятия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8569440" cy="611964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1166760" y="1000080"/>
            <a:ext cx="657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684360" y="1073160"/>
            <a:ext cx="770400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Опасаясь снежных заносов руководитель отменил восхождение на вершину находящуюся (не)далеко от лагеря до установления хорошей погоды.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ние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асставить знаки препинания, прокомментировать их;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онструирование предложения: ввести в предложение непроизводные и производные предлоги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5" name="Picture 8" descr="n08-24_1"/>
          <p:cNvPicPr/>
          <p:nvPr/>
        </p:nvPicPr>
        <p:blipFill>
          <a:blip r:embed="rId2"/>
          <a:stretch/>
        </p:blipFill>
        <p:spPr>
          <a:xfrm>
            <a:off x="6732720" y="404640"/>
            <a:ext cx="208584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чирова Т. Н., МОУ "СОШ № 49", г. Улан-Удэ, Р. Бурятия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7" name="Picture 4" descr="001_1280"/>
          <p:cNvPicPr/>
          <p:nvPr/>
        </p:nvPicPr>
        <p:blipFill>
          <a:blip r:embed="rId1"/>
          <a:srcRect l="0" t="3628" r="0" b="0"/>
          <a:stretch/>
        </p:blipFill>
        <p:spPr>
          <a:xfrm>
            <a:off x="0" y="66600"/>
            <a:ext cx="9144000" cy="61707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BD00146_"/>
          <p:cNvPicPr/>
          <p:nvPr/>
        </p:nvPicPr>
        <p:blipFill>
          <a:blip r:embed="rId2"/>
          <a:stretch/>
        </p:blipFill>
        <p:spPr>
          <a:xfrm>
            <a:off x="250920" y="189000"/>
            <a:ext cx="2043000" cy="202716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6"/>
          <p:cNvSpPr/>
          <p:nvPr/>
        </p:nvSpPr>
        <p:spPr>
          <a:xfrm>
            <a:off x="4191120" y="569880"/>
            <a:ext cx="372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Упражнение № 308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539640" y="2492280"/>
            <a:ext cx="8209080" cy="39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Двигаться </a:t>
            </a:r>
            <a:r>
              <a:rPr b="0" lang="ru-RU" sz="3200" spc="-1" strike="noStrike">
                <a:solidFill>
                  <a:srgbClr val="990000"/>
                </a:solidFill>
                <a:latin typeface="Georgia"/>
              </a:rPr>
              <a:t>впереди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колонны, Находиться </a:t>
            </a:r>
            <a:r>
              <a:rPr b="0" lang="ru-RU" sz="3200" spc="-1" strike="noStrike">
                <a:solidFill>
                  <a:srgbClr val="990000"/>
                </a:solidFill>
                <a:latin typeface="Georgia"/>
              </a:rPr>
              <a:t>внутри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троллейбуса, остановиться </a:t>
            </a:r>
            <a:r>
              <a:rPr b="0" lang="ru-RU" sz="3200" spc="-1" strike="noStrike">
                <a:solidFill>
                  <a:srgbClr val="990000"/>
                </a:solidFill>
                <a:latin typeface="Georgia"/>
              </a:rPr>
              <a:t>вблизи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памятника, обойти </a:t>
            </a:r>
            <a:r>
              <a:rPr b="0" lang="ru-RU" sz="3200" spc="-1" strike="noStrike">
                <a:solidFill>
                  <a:srgbClr val="990000"/>
                </a:solidFill>
                <a:latin typeface="Georgia"/>
              </a:rPr>
              <a:t>вокруг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памятника, спешить </a:t>
            </a:r>
            <a:r>
              <a:rPr b="0" lang="ru-RU" sz="3200" spc="-1" strike="noStrike">
                <a:solidFill>
                  <a:srgbClr val="990000"/>
                </a:solidFill>
                <a:latin typeface="Georgia"/>
              </a:rPr>
              <a:t>навстречу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опасности, пройти </a:t>
            </a:r>
            <a:r>
              <a:rPr b="0" lang="ru-RU" sz="3200" spc="-1" strike="noStrike">
                <a:solidFill>
                  <a:srgbClr val="990000"/>
                </a:solidFill>
                <a:latin typeface="Georgia"/>
              </a:rPr>
              <a:t>позади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стоящего трамвая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Докажите, что это производные предлог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чирова Т. Н., МОУ "СОШ № 49", г. Улан-Удэ, Р. Бурятия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626920" y="620280"/>
            <a:ext cx="6070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Чтобы преодолеть трудности в написании производных предлогов да и в жизни, надо «дойти до самой сути»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95280" y="2997000"/>
            <a:ext cx="8229600" cy="36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фографические трудности возникают при написании предлогов </a:t>
            </a:r>
            <a:r>
              <a:rPr b="0" i="1" lang="ru-RU" sz="3200" spc="-1" strike="noStrike">
                <a:solidFill>
                  <a:srgbClr val="990000"/>
                </a:solidFill>
                <a:latin typeface="Arial"/>
              </a:rPr>
              <a:t>в течение, в продолжение, вследствие, несмотря на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и т. д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же делать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BD07213_"/>
          <p:cNvPicPr/>
          <p:nvPr/>
        </p:nvPicPr>
        <p:blipFill>
          <a:blip r:embed="rId1"/>
          <a:stretch/>
        </p:blipFill>
        <p:spPr>
          <a:xfrm>
            <a:off x="468360" y="404640"/>
            <a:ext cx="225108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чирова Т. Н., МОУ "СОШ № 49", г. Улан-Удэ, Р. Бурятия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8137440" cy="5572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755640" y="3500280"/>
            <a:ext cx="6767640" cy="1054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8" name="Picture 4" descr=""/>
          <p:cNvPicPr/>
          <p:nvPr/>
        </p:nvPicPr>
        <p:blipFill>
          <a:blip r:embed="rId3"/>
          <a:stretch/>
        </p:blipFill>
        <p:spPr>
          <a:xfrm>
            <a:off x="684360" y="5084640"/>
            <a:ext cx="6624360" cy="1152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9" name="Picture 5" descr="BS01072_"/>
          <p:cNvPicPr/>
          <p:nvPr/>
        </p:nvPicPr>
        <p:blipFill>
          <a:blip r:embed="rId4"/>
          <a:stretch/>
        </p:blipFill>
        <p:spPr>
          <a:xfrm>
            <a:off x="7093080" y="1916280"/>
            <a:ext cx="1798560" cy="12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8T13:00:17Z</dcterms:created>
  <dc:creator>www.PHILka.RU</dc:creator>
  <dc:description/>
  <dc:language>en-US</dc:language>
  <cp:lastModifiedBy>Tanya</cp:lastModifiedBy>
  <dcterms:modified xsi:type="dcterms:W3CDTF">2012-07-25T14:36:22Z</dcterms:modified>
  <cp:revision>5</cp:revision>
  <dc:subject/>
  <dc:title>Слайд 1</dc:title>
</cp:coreProperties>
</file>