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5C959-6161-4808-BC9D-9A969D0F6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495CB-3794-48EE-9005-C2B7DE05B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A63B4-50C2-4E21-B6A0-B3A4384A1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DA876-94BB-4C1D-9AE9-05F56121E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8C846-2FD7-4342-A600-837C6C96C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BC490-8678-40CD-91E6-D56ADFA31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A4B14-5BD1-4193-9F44-FE9374143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BF30D-FF32-4CEB-82F0-C24809358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9147B-319D-4EC2-8291-492B09278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522F0-A458-4E90-917E-B9A7BCBC9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07885-6BDD-49CF-9511-FC93932E9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74BC2-F365-44B0-9FD9-C9772DEF2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3811A-5F6F-4D21-A096-3FAFEAF9C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B55A5-7796-442F-A784-AB6C79F1B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3EAD9-8E41-4E7B-AD3A-9ACAFE2DE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257E3-13F8-42A9-9B00-FF56C0E50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B6C65-0524-4B54-BE1D-E3D35AAC4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10784B-3B67-4F51-BD09-9F5C49FE8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9961D6-8909-4CD0-87A2-9FF67F5E0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A392DB-F9B2-42F2-8B0F-C7E472CD8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5BB96B-4261-44E4-8B19-FFC9C5050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85CFB1-543C-4013-B080-698CA22AA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E1770-8C53-4CD9-B7CD-4B7F72328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C50700-F8DA-445D-B7F0-53056D2E6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BE1F7E-2E40-4475-922E-364788BB0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30ECE3-FE4D-405C-8969-01E4E6295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6E6329-8450-4D87-8829-8C5768957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ADC7BD-EA6C-4CFE-855E-6F998D6CE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DBA8F6-9161-4745-B20F-09F7C2AE0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9ACB84-477D-4FDC-A191-A356CB547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2A7AB2-6C42-4AA0-BD5D-8CD2B6142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D1D815-F6ED-451D-B323-8F12A92B9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77CB54-ED96-453E-8379-0702103F0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4F041-969B-4360-82F6-2E4E9ED69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72AC9C-4E4E-4BE8-92E6-A3D373271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7D3614-21F9-45B7-9637-E8F6A2B79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0EC006-03B4-4961-AD1A-8439DFDAF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D9C6A5-1B9A-47AA-872F-912E24DF0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2C3B75-6777-4C44-AFE7-399F940F0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B23E9A-7A22-4AF5-8599-96ED2F693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4131F5-262E-4D9F-889D-6EE26E07F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5F824E-6FAD-458E-9535-7E168DE2D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1F367D-8F25-4569-BFF6-5076EFD58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E01E52-C6A8-4A72-8593-FEB4061D7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3C5FE-A74E-4628-B537-F24E1F513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EC6C1A-89A9-46D5-B076-6BFF66C0B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F21C9F-4D64-4FA2-9A79-1EB8EC998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E8647F-215F-4C5E-9FEA-81B1CAC82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8DC28F-40FD-4E17-899F-1915B209D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C3F5B1-8C36-47DC-8DE6-C07EA44BA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1BB5F3-FBC5-45CA-8B43-18C1CC0DA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0DD2E3-BFED-4C1A-B7EB-7AFFC5AFD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6C3C0E-0887-4EB5-B106-48051D68A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62B5FE-C520-47D9-8139-4ABEBE918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CA46D4-D3B0-45AB-B9A6-AFF7E6649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22B9C-5FDA-4069-B6FC-B11795EFA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4CFF06-A64C-474F-9CB2-52E6D3A08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26444-2E31-44B4-91D6-F061C3988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571ED-A253-430A-A92F-8B877FEB9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BF66A-8EFA-4A78-BDC3-C55E10F20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616F7-F9D3-4305-92B9-6B258676FB25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" name="Скругленный прямоугольник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5" name="Прямоугольник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6" name="Прямоугольник 14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7" name="Прямоугольник 15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723D1-98B5-4291-8F6F-9C1D33FEA7EC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grpSp>
        <p:nvGrpSpPr>
          <p:cNvPr id="90" name="Скругленный прямоугольник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Скругленный прямоугольник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93" name="Прямоугольник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4" name="Прямоугольник 14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5" name="Прямоугольник 15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5F691-81D6-439D-A444-AA23B1E28DBA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8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0" name="Скругленный прямоугольник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A9455-A8EC-4B7F-97FF-8F964BB9FBAC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3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4" name="Прямоугольник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5" name="Прямоугольник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6" name="Прямоугольник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FE6A3-D99D-478A-883F-D164C09E2BFF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696464"/>
                </a:solidFill>
                <a:latin typeface="Cambria"/>
              </a:rPr>
              <a:t>Д/з § 4,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696464"/>
                </a:solidFill>
                <a:latin typeface="Cambria"/>
              </a:rPr>
              <a:t> </a:t>
            </a:r>
            <a:r>
              <a:rPr b="0" lang="ru-RU" sz="2600" spc="-1" strike="noStrike">
                <a:solidFill>
                  <a:srgbClr val="696464"/>
                </a:solidFill>
                <a:latin typeface="Cambria"/>
              </a:rPr>
              <a:t>практикум на стр. 25,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696464"/>
                </a:solidFill>
                <a:latin typeface="Cambria"/>
              </a:rPr>
              <a:t>Термины на стр. 28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Человечество как сумма поколений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71640" y="0"/>
            <a:ext cx="777240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r>
              <a:rPr b="0" lang="ru-RU" sz="2400" spc="-1" strike="noStrike">
                <a:solidFill>
                  <a:srgbClr val="696464"/>
                </a:solidFill>
                <a:latin typeface="Calibri"/>
              </a:rPr>
              <a:t>Проанализируйте данные, приведенные в таблице. Какие выводы вы можете сделать о росте численности населения в разные исторические периоды?</a:t>
            </a:r>
            <a:br>
              <a:rPr sz="2400"/>
            </a:br>
            <a:endParaRPr b="0" lang="en-US" sz="2400" spc="-1" strike="noStrike">
              <a:solidFill>
                <a:srgbClr val="696464"/>
              </a:solidFill>
              <a:latin typeface="Calibri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914400" y="1447920"/>
          <a:ext cx="7772400" cy="5232240"/>
        </p:xfrm>
        <a:graphic>
          <a:graphicData uri="http://schemas.openxmlformats.org/drawingml/2006/table">
            <a:tbl>
              <a:tblPr/>
              <a:tblGrid>
                <a:gridCol w="2590920"/>
                <a:gridCol w="2590560"/>
                <a:gridCol w="2590920"/>
              </a:tblGrid>
              <a:tr h="368280">
                <a:tc>
                  <a:txBody>
                    <a:bodyPr lIns="86400" rIns="864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Период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t" marL="86400" marR="86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  <a:tc>
                  <a:txBody>
                    <a:bodyPr lIns="86400" rIns="864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врем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t" marL="86400" marR="86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  <a:tc>
                  <a:txBody>
                    <a:bodyPr lIns="86400" rIns="864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численн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t" marL="86400" marR="86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</a:tr>
              <a:tr h="916920">
                <a:tc>
                  <a:txBody>
                    <a:bodyPr lIns="86400" rIns="864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Конец палеоли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(древнекаменный век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t" marL="86400" marR="86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86400" rIns="864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Приблизительно 15 тысяч лет до нашей э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t" marL="86400" marR="86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86400" rIns="864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3 000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t" marL="86400" marR="86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</a:tr>
              <a:tr h="916920">
                <a:tc>
                  <a:txBody>
                    <a:bodyPr lIns="86400" rIns="864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Начало неоли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(новый каменный век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t" marL="86400" marR="86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86400" rIns="864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10 тысяч лет наза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t" marL="86400" marR="86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86400" rIns="864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10 000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t" marL="86400" marR="86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</a:tr>
              <a:tr h="642600">
                <a:tc>
                  <a:txBody>
                    <a:bodyPr lIns="86400" rIns="864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Энеолит (медно-каменный век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t" marL="86400" marR="86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86400" rIns="864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2 тысячи лет до нашей э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t" marL="86400" marR="86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86400" rIns="864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50 000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t" marL="86400" marR="86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</a:tr>
              <a:tr h="368280">
                <a:tc>
                  <a:txBody>
                    <a:bodyPr lIns="86400" rIns="864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Начало нашей э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t" marL="86400" marR="86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86400" rIns="864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I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век н.э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t" marL="86400" marR="86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86400" rIns="864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230 000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t" marL="86400" marR="86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</a:tr>
              <a:tr h="642600">
                <a:tc>
                  <a:txBody>
                    <a:bodyPr lIns="86400" rIns="864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Конец первого тысячелет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t" marL="86400" marR="86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86400" rIns="864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998 г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t" marL="86400" marR="86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86400" rIns="864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275 000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t" marL="86400" marR="86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</a:tr>
              <a:tr h="916920">
                <a:tc>
                  <a:txBody>
                    <a:bodyPr lIns="86400" rIns="864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Начало промышленной револю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t" marL="86400" marR="86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86400" rIns="864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1650 г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t" marL="86400" marR="86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86400" rIns="864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500 000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t" marL="86400" marR="86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</a:tr>
              <a:tr h="368280">
                <a:tc>
                  <a:txBody>
                    <a:bodyPr lIns="86400" rIns="864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Новейшее врем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t" marL="86400" marR="86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86400" rIns="864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XX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ве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t" marL="86400" marR="86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86400" rIns="864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2 000 000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t" marL="86400" marR="86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</a:tr>
              <a:tr h="368280">
                <a:tc>
                  <a:txBody>
                    <a:bodyPr lIns="86400" rIns="864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В наши дн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t" marL="86400" marR="86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86400" rIns="864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XXI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ве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t" marL="86400" marR="86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86400" rIns="864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6 000 000 00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t" marL="86400" marR="86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96464"/>
                </a:solidFill>
                <a:latin typeface="Calibri"/>
              </a:rPr>
              <a:t>Вывод: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С развитием человеческого общества численность людей на Земле возрастает.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Задание: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Подумайте, почему количество людей на  Земле постоянно растет?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28760" y="214200"/>
            <a:ext cx="8229600" cy="12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96464"/>
                </a:solidFill>
                <a:latin typeface="Calibri"/>
              </a:rPr>
              <a:t>Поколение – группа людей, живущих в одно время.</a:t>
            </a:r>
            <a:endParaRPr b="0" lang="en-US" sz="32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35" name="Содержимое 6" descr="поколения.jpg"/>
          <p:cNvPicPr/>
          <p:nvPr/>
        </p:nvPicPr>
        <p:blipFill>
          <a:blip r:embed="rId1"/>
          <a:stretch/>
        </p:blipFill>
        <p:spPr>
          <a:xfrm>
            <a:off x="684360" y="1844640"/>
            <a:ext cx="2773080" cy="381636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 txBox="1"/>
          <p:nvPr/>
        </p:nvSpPr>
        <p:spPr>
          <a:xfrm>
            <a:off x="3492000" y="1268280"/>
            <a:ext cx="5194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Назовите поколения в  вашей семье? Сколько поколений в вашей семье?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Отличаются ли люди разных поколений друг от друга? В чем это проявляется?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Проявление различий во взглядах у представителей разных поколений называется конфликтом поколений? Возникает  ли непонимание в вашей семье между поколениями? В чем это проявляется?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>
    <p:wipe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96464"/>
                </a:solidFill>
                <a:latin typeface="Calibri"/>
              </a:rPr>
              <a:t>Давайте подумаем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826920" y="14842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64600" indent="-26460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Ситуация 1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64600" indent="-26460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31000" indent="-2214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Ваня пришел из школы и громко включил музыку с записью рок-концерта. Бабушка в это время отдыхала. Она любит слушать романсы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64600" indent="-26460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64600" indent="-26460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Ситуация 2. 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64600" indent="-26460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64600" indent="-26460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Мама просит сына сходить в магазин, а он играет в компьютерную игру  и игнорирует просьбу мамы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>
    <p:wipe dir="u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2000" fill="hold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2000" fill="hold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2000" fill="hold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2000" fill="hold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2000" fill="hold"/>
                                        <p:tgtEl>
                                          <p:spTgt spid="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2000" fill="hold"/>
                                        <p:tgtEl>
                                          <p:spTgt spid="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-412560"/>
            <a:ext cx="8229600" cy="6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67120" indent="-2671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Ситуация 3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67120" indent="-2671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67120" indent="-2671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На улице взрослый прохожий сделал замечание подростку по поводу курения. Мальчик в ответ нагрубил: «Это мои проблемы»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67120" indent="-2671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67120" indent="-2671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Ситуация 4. 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67120" indent="-2671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67120" indent="-2671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Папа не дает смотреть дочери реалити-шоу «Дом-2», а предлагает передачи познавательного характера, например «Умники и умницы»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20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20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200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200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2000" fill="hold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2000" fill="hold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2000" fill="hold"/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2000" fill="hold"/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96464"/>
                </a:solidFill>
                <a:latin typeface="Calibri"/>
              </a:rPr>
              <a:t>                                          </a:t>
            </a:r>
            <a:r>
              <a:rPr b="0" lang="ru-RU" sz="3600" spc="-1" strike="noStrike">
                <a:solidFill>
                  <a:srgbClr val="696464"/>
                </a:solidFill>
                <a:latin typeface="Calibri"/>
              </a:rPr>
              <a:t>Ситуация 5.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42" name="Содержимое 4" descr="поколения 1.jpg"/>
          <p:cNvPicPr/>
          <p:nvPr/>
        </p:nvPicPr>
        <p:blipFill>
          <a:blip r:embed="rId1"/>
          <a:stretch/>
        </p:blipFill>
        <p:spPr>
          <a:xfrm>
            <a:off x="755640" y="2276640"/>
            <a:ext cx="3672000" cy="257472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 txBox="1"/>
          <p:nvPr/>
        </p:nvSpPr>
        <p:spPr>
          <a:xfrm>
            <a:off x="4642920" y="1699920"/>
            <a:ext cx="403884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Дедушка возмущен словами, которые употребляет внук в своей речи и требует, чтобы он почаще читал произведения русской классической литературы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2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2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20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20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96464"/>
                </a:solidFill>
                <a:latin typeface="Calibri"/>
              </a:rPr>
              <a:t>Культурное наследие – часть культуры, созданная прошлыми поколениями, выдержавшая испытание временем и передающаяся следующим поколениям как нечто ценное и почитаемое.</a:t>
            </a:r>
            <a:br>
              <a:rPr sz="3600"/>
            </a:br>
            <a:r>
              <a:rPr b="0" i="1" lang="ru-RU" sz="2800" spc="-1" strike="noStrike">
                <a:solidFill>
                  <a:srgbClr val="696464"/>
                </a:solidFill>
                <a:latin typeface="Calibri"/>
              </a:rPr>
              <a:t>Заполните таблицу</a:t>
            </a:r>
            <a:endParaRPr b="0" lang="en-US" sz="2800" spc="-1" strike="noStrike">
              <a:solidFill>
                <a:srgbClr val="696464"/>
              </a:solidFill>
              <a:latin typeface="Calibri"/>
            </a:endParaRPr>
          </a:p>
        </p:txBody>
      </p:sp>
      <p:graphicFrame>
        <p:nvGraphicFramePr>
          <p:cNvPr id="245" name=""/>
          <p:cNvGraphicFramePr/>
          <p:nvPr/>
        </p:nvGraphicFramePr>
        <p:xfrm>
          <a:off x="611280" y="4005360"/>
          <a:ext cx="8229600" cy="16556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Материальная культур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Нематериальная культур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</a:tr>
              <a:tr h="70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3T06:37:22Z</dcterms:created>
  <dc:creator>УМР</dc:creator>
  <dc:description/>
  <dc:language>en-US</dc:language>
  <cp:lastModifiedBy>Елена</cp:lastModifiedBy>
  <dcterms:modified xsi:type="dcterms:W3CDTF">2011-10-13T15:38:38Z</dcterms:modified>
  <cp:revision>13</cp:revision>
  <dc:subject/>
  <dc:title>Человечество как сумма поколений</dc:title>
</cp:coreProperties>
</file>