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EB9-13BB-4204-A01A-6141EFE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27B-0B50-4255-9E1F-92595F2E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A2B-E8C2-4564-92DD-980D45F5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10D-C5DA-498D-A3E9-C93F1944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6A15-FD42-4CF6-9EC2-995C0F35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87C-D1E2-4B61-902A-0C5800F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F55-67BD-427D-B7D1-B117FF57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E35-B531-4E3D-BA82-D52ACB4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B072-BB7C-4FD4-B0E3-3BB0EBC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AE3-ED67-4A67-8D5E-73D1A84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C7F-0059-43AF-8F30-49C2641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B3B-783E-42F9-ADCA-7D39D4BB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3C8E-65A0-4B0A-8F30-68DA4B7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9E6-7614-4E0B-A475-865AC0F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0CC-B3B5-428A-ABB3-F5189651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F22-5111-4DB7-8CAA-24BC495B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D6D1-2DB1-42E9-863E-9195D97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63A9-BEB8-498D-8B88-B8A949E8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8CF6-5E95-48A9-991A-47DE21E2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C34C-7E35-4CB7-A1B8-61A48DE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C660-C9A1-48B2-AB26-3F4795F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A8B7-1BB2-4CE0-A06F-F91B06DA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D49-6F55-415F-BC47-FC465F6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2825-34A4-4791-9442-8499DBE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F4B1-CD29-4C02-BDF2-3D2642F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ED41-3B33-4719-8BA9-3816F1E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3486-30F3-4D85-A9D5-4D382B6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BFDC-DFEB-49B5-88A4-21B572E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C809-F3D9-49BF-BB99-9E1ADE52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B33A-601F-4446-B258-16987897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3A53-76AE-4C6F-9030-8382CFAB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16FF-8771-40A9-98F1-5ECEA606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B228-B833-4C94-AE78-F8A9DBA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68E-190B-47B0-A193-9C7F4AF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C9C7-EEC0-4A3C-BF19-24453AF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797F-5094-4585-9362-67AA8C9F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5314-7B50-4DFF-8A4F-2FBBA05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227C-D538-4348-9EEE-9EDBE65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4416-14F6-43FE-BB2A-41AE231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5891-299F-4C84-8139-7F675059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B54C-9C0D-449C-8DAD-D89AAB59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5B31-AAEF-4BD6-967D-ECDC0CC3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85D9-EF36-416F-8106-65F299C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5A27-C765-4B2C-A31F-1933E754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3D7-C2DA-4F6D-94CB-7FF84FE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F896-4471-4AED-B8CF-4BCB999E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7EB6-7720-4842-89F3-5E72244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AF05-B6A4-4F15-A8DD-3671A832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CB53-00B2-464C-BBC0-DF160E1D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1680-ABCC-49BC-A9EE-2AC8994A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DA77-AA16-40F7-8261-8305310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CBFA-2B6F-4E7C-A96A-0FC4FA3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1B76-7398-4380-8820-1834DB2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F923-2833-47E1-AB88-345B71E4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EC57-BA74-499C-89CC-1FAC54B7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D70-794D-44DA-A4E1-EE19E5D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F8DE-0289-4BB7-9704-163B517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595-210E-4538-8929-9A26B114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D0C-357C-4234-BEF1-249C610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1CA-8911-4D40-95CE-8CB4415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FDCE-5393-4B4A-B02F-6F41EDBD581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7EE-73D7-4550-B6D1-A295F3379D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463-00AA-4BA5-B956-F5D9A3CAE52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E1E2-66C5-4DF6-87E4-214DEA2AD4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3F9-81B2-4057-8BC3-E9B2C01CDD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Д/з § 4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рактикум на стр. 25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Термины на стр. 2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еловечество как сумма покол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Проанализируйте данные, приведенные в таблице. Какие выводы вы можете сделать о росте численности населения в разные исторические периоды?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447920"/>
          <a:ext cx="7772400" cy="5232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чис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нец палеол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древне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близительно 15 тысяч лет д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неол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новый 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 тысяч лет наз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неолит (медно-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тысячи лет д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нец первого тысячеле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5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промышленной револю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65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овейше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X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00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наши д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XX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 000 000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ывод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 развитием человеческого общества численность людей на Земле возрастает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думайте, почему количество людей на  Земле постоянно растет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Поколение – группа людей, живущих в одно время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Содержимое 6" descr="поколения.jpg"/>
          <p:cNvPicPr/>
          <p:nvPr/>
        </p:nvPicPr>
        <p:blipFill>
          <a:blip r:embed="rId1"/>
          <a:stretch/>
        </p:blipFill>
        <p:spPr>
          <a:xfrm>
            <a:off x="684360" y="1844640"/>
            <a:ext cx="2773080" cy="381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492000" y="1268280"/>
            <a:ext cx="5194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зовите поколения в  вашей семье? Сколько поколений в вашей семь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личаются ли люди разных поколений друг от друга? В чем это проявляетс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явление различий во взглядах у представителей разных поколений называется конфликтом поколений? Возникает  ли непонимание в вашей семье между поколениями? В чем это проявляетс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авайте подума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92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ня пришел из школы и громко включил музыку с записью рок-концерта. Бабушка в это время отдыхала. Она любит слушать роман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2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ама просит сына сходить в магазин, а он играет в компьютерную игру  и игнорирует просьбу мам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412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3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 улице взрослый прохожий сделал замечание подростку по поводу курения. Мальчик в ответ нагрубил: «Это мои проблемы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4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па не дает смотреть дочери реалити-шоу «Дом-2», а предлагает передачи познавательного характера, например «Умники и умницы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                                        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итуация 5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4" descr="поколения 1.jpg"/>
          <p:cNvPicPr/>
          <p:nvPr/>
        </p:nvPicPr>
        <p:blipFill>
          <a:blip r:embed="rId1"/>
          <a:stretch/>
        </p:blipFill>
        <p:spPr>
          <a:xfrm>
            <a:off x="755640" y="2276640"/>
            <a:ext cx="3672000" cy="257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642920" y="169992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душка возмущен словами, которые употребляет внук в своей речи и требует, чтобы он почаще читал произведения русской классической литератур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ультурное наследие – часть культуры, созданная прошлыми поколениями, выдержавшая испытание временем и передающаяся следующим поколениям как нечто ценное и почитаемое.</a:t>
            </a:r>
            <a:br>
              <a:rPr sz="3600"/>
            </a:br>
            <a:r>
              <a:rPr b="0" i="1" lang="ru-RU" sz="2800" spc="-1" strike="noStrike">
                <a:solidFill>
                  <a:srgbClr val="696464"/>
                </a:solidFill>
                <a:latin typeface="Calibri"/>
              </a:rPr>
              <a:t>Заполните таблицу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11280" y="4005360"/>
          <a:ext cx="8229600" cy="165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атериаль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ематериаль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37:22Z</dcterms:created>
  <dc:creator>УМР</dc:creator>
  <dc:description/>
  <dc:language>en-US</dc:language>
  <cp:lastModifiedBy>Елена</cp:lastModifiedBy>
  <dcterms:modified xsi:type="dcterms:W3CDTF">2011-10-13T15:38:38Z</dcterms:modified>
  <cp:revision>13</cp:revision>
  <dc:subject/>
  <dc:title>Человечество как сумма поколений</dc:title>
</cp:coreProperties>
</file>