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9.png" ContentType="image/png"/>
  <Override PartName="/ppt/media/image20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E71-1608-420E-8871-C7EFE80A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C79-A402-4ED9-82E1-B823FB56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011-79BC-4183-A39F-F0328F29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134-0E03-4EDE-AE4B-FC479441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03DB-30AF-46BD-8143-EAFFA37B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2283-970D-41BB-B437-F5C265F2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3E29-276A-40A3-A7DC-67DA8492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768F-28C3-4F4C-B5B8-B3D4E302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0D85-9AD9-4744-9BA9-876AAFA5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3AE8-B834-4520-8035-C5A797A7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F937-64BE-4376-97A2-F8D3F6BD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60C-3FCD-4D56-9796-293053FC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2152-529D-48A6-813D-87013EB7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98FD-0D83-4FBE-91E3-3FB00904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9D83-330F-462D-8FF2-11D027D2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AEAA-3E37-485D-83F4-468D4547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B8C1-DCD4-4A1A-BADB-FABA5558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27C-7E35-4E33-A3E5-F63CEB45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A1C-0B0D-4476-ACB6-1E6DDA20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0E2-E414-4804-984A-4B22A419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FC0-C0D1-4A05-B2FE-FA6FB492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C0C-D8EA-4EE9-BF46-6F9C617A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7E7-CD2F-493F-B4F1-55B4D56F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6AF-F2CC-4EF4-8026-C036F20B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47DD-AAC4-4C34-9CCB-71D3D6575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2E6F-F51C-4BF6-8463-9BB493D0D3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4360" y="549360"/>
            <a:ext cx="763272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Турнир любознатель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«Влилась в века Эллад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как вино…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14480" y="576360"/>
            <a:ext cx="531504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76440" y="438120"/>
            <a:ext cx="41911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960560" y="0"/>
            <a:ext cx="527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69832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499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89000" y="847800"/>
            <a:ext cx="696456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424720" cy="63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69832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50920" y="333360"/>
            <a:ext cx="4973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095560" y="0"/>
            <a:ext cx="542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987640" y="1773360"/>
            <a:ext cx="6048360" cy="3024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85840" y="5321160"/>
            <a:ext cx="64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а, скажи мне о том многоопытном муже, которы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анствуя долго со дня, как святой Илион им разрушен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их людей города посетил и обычаи виде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4000" y="838080"/>
            <a:ext cx="25254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030480" cy="3313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477040" y="404640"/>
            <a:ext cx="2992320" cy="3024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692360" y="3141720"/>
            <a:ext cx="41036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63640" y="1197000"/>
            <a:ext cx="57625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4819680"/>
            <a:ext cx="8137440" cy="137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867280" y="1268280"/>
            <a:ext cx="1838520" cy="2895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11280" y="404640"/>
            <a:ext cx="3986280" cy="40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3429000" cy="4064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500720" y="1268280"/>
            <a:ext cx="43434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93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58658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095560" y="0"/>
            <a:ext cx="542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485640"/>
            <a:ext cx="835164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4360" y="549360"/>
            <a:ext cx="763272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Турнир любознатель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«Влилась в века Эллад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как вино…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246120" cy="4868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995640" y="333360"/>
            <a:ext cx="491508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19320" y="790560"/>
            <a:ext cx="670536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336760" y="0"/>
            <a:ext cx="425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8520" y="-1539720"/>
            <a:ext cx="8494560" cy="107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3591000" y="-9245520"/>
            <a:ext cx="12771360" cy="161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16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2:25:17Z</dcterms:created>
  <dc:creator>Василий Афанасьевич</dc:creator>
  <dc:description/>
  <dc:language>en-US</dc:language>
  <cp:lastModifiedBy>Василий Афанасьевич</cp:lastModifiedBy>
  <dcterms:modified xsi:type="dcterms:W3CDTF">2008-03-13T07:20:39Z</dcterms:modified>
  <cp:revision>8</cp:revision>
  <dc:subject/>
  <dc:title>Слайд 1</dc:title>
</cp:coreProperties>
</file>