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951-AD43-4357-A120-7F26CCA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189-FD49-49C7-95F2-355AE16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4FD-4EEB-4571-B1B7-F4D3CE2A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566-953A-45BF-A9DD-180F4476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A41A-5644-4F4E-8028-2510A862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B1EC-A8B4-47F3-8E8E-A1826AA1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82C3-8416-4FCA-91AF-04F54456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7B31-C4BD-4349-A1E2-233F8FD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5693-F0BE-4289-B373-2754652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41F4-299F-4D3D-A0AA-0A4DB480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02FB-9DCB-4499-9647-63839405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0FB-5CCF-46C8-803F-CC537F1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D1B-6A93-42E7-855B-F271EB8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EF2-D117-487B-95C5-43740AE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22D-62C3-4374-935B-7FAFD54C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C332-B887-4184-BE4F-E0C495E0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837-38D7-4694-9F04-46E60CA9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41B-53FE-45C1-A523-5A84B110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434-8FF9-4D45-9F07-E9C124AB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B47-BD47-40BB-A08B-0942D6DA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208-8823-4BBF-ACAD-817E350B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5CB-85F0-444E-AD5F-54CC8FE3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759-0154-4227-BFB2-1DAD5E5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3AA-47D9-4122-8523-A47409C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AB92-46C2-4B4B-94C4-F0EA5AF82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CCF-187C-4CEE-B6DF-ADD770642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549360"/>
            <a:ext cx="763272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Турнир любозн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«Влилась в века Эллад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как вино…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14480" y="576360"/>
            <a:ext cx="5315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76440" y="438120"/>
            <a:ext cx="41911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6056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6983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9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9000" y="847800"/>
            <a:ext cx="69645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6983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4973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955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6048360" cy="302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5840" y="5321160"/>
            <a:ext cx="64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а, скажи мне о том многоопытном муже, которы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нствуя долго со дня, как святой Илион им разруше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х людей города посетил и обычаи виде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838080"/>
            <a:ext cx="2525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30480" cy="331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477040" y="404640"/>
            <a:ext cx="299232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41036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7625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4819680"/>
            <a:ext cx="8137440" cy="137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1838520" cy="289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98628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429000" cy="4064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4343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65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955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85640"/>
            <a:ext cx="835164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549360"/>
            <a:ext cx="763272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Турнир любозн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«Влилась в века Эллад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как вино…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246120" cy="48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49150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790560"/>
            <a:ext cx="67053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36760" y="0"/>
            <a:ext cx="42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8520" y="-1539720"/>
            <a:ext cx="849456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3591000" y="-9245520"/>
            <a:ext cx="12771360" cy="161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25:17Z</dcterms:created>
  <dc:creator>Василий Афанасьевич</dc:creator>
  <dc:description/>
  <dc:language>en-US</dc:language>
  <cp:lastModifiedBy>Василий Афанасьевич</cp:lastModifiedBy>
  <dcterms:modified xsi:type="dcterms:W3CDTF">2008-03-13T07:20:39Z</dcterms:modified>
  <cp:revision>8</cp:revision>
  <dc:subject/>
  <dc:title>Слайд 1</dc:title>
</cp:coreProperties>
</file>