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B6A2-7A0A-4F95-93BC-A68D9849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C4D5-46ED-4AE3-A6B5-B7923ABD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5643-E684-4455-AEFE-B0D21FCE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8188-B010-47C7-9E78-E967449D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EC4C-D9F7-4260-886D-013E199F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D965-A1E3-4533-8F38-F690D95C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316C-D008-4AC1-83C7-9F4DA490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CB99-E288-483D-BECA-85359CDE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A8D8-8758-4444-A4F8-AF9BE370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20FD-C8A9-4E69-A713-51C12DE3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E74C-B3E6-4EBB-9B91-BC1D0E37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80C-E049-4E86-AE06-E35CDB8C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170D-DB00-40D8-9265-CEBBD1DA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21CB-D51F-4CF2-AE8E-8C8ACF4B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BC06-B5AF-4194-A746-5BE33D8B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4F1D-75C9-4D31-86BC-F9B8D648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549E-295E-40CF-846D-F4EDC43A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E34-47DB-4AD0-BBA8-B4837058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0056-539B-4AEF-B334-B4F35187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2DEF-64AD-47C9-A506-0318C7FE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3E48-9F53-4146-BCFC-2815CADC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DE30-852D-489E-A585-D4BE02B0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D5AD-2730-454A-B80B-738EF8D8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A8F4-9BB9-44E3-B8B8-08078316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D3F6-E010-46C7-9440-95993FC8D9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D763-8E69-469B-A443-159C5E7D02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roxy12.media.online.ua/uol/r2-64a51fb9c3/4f7499940c314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rb.ru/upload/users/picture/89147/klassik_v_polnyi_rost_2009-03-03_20.45.15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ovostivl.ru/files/files/25/28825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03.fsimg.ru/1/tlog_box/1751/175127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4/vibpxhgglzd.ce4/0_36820_729365be_X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Загадки о домашних животных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160" y="4647960"/>
            <a:ext cx="62290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работала Васильева Людмила Юр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спитатель ГБДОУ детский сад №14 комбинированного вида Кировского рай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нкт-Петербур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пушистый  и глазастый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ушастый и зубасты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равку кушает, морковку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явив свою сноровку 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летке сгрыз дощатый полик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не зайчик   он 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(кролик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Картинка 17 из 160385"/>
          <p:cNvPicPr/>
          <p:nvPr/>
        </p:nvPicPr>
        <p:blipFill>
          <a:blip r:embed="rId1"/>
          <a:stretch/>
        </p:blipFill>
        <p:spPr>
          <a:xfrm>
            <a:off x="3048120" y="2743200"/>
            <a:ext cx="518148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дом чужого не пущ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ез хозяина грущу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Картинка 35 из 2140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1905120"/>
            <a:ext cx="40561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аже по железной крыше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одит тихо, тише мыши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охоту ночью выйдет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как днём всё видит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асто спит, а после сна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мывается она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Картинка 31 из 2145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590920"/>
            <a:ext cx="579096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то имеет пятачок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зажатый в кулачок?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ногах её копытца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 и пьёт она с корыт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Картинка 390 из 1537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2666880"/>
            <a:ext cx="563868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ыгоняли рог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гулять на луга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рога вечерком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брели с молоч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Картинка 4 из 1737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286000"/>
            <a:ext cx="54100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на не буренка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 все же пок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ает ежедневно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увшин молока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й дай только волю 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мь дней не пройдет 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сюду с деревьев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ру обдер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Картинка 167 из 7965"/>
          <p:cNvPicPr/>
          <p:nvPr/>
        </p:nvPicPr>
        <p:blipFill>
          <a:blip r:embed="rId1"/>
          <a:stretch/>
        </p:blipFill>
        <p:spPr>
          <a:xfrm>
            <a:off x="3505320" y="2895480"/>
            <a:ext cx="533376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-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меня большая грива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шки и копытца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качу того игриво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то не побоится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я шёрстка гладка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то же я?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Картинка 11 из 2129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514600"/>
            <a:ext cx="5076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одит печка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я в колечка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Картинка 108 из 158398"/>
          <p:cNvPicPr/>
          <p:nvPr/>
        </p:nvPicPr>
        <p:blipFill>
          <a:blip r:embed="rId1"/>
          <a:stretch/>
        </p:blipFill>
        <p:spPr>
          <a:xfrm>
            <a:off x="2971800" y="2666880"/>
            <a:ext cx="553392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ех уже он забодал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ни встреча, то скандал!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н рогат и вечно зол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зовут его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Картинка 220 из 7965"/>
          <p:cNvPicPr/>
          <p:nvPr/>
        </p:nvPicPr>
        <p:blipFill>
          <a:blip r:embed="rId1"/>
          <a:stretch/>
        </p:blipFill>
        <p:spPr>
          <a:xfrm>
            <a:off x="3124080" y="2438280"/>
            <a:ext cx="50770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ся</cp:lastModifiedBy>
  <dcterms:modified xsi:type="dcterms:W3CDTF">2012-07-29T16:40:1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