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5D7-1ABA-44C5-9B64-526E1AA0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26F-B67E-43DC-92F9-20308DC0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9DF-818C-45EE-BB86-777EB5C2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4B1-04B6-48D4-9B3C-E36ED958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A487-571B-4018-B415-934491BE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BEE4-B8B4-4581-B980-AEF14E34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A5F2-B53E-402D-97BA-A9233648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AEE4-154B-4DB8-B8D8-30C1B341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2DB6-6611-44BD-A7DD-C9CE7F50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4DDA-1F7C-45F0-A9C3-0C5EB45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03BC-EFBD-4B99-A9F5-C433CD38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D97-8950-4D00-8F10-595E028E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55E0-0410-4440-AD6E-A9D16930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8232-84F0-4B36-A554-59B088DE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770B-0CB9-4742-A351-DBF81984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B8E0-7547-4D4C-A9FE-19632166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BF70-8D15-44B3-A588-E007123E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05D-146A-41E5-8F04-D0AF45A1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38C-95BB-4367-B8BF-22B0282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D75-5140-4E88-BD0C-056FA010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9B8-5174-455C-BA34-65E9754B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971-DEC3-414B-B68A-6ABA5BB2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239-04B0-4D82-97CE-55F93075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8C1-728A-48E6-ADFD-AE67EC52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1762-CCF0-482A-9DD5-4897C41038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D659-BEAE-4982-97EB-B41EE885C2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roxy12.media.online.ua/uol/r2-64a51fb9c3/4f7499940c31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rb.ru/upload/users/picture/89147/klassik_v_polnyi_rost_2009-03-03_20.45.1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ovostivl.ru/files/files/25/2882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3.fsimg.ru/1/tlog_box/1751/175127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4/vibpxhgglzd.ce4/0_36820_729365be_X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Загадки о домашних животных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62290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работала Васильева Людмила 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атель ГБДОУ детский сад №14 комбинированного вида Кировского рай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ушистый  и глазасты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ушастый и зубасты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вку кушает, морковку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явив свою сноровку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летке сгрыз дощатый поли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 зайчик   он 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(кролик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Картинка 17 из 160385"/>
          <p:cNvPicPr/>
          <p:nvPr/>
        </p:nvPicPr>
        <p:blipFill>
          <a:blip r:embed="rId1"/>
          <a:stretch/>
        </p:blipFill>
        <p:spPr>
          <a:xfrm>
            <a:off x="3048120" y="2743200"/>
            <a:ext cx="51814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дом чужого не пущ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хозяина грущу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Картинка 35 из 2140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1905120"/>
            <a:ext cx="4056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же по железной крыше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дит тихо, тише мыши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хоту ночью выйдет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как днём всё видит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о спит, а после сн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ывается он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ртинка 31 из 2145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590920"/>
            <a:ext cx="5790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имеет пятачок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зажатый в кулачок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ногах её копытца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 и пьёт она с коры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Картинка 390 из 1537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666880"/>
            <a:ext cx="563868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гоняли рог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гулять на луг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рога вечерком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брели с молоч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Картинка 4 из 1737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0"/>
            <a:ext cx="5410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а не буренк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все же по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ет ежедневн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вшин молок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й дай только волю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мь дней не пройдет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сюду с деревьев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у обдер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Картинка 167 из 7965"/>
          <p:cNvPicPr/>
          <p:nvPr/>
        </p:nvPicPr>
        <p:blipFill>
          <a:blip r:embed="rId1"/>
          <a:stretch/>
        </p:blipFill>
        <p:spPr>
          <a:xfrm>
            <a:off x="3505320" y="2895480"/>
            <a:ext cx="53337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-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меня большая грив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шки и копыт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качу того игриво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не побоитс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я шёрстка гладк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же я?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тинка 11 из 2129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5146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дит печк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я в колечк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Картинка 108 из 158398"/>
          <p:cNvPicPr/>
          <p:nvPr/>
        </p:nvPicPr>
        <p:blipFill>
          <a:blip r:embed="rId1"/>
          <a:stretch/>
        </p:blipFill>
        <p:spPr>
          <a:xfrm>
            <a:off x="2971800" y="2666880"/>
            <a:ext cx="55339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х уже он забодал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ни встреча, то скандал!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рогат и вечно зол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зовут ег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Картинка 220 из 7965"/>
          <p:cNvPicPr/>
          <p:nvPr/>
        </p:nvPicPr>
        <p:blipFill>
          <a:blip r:embed="rId1"/>
          <a:stretch/>
        </p:blipFill>
        <p:spPr>
          <a:xfrm>
            <a:off x="3124080" y="243828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07-29T16:40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