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3.jpeg" ContentType="image/jpeg"/>
  <Override PartName="/ppt/media/image27.jpeg" ContentType="image/jpeg"/>
  <Override PartName="/ppt/media/image39.jpeg" ContentType="image/jpeg"/>
  <Override PartName="/ppt/media/image43.jpeg" ContentType="image/jpeg"/>
  <Override PartName="/ppt/media/image10.jpeg" ContentType="image/jpeg"/>
  <Override PartName="/ppt/media/image6.jpeg" ContentType="image/jpeg"/>
  <Override PartName="/ppt/media/image25.gif" ContentType="image/gif"/>
  <Override PartName="/ppt/media/image29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80C-B096-45D2-941C-BD414D6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E26-BDF8-4885-89AC-A8A6818B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543-D614-40B4-9C13-772C77A3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6E5-CFF5-42A0-BD2D-C8D1A0A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E4BE-0649-499C-8591-5C6252BB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8F84-0868-482E-968B-A4D9EEE6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2F1-3174-4F3D-84E8-E13441B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8F94-3854-4B49-AD1C-D37E3273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9AFE-8776-4D67-8F54-AF97641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0C1F-B33C-4164-8E9D-7FF0F1C7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1C2D-CD0F-45C3-B7EB-A75D8445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F9B-A2F3-426D-A377-3209ED0A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15BF-0CF2-48A5-9CB0-5758ACC5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6F8D-80FA-475C-8B38-F56B912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80FB-E822-4B89-9194-76DBF74F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5337-3089-4142-A931-6A68F170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594D-59A6-4B82-BAE6-46586DF7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22B-1ECF-424F-A522-DB28F53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F1A-8FDE-404D-A09C-7D7EAF09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4F8-CC18-4F3B-9907-7A2392CE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0D5-432B-4698-96BC-6CCCDE92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E1D-101F-4916-B667-74D39788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2F6-6BD2-4CB5-9EF6-763B312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BAB-4CA9-48BD-9684-7D469E5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100-1D3B-44AD-BCB9-2DDAADEC3E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96F-FCFC-4322-BF19-D7E3E663D7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" Target="slide17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8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Биологические ритмы растений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5640" y="3933360"/>
            <a:ext cx="636876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Работу выполн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ученица 10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лицея №1 пос.Львов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Урманчеева Соф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Руководитель Крылова Е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шиповник"/>
          <p:cNvPicPr/>
          <p:nvPr/>
        </p:nvPicPr>
        <p:blipFill>
          <a:blip r:embed="rId1"/>
          <a:stretch/>
        </p:blipFill>
        <p:spPr>
          <a:xfrm>
            <a:off x="2484360" y="765000"/>
            <a:ext cx="3956040" cy="52754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5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Maк"/>
          <p:cNvPicPr/>
          <p:nvPr/>
        </p:nvPicPr>
        <p:blipFill>
          <a:blip r:embed="rId1"/>
          <a:stretch/>
        </p:blipFill>
        <p:spPr>
          <a:xfrm>
            <a:off x="1692360" y="1341360"/>
            <a:ext cx="5904000" cy="392436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одуванчик"/>
          <p:cNvPicPr/>
          <p:nvPr/>
        </p:nvPicPr>
        <p:blipFill>
          <a:blip r:embed="rId1"/>
          <a:stretch/>
        </p:blipFill>
        <p:spPr>
          <a:xfrm>
            <a:off x="1835280" y="1484280"/>
            <a:ext cx="5976720" cy="4070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5" descr="кариофель"/>
          <p:cNvPicPr/>
          <p:nvPr/>
        </p:nvPicPr>
        <p:blipFill>
          <a:blip r:embed="rId1"/>
          <a:stretch/>
        </p:blipFill>
        <p:spPr>
          <a:xfrm>
            <a:off x="1187280" y="1268280"/>
            <a:ext cx="6696360" cy="435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Kuvhinka_bela8"/>
          <p:cNvPicPr/>
          <p:nvPr/>
        </p:nvPicPr>
        <p:blipFill>
          <a:blip r:embed="rId1"/>
          <a:stretch/>
        </p:blipFill>
        <p:spPr>
          <a:xfrm>
            <a:off x="1908000" y="1530360"/>
            <a:ext cx="5328000" cy="379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ноготки"/>
          <p:cNvPicPr/>
          <p:nvPr/>
        </p:nvPicPr>
        <p:blipFill>
          <a:blip r:embed="rId1"/>
          <a:stretch/>
        </p:blipFill>
        <p:spPr>
          <a:xfrm>
            <a:off x="2627280" y="836640"/>
            <a:ext cx="4133880" cy="5497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мать-и-мачеха"/>
          <p:cNvPicPr/>
          <p:nvPr/>
        </p:nvPicPr>
        <p:blipFill>
          <a:blip r:embed="rId1"/>
          <a:stretch/>
        </p:blipFill>
        <p:spPr>
          <a:xfrm>
            <a:off x="1000080" y="566640"/>
            <a:ext cx="7143840" cy="572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836640"/>
            <a:ext cx="4394160" cy="3998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«Цветочные часы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108000" y="11592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574560" y="5013360"/>
            <a:ext cx="831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тобы ответить на этот вопрос, ученым предстояло сделать важное открытие: оказы-вается, растения тоже способны двигаться. Эти, так называемые "сонные движения" растений, или настии, в основе своей имеют неравномерный рост внутренней или на-ружной сторон каждого лепестка. Если быстрее растет внутренняя сторона, то он от-клоняется наружу, в результате чего цветок открывается. Напротив, в случае быстрого роста наружной стороны лепестков цветок закрывае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10"/>
          <p:cNvSpPr txBox="1"/>
          <p:nvPr/>
        </p:nvSpPr>
        <p:spPr>
          <a:xfrm>
            <a:off x="6300720" y="981000"/>
            <a:ext cx="7430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003640" y="249228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В чем же секрет этих часов?</a:t>
            </a:r>
            <a:r>
              <a:rPr b="0" lang="ru-RU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i="1" lang="ru-RU" sz="4800" spc="-1" strike="noStrike">
                <a:solidFill>
                  <a:srgbClr val="008000"/>
                </a:solidFill>
                <a:latin typeface="Times New Roman"/>
              </a:rPr>
              <a:t>Фотопериодизм</a:t>
            </a:r>
            <a:r>
              <a:rPr b="1" i="1" lang="ru-RU" sz="4400" spc="-1" strike="noStrike">
                <a:solidFill>
                  <a:srgbClr val="a26d18"/>
                </a:solidFill>
                <a:latin typeface="Times New Roman"/>
              </a:rPr>
              <a:t>  -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способность организмов реагировать на изменение длины дня получила название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3" name="Picture 5" descr="sh-his"/>
          <p:cNvPicPr/>
          <p:nvPr/>
        </p:nvPicPr>
        <p:blipFill>
          <a:blip r:embed="rId1"/>
          <a:stretch/>
        </p:blipFill>
        <p:spPr>
          <a:xfrm>
            <a:off x="179280" y="260280"/>
            <a:ext cx="857520" cy="714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Годовые ритм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05" name="Picture 5" descr="IMG_0025"/>
          <p:cNvPicPr/>
          <p:nvPr/>
        </p:nvPicPr>
        <p:blipFill>
          <a:blip r:embed="rId1"/>
          <a:stretch/>
        </p:blipFill>
        <p:spPr>
          <a:xfrm>
            <a:off x="1116000" y="39337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IMG_0163"/>
          <p:cNvPicPr/>
          <p:nvPr/>
        </p:nvPicPr>
        <p:blipFill>
          <a:blip r:embed="rId2"/>
          <a:stretch/>
        </p:blipFill>
        <p:spPr>
          <a:xfrm>
            <a:off x="468360" y="1125360"/>
            <a:ext cx="1641600" cy="2189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PH05798"/>
          <p:cNvPicPr/>
          <p:nvPr/>
        </p:nvPicPr>
        <p:blipFill>
          <a:blip r:embed="rId3"/>
          <a:stretch/>
        </p:blipFill>
        <p:spPr>
          <a:xfrm>
            <a:off x="2987640" y="1197000"/>
            <a:ext cx="22208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IMG_0021"/>
          <p:cNvPicPr/>
          <p:nvPr/>
        </p:nvPicPr>
        <p:blipFill>
          <a:blip r:embed="rId4"/>
          <a:stretch/>
        </p:blipFill>
        <p:spPr>
          <a:xfrm>
            <a:off x="5580000" y="119700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IMG_0099"/>
          <p:cNvPicPr/>
          <p:nvPr/>
        </p:nvPicPr>
        <p:blipFill>
          <a:blip r:embed="rId5"/>
          <a:stretch/>
        </p:blipFill>
        <p:spPr>
          <a:xfrm>
            <a:off x="5219640" y="393372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4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a26d18"/>
                </a:solidFill>
                <a:latin typeface="Times New Roman"/>
              </a:rPr>
              <a:t>Все в природе находится под влиянием периодических ритмов, начиная с планет, движущихся по орбите вокруг солнца, изменений сезонов, лунных фаз, дня и ночи, и заканчивая естественными ритмами жизни.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utro_2"/>
          <p:cNvPicPr/>
          <p:nvPr/>
        </p:nvPicPr>
        <p:blipFill>
          <a:blip r:embed="rId1"/>
          <a:stretch/>
        </p:blipFill>
        <p:spPr>
          <a:xfrm>
            <a:off x="250920" y="2276640"/>
            <a:ext cx="3024000" cy="226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_p9211363"/>
          <p:cNvPicPr/>
          <p:nvPr/>
        </p:nvPicPr>
        <p:blipFill>
          <a:blip r:embed="rId2"/>
          <a:stretch/>
        </p:blipFill>
        <p:spPr>
          <a:xfrm>
            <a:off x="1908000" y="3068640"/>
            <a:ext cx="2880000" cy="212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winter"/>
          <p:cNvPicPr/>
          <p:nvPr/>
        </p:nvPicPr>
        <p:blipFill>
          <a:blip r:embed="rId3"/>
          <a:stretch/>
        </p:blipFill>
        <p:spPr>
          <a:xfrm>
            <a:off x="6588000" y="2276640"/>
            <a:ext cx="2237040" cy="2336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"/>
          <p:cNvPicPr/>
          <p:nvPr/>
        </p:nvPicPr>
        <p:blipFill>
          <a:blip r:embed="rId5"/>
          <a:stretch/>
        </p:blipFill>
        <p:spPr>
          <a:xfrm>
            <a:off x="6659640" y="3284640"/>
            <a:ext cx="1695240" cy="23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"/>
          <p:cNvPicPr/>
          <p:nvPr/>
        </p:nvPicPr>
        <p:blipFill>
          <a:blip r:embed="rId6"/>
          <a:stretch/>
        </p:blipFill>
        <p:spPr>
          <a:xfrm>
            <a:off x="5292720" y="4005360"/>
            <a:ext cx="1851120" cy="2020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"/>
          <p:cNvPicPr/>
          <p:nvPr/>
        </p:nvPicPr>
        <p:blipFill>
          <a:blip r:embed="rId7"/>
          <a:stretch/>
        </p:blipFill>
        <p:spPr>
          <a:xfrm>
            <a:off x="6300720" y="4797360"/>
            <a:ext cx="2586240" cy="183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zemlya"/>
          <p:cNvPicPr/>
          <p:nvPr/>
        </p:nvPicPr>
        <p:blipFill>
          <a:blip r:embed="rId8"/>
          <a:stretch/>
        </p:blipFill>
        <p:spPr>
          <a:xfrm>
            <a:off x="250920" y="189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алендарь приро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773360"/>
          <a:ext cx="8640720" cy="4165560"/>
        </p:xfrm>
        <a:graphic>
          <a:graphicData uri="http://schemas.openxmlformats.org/drawingml/2006/table">
            <a:tbl>
              <a:tblPr/>
              <a:tblGrid>
                <a:gridCol w="4608360"/>
                <a:gridCol w="1584360"/>
                <a:gridCol w="1224000"/>
                <a:gridCol w="1224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вления прир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оголетние сред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распускания цветочных почек вер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январ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цветения мать-и-маче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распускания почек черной смород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распускания почек сир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апр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мар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plant"/>
          <p:cNvSpPr/>
          <p:nvPr/>
        </p:nvSpPr>
        <p:spPr>
          <a:xfrm>
            <a:off x="395280" y="3573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nt"/>
          <p:cNvSpPr/>
          <p:nvPr/>
        </p:nvSpPr>
        <p:spPr>
          <a:xfrm>
            <a:off x="395280" y="4365720"/>
            <a:ext cx="216000" cy="21564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5640"/>
              <a:gd name="textAreaBottom" fmla="*/ 135720 h 215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nt"/>
          <p:cNvSpPr/>
          <p:nvPr/>
        </p:nvSpPr>
        <p:spPr>
          <a:xfrm>
            <a:off x="395280" y="551664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nt"/>
          <p:cNvSpPr/>
          <p:nvPr/>
        </p:nvSpPr>
        <p:spPr>
          <a:xfrm>
            <a:off x="395280" y="2781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260960" cy="61484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5"/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3964"/>
                </a:moveTo>
                <a:lnTo>
                  <a:pt x="13376" y="6575"/>
                </a:ln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lnTo>
                  <a:pt x="17763" y="10927"/>
                </a:lnTo>
                <a:lnTo>
                  <a:pt x="16109" y="10927"/>
                </a:lnTo>
                <a:lnTo>
                  <a:pt x="16109" y="18116"/>
                </a:lnTo>
                <a:lnTo>
                  <a:pt x="5491" y="18116"/>
                </a:lnTo>
                <a:lnTo>
                  <a:pt x="5491" y="10927"/>
                </a:lnTo>
                <a:lnTo>
                  <a:pt x="3837" y="10927"/>
                </a:lnTo>
                <a:close/>
              </a:path>
              <a:path fill="darkenLess" w="21600" h="21854">
                <a:moveTo>
                  <a:pt x="13376" y="6575"/>
                </a:move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close/>
              </a:path>
              <a:path fill="darkenLess" w="21600" h="21854">
                <a:moveTo>
                  <a:pt x="9877" y="14426"/>
                </a:moveTo>
                <a:lnTo>
                  <a:pt x="11723" y="14426"/>
                </a:lnTo>
                <a:lnTo>
                  <a:pt x="11723" y="18116"/>
                </a:lnTo>
                <a:lnTo>
                  <a:pt x="16109" y="18116"/>
                </a:lnTo>
                <a:lnTo>
                  <a:pt x="16109" y="10927"/>
                </a:lnTo>
                <a:lnTo>
                  <a:pt x="5491" y="10927"/>
                </a:lnTo>
                <a:lnTo>
                  <a:pt x="5491" y="18116"/>
                </a:lnTo>
                <a:lnTo>
                  <a:pt x="9877" y="18116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IMG_0012"/>
          <p:cNvPicPr/>
          <p:nvPr/>
        </p:nvPicPr>
        <p:blipFill>
          <a:blip r:embed="rId1"/>
          <a:stretch/>
        </p:blipFill>
        <p:spPr>
          <a:xfrm>
            <a:off x="1547640" y="1197000"/>
            <a:ext cx="6409080" cy="480528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3964"/>
                </a:moveTo>
                <a:lnTo>
                  <a:pt x="13376" y="6575"/>
                </a:ln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lnTo>
                  <a:pt x="17763" y="10927"/>
                </a:lnTo>
                <a:lnTo>
                  <a:pt x="16109" y="10927"/>
                </a:lnTo>
                <a:lnTo>
                  <a:pt x="16109" y="18116"/>
                </a:lnTo>
                <a:lnTo>
                  <a:pt x="5491" y="18116"/>
                </a:lnTo>
                <a:lnTo>
                  <a:pt x="5491" y="10927"/>
                </a:lnTo>
                <a:lnTo>
                  <a:pt x="3837" y="10927"/>
                </a:lnTo>
                <a:close/>
              </a:path>
              <a:path fill="darkenLess" w="21600" h="21854">
                <a:moveTo>
                  <a:pt x="13376" y="6575"/>
                </a:move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close/>
              </a:path>
              <a:path fill="darkenLess" w="21600" h="21854">
                <a:moveTo>
                  <a:pt x="9877" y="14426"/>
                </a:moveTo>
                <a:lnTo>
                  <a:pt x="11723" y="14426"/>
                </a:lnTo>
                <a:lnTo>
                  <a:pt x="11723" y="18116"/>
                </a:lnTo>
                <a:lnTo>
                  <a:pt x="16109" y="18116"/>
                </a:lnTo>
                <a:lnTo>
                  <a:pt x="16109" y="10927"/>
                </a:lnTo>
                <a:lnTo>
                  <a:pt x="5491" y="10927"/>
                </a:lnTo>
                <a:lnTo>
                  <a:pt x="5491" y="18116"/>
                </a:lnTo>
                <a:lnTo>
                  <a:pt x="9877" y="18116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IMG_0164"/>
          <p:cNvPicPr/>
          <p:nvPr/>
        </p:nvPicPr>
        <p:blipFill>
          <a:blip r:embed="rId1"/>
          <a:stretch/>
        </p:blipFill>
        <p:spPr>
          <a:xfrm>
            <a:off x="1476360" y="981000"/>
            <a:ext cx="6264360" cy="4697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/>
          <p:cNvSpPr/>
          <p:nvPr/>
        </p:nvSpPr>
        <p:spPr>
          <a:xfrm>
            <a:off x="0" y="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10800" y="3964"/>
                </a:moveTo>
                <a:lnTo>
                  <a:pt x="13376" y="6575"/>
                </a:ln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lnTo>
                  <a:pt x="17763" y="10927"/>
                </a:lnTo>
                <a:lnTo>
                  <a:pt x="16109" y="10927"/>
                </a:lnTo>
                <a:lnTo>
                  <a:pt x="16109" y="18116"/>
                </a:lnTo>
                <a:lnTo>
                  <a:pt x="5491" y="18116"/>
                </a:lnTo>
                <a:lnTo>
                  <a:pt x="5491" y="10927"/>
                </a:lnTo>
                <a:lnTo>
                  <a:pt x="3837" y="10927"/>
                </a:lnTo>
                <a:close/>
              </a:path>
              <a:path fill="darkenLess" w="21600" h="21854">
                <a:moveTo>
                  <a:pt x="13376" y="6575"/>
                </a:moveTo>
                <a:lnTo>
                  <a:pt x="13376" y="4834"/>
                </a:lnTo>
                <a:lnTo>
                  <a:pt x="15152" y="4834"/>
                </a:lnTo>
                <a:lnTo>
                  <a:pt x="15152" y="8351"/>
                </a:lnTo>
                <a:close/>
              </a:path>
              <a:path fill="darkenLess" w="21600" h="21854">
                <a:moveTo>
                  <a:pt x="9877" y="14426"/>
                </a:moveTo>
                <a:lnTo>
                  <a:pt x="11723" y="14426"/>
                </a:lnTo>
                <a:lnTo>
                  <a:pt x="11723" y="18116"/>
                </a:lnTo>
                <a:lnTo>
                  <a:pt x="16109" y="18116"/>
                </a:lnTo>
                <a:lnTo>
                  <a:pt x="16109" y="10927"/>
                </a:lnTo>
                <a:lnTo>
                  <a:pt x="5491" y="10927"/>
                </a:lnTo>
                <a:lnTo>
                  <a:pt x="5491" y="18116"/>
                </a:lnTo>
                <a:lnTo>
                  <a:pt x="9877" y="18116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IMG_0170"/>
          <p:cNvPicPr/>
          <p:nvPr/>
        </p:nvPicPr>
        <p:blipFill>
          <a:blip r:embed="rId1"/>
          <a:stretch/>
        </p:blipFill>
        <p:spPr>
          <a:xfrm>
            <a:off x="2268360" y="404640"/>
            <a:ext cx="4557960" cy="6078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во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ические явления в 2006 году наступали позже сроков многолетних наблюдений. Это связано с «опозданием» сезонных изменений по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иодические явления в 2007 году наступают гораздо раньше сроков многолетних наблюдений, что связано с необычно теплой погодой в январе и мар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95280" y="4437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Несмотря на это, резкие кратковременные изменения погоды обычно не нарушают годовых ритмов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32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Одной из важнейших проблем современной биологии является изучение цикличности процессов, протекающих в живом организме. Эта проблема интересует врачей и авиаторов, садоводов и орнитологов, биохимиков и генетиков, биофизиков и иммунологов, физиологов и космонавтов.</a:t>
            </a: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2" name="Picture 7" descr="рисунок5"/>
          <p:cNvPicPr/>
          <p:nvPr/>
        </p:nvPicPr>
        <p:blipFill>
          <a:blip r:embed="rId1"/>
          <a:stretch/>
        </p:blipFill>
        <p:spPr>
          <a:xfrm>
            <a:off x="179280" y="310500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orylus_avellana[1]"/>
          <p:cNvPicPr/>
          <p:nvPr/>
        </p:nvPicPr>
        <p:blipFill>
          <a:blip r:embed="rId2"/>
          <a:stretch/>
        </p:blipFill>
        <p:spPr>
          <a:xfrm>
            <a:off x="1476360" y="364500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son.jpg"/>
          <p:cNvPicPr/>
          <p:nvPr/>
        </p:nvPicPr>
        <p:blipFill>
          <a:blip r:embed="rId3"/>
          <a:stretch/>
        </p:blipFill>
        <p:spPr>
          <a:xfrm>
            <a:off x="7596360" y="292428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CADQJF5Z"/>
          <p:cNvPicPr/>
          <p:nvPr/>
        </p:nvPicPr>
        <p:blipFill>
          <a:blip r:embed="rId4"/>
          <a:stretch/>
        </p:blipFill>
        <p:spPr>
          <a:xfrm>
            <a:off x="4932360" y="2997360"/>
            <a:ext cx="1189080" cy="1558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thumbnail"/>
          <p:cNvPicPr/>
          <p:nvPr/>
        </p:nvPicPr>
        <p:blipFill>
          <a:blip r:embed="rId5"/>
          <a:stretch/>
        </p:blipFill>
        <p:spPr>
          <a:xfrm>
            <a:off x="3780000" y="5157720"/>
            <a:ext cx="1168200" cy="1557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пес"/>
          <p:cNvPicPr/>
          <p:nvPr/>
        </p:nvPicPr>
        <p:blipFill>
          <a:blip r:embed="rId6"/>
          <a:stretch/>
        </p:blipFill>
        <p:spPr>
          <a:xfrm>
            <a:off x="5219640" y="5157720"/>
            <a:ext cx="1271520" cy="151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CAIH254X"/>
          <p:cNvPicPr/>
          <p:nvPr/>
        </p:nvPicPr>
        <p:blipFill>
          <a:blip r:embed="rId7"/>
          <a:stretch/>
        </p:blipFill>
        <p:spPr>
          <a:xfrm>
            <a:off x="6300720" y="2852640"/>
            <a:ext cx="1079640" cy="180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CAM7Q94H"/>
          <p:cNvPicPr/>
          <p:nvPr/>
        </p:nvPicPr>
        <p:blipFill>
          <a:blip r:embed="rId8"/>
          <a:stretch/>
        </p:blipFill>
        <p:spPr>
          <a:xfrm>
            <a:off x="7020000" y="4292640"/>
            <a:ext cx="129204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комиться с понятиями биоритмы,  хронобиология, фотопериодизм, фенолог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историю формирования науки хронобиолог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ить классификацию биорит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ать работу над созданием календаря прир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Экскурс в историю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9280" y="1125360"/>
            <a:ext cx="518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деи о ритмичном характере процессов     в природе и в организме человека выдвигались еще в трудах античных философов (Гераклит, Платон, Аристотель и др.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редние века и эпоху Возрождения этими процессами интересовались Ф. Бэкон, Т. Браге,  И. Кеплер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254083997"/>
          <p:cNvPicPr/>
          <p:nvPr/>
        </p:nvPicPr>
        <p:blipFill>
          <a:blip r:embed="rId1"/>
          <a:stretch/>
        </p:blipFill>
        <p:spPr>
          <a:xfrm>
            <a:off x="179280" y="981000"/>
            <a:ext cx="1119240" cy="1513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250920" y="220500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herakl"/>
          <p:cNvPicPr/>
          <p:nvPr/>
        </p:nvPicPr>
        <p:blipFill>
          <a:blip r:embed="rId2"/>
          <a:stretch/>
        </p:blipFill>
        <p:spPr>
          <a:xfrm>
            <a:off x="1332000" y="981000"/>
            <a:ext cx="1368360" cy="1497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platon"/>
          <p:cNvPicPr/>
          <p:nvPr/>
        </p:nvPicPr>
        <p:blipFill>
          <a:blip r:embed="rId3"/>
          <a:stretch/>
        </p:blipFill>
        <p:spPr>
          <a:xfrm>
            <a:off x="2771640" y="981000"/>
            <a:ext cx="1339920" cy="1490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6"/>
          <p:cNvSpPr/>
          <p:nvPr/>
        </p:nvSpPr>
        <p:spPr>
          <a:xfrm>
            <a:off x="1476360" y="22050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ракл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987640" y="2205000"/>
            <a:ext cx="11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ла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8" descr="kepler"/>
          <p:cNvPicPr/>
          <p:nvPr/>
        </p:nvPicPr>
        <p:blipFill>
          <a:blip r:embed="rId4"/>
          <a:stretch/>
        </p:blipFill>
        <p:spPr>
          <a:xfrm>
            <a:off x="2916360" y="2708280"/>
            <a:ext cx="1101600" cy="1427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9"/>
          <p:cNvSpPr/>
          <p:nvPr/>
        </p:nvSpPr>
        <p:spPr>
          <a:xfrm>
            <a:off x="3059280" y="378936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епл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0" descr="Brahe_3"/>
          <p:cNvPicPr/>
          <p:nvPr/>
        </p:nvPicPr>
        <p:blipFill>
          <a:blip r:embed="rId5"/>
          <a:stretch/>
        </p:blipFill>
        <p:spPr>
          <a:xfrm>
            <a:off x="1508040" y="2708280"/>
            <a:ext cx="1089000" cy="1368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Бэкон"/>
          <p:cNvPicPr/>
          <p:nvPr/>
        </p:nvPicPr>
        <p:blipFill>
          <a:blip r:embed="rId6"/>
          <a:stretch/>
        </p:blipFill>
        <p:spPr>
          <a:xfrm>
            <a:off x="179280" y="2708280"/>
            <a:ext cx="1152720" cy="1368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2"/>
          <p:cNvSpPr/>
          <p:nvPr/>
        </p:nvSpPr>
        <p:spPr>
          <a:xfrm>
            <a:off x="539640" y="3716280"/>
            <a:ext cx="95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.Бэк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979640" y="3860640"/>
            <a:ext cx="88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.Бра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4" descr="darvin"/>
          <p:cNvPicPr/>
          <p:nvPr/>
        </p:nvPicPr>
        <p:blipFill>
          <a:blip r:embed="rId7"/>
          <a:stretch/>
        </p:blipFill>
        <p:spPr>
          <a:xfrm>
            <a:off x="1403280" y="4581360"/>
            <a:ext cx="1243080" cy="14414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250920" y="609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108000" y="6021360"/>
            <a:ext cx="41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точную периодичность движения листьев у растений  изучал Ч. Дарвин (188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7" descr="linnaeus"/>
          <p:cNvPicPr/>
          <p:nvPr/>
        </p:nvPicPr>
        <p:blipFill>
          <a:blip r:embed="rId8"/>
          <a:stretch/>
        </p:blipFill>
        <p:spPr>
          <a:xfrm>
            <a:off x="5796000" y="4076640"/>
            <a:ext cx="1114560" cy="1486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8"/>
          <p:cNvSpPr/>
          <p:nvPr/>
        </p:nvSpPr>
        <p:spPr>
          <a:xfrm>
            <a:off x="4211640" y="5589720"/>
            <a:ext cx="49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щё в 18 в. К. Линней предложил 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hlinkClick r:id="rId9" action="ppaction://hlinksldjump"/>
              </a:rPr>
              <a:t>"цветочные часы"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основанные на способности цветков различных растений открываться и закрываться в определённое время дн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774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974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224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48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98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98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4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48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31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0" y="835920"/>
            <a:ext cx="9145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8000"/>
                </a:solidFill>
                <a:latin typeface="Times New Roman"/>
              </a:rPr>
              <a:t>Биологические ритм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это периодически повторяющиеся изме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интенсивности и характера процессов     </a:t>
            </a:r>
            <a:r>
              <a:rPr b="1" i="1" lang="en-US" sz="3200" spc="-1" strike="noStrike">
                <a:solidFill>
                  <a:srgbClr val="a26d18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a26d18"/>
                </a:solidFill>
                <a:latin typeface="Times New Roman"/>
              </a:rPr>
              <a:t>     жизнедеятельности биологических систе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sh-his"/>
          <p:cNvPicPr/>
          <p:nvPr/>
        </p:nvPicPr>
        <p:blipFill>
          <a:blip r:embed="rId1"/>
          <a:stretch/>
        </p:blipFill>
        <p:spPr>
          <a:xfrm>
            <a:off x="250920" y="18900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иды биоритмов</a:t>
            </a:r>
            <a:br>
              <a:rPr sz="4000"/>
            </a:b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(по времени)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64" name="Organization Chart 7"/>
          <p:cNvGrpSpPr/>
          <p:nvPr/>
        </p:nvGrpSpPr>
        <p:grpSpPr>
          <a:xfrm>
            <a:off x="1919160" y="2048760"/>
            <a:ext cx="4586760" cy="3200040"/>
            <a:chOff x="1919160" y="2048760"/>
            <a:chExt cx="4586760" cy="3200040"/>
          </a:xfrm>
        </p:grpSpPr>
        <p:cxnSp>
          <p:nvCxnSpPr>
            <p:cNvPr id="165" name="_s1028"/>
            <p:cNvCxnSpPr>
              <a:stCxn id="166" idx="0"/>
              <a:endCxn id="167" idx="2"/>
            </p:cNvCxnSpPr>
            <p:nvPr/>
          </p:nvCxnSpPr>
          <p:spPr>
            <a:xfrm flipV="1" rot="16200000">
              <a:off x="4509360" y="3030480"/>
              <a:ext cx="640440" cy="1235520"/>
            </a:xfrm>
            <a:prstGeom prst="bentConnector3">
              <a:avLst>
                <a:gd name="adj1" fmla="val 17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1029"/>
            <p:cNvCxnSpPr>
              <a:stCxn id="169" idx="0"/>
              <a:endCxn id="167" idx="2"/>
            </p:cNvCxnSpPr>
            <p:nvPr/>
          </p:nvCxnSpPr>
          <p:spPr>
            <a:xfrm flipH="1" flipV="1" rot="5400000">
              <a:off x="3274560" y="3030840"/>
              <a:ext cx="640440" cy="1235160"/>
            </a:xfrm>
            <a:prstGeom prst="bentConnector3">
              <a:avLst>
                <a:gd name="adj1" fmla="val 178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1030"/>
            <p:cNvSpPr/>
            <p:nvPr/>
          </p:nvSpPr>
          <p:spPr>
            <a:xfrm>
              <a:off x="3153960" y="2048760"/>
              <a:ext cx="2116800" cy="1279800"/>
            </a:xfrm>
            <a:prstGeom prst="roundRect">
              <a:avLst>
                <a:gd name="adj" fmla="val 16667"/>
              </a:avLst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Биорит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_s1031">
              <a:hlinkClick r:id="rId1" action="ppaction://hlinksldjump"/>
            </p:cNvPr>
            <p:cNvSpPr/>
            <p:nvPr/>
          </p:nvSpPr>
          <p:spPr>
            <a:xfrm>
              <a:off x="1919160" y="3969000"/>
              <a:ext cx="2116800" cy="1279800"/>
            </a:xfrm>
            <a:prstGeom prst="roundRect">
              <a:avLst>
                <a:gd name="adj" fmla="val 16667"/>
              </a:avLst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уточ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_s1032">
              <a:hlinkClick r:id="rId2" action="ppaction://hlinksldjump"/>
            </p:cNvPr>
            <p:cNvSpPr/>
            <p:nvPr/>
          </p:nvSpPr>
          <p:spPr>
            <a:xfrm>
              <a:off x="4389120" y="3969000"/>
              <a:ext cx="2116800" cy="1279800"/>
            </a:xfrm>
            <a:prstGeom prst="roundRect">
              <a:avLst>
                <a:gd name="adj" fmla="val 16667"/>
              </a:avLst>
            </a:prstGeom>
            <a:solidFill>
              <a:srgbClr val="ffd05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Годов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5" descr="sh-his"/>
          <p:cNvPicPr/>
          <p:nvPr/>
        </p:nvPicPr>
        <p:blipFill>
          <a:blip r:embed="rId3"/>
          <a:stretch/>
        </p:blipFill>
        <p:spPr>
          <a:xfrm>
            <a:off x="250920" y="18900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«Цветочные часы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72" name="Picture 6" descr="1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4248360"/>
          </a:xfrm>
          <a:prstGeom prst="rect">
            <a:avLst/>
          </a:prstGeom>
          <a:ln w="0">
            <a:noFill/>
          </a:ln>
        </p:spPr>
      </p:pic>
      <p:sp>
        <p:nvSpPr>
          <p:cNvPr id="173" name="plant">
            <a:hlinkClick r:id="rId2" action="ppaction://hlinksldjump"/>
          </p:cNvPr>
          <p:cNvSpPr/>
          <p:nvPr/>
        </p:nvSpPr>
        <p:spPr>
          <a:xfrm>
            <a:off x="468360" y="2565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nt">
            <a:hlinkClick r:id="rId3" action="ppaction://hlinksldjump"/>
          </p:cNvPr>
          <p:cNvSpPr/>
          <p:nvPr/>
        </p:nvSpPr>
        <p:spPr>
          <a:xfrm>
            <a:off x="468360" y="285264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nt">
            <a:hlinkClick r:id="rId4" action="ppaction://hlinksldjump"/>
          </p:cNvPr>
          <p:cNvSpPr/>
          <p:nvPr/>
        </p:nvSpPr>
        <p:spPr>
          <a:xfrm>
            <a:off x="468360" y="342900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nt">
            <a:hlinkClick r:id="rId5" action="ppaction://hlinksldjump"/>
          </p:cNvPr>
          <p:cNvSpPr/>
          <p:nvPr/>
        </p:nvSpPr>
        <p:spPr>
          <a:xfrm>
            <a:off x="468360" y="371628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nt">
            <a:hlinkClick r:id="rId6" action="ppaction://hlinksldjump"/>
          </p:cNvPr>
          <p:cNvSpPr/>
          <p:nvPr/>
        </p:nvSpPr>
        <p:spPr>
          <a:xfrm>
            <a:off x="468360" y="4005360"/>
            <a:ext cx="216000" cy="21564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5640"/>
              <a:gd name="textAreaBottom" fmla="*/ 135720 h 2156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nt">
            <a:hlinkClick r:id="rId7" action="ppaction://hlinksldjump"/>
          </p:cNvPr>
          <p:cNvSpPr/>
          <p:nvPr/>
        </p:nvSpPr>
        <p:spPr>
          <a:xfrm>
            <a:off x="539640" y="458136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nt">
            <a:hlinkClick r:id="rId8" action="ppaction://hlinksldjump"/>
          </p:cNvPr>
          <p:cNvSpPr/>
          <p:nvPr/>
        </p:nvSpPr>
        <p:spPr>
          <a:xfrm>
            <a:off x="539640" y="515772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nt">
            <a:hlinkClick r:id="rId9" action="ppaction://hlinksldjump"/>
          </p:cNvPr>
          <p:cNvSpPr/>
          <p:nvPr/>
        </p:nvSpPr>
        <p:spPr>
          <a:xfrm>
            <a:off x="539640" y="5661000"/>
            <a:ext cx="216000" cy="216000"/>
          </a:xfrm>
          <a:custGeom>
            <a:avLst/>
            <a:gdLst>
              <a:gd name="textAreaLeft" fmla="*/ 70920 w 216000"/>
              <a:gd name="textAreaRight" fmla="*/ 145440 w 216000"/>
              <a:gd name="textAreaTop" fmla="*/ 100800 h 216000"/>
              <a:gd name="textAreaBottom" fmla="*/ 135720 h 2160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tragopogon_orientalis2"/>
          <p:cNvPicPr/>
          <p:nvPr/>
        </p:nvPicPr>
        <p:blipFill>
          <a:blip r:embed="rId1"/>
          <a:stretch/>
        </p:blipFill>
        <p:spPr>
          <a:xfrm>
            <a:off x="2411280" y="549360"/>
            <a:ext cx="4478400" cy="597060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/>
          <p:cNvSpPr/>
          <p:nvPr/>
        </p:nvSpPr>
        <p:spPr>
          <a:xfrm>
            <a:off x="179280" y="115920"/>
            <a:ext cx="649440" cy="611280"/>
          </a:xfrm>
          <a:custGeom>
            <a:avLst/>
            <a:gdLst>
              <a:gd name="textAreaLeft" fmla="*/ 39600 w 649440"/>
              <a:gd name="textAreaRight" fmla="*/ 609840 w 6494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8" h="21600">
                <a:moveTo>
                  <a:pt x="11474" y="3837"/>
                </a:moveTo>
                <a:lnTo>
                  <a:pt x="14050" y="6448"/>
                </a:ln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lnTo>
                  <a:pt x="18437" y="10800"/>
                </a:lnTo>
                <a:lnTo>
                  <a:pt x="16783" y="10800"/>
                </a:lnTo>
                <a:lnTo>
                  <a:pt x="16783" y="17989"/>
                </a:lnTo>
                <a:lnTo>
                  <a:pt x="6165" y="17989"/>
                </a:lnTo>
                <a:lnTo>
                  <a:pt x="6165" y="10800"/>
                </a:lnTo>
                <a:lnTo>
                  <a:pt x="4511" y="10800"/>
                </a:lnTo>
                <a:close/>
              </a:path>
              <a:path fill="darkenLess" w="22948" h="21600">
                <a:moveTo>
                  <a:pt x="14050" y="6448"/>
                </a:moveTo>
                <a:lnTo>
                  <a:pt x="14050" y="4707"/>
                </a:lnTo>
                <a:lnTo>
                  <a:pt x="15826" y="4707"/>
                </a:lnTo>
                <a:lnTo>
                  <a:pt x="15826" y="8224"/>
                </a:lnTo>
                <a:close/>
              </a:path>
              <a:path fill="darkenLess" w="22948" h="21600">
                <a:moveTo>
                  <a:pt x="10551" y="14299"/>
                </a:moveTo>
                <a:lnTo>
                  <a:pt x="12396" y="14299"/>
                </a:lnTo>
                <a:lnTo>
                  <a:pt x="12396" y="17989"/>
                </a:lnTo>
                <a:lnTo>
                  <a:pt x="16783" y="17989"/>
                </a:lnTo>
                <a:lnTo>
                  <a:pt x="16783" y="10800"/>
                </a:lnTo>
                <a:lnTo>
                  <a:pt x="6165" y="10800"/>
                </a:lnTo>
                <a:lnTo>
                  <a:pt x="6165" y="17989"/>
                </a:lnTo>
                <a:lnTo>
                  <a:pt x="10551" y="17989"/>
                </a:lnTo>
                <a:close/>
              </a:path>
            </a:pathLst>
          </a:custGeom>
          <a:solidFill>
            <a:srgbClr val="ffd0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7:17:19Z</dcterms:created>
  <dc:creator>user</dc:creator>
  <dc:description/>
  <dc:language>en-US</dc:language>
  <cp:lastModifiedBy>Андрей</cp:lastModifiedBy>
  <dcterms:modified xsi:type="dcterms:W3CDTF">2012-07-30T12:44:48Z</dcterms:modified>
  <cp:revision>23</cp:revision>
  <dc:subject/>
  <dc:title>Биоритмы в природ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