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arrow.wav" ContentType="audio/x-wav"/>
  <Override PartName="/ppt/media/image22.gif" ContentType="image/gif"/>
  <Override PartName="/ppt/media/image21.jpeg" ContentType="image/jpeg"/>
  <Override PartName="/ppt/media/image6.gif" ContentType="image/gif"/>
  <Override PartName="/ppt/media/image1.jpeg" ContentType="image/jpeg"/>
  <Override PartName="/ppt/media/image27.gif" ContentType="image/gif"/>
  <Override PartName="/ppt/media/Tarda.wav" ContentType="audio/x-wav"/>
  <Override PartName="/ppt/media/image9.png" ContentType="image/png"/>
  <Override PartName="/ppt/media/cashreg.wav" ContentType="audio/x-wav"/>
  <Override PartName="/ppt/media/image10.gif" ContentType="image/gif"/>
  <Override PartName="/ppt/media/image5.gif" ContentType="image/gif"/>
  <Override PartName="/ppt/media/image14.jpeg" ContentType="image/jpeg"/>
  <Override PartName="/ppt/media/image28.gif" ContentType="image/gif"/>
  <Override PartName="/ppt/media/image8.jpeg" ContentType="image/jpeg"/>
  <Override PartName="/ppt/media/image19.jpeg" ContentType="image/jpeg"/>
  <Override PartName="/ppt/media/09.%20Who%20Correct.wav" ContentType="audio/x-wav"/>
  <Override PartName="/ppt/media/image2.gif" ContentType="image/gif"/>
  <Override PartName="/ppt/media/image7.gif" ContentType="image/gif"/>
  <Override PartName="/ppt/media/image24.gif" ContentType="image/gif"/>
  <Override PartName="/ppt/media/image26.gif" ContentType="image/gif"/>
  <Override PartName="/ppt/media/image3.gif" ContentType="image/gif"/>
  <Override PartName="/ppt/media/image4.gif" ContentType="image/gif"/>
  <Override PartName="/ppt/media/drumroll.wav" ContentType="audio/x-wav"/>
  <Override PartName="/ppt/media/sting.wav" ContentType="audio/x-wav"/>
  <Override PartName="/ppt/media/image11.gif" ContentType="image/gif"/>
  <Override PartName="/ppt/media/image13.gif" ContentType="image/gif"/>
  <Override PartName="/ppt/media/image29.gif" ContentType="image/gif"/>
  <Override PartName="/ppt/media/image15.jpeg" ContentType="image/jpeg"/>
  <Override PartName="/ppt/media/image12.gif" ContentType="image/gif"/>
  <Override PartName="/ppt/media/image17.jpeg" ContentType="image/jpeg"/>
  <Override PartName="/ppt/media/image16.png" ContentType="image/png"/>
  <Override PartName="/ppt/media/image23.gif" ContentType="image/gif"/>
  <Override PartName="/ppt/media/image25.gif" ContentType="image/gif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3195-2CB4-45EF-A284-CD7DEF716B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F67F-8243-4304-871D-08D6D60DAB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FAA8-A519-4A7E-9D61-2A818CD43E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38AA-D750-449B-BB5E-1138048FF1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2780-69D4-4643-A140-BD28A84E27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5288-858D-4E03-9750-1F848C20D6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96EB-DBA4-4AE6-9D64-FC50B90A18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3A94-818E-41AF-A14C-74424149C0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C577-7467-416B-9D8B-10001C24B4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9212-3E8C-4908-9579-851E1ADD99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4707-D9AE-4300-ABD9-EEFD0A8592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C60D-314F-4E33-8892-1FFFC55F9D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4F79-8074-49FC-B4C5-782F8813E5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311E-8FB2-4751-A73C-4C33D06356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91AE-4DC0-4ED4-A320-07C6AB5C37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B324-1B83-428A-94D0-8E97DCC54B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B4AB-00E5-4943-A464-E1B31C628F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6529-C4F9-41BD-ADA8-34BB2A3CB5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7370-B8C8-46D1-A54B-D580458344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6627-E5F6-4660-BB46-9B15810E5E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7D7C-B3EE-4DD2-9D7A-4C881ACB7E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D534-5A61-49FA-AD66-250C2462FC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02AF-D696-433F-8265-53B8FB2B63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E9E9-2F09-4810-A66F-D48FF84F57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4DCD-7192-4285-973C-A7B0CA3CD8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8AEF-1992-4CD4-888D-27D30B69E6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F612-E9AB-4D49-BD72-AA76FB1627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648D-CA94-4548-9F2B-975035A507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D9C0-B258-4BB0-801A-34EE028040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436E-2431-4559-B756-DE4D2D4976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2B73-E887-4A6A-A040-6B4767C06D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AA11-AC7A-4B1B-AB75-734E0BA798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F6A6-F15F-49B7-9332-E2C4F2998F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B3F0-3D3A-476F-9208-48B12FFF45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A59C-C57D-49BA-B501-CD8773F9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9015-A715-48A1-AB49-EA62E659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0C7-5AE4-4285-BBAE-5095E200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B15D-A2AD-4B5E-9AF0-383F8864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708E-298A-474C-9FBF-D2EFE6A7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2D5-1C1B-4978-86BD-6383E4E2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E6F-95A8-4C05-B8CB-E55C2407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01B2-4E24-4B35-816D-981619B0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A06-AC42-4B4A-90EA-EA082E0E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C0E8-36BA-4248-9D41-365D04FB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73B-6D42-44CD-9A60-C5317C51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8B1C-C071-40EC-9AD2-4C989659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B2B5-D431-49AF-8394-AB6C860063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6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stin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9.%20Who%20Correct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arda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6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13.gif"/><Relationship Id="rId4" Type="http://schemas.openxmlformats.org/officeDocument/2006/relationships/audio" Target="../media/09.%20Who%20Correc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6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audio" Target="../media/Tard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audio" Target="../media/Tard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6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6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0.gif"/><Relationship Id="rId5" Type="http://schemas.openxmlformats.org/officeDocument/2006/relationships/image" Target="../media/image12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1.gif"/><Relationship Id="rId14" Type="http://schemas.openxmlformats.org/officeDocument/2006/relationships/image" Target="../media/image12.gif"/><Relationship Id="rId15" Type="http://schemas.openxmlformats.org/officeDocument/2006/relationships/image" Target="../media/image11.gif"/><Relationship Id="rId16" Type="http://schemas.openxmlformats.org/officeDocument/2006/relationships/image" Target="../media/image10.gif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6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Презентация подготовлена</a:t>
            </a:r>
            <a:br>
              <a:rPr sz="3200"/>
            </a:b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для проведения интеллектуальных марафонов в 4-6 классах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ем математ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«СОШ №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.п. Новые Бурас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обурасского райо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ратовской област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ровиковой  Екатериной Иванов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Второй ту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7" descr="C:\Documents and Settings\1\Рабочий стол\ДЛЯ ПРЕЗЕНТАЦИЙ\Страна фантазии\losh14.gif"/>
          <p:cNvPicPr/>
          <p:nvPr/>
        </p:nvPicPr>
        <p:blipFill>
          <a:blip r:embed="rId2"/>
          <a:stretch/>
        </p:blipFill>
        <p:spPr>
          <a:xfrm>
            <a:off x="2143080" y="50004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drumrol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Логическая страничк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3857760" y="0"/>
            <a:ext cx="1428480" cy="2486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C:\Documents and Settings\1\Рабочий стол\ДЛЯ ПРЕЗЕНТАЦИЙ\анимация\сияние.gif"/>
          <p:cNvPicPr/>
          <p:nvPr/>
        </p:nvPicPr>
        <p:blipFill>
          <a:blip r:embed="rId3"/>
          <a:stretch/>
        </p:blipFill>
        <p:spPr>
          <a:xfrm>
            <a:off x="6572160" y="-285840"/>
            <a:ext cx="2571840" cy="270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C:\Documents and Settings\1\Рабочий стол\ДЛЯ ПРЕЗЕНТАЦИЙ\анимация\сияние.gif"/>
          <p:cNvPicPr/>
          <p:nvPr/>
        </p:nvPicPr>
        <p:blipFill>
          <a:blip r:embed="rId4"/>
          <a:stretch/>
        </p:blipFill>
        <p:spPr>
          <a:xfrm>
            <a:off x="285840" y="0"/>
            <a:ext cx="2357280" cy="2475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C:\Documents and Settings\1\Рабочий стол\ДЛЯ ПРЕЗЕНТАЦИЙ\анимация\сияние.gif"/>
          <p:cNvPicPr/>
          <p:nvPr/>
        </p:nvPicPr>
        <p:blipFill>
          <a:blip r:embed="rId5"/>
          <a:stretch/>
        </p:blipFill>
        <p:spPr>
          <a:xfrm>
            <a:off x="3714840" y="4532400"/>
            <a:ext cx="2214360" cy="23256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 ребу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Rectangle 3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3024360" cy="2592360"/>
          </a:xfrm>
          <a:prstGeom prst="rect">
            <a:avLst/>
          </a:prstGeom>
          <a:ln w="76320">
            <a:solidFill>
              <a:srgbClr val="808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356000" y="2276640"/>
            <a:ext cx="4176720" cy="2539800"/>
          </a:xfrm>
          <a:prstGeom prst="rect">
            <a:avLst/>
          </a:prstGeom>
          <a:ln w="76320">
            <a:solidFill>
              <a:srgbClr val="808000"/>
            </a:solidFill>
            <a:miter/>
          </a:ln>
        </p:spPr>
      </p:pic>
      <p:sp>
        <p:nvSpPr>
          <p:cNvPr id="152" name=""/>
          <p:cNvSpPr txBox="1"/>
          <p:nvPr/>
        </p:nvSpPr>
        <p:spPr>
          <a:xfrm>
            <a:off x="684360" y="5157720"/>
            <a:ext cx="2592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ршина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435640" y="5084640"/>
            <a:ext cx="158436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уч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68360" y="476280"/>
            <a:ext cx="16700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356000" y="2133720"/>
            <a:ext cx="310536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33"/>
                </a:solidFill>
                <a:latin typeface="Times New Roman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38920" y="620640"/>
            <a:ext cx="2305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200" spc="-1" strike="noStrike">
                <a:solidFill>
                  <a:srgbClr val="000000"/>
                </a:solidFill>
                <a:latin typeface="Times New Roman"/>
              </a:rPr>
              <a:t>,,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87280" y="2133720"/>
            <a:ext cx="3189600" cy="3456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419640" y="3284640"/>
            <a:ext cx="1081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76720" y="5661000"/>
            <a:ext cx="2158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уч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 rot="190800">
            <a:off x="7092720" y="3903840"/>
            <a:ext cx="221112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бус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Rectangle 3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743360" cy="2009520"/>
          </a:xfrm>
          <a:prstGeom prst="rect">
            <a:avLst/>
          </a:prstGeom>
          <a:ln w="76320">
            <a:solidFill>
              <a:srgbClr val="808000"/>
            </a:solidFill>
            <a:miter/>
          </a:ln>
        </p:spPr>
      </p:pic>
      <p:sp>
        <p:nvSpPr>
          <p:cNvPr id="165" name=""/>
          <p:cNvSpPr txBox="1"/>
          <p:nvPr/>
        </p:nvSpPr>
        <p:spPr>
          <a:xfrm>
            <a:off x="5508720" y="2421000"/>
            <a:ext cx="2305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ча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24000" y="4292640"/>
            <a:ext cx="4749480" cy="2028960"/>
          </a:xfrm>
          <a:prstGeom prst="rect">
            <a:avLst/>
          </a:prstGeom>
          <a:ln w="76320">
            <a:solidFill>
              <a:srgbClr val="808000"/>
            </a:solidFill>
            <a:miter/>
          </a:ln>
        </p:spPr>
      </p:pic>
      <p:sp>
        <p:nvSpPr>
          <p:cNvPr id="167" name=""/>
          <p:cNvSpPr txBox="1"/>
          <p:nvPr/>
        </p:nvSpPr>
        <p:spPr>
          <a:xfrm>
            <a:off x="5580000" y="4005360"/>
            <a:ext cx="2449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иаметр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 rot="190800">
            <a:off x="7451280" y="4911840"/>
            <a:ext cx="145728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6"/>
          <p:cNvSpPr/>
          <p:nvPr/>
        </p:nvSpPr>
        <p:spPr>
          <a:xfrm>
            <a:off x="971640" y="33336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ставь пропущенно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187280" y="2060640"/>
          <a:ext cx="3097440" cy="2968560"/>
        </p:xfrm>
        <a:graphic>
          <a:graphicData uri="http://schemas.openxmlformats.org/drawingml/2006/table">
            <a:tbl>
              <a:tblPr/>
              <a:tblGrid>
                <a:gridCol w="1032840"/>
                <a:gridCol w="1031760"/>
                <a:gridCol w="1032840"/>
              </a:tblGrid>
              <a:tr h="15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076720" y="2060640"/>
          <a:ext cx="3382920" cy="2895480"/>
        </p:xfrm>
        <a:graphic>
          <a:graphicData uri="http://schemas.openxmlformats.org/drawingml/2006/table">
            <a:tbl>
              <a:tblPr/>
              <a:tblGrid>
                <a:gridCol w="1127880"/>
                <a:gridCol w="1126800"/>
                <a:gridCol w="1128240"/>
              </a:tblGrid>
              <a:tr h="15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1693800" y="14842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то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11240" y="148428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ллекту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3573360"/>
            <a:ext cx="1368360" cy="1224000"/>
          </a:xfrm>
          <a:custGeom>
            <a:avLst/>
            <a:gdLst>
              <a:gd name="textAreaLeft" fmla="*/ 312120 w 1368360"/>
              <a:gd name="textAreaRight" fmla="*/ 1056240 w 1368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84720" y="3573360"/>
            <a:ext cx="1370160" cy="1224000"/>
          </a:xfrm>
          <a:custGeom>
            <a:avLst/>
            <a:gdLst>
              <a:gd name="textAreaLeft" fmla="*/ 312840 w 1370160"/>
              <a:gd name="textAreaRight" fmla="*/ 1057320 w 13701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думайте, по какому правилу составлен ряд чисел, и найдите три следующих числ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66"/>
                </a:solidFill>
                <a:uFillTx/>
                <a:latin typeface="Times New Roman"/>
              </a:rPr>
              <a:t>а) 20, 22, 24, … 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0280" y="3645000"/>
            <a:ext cx="495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ff00"/>
                </a:solidFill>
                <a:uFillTx/>
                <a:latin typeface="Arial"/>
              </a:rPr>
              <a:t>б) 2, 4, 8, 16, … 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6588000" y="4076640"/>
            <a:ext cx="14288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 теперь подведем итоги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ого конкурс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6" descr="C:\Documents and Settings\1\Рабочий стол\ДЛЯ ПРЕЗЕНТАЦИЙ\Страна фантазии\Рисунок22.gif"/>
          <p:cNvPicPr/>
          <p:nvPr/>
        </p:nvPicPr>
        <p:blipFill>
          <a:blip r:embed="rId2"/>
          <a:stretch/>
        </p:blipFill>
        <p:spPr>
          <a:xfrm>
            <a:off x="285840" y="-285840"/>
            <a:ext cx="3143160" cy="3056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C:\Documents and Settings\1\Рабочий стол\ДЛЯ ПРЕЗЕНТАЦИЙ\Страна фантазии\Рисунок51.gif"/>
          <p:cNvPicPr/>
          <p:nvPr/>
        </p:nvPicPr>
        <p:blipFill>
          <a:blip r:embed="rId3"/>
          <a:stretch/>
        </p:blipFill>
        <p:spPr>
          <a:xfrm>
            <a:off x="6929280" y="3500280"/>
            <a:ext cx="1714680" cy="29829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Третий ту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7" descr="C:\Documents and Settings\1\Рабочий стол\ДЛЯ ПРЕЗЕНТАЦИЙ\Страна фантазии\losh14.gif"/>
          <p:cNvPicPr/>
          <p:nvPr/>
        </p:nvPicPr>
        <p:blipFill>
          <a:blip r:embed="rId2"/>
          <a:stretch/>
        </p:blipFill>
        <p:spPr>
          <a:xfrm>
            <a:off x="1285920" y="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drumrol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Вопрос - ответ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3857760" y="0"/>
            <a:ext cx="1428480" cy="2486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C:\Documents and Settings\1\Рабочий стол\ДЛЯ ПРЕЗЕНТАЦИЙ\анимация\сияние.gif"/>
          <p:cNvPicPr/>
          <p:nvPr/>
        </p:nvPicPr>
        <p:blipFill>
          <a:blip r:embed="rId3"/>
          <a:stretch/>
        </p:blipFill>
        <p:spPr>
          <a:xfrm>
            <a:off x="6572160" y="-285840"/>
            <a:ext cx="2571840" cy="270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C:\Documents and Settings\1\Рабочий стол\ДЛЯ ПРЕЗЕНТАЦИЙ\анимация\сияние.gif"/>
          <p:cNvPicPr/>
          <p:nvPr/>
        </p:nvPicPr>
        <p:blipFill>
          <a:blip r:embed="rId4"/>
          <a:stretch/>
        </p:blipFill>
        <p:spPr>
          <a:xfrm>
            <a:off x="285840" y="0"/>
            <a:ext cx="2357280" cy="2475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C:\Documents and Settings\1\Рабочий стол\ДЛЯ ПРЕЗЕНТАЦИЙ\анимация\сияние.gif"/>
          <p:cNvPicPr/>
          <p:nvPr/>
        </p:nvPicPr>
        <p:blipFill>
          <a:blip r:embed="rId5"/>
          <a:stretch/>
        </p:blipFill>
        <p:spPr>
          <a:xfrm>
            <a:off x="3714840" y="4532400"/>
            <a:ext cx="2214360" cy="23256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6312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Интеллектуальный марафон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908000" y="2708280"/>
            <a:ext cx="510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Ravie"/>
              </a:rPr>
              <a:t>Знаешь ли ты</a:t>
            </a: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 математику</a:t>
            </a:r>
            <a:r>
              <a:rPr b="1" lang="ru-RU" sz="6000" spc="-1" strike="noStrike">
                <a:solidFill>
                  <a:srgbClr val="008000"/>
                </a:solidFill>
                <a:latin typeface="Ravie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0" descr="C:\Documents and Settings\1\Рабочий стол\ДЛЯ ПРЕЗЕНТАЦИЙ\анимация\часы.gif"/>
          <p:cNvPicPr/>
          <p:nvPr/>
        </p:nvPicPr>
        <p:blipFill>
          <a:blip r:embed="rId2"/>
          <a:stretch/>
        </p:blipFill>
        <p:spPr>
          <a:xfrm>
            <a:off x="7380360" y="2852640"/>
            <a:ext cx="1512720" cy="1879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C:\Documents and Settings\1\Рабочий стол\ДЛЯ ПРЕЗЕНТАЦИЙ\Страна фантазии\Рисунок4.gif"/>
          <p:cNvPicPr/>
          <p:nvPr/>
        </p:nvPicPr>
        <p:blipFill>
          <a:blip r:embed="rId3"/>
          <a:stretch/>
        </p:blipFill>
        <p:spPr>
          <a:xfrm>
            <a:off x="357120" y="4000680"/>
            <a:ext cx="1919520" cy="2286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4" name="stin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533520" y="4653000"/>
            <a:ext cx="8153280" cy="909720"/>
          </a:xfrm>
          <a:prstGeom prst="hexagon">
            <a:avLst>
              <a:gd name="adj" fmla="val 2846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ти целое число, которое в девять раз больше его единиц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10000">
                <a:solidFill>
                  <a:srgbClr val="ff9900"/>
                </a:solidFill>
                <a:latin typeface="Arial"/>
              </a:rPr>
              <a:t>1 </a:t>
            </a:r>
            <a:r>
              <a:rPr b="1" lang="ru-RU" sz="3600" spc="-1" strike="noStrike" baseline="10000">
                <a:solidFill>
                  <a:srgbClr val="ffffff"/>
                </a:solidFill>
                <a:latin typeface="Arial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10000">
                <a:solidFill>
                  <a:srgbClr val="ff9900"/>
                </a:solidFill>
                <a:latin typeface="Arial"/>
              </a:rPr>
              <a:t>2 </a:t>
            </a:r>
            <a:r>
              <a:rPr b="1" lang="ru-RU" sz="3600" spc="-1" strike="noStrike" baseline="10000">
                <a:solidFill>
                  <a:srgbClr val="ffffff"/>
                </a:solidFill>
                <a:latin typeface="Arial"/>
              </a:rPr>
              <a:t>5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10000">
                <a:solidFill>
                  <a:srgbClr val="ff9900"/>
                </a:solidFill>
                <a:latin typeface="Arial"/>
              </a:rPr>
              <a:t>3 </a:t>
            </a:r>
            <a:r>
              <a:rPr b="1" lang="ru-RU" sz="3600" spc="-1" strike="noStrike" baseline="10000">
                <a:solidFill>
                  <a:srgbClr val="ffffff"/>
                </a:solidFill>
                <a:latin typeface="Arial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baseline="10000">
                <a:solidFill>
                  <a:srgbClr val="ff9900"/>
                </a:solidFill>
                <a:latin typeface="Arial"/>
              </a:rPr>
              <a:t>4 </a:t>
            </a:r>
            <a:r>
              <a:rPr b="1" lang="ru-RU" sz="3600" spc="-1" strike="noStrike" baseline="10000">
                <a:solidFill>
                  <a:srgbClr val="ffffff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йти целое число, которое в девять раз больше его единиц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baseline="10000">
                <a:solidFill>
                  <a:srgbClr val="ffffff"/>
                </a:solidFill>
                <a:latin typeface="Arial"/>
              </a:rPr>
              <a:t>1 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baseline="1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400" spc="-1" strike="noStrike" baseline="10000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 baseline="10000">
                <a:solidFill>
                  <a:srgbClr val="ffffff"/>
                </a:solidFill>
                <a:latin typeface="Arial"/>
              </a:rPr>
              <a:t> 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baseline="10000">
                <a:solidFill>
                  <a:srgbClr val="ffffff"/>
                </a:solidFill>
                <a:latin typeface="Arial"/>
              </a:rPr>
              <a:t>3  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baseline="10000">
                <a:solidFill>
                  <a:srgbClr val="ffffff"/>
                </a:solidFill>
                <a:latin typeface="Arial"/>
              </a:rPr>
              <a:t>4  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692280"/>
            <a:ext cx="7696080" cy="17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то больше половина половины 20 или четверть четверти 80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6560" y="24919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baseline="10000">
                <a:solidFill>
                  <a:srgbClr val="ff99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вина половины 20 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baseline="10000">
                <a:solidFill>
                  <a:srgbClr val="ff9900"/>
                </a:solidFill>
                <a:latin typeface="Arial"/>
              </a:rPr>
              <a:t>2 </a:t>
            </a:r>
            <a:r>
              <a:rPr b="1" lang="ru-RU" sz="3600" spc="-1" strike="noStrike" baseline="10000">
                <a:solidFill>
                  <a:srgbClr val="ffffff"/>
                </a:solidFill>
                <a:latin typeface="Arial"/>
              </a:rPr>
              <a:t>они рав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baseline="10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тверть четверти 80 бол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baseline="10000">
                <a:solidFill>
                  <a:srgbClr val="ff9900"/>
                </a:solidFill>
                <a:latin typeface="Arial"/>
              </a:rPr>
              <a:t>4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тверть четверти 80 мень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то больше половина половины 20 или четверть четверти 80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2714400"/>
            <a:ext cx="77724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10000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40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половина половины 20 боль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10000">
                <a:solidFill>
                  <a:srgbClr val="ff9900"/>
                </a:solidFill>
                <a:latin typeface="Arial"/>
              </a:rPr>
              <a:t>2   </a:t>
            </a:r>
            <a:r>
              <a:rPr b="1" lang="ru-RU" sz="4800" spc="-1" strike="noStrike" baseline="10000">
                <a:solidFill>
                  <a:srgbClr val="ffffff"/>
                </a:solidFill>
                <a:latin typeface="Arial"/>
              </a:rPr>
              <a:t>Они равны</a:t>
            </a:r>
            <a:r>
              <a:rPr b="1" lang="ru-RU" sz="32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10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2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тверть четверти 80 боль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10000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32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етверть четверти 80 мень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 9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1 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 1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 15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95640" y="476280"/>
            <a:ext cx="4392360" cy="18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195640" y="475920"/>
            <a:ext cx="2232000" cy="1873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640" y="476280"/>
            <a:ext cx="2160360" cy="1873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95640" y="476280"/>
            <a:ext cx="2232000" cy="1873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27640" y="475920"/>
            <a:ext cx="2160360" cy="1873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95640" y="476280"/>
            <a:ext cx="0" cy="1873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95640" y="2349360"/>
            <a:ext cx="439236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88000" y="476280"/>
            <a:ext cx="0" cy="1873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95640" y="476280"/>
            <a:ext cx="439236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2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533520" y="5759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 9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 1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0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1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3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4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5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6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7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8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842920" y="544320"/>
            <a:ext cx="4033800" cy="1665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771640" y="475920"/>
            <a:ext cx="2087640" cy="18003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59280" y="476280"/>
            <a:ext cx="2017800" cy="17287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43280" y="549360"/>
            <a:ext cx="2089080" cy="16556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932360" y="549000"/>
            <a:ext cx="1944720" cy="16556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43280" y="549360"/>
            <a:ext cx="0" cy="1727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43280" y="549360"/>
            <a:ext cx="40338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77080" y="549360"/>
            <a:ext cx="0" cy="16556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43280" y="2205000"/>
            <a:ext cx="40338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 теперь подведем итоги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ого конкурс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7" descr="C:\Documents and Settings\1\Рабочий стол\ДЛЯ ПРЕЗЕНТАЦИЙ\Страна фантазии\Рисунок53.gif"/>
          <p:cNvPicPr/>
          <p:nvPr/>
        </p:nvPicPr>
        <p:blipFill>
          <a:blip r:embed="rId2"/>
          <a:stretch/>
        </p:blipFill>
        <p:spPr>
          <a:xfrm>
            <a:off x="0" y="3621240"/>
            <a:ext cx="3357720" cy="3236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8" descr="C:\Documents and Settings\1\Рабочий стол\ДЛЯ ПРЕЗЕНТАЦИЙ\Страна фантазии\Рисунок51.gif"/>
          <p:cNvPicPr/>
          <p:nvPr/>
        </p:nvPicPr>
        <p:blipFill>
          <a:blip r:embed="rId3"/>
          <a:stretch/>
        </p:blipFill>
        <p:spPr>
          <a:xfrm>
            <a:off x="6858000" y="0"/>
            <a:ext cx="1889280" cy="32860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Четвертый ту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7" descr="C:\Documents and Settings\1\Рабочий стол\ДЛЯ ПРЕЗЕНТАЦИЙ\Страна фантазии\losh14.gif"/>
          <p:cNvPicPr/>
          <p:nvPr/>
        </p:nvPicPr>
        <p:blipFill>
          <a:blip r:embed="rId2"/>
          <a:stretch/>
        </p:blipFill>
        <p:spPr>
          <a:xfrm>
            <a:off x="1428840" y="500040"/>
            <a:ext cx="5048280" cy="37861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drumroll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Заморочки из бочк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3857760" y="0"/>
            <a:ext cx="1428480" cy="2486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C:\Documents and Settings\1\Рабочий стол\ДЛЯ ПРЕЗЕНТАЦИЙ\анимация\сияние.gif"/>
          <p:cNvPicPr/>
          <p:nvPr/>
        </p:nvPicPr>
        <p:blipFill>
          <a:blip r:embed="rId3"/>
          <a:stretch/>
        </p:blipFill>
        <p:spPr>
          <a:xfrm>
            <a:off x="6572160" y="-285840"/>
            <a:ext cx="2571840" cy="2700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C:\Documents and Settings\1\Рабочий стол\ДЛЯ ПРЕЗЕНТАЦИЙ\анимация\сияние.gif"/>
          <p:cNvPicPr/>
          <p:nvPr/>
        </p:nvPicPr>
        <p:blipFill>
          <a:blip r:embed="rId4"/>
          <a:stretch/>
        </p:blipFill>
        <p:spPr>
          <a:xfrm>
            <a:off x="285840" y="0"/>
            <a:ext cx="2357280" cy="2475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" descr="C:\Documents and Settings\1\Рабочий стол\ДЛЯ ПРЕЗЕНТАЦИЙ\анимация\сияние.gif"/>
          <p:cNvPicPr/>
          <p:nvPr/>
        </p:nvPicPr>
        <p:blipFill>
          <a:blip r:embed="rId5"/>
          <a:stretch/>
        </p:blipFill>
        <p:spPr>
          <a:xfrm>
            <a:off x="3714840" y="4532400"/>
            <a:ext cx="2214360" cy="23256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4" name=""/>
          <p:cNvGraphicFramePr/>
          <p:nvPr/>
        </p:nvGraphicFramePr>
        <p:xfrm>
          <a:off x="0" y="0"/>
          <a:ext cx="4716360" cy="3357720"/>
        </p:xfrm>
        <a:graphic>
          <a:graphicData uri="http://schemas.openxmlformats.org/drawingml/2006/table">
            <a:tbl>
              <a:tblPr/>
              <a:tblGrid>
                <a:gridCol w="471600"/>
                <a:gridCol w="471240"/>
                <a:gridCol w="471600"/>
                <a:gridCol w="471600"/>
                <a:gridCol w="473040"/>
                <a:gridCol w="471600"/>
                <a:gridCol w="471240"/>
                <a:gridCol w="471600"/>
                <a:gridCol w="471600"/>
                <a:gridCol w="4712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0" y="0"/>
            <a:ext cx="395280" cy="549360"/>
          </a:xfrm>
          <a:prstGeom prst="triangle">
            <a:avLst>
              <a:gd name="adj" fmla="val 50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060640"/>
            <a:ext cx="395280" cy="576360"/>
          </a:xfrm>
          <a:prstGeom prst="triangle">
            <a:avLst>
              <a:gd name="adj" fmla="val 50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692280"/>
            <a:ext cx="395280" cy="577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11280" y="765000"/>
            <a:ext cx="360360" cy="505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1341360"/>
            <a:ext cx="360360" cy="57492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189000"/>
            <a:ext cx="36036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9640" y="765000"/>
            <a:ext cx="360360" cy="476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76360" y="765000"/>
            <a:ext cx="360360" cy="4762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971640" y="1413000"/>
            <a:ext cx="360360" cy="476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9640" y="2133720"/>
            <a:ext cx="36036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2781360"/>
            <a:ext cx="36036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2781360"/>
            <a:ext cx="360360" cy="476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79640" y="2781360"/>
            <a:ext cx="36036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43280" y="2781360"/>
            <a:ext cx="360360" cy="476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71640" y="115920"/>
            <a:ext cx="43164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03280" y="115920"/>
            <a:ext cx="432000" cy="503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08000" y="765000"/>
            <a:ext cx="432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43280" y="765000"/>
            <a:ext cx="43164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484280"/>
            <a:ext cx="431640" cy="503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03280" y="2133720"/>
            <a:ext cx="432000" cy="503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71640" y="2133720"/>
            <a:ext cx="43164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80000" y="2781360"/>
            <a:ext cx="431640" cy="5032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03280" y="2781360"/>
            <a:ext cx="432000" cy="503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71640" y="765000"/>
            <a:ext cx="433440" cy="503280"/>
          </a:xfrm>
          <a:custGeom>
            <a:avLst/>
            <a:gdLst>
              <a:gd name="textAreaLeft" fmla="*/ 116640 w 433440"/>
              <a:gd name="textAreaRight" fmla="*/ 316800 w 433440"/>
              <a:gd name="textAreaTop" fmla="*/ 135360 h 503280"/>
              <a:gd name="textAreaBottom" fmla="*/ 367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17" y="5817"/>
                </a:lnTo>
                <a:lnTo>
                  <a:pt x="10800" y="0"/>
                </a:lnTo>
                <a:lnTo>
                  <a:pt x="15783" y="5817"/>
                </a:lnTo>
                <a:lnTo>
                  <a:pt x="21600" y="10800"/>
                </a:lnTo>
                <a:lnTo>
                  <a:pt x="15783" y="15783"/>
                </a:lnTo>
                <a:lnTo>
                  <a:pt x="10800" y="21600"/>
                </a:lnTo>
                <a:lnTo>
                  <a:pt x="5817" y="1578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03280" y="1484280"/>
            <a:ext cx="433440" cy="503280"/>
          </a:xfrm>
          <a:custGeom>
            <a:avLst/>
            <a:gdLst>
              <a:gd name="textAreaLeft" fmla="*/ 116640 w 433440"/>
              <a:gd name="textAreaRight" fmla="*/ 316800 w 433440"/>
              <a:gd name="textAreaTop" fmla="*/ 135360 h 503280"/>
              <a:gd name="textAreaBottom" fmla="*/ 367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17" y="5817"/>
                </a:lnTo>
                <a:lnTo>
                  <a:pt x="10800" y="0"/>
                </a:lnTo>
                <a:lnTo>
                  <a:pt x="15783" y="5817"/>
                </a:lnTo>
                <a:lnTo>
                  <a:pt x="21600" y="10800"/>
                </a:lnTo>
                <a:lnTo>
                  <a:pt x="15783" y="15783"/>
                </a:lnTo>
                <a:lnTo>
                  <a:pt x="10800" y="21600"/>
                </a:lnTo>
                <a:lnTo>
                  <a:pt x="5817" y="15783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2781360"/>
            <a:ext cx="433440" cy="503280"/>
          </a:xfrm>
          <a:custGeom>
            <a:avLst/>
            <a:gdLst>
              <a:gd name="textAreaLeft" fmla="*/ 116640 w 433440"/>
              <a:gd name="textAreaRight" fmla="*/ 316800 w 433440"/>
              <a:gd name="textAreaTop" fmla="*/ 135360 h 503280"/>
              <a:gd name="textAreaBottom" fmla="*/ 367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17" y="5817"/>
                </a:lnTo>
                <a:lnTo>
                  <a:pt x="10800" y="0"/>
                </a:lnTo>
                <a:lnTo>
                  <a:pt x="15783" y="5817"/>
                </a:lnTo>
                <a:lnTo>
                  <a:pt x="21600" y="10800"/>
                </a:lnTo>
                <a:lnTo>
                  <a:pt x="15783" y="15783"/>
                </a:lnTo>
                <a:lnTo>
                  <a:pt x="10800" y="21600"/>
                </a:lnTo>
                <a:lnTo>
                  <a:pt x="5817" y="15783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000" y="2781360"/>
            <a:ext cx="433440" cy="503280"/>
          </a:xfrm>
          <a:custGeom>
            <a:avLst/>
            <a:gdLst>
              <a:gd name="textAreaLeft" fmla="*/ 116640 w 433440"/>
              <a:gd name="textAreaRight" fmla="*/ 316800 w 433440"/>
              <a:gd name="textAreaTop" fmla="*/ 135360 h 503280"/>
              <a:gd name="textAreaBottom" fmla="*/ 367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17" y="5817"/>
                </a:lnTo>
                <a:lnTo>
                  <a:pt x="10800" y="0"/>
                </a:lnTo>
                <a:lnTo>
                  <a:pt x="15783" y="5817"/>
                </a:lnTo>
                <a:lnTo>
                  <a:pt x="21600" y="10800"/>
                </a:lnTo>
                <a:lnTo>
                  <a:pt x="15783" y="15783"/>
                </a:lnTo>
                <a:lnTo>
                  <a:pt x="10800" y="21600"/>
                </a:lnTo>
                <a:lnTo>
                  <a:pt x="5817" y="15783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84720" y="2708280"/>
            <a:ext cx="433440" cy="503280"/>
          </a:xfrm>
          <a:custGeom>
            <a:avLst/>
            <a:gdLst>
              <a:gd name="textAreaLeft" fmla="*/ 116640 w 433440"/>
              <a:gd name="textAreaRight" fmla="*/ 316800 w 433440"/>
              <a:gd name="textAreaTop" fmla="*/ 135360 h 503280"/>
              <a:gd name="textAreaBottom" fmla="*/ 367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17" y="5817"/>
                </a:lnTo>
                <a:lnTo>
                  <a:pt x="10800" y="0"/>
                </a:lnTo>
                <a:lnTo>
                  <a:pt x="15783" y="5817"/>
                </a:lnTo>
                <a:lnTo>
                  <a:pt x="21600" y="10800"/>
                </a:lnTo>
                <a:lnTo>
                  <a:pt x="15783" y="15783"/>
                </a:lnTo>
                <a:lnTo>
                  <a:pt x="10800" y="21600"/>
                </a:lnTo>
                <a:lnTo>
                  <a:pt x="5817" y="1578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2708280"/>
            <a:ext cx="433440" cy="503280"/>
          </a:xfrm>
          <a:custGeom>
            <a:avLst/>
            <a:gdLst>
              <a:gd name="textAreaLeft" fmla="*/ 116640 w 433440"/>
              <a:gd name="textAreaRight" fmla="*/ 316800 w 433440"/>
              <a:gd name="textAreaTop" fmla="*/ 135360 h 503280"/>
              <a:gd name="textAreaBottom" fmla="*/ 367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17" y="5817"/>
                </a:lnTo>
                <a:lnTo>
                  <a:pt x="10800" y="0"/>
                </a:lnTo>
                <a:lnTo>
                  <a:pt x="15783" y="5817"/>
                </a:lnTo>
                <a:lnTo>
                  <a:pt x="21600" y="10800"/>
                </a:lnTo>
                <a:lnTo>
                  <a:pt x="15783" y="15783"/>
                </a:lnTo>
                <a:lnTo>
                  <a:pt x="10800" y="21600"/>
                </a:lnTo>
                <a:lnTo>
                  <a:pt x="5817" y="1578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88000" y="3716280"/>
            <a:ext cx="433440" cy="503280"/>
          </a:xfrm>
          <a:custGeom>
            <a:avLst/>
            <a:gdLst>
              <a:gd name="textAreaLeft" fmla="*/ 116640 w 433440"/>
              <a:gd name="textAreaRight" fmla="*/ 316800 w 433440"/>
              <a:gd name="textAreaTop" fmla="*/ 135360 h 503280"/>
              <a:gd name="textAreaBottom" fmla="*/ 367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17" y="5817"/>
                </a:lnTo>
                <a:lnTo>
                  <a:pt x="10800" y="0"/>
                </a:lnTo>
                <a:lnTo>
                  <a:pt x="15783" y="5817"/>
                </a:lnTo>
                <a:lnTo>
                  <a:pt x="21600" y="10800"/>
                </a:lnTo>
                <a:lnTo>
                  <a:pt x="15783" y="15783"/>
                </a:lnTo>
                <a:lnTo>
                  <a:pt x="10800" y="21600"/>
                </a:lnTo>
                <a:lnTo>
                  <a:pt x="5817" y="15783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556000" y="3645000"/>
          <a:ext cx="4680000" cy="3213000"/>
        </p:xfrm>
        <a:graphic>
          <a:graphicData uri="http://schemas.openxmlformats.org/drawingml/2006/table">
            <a:tbl>
              <a:tblPr/>
              <a:tblGrid>
                <a:gridCol w="936360"/>
                <a:gridCol w="935280"/>
                <a:gridCol w="936360"/>
                <a:gridCol w="935280"/>
                <a:gridCol w="93672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sp>
        <p:nvSpPr>
          <p:cNvPr id="376" name=""/>
          <p:cNvSpPr/>
          <p:nvPr/>
        </p:nvSpPr>
        <p:spPr>
          <a:xfrm>
            <a:off x="3708360" y="3716280"/>
            <a:ext cx="395280" cy="549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3280" y="3716280"/>
            <a:ext cx="43200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80000" y="3716280"/>
            <a:ext cx="36036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16720" y="3716280"/>
            <a:ext cx="433440" cy="503280"/>
          </a:xfrm>
          <a:custGeom>
            <a:avLst/>
            <a:gdLst>
              <a:gd name="textAreaLeft" fmla="*/ 116640 w 433440"/>
              <a:gd name="textAreaRight" fmla="*/ 316800 w 433440"/>
              <a:gd name="textAreaTop" fmla="*/ 135360 h 503280"/>
              <a:gd name="textAreaBottom" fmla="*/ 367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17" y="5817"/>
                </a:lnTo>
                <a:lnTo>
                  <a:pt x="10800" y="0"/>
                </a:lnTo>
                <a:lnTo>
                  <a:pt x="15783" y="5817"/>
                </a:lnTo>
                <a:lnTo>
                  <a:pt x="21600" y="10800"/>
                </a:lnTo>
                <a:lnTo>
                  <a:pt x="15783" y="15783"/>
                </a:lnTo>
                <a:lnTo>
                  <a:pt x="10800" y="21600"/>
                </a:lnTo>
                <a:lnTo>
                  <a:pt x="5817" y="15783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00360" y="4365720"/>
            <a:ext cx="576360" cy="485640"/>
          </a:xfrm>
          <a:prstGeom prst="rightArrow">
            <a:avLst>
              <a:gd name="adj1" fmla="val 50000"/>
              <a:gd name="adj2" fmla="val 2967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71640" y="5013360"/>
            <a:ext cx="576360" cy="485640"/>
          </a:xfrm>
          <a:prstGeom prst="rightArrow">
            <a:avLst>
              <a:gd name="adj1" fmla="val 50000"/>
              <a:gd name="adj2" fmla="val 296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71640" y="5661000"/>
            <a:ext cx="576360" cy="485640"/>
          </a:xfrm>
          <a:prstGeom prst="rightArrow">
            <a:avLst>
              <a:gd name="adj1" fmla="val 50000"/>
              <a:gd name="adj2" fmla="val 296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71640" y="6372360"/>
            <a:ext cx="576360" cy="485640"/>
          </a:xfrm>
          <a:prstGeom prst="rightArrow">
            <a:avLst>
              <a:gd name="adj1" fmla="val 50000"/>
              <a:gd name="adj2" fmla="val 2967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95840" y="333360"/>
            <a:ext cx="444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сшифруйте изречение Галиле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03280" y="3429000"/>
            <a:ext cx="61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Язык природы есть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язык математ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baby14.gif"/>
          <p:cNvPicPr/>
          <p:nvPr/>
        </p:nvPicPr>
        <p:blipFill>
          <a:blip r:embed="rId2"/>
          <a:stretch/>
        </p:blipFill>
        <p:spPr>
          <a:xfrm>
            <a:off x="6858000" y="4429080"/>
            <a:ext cx="2114640" cy="2162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Правила игры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424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беждает тот, кто больше знае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 завидуй удачам соперника, играй честн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играл – не унывай, а побольше узнава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2 замор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Box 6"/>
          <p:cNvSpPr/>
          <p:nvPr/>
        </p:nvSpPr>
        <p:spPr>
          <a:xfrm>
            <a:off x="684360" y="1571760"/>
            <a:ext cx="820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 окрестностях пруда четыре болота. В каждом болоте по 58 кочек, а на каждой кочке живет шесть лягуше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аждая лягушка мечтает стать лягушкой – путешественницей. Сколько нужно уток, что бы осуществилась их мечт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39640" y="4886280"/>
            <a:ext cx="2247840" cy="19717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3203640" y="4005360"/>
            <a:ext cx="2247840" cy="19717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>
            <a:off x="6012000" y="4653000"/>
            <a:ext cx="2247840" cy="19717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2412720" y="765000"/>
            <a:ext cx="481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*58*6*2=278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09.%20Who%20Correct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6572160" y="6000840"/>
            <a:ext cx="1785960" cy="571320"/>
          </a:xfrm>
          <a:custGeom>
            <a:avLst/>
            <a:gdLst>
              <a:gd name="textAreaLeft" fmla="*/ 36720 w 1785960"/>
              <a:gd name="textAreaRight" fmla="*/ 1749240 w 1785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67493" h="21600">
                <a:moveTo>
                  <a:pt x="0" y="0"/>
                </a:moveTo>
                <a:lnTo>
                  <a:pt x="67493" y="0"/>
                </a:lnTo>
                <a:lnTo>
                  <a:pt x="67493" y="21600"/>
                </a:lnTo>
                <a:lnTo>
                  <a:pt x="0" y="21600"/>
                </a:lnTo>
                <a:close/>
              </a:path>
              <a:path fill="lightenLess" w="67493" h="21600">
                <a:moveTo>
                  <a:pt x="0" y="0"/>
                </a:moveTo>
                <a:lnTo>
                  <a:pt x="67493" y="0"/>
                </a:lnTo>
                <a:lnTo>
                  <a:pt x="66093" y="1400"/>
                </a:lnTo>
                <a:lnTo>
                  <a:pt x="1400" y="1400"/>
                </a:lnTo>
                <a:close/>
              </a:path>
              <a:path fill="darken" w="67493" h="21600">
                <a:moveTo>
                  <a:pt x="67493" y="0"/>
                </a:moveTo>
                <a:lnTo>
                  <a:pt x="67493" y="21600"/>
                </a:lnTo>
                <a:lnTo>
                  <a:pt x="66093" y="20200"/>
                </a:lnTo>
                <a:lnTo>
                  <a:pt x="66093" y="1400"/>
                </a:lnTo>
                <a:close/>
              </a:path>
              <a:path fill="darkenLess" w="67493" h="21600">
                <a:moveTo>
                  <a:pt x="67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093" y="20200"/>
                </a:lnTo>
                <a:close/>
              </a:path>
              <a:path fill="lighten" w="67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3 замороч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6"/>
          <p:cNvSpPr/>
          <p:nvPr/>
        </p:nvSpPr>
        <p:spPr>
          <a:xfrm>
            <a:off x="324000" y="157176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Сколько квадратов на рисунке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523880" y="3247920"/>
          <a:ext cx="6096240" cy="25732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3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399" name=""/>
          <p:cNvSpPr/>
          <p:nvPr/>
        </p:nvSpPr>
        <p:spPr>
          <a:xfrm>
            <a:off x="4026600" y="3878280"/>
            <a:ext cx="1424160" cy="143460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66ff"/>
                </a:solidFill>
                <a:latin typeface="Arial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6" descr="C:\Documents and Settings\1\Рабочий стол\ДЛЯ ПРЕЗЕНТАЦИЙ\Страна фантазии\Рисунок22.gif"/>
          <p:cNvPicPr/>
          <p:nvPr/>
        </p:nvPicPr>
        <p:blipFill>
          <a:blip r:embed="rId2"/>
          <a:stretch/>
        </p:blipFill>
        <p:spPr>
          <a:xfrm>
            <a:off x="0" y="0"/>
            <a:ext cx="1835280" cy="24796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09.%20Who%20Correct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3 замороч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6"/>
          <p:cNvSpPr/>
          <p:nvPr/>
        </p:nvSpPr>
        <p:spPr>
          <a:xfrm>
            <a:off x="1143000" y="128592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Кто быстрее даст отв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00000" y="2349360"/>
            <a:ext cx="1490760" cy="1440000"/>
          </a:xfrm>
          <a:custGeom>
            <a:avLst/>
            <a:gdLst>
              <a:gd name="textAreaLeft" fmla="*/ 340200 w 1490760"/>
              <a:gd name="textAreaRight" fmla="*/ 1150560 w 149076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340000" y="3716280"/>
            <a:ext cx="1563840" cy="1441440"/>
          </a:xfrm>
          <a:custGeom>
            <a:avLst/>
            <a:gdLst>
              <a:gd name="textAreaLeft" fmla="*/ 356760 w 1563840"/>
              <a:gd name="textAreaRight" fmla="*/ 1207080 w 1563840"/>
              <a:gd name="textAreaTop" fmla="*/ 329040 h 1441440"/>
              <a:gd name="textAreaBottom" fmla="*/ 11124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995640" y="4653000"/>
            <a:ext cx="1584360" cy="136836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312120 h 1368360"/>
              <a:gd name="textAreaBottom" fmla="*/ 1056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573360"/>
            <a:ext cx="1511280" cy="137016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312840 h 1370160"/>
              <a:gd name="textAreaBottom" fmla="*/ 1057320 h 1370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48360" y="2205000"/>
            <a:ext cx="1440000" cy="1440000"/>
          </a:xfrm>
          <a:custGeom>
            <a:avLst/>
            <a:gdLst>
              <a:gd name="textAreaLeft" fmla="*/ 328680 w 1440000"/>
              <a:gd name="textAreaRight" fmla="*/ 1111320 w 144000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50920" y="3429000"/>
            <a:ext cx="649440" cy="576360"/>
          </a:xfrm>
          <a:prstGeom prst="line">
            <a:avLst/>
          </a:prstGeom>
          <a:ln w="7632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492360" y="4797360"/>
            <a:ext cx="863640" cy="360360"/>
          </a:xfrm>
          <a:prstGeom prst="line">
            <a:avLst/>
          </a:prstGeom>
          <a:ln w="7632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5435640" y="4581360"/>
            <a:ext cx="649080" cy="503280"/>
          </a:xfrm>
          <a:prstGeom prst="line">
            <a:avLst/>
          </a:prstGeom>
          <a:ln w="7632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877080" y="3212640"/>
            <a:ext cx="574560" cy="576360"/>
          </a:xfrm>
          <a:prstGeom prst="line">
            <a:avLst/>
          </a:prstGeom>
          <a:ln w="7632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21454200">
            <a:off x="2120400" y="3290760"/>
            <a:ext cx="10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20720" y="4076640"/>
            <a:ext cx="152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78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49080" y="494172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436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34160" y="3933720"/>
            <a:ext cx="62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7380360" y="2637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412720" y="4149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141800" y="50133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68360" y="400536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028720" y="155736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1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7" descr="C:\Documents and Settings\1\Рабочий стол\ДЛЯ ПРЕЗЕНТАЦИЙ\Страна фантазии\Рисунок53.gif"/>
          <p:cNvPicPr/>
          <p:nvPr/>
        </p:nvPicPr>
        <p:blipFill>
          <a:blip r:embed="rId3"/>
          <a:stretch/>
        </p:blipFill>
        <p:spPr>
          <a:xfrm>
            <a:off x="3419640" y="1844640"/>
            <a:ext cx="2606400" cy="251316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 flipV="1">
            <a:off x="8028000" y="2133720"/>
            <a:ext cx="216000" cy="287280"/>
          </a:xfrm>
          <a:prstGeom prst="line">
            <a:avLst/>
          </a:prstGeom>
          <a:ln w="5724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4" name="09.%20Who%20Correct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 теперь подведем итоги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го конкурс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Picture 7" descr="C:\Documents and Settings\1\Рабочий стол\ДЛЯ ПРЕЗЕНТАЦИЙ\Страна фантазии\Рисунок53.gif"/>
          <p:cNvPicPr/>
          <p:nvPr/>
        </p:nvPicPr>
        <p:blipFill>
          <a:blip r:embed="rId2"/>
          <a:stretch/>
        </p:blipFill>
        <p:spPr>
          <a:xfrm>
            <a:off x="2571840" y="3857760"/>
            <a:ext cx="3111480" cy="30002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C:\Documents and Settings\1\Рабочий стол\ДЛЯ ПРЕЗЕНТАЦИЙ\Страна фантазии\Рисунок51.gif"/>
          <p:cNvPicPr/>
          <p:nvPr/>
        </p:nvPicPr>
        <p:blipFill>
          <a:blip r:embed="rId3"/>
          <a:stretch/>
        </p:blipFill>
        <p:spPr>
          <a:xfrm>
            <a:off x="6786720" y="0"/>
            <a:ext cx="1888920" cy="32860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Пятый ту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7" descr="C:\Documents and Settings\1\Рабочий стол\ДЛЯ ПРЕЗЕНТАЦИЙ\Страна фантазии\losh14.gif"/>
          <p:cNvPicPr/>
          <p:nvPr/>
        </p:nvPicPr>
        <p:blipFill>
          <a:blip r:embed="rId2"/>
          <a:stretch/>
        </p:blipFill>
        <p:spPr>
          <a:xfrm>
            <a:off x="1428840" y="0"/>
            <a:ext cx="5619600" cy="42148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drumroll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 в шутку, и в серьез -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Box 6"/>
          <p:cNvSpPr/>
          <p:nvPr/>
        </p:nvSpPr>
        <p:spPr>
          <a:xfrm>
            <a:off x="539640" y="1357200"/>
            <a:ext cx="7993080" cy="2837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ифметический я знак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задачнике меня найдеш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 многих строчк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ишь «0» ты вставишь, зная как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я – географическая точ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Box 13"/>
          <p:cNvSpPr/>
          <p:nvPr/>
        </p:nvSpPr>
        <p:spPr>
          <a:xfrm>
            <a:off x="1476360" y="4941720"/>
            <a:ext cx="1785960" cy="703440"/>
          </a:xfrm>
          <a:prstGeom prst="rect">
            <a:avLst/>
          </a:prstGeom>
          <a:solidFill>
            <a:srgbClr val="ff0066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лю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Box 14"/>
          <p:cNvSpPr/>
          <p:nvPr/>
        </p:nvSpPr>
        <p:spPr>
          <a:xfrm>
            <a:off x="5508720" y="4941720"/>
            <a:ext cx="2303280" cy="703440"/>
          </a:xfrm>
          <a:prstGeom prst="rect">
            <a:avLst/>
          </a:prstGeom>
          <a:solidFill>
            <a:srgbClr val="3333cc"/>
          </a:solidFill>
          <a:ln w="25560">
            <a:solidFill>
              <a:srgbClr val="23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лю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5300640"/>
            <a:ext cx="20872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 в шутку, и в серьез -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6"/>
          <p:cNvSpPr/>
          <p:nvPr/>
        </p:nvSpPr>
        <p:spPr>
          <a:xfrm>
            <a:off x="1000080" y="1357200"/>
            <a:ext cx="6929640" cy="2837160"/>
          </a:xfrm>
          <a:prstGeom prst="rect">
            <a:avLst/>
          </a:pr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приношу с собою боль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лице большое искаженье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«Ф» на «П» заменишь коль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о превращаюсь в знак сложень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693080" y="4581360"/>
            <a:ext cx="219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Arial"/>
              </a:rPr>
              <a:t>ФЛЮ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003640" y="4570560"/>
            <a:ext cx="211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ПЛЮ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924360" y="5013360"/>
            <a:ext cx="10792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 в шутку, и в серьез -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6"/>
          <p:cNvSpPr/>
          <p:nvPr/>
        </p:nvSpPr>
        <p:spPr>
          <a:xfrm>
            <a:off x="1000080" y="1357200"/>
            <a:ext cx="6929640" cy="22885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 мерой ноту вставишь вдру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целое найдешь среди подру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73080" y="4005360"/>
            <a:ext cx="348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66cc"/>
                </a:solidFill>
                <a:latin typeface="Arial"/>
              </a:rPr>
              <a:t>ГАЛЯ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084720" y="2997360"/>
            <a:ext cx="2843280" cy="12603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403280" y="4005360"/>
            <a:ext cx="1484280" cy="263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 в шутку, и в серьез -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Box 6"/>
          <p:cNvSpPr/>
          <p:nvPr/>
        </p:nvSpPr>
        <p:spPr>
          <a:xfrm>
            <a:off x="1000080" y="1357200"/>
            <a:ext cx="6929640" cy="2837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н грызун, но очень мел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только чуть побольше белк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заменишь «У» на «О»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удет круглое числ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20360" y="4714920"/>
            <a:ext cx="22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СУРО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37080" y="4724280"/>
            <a:ext cx="23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СОРО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780000" y="5084640"/>
            <a:ext cx="158400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7054920" y="3429000"/>
            <a:ext cx="183816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 теперь подведем итоги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ого конкурс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icture 6" descr="C:\Documents and Settings\1\Рабочий стол\ДЛЯ ПРЕЗЕНТАЦИЙ\Страна фантазии\Рисунок53.gif"/>
          <p:cNvPicPr/>
          <p:nvPr/>
        </p:nvPicPr>
        <p:blipFill>
          <a:blip r:embed="rId2"/>
          <a:stretch/>
        </p:blipFill>
        <p:spPr>
          <a:xfrm>
            <a:off x="3000240" y="4286160"/>
            <a:ext cx="2667240" cy="25718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C:\Documents and Settings\1\Рабочий стол\ДЛЯ ПРЕЗЕНТАЦИЙ\Страна фантазии\Рисунок51.gif"/>
          <p:cNvPicPr/>
          <p:nvPr/>
        </p:nvPicPr>
        <p:blipFill>
          <a:blip r:embed="rId3"/>
          <a:stretch/>
        </p:blipFill>
        <p:spPr>
          <a:xfrm>
            <a:off x="6929280" y="0"/>
            <a:ext cx="1785960" cy="310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Первый ту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7" descr="C:\Documents and Settings\1\Рабочий стол\ДЛЯ ПРЕЗЕНТАЦИЙ\Страна фантазии\losh14.gif"/>
          <p:cNvPicPr/>
          <p:nvPr/>
        </p:nvPicPr>
        <p:blipFill>
          <a:blip r:embed="rId2"/>
          <a:stretch/>
        </p:blipFill>
        <p:spPr>
          <a:xfrm>
            <a:off x="2143080" y="50004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drumroll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utoShape 2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Шестой ту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Picture 6" descr="C:\Documents and Settings\1\Рабочий стол\ДЛЯ ПРЕЗЕНТАЦИЙ\Страна фантазии\losh14.gif"/>
          <p:cNvPicPr/>
          <p:nvPr/>
        </p:nvPicPr>
        <p:blipFill>
          <a:blip r:embed="rId2"/>
          <a:stretch/>
        </p:blipFill>
        <p:spPr>
          <a:xfrm>
            <a:off x="2000160" y="500040"/>
            <a:ext cx="5143680" cy="38577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drumroll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Конкурс капитано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3857760" y="0"/>
            <a:ext cx="1428480" cy="248616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C:\Documents and Settings\1\Рабочий стол\ДЛЯ ПРЕЗЕНТАЦИЙ\анимация\сияние.gif"/>
          <p:cNvPicPr/>
          <p:nvPr/>
        </p:nvPicPr>
        <p:blipFill>
          <a:blip r:embed="rId3"/>
          <a:stretch/>
        </p:blipFill>
        <p:spPr>
          <a:xfrm>
            <a:off x="6572160" y="-285840"/>
            <a:ext cx="2571840" cy="2700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9" descr="C:\Documents and Settings\1\Рабочий стол\ДЛЯ ПРЕЗЕНТАЦИЙ\анимация\сияние.gif"/>
          <p:cNvPicPr/>
          <p:nvPr/>
        </p:nvPicPr>
        <p:blipFill>
          <a:blip r:embed="rId4"/>
          <a:stretch/>
        </p:blipFill>
        <p:spPr>
          <a:xfrm>
            <a:off x="285840" y="0"/>
            <a:ext cx="2357280" cy="2475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0" descr="C:\Documents and Settings\1\Рабочий стол\ДЛЯ ПРЕЗЕНТАЦИЙ\анимация\сияние.gif"/>
          <p:cNvPicPr/>
          <p:nvPr/>
        </p:nvPicPr>
        <p:blipFill>
          <a:blip r:embed="rId5"/>
          <a:stretch/>
        </p:blipFill>
        <p:spPr>
          <a:xfrm>
            <a:off x="3714840" y="4532400"/>
            <a:ext cx="2214360" cy="23256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cashreg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900000" y="62064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дите в таблице все числа по порядку от 2 до 5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045080" y="2492280"/>
            <a:ext cx="3035160" cy="2527560"/>
            <a:chOff x="1045080" y="2492280"/>
            <a:chExt cx="3035160" cy="2527560"/>
          </a:xfrm>
        </p:grpSpPr>
        <p:sp>
          <p:nvSpPr>
            <p:cNvPr id="478" name=""/>
            <p:cNvSpPr/>
            <p:nvPr/>
          </p:nvSpPr>
          <p:spPr>
            <a:xfrm>
              <a:off x="1045080" y="249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77080" y="249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10520" y="249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42160" y="249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73800" y="249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04360" y="249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37440" y="249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45080" y="285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77080" y="285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10520" y="285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42160" y="285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72360" y="285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04360" y="285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37440" y="285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45080" y="321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77080" y="321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10520" y="321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342160" y="321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73800" y="321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04360" y="321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37440" y="321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045080" y="357192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77080" y="357192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10520" y="357192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42160" y="357192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72360" y="357192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04360" y="357192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37440" y="357192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45080" y="393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77080" y="393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910520" y="393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42160" y="393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773800" y="393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04360" y="393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37440" y="393228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45080" y="429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77080" y="429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10520" y="429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42160" y="429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72360" y="429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04360" y="429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37440" y="429264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45080" y="465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77080" y="465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10520" y="465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342160" y="465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73800" y="465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204360" y="465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37440" y="4651560"/>
              <a:ext cx="4428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5149080" y="2492280"/>
            <a:ext cx="3035160" cy="2527560"/>
            <a:chOff x="5149080" y="2492280"/>
            <a:chExt cx="3035160" cy="2527560"/>
          </a:xfrm>
        </p:grpSpPr>
        <p:sp>
          <p:nvSpPr>
            <p:cNvPr id="528" name=""/>
            <p:cNvSpPr/>
            <p:nvPr/>
          </p:nvSpPr>
          <p:spPr>
            <a:xfrm>
              <a:off x="5149080" y="249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80720" y="249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14160" y="249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46160" y="249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77800" y="249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08000" y="249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741440" y="249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49080" y="285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80720" y="285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14160" y="285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446160" y="285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76360" y="285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308000" y="285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41440" y="285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49080" y="321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80720" y="321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14160" y="321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46160" y="321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77800" y="321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08000" y="321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741440" y="321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49080" y="357192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580720" y="357192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14160" y="357192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46160" y="357192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6360" y="357192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08000" y="357192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741440" y="357192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49080" y="393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80720" y="393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14160" y="393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46160" y="393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77800" y="393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08000" y="393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41440" y="393228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49080" y="429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0720" y="429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014160" y="429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46160" y="429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76360" y="429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08000" y="429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741440" y="429264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49080" y="465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0720" y="465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14160" y="465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46160" y="465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77800" y="465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08000" y="465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41440" y="4651560"/>
              <a:ext cx="442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1042920" y="2492280"/>
            <a:ext cx="0" cy="251928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067280" y="2565360"/>
            <a:ext cx="0" cy="251928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48360" y="2492280"/>
            <a:ext cx="0" cy="251928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172360" y="2492280"/>
            <a:ext cx="0" cy="251928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42920" y="2492280"/>
            <a:ext cx="3024360" cy="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42920" y="5013360"/>
            <a:ext cx="3024360" cy="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148360" y="2492280"/>
            <a:ext cx="3024000" cy="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148360" y="5013360"/>
            <a:ext cx="3024000" cy="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Rectangle 2" descr=""/>
          <p:cNvPicPr/>
          <p:nvPr/>
        </p:nvPicPr>
        <p:blipFill>
          <a:blip r:embed="rId2"/>
          <a:stretch/>
        </p:blipFill>
        <p:spPr>
          <a:xfrm>
            <a:off x="831960" y="703440"/>
            <a:ext cx="1160280" cy="92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 теперь подведем итоги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ого конкурс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6" descr="C:\Documents and Settings\1\Рабочий стол\ДЛЯ ПРЕЗЕНТАЦИЙ\Страна фантазии\Рисунок53.gif"/>
          <p:cNvPicPr/>
          <p:nvPr/>
        </p:nvPicPr>
        <p:blipFill>
          <a:blip r:embed="rId2"/>
          <a:stretch/>
        </p:blipFill>
        <p:spPr>
          <a:xfrm>
            <a:off x="3000240" y="4286160"/>
            <a:ext cx="2667240" cy="25718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7" descr="C:\Documents and Settings\1\Рабочий стол\ДЛЯ ПРЕЗЕНТАЦИЙ\Страна фантазии\Рисунок51.gif"/>
          <p:cNvPicPr/>
          <p:nvPr/>
        </p:nvPicPr>
        <p:blipFill>
          <a:blip r:embed="rId3"/>
          <a:stretch/>
        </p:blipFill>
        <p:spPr>
          <a:xfrm>
            <a:off x="6929280" y="0"/>
            <a:ext cx="1785960" cy="310824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cashreg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Рисунок 4" descr="615011091.gif"/>
          <p:cNvPicPr/>
          <p:nvPr/>
        </p:nvPicPr>
        <p:blipFill>
          <a:blip r:embed="rId2"/>
          <a:stretch/>
        </p:blipFill>
        <p:spPr>
          <a:xfrm>
            <a:off x="1285920" y="2214720"/>
            <a:ext cx="7419960" cy="23144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684360" y="333360"/>
            <a:ext cx="1584000" cy="14428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C:\Documents and Settings\1\Рабочий стол\ДЛЯ ПРЕЗЕНТАЦИЙ\Страна фантазии\Рисунок53.gif"/>
          <p:cNvPicPr/>
          <p:nvPr/>
        </p:nvPicPr>
        <p:blipFill>
          <a:blip r:embed="rId4"/>
          <a:stretch/>
        </p:blipFill>
        <p:spPr>
          <a:xfrm>
            <a:off x="4643280" y="4286160"/>
            <a:ext cx="26672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игорьева Г.И. Предметная неделя в школе. – М.: Глобус, 200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Шаблон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http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//school-collection.edu.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Разминка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7" descr="C:\Documents and Settings\1\Рабочий стол\ДЛЯ ПРЕЗЕНТАЦИЙ\Страна фантазии\Рисунок51.gif"/>
          <p:cNvPicPr/>
          <p:nvPr/>
        </p:nvPicPr>
        <p:blipFill>
          <a:blip r:embed="rId2"/>
          <a:stretch/>
        </p:blipFill>
        <p:spPr>
          <a:xfrm>
            <a:off x="3857760" y="0"/>
            <a:ext cx="1428480" cy="2486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Documents and Settings\1\Рабочий стол\ДЛЯ ПРЕЗЕНТАЦИЙ\анимация\сияние.gif"/>
          <p:cNvPicPr/>
          <p:nvPr/>
        </p:nvPicPr>
        <p:blipFill>
          <a:blip r:embed="rId3"/>
          <a:stretch/>
        </p:blipFill>
        <p:spPr>
          <a:xfrm>
            <a:off x="6572160" y="-285840"/>
            <a:ext cx="2571840" cy="270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Documents and Settings\1\Рабочий стол\ДЛЯ ПРЕЗЕНТАЦИЙ\анимация\сияние.gif"/>
          <p:cNvPicPr/>
          <p:nvPr/>
        </p:nvPicPr>
        <p:blipFill>
          <a:blip r:embed="rId4"/>
          <a:stretch/>
        </p:blipFill>
        <p:spPr>
          <a:xfrm>
            <a:off x="285840" y="0"/>
            <a:ext cx="2357280" cy="247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:\Documents and Settings\1\Рабочий стол\ДЛЯ ПРЕЗЕНТАЦИЙ\анимация\сияние.gif"/>
          <p:cNvPicPr/>
          <p:nvPr/>
        </p:nvPicPr>
        <p:blipFill>
          <a:blip r:embed="rId5"/>
          <a:stretch/>
        </p:blipFill>
        <p:spPr>
          <a:xfrm>
            <a:off x="3714840" y="4532400"/>
            <a:ext cx="2214360" cy="23256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19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0"/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ставь знаки чтобы равенства были верны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32"/>
          <p:cNvSpPr/>
          <p:nvPr/>
        </p:nvSpPr>
        <p:spPr>
          <a:xfrm>
            <a:off x="2987640" y="1557360"/>
            <a:ext cx="2160720" cy="6426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777=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33"/>
          <p:cNvSpPr/>
          <p:nvPr/>
        </p:nvSpPr>
        <p:spPr>
          <a:xfrm>
            <a:off x="5688000" y="1557360"/>
            <a:ext cx="3456000" cy="6426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:7+7-7=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35"/>
          <p:cNvSpPr/>
          <p:nvPr/>
        </p:nvSpPr>
        <p:spPr>
          <a:xfrm>
            <a:off x="3132000" y="3860640"/>
            <a:ext cx="2089440" cy="6426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777=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36"/>
          <p:cNvSpPr/>
          <p:nvPr/>
        </p:nvSpPr>
        <p:spPr>
          <a:xfrm>
            <a:off x="324000" y="1628640"/>
            <a:ext cx="2087280" cy="4597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то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37"/>
          <p:cNvSpPr/>
          <p:nvPr/>
        </p:nvSpPr>
        <p:spPr>
          <a:xfrm>
            <a:off x="5759280" y="3860640"/>
            <a:ext cx="3384720" cy="6426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:7+7:7=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40"/>
          <p:cNvSpPr/>
          <p:nvPr/>
        </p:nvSpPr>
        <p:spPr>
          <a:xfrm>
            <a:off x="179280" y="4005360"/>
            <a:ext cx="2808360" cy="4597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ллекту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рбуз стоит 20 к. и ещё пол – арбуза. Сколько стоит арбуз?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2737080" cy="269568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2" descr=""/>
          <p:cNvPicPr/>
          <p:nvPr/>
        </p:nvPicPr>
        <p:blipFill>
          <a:blip r:embed="rId3"/>
          <a:stretch/>
        </p:blipFill>
        <p:spPr>
          <a:xfrm>
            <a:off x="763560" y="642960"/>
            <a:ext cx="116064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77724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рисунке изображены: самолёты, снеговики и драконы. Сосчитайте их, считая всех подряд по порядку: первый самолёт, первый снеговик, второй самолёт, первый дракон, третий самолёт и т.д. Если не удаётся сосчитать с первого раза, возвращайтесь к этому заданию несколько ра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00000" y="3429000"/>
            <a:ext cx="7632720" cy="3000240"/>
            <a:chOff x="900000" y="3429000"/>
            <a:chExt cx="7632720" cy="3000240"/>
          </a:xfrm>
        </p:grpSpPr>
        <p:grpSp>
          <p:nvGrpSpPr>
            <p:cNvPr id="84" name=""/>
            <p:cNvGrpSpPr/>
            <p:nvPr/>
          </p:nvGrpSpPr>
          <p:grpSpPr>
            <a:xfrm>
              <a:off x="971640" y="3500280"/>
              <a:ext cx="1206360" cy="603360"/>
              <a:chOff x="971640" y="3500280"/>
              <a:chExt cx="1206360" cy="603360"/>
            </a:xfrm>
          </p:grpSpPr>
          <p:sp>
            <p:nvSpPr>
              <p:cNvPr id="85" name=""/>
              <p:cNvSpPr/>
              <p:nvPr/>
            </p:nvSpPr>
            <p:spPr>
              <a:xfrm>
                <a:off x="971640" y="3500280"/>
                <a:ext cx="1206360" cy="603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1440" y="3610440"/>
                <a:ext cx="986040" cy="36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7" name=""/>
            <p:cNvGrpSpPr/>
            <p:nvPr/>
          </p:nvGrpSpPr>
          <p:grpSpPr>
            <a:xfrm>
              <a:off x="2700360" y="3429000"/>
              <a:ext cx="768240" cy="824040"/>
              <a:chOff x="2700360" y="3429000"/>
              <a:chExt cx="768240" cy="824040"/>
            </a:xfrm>
          </p:grpSpPr>
          <p:sp>
            <p:nvSpPr>
              <p:cNvPr id="88" name=""/>
              <p:cNvSpPr/>
              <p:nvPr/>
            </p:nvSpPr>
            <p:spPr>
              <a:xfrm>
                <a:off x="2700360" y="3429000"/>
                <a:ext cx="768240" cy="824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64880" y="3429000"/>
                <a:ext cx="506520" cy="822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" name=""/>
            <p:cNvGrpSpPr/>
            <p:nvPr/>
          </p:nvGrpSpPr>
          <p:grpSpPr>
            <a:xfrm>
              <a:off x="3924360" y="3500280"/>
              <a:ext cx="1206360" cy="603360"/>
              <a:chOff x="3924360" y="3500280"/>
              <a:chExt cx="1206360" cy="603360"/>
            </a:xfrm>
          </p:grpSpPr>
          <p:sp>
            <p:nvSpPr>
              <p:cNvPr id="91" name=""/>
              <p:cNvSpPr/>
              <p:nvPr/>
            </p:nvSpPr>
            <p:spPr>
              <a:xfrm>
                <a:off x="3924360" y="3500280"/>
                <a:ext cx="1206360" cy="603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034160" y="3610440"/>
                <a:ext cx="986040" cy="36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" name=""/>
            <p:cNvGrpSpPr/>
            <p:nvPr/>
          </p:nvGrpSpPr>
          <p:grpSpPr>
            <a:xfrm>
              <a:off x="5651640" y="3429000"/>
              <a:ext cx="1152360" cy="768240"/>
              <a:chOff x="5651640" y="3429000"/>
              <a:chExt cx="1152360" cy="768240"/>
            </a:xfrm>
          </p:grpSpPr>
          <p:sp>
            <p:nvSpPr>
              <p:cNvPr id="94" name=""/>
              <p:cNvSpPr/>
              <p:nvPr/>
            </p:nvSpPr>
            <p:spPr>
              <a:xfrm>
                <a:off x="5651640" y="3429000"/>
                <a:ext cx="1152360" cy="768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707080" y="3483360"/>
                <a:ext cx="986760" cy="685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6" name=""/>
            <p:cNvGrpSpPr/>
            <p:nvPr/>
          </p:nvGrpSpPr>
          <p:grpSpPr>
            <a:xfrm>
              <a:off x="7308720" y="3500280"/>
              <a:ext cx="1206720" cy="603360"/>
              <a:chOff x="7308720" y="3500280"/>
              <a:chExt cx="1206720" cy="603360"/>
            </a:xfrm>
          </p:grpSpPr>
          <p:sp>
            <p:nvSpPr>
              <p:cNvPr id="97" name=""/>
              <p:cNvSpPr/>
              <p:nvPr/>
            </p:nvSpPr>
            <p:spPr>
              <a:xfrm>
                <a:off x="7308720" y="3500280"/>
                <a:ext cx="1206720" cy="603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418520" y="3610440"/>
                <a:ext cx="986400" cy="36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" name=""/>
            <p:cNvGrpSpPr/>
            <p:nvPr/>
          </p:nvGrpSpPr>
          <p:grpSpPr>
            <a:xfrm>
              <a:off x="1042920" y="4581360"/>
              <a:ext cx="768240" cy="824040"/>
              <a:chOff x="1042920" y="4581360"/>
              <a:chExt cx="768240" cy="824040"/>
            </a:xfrm>
          </p:grpSpPr>
          <p:sp>
            <p:nvSpPr>
              <p:cNvPr id="100" name=""/>
              <p:cNvSpPr/>
              <p:nvPr/>
            </p:nvSpPr>
            <p:spPr>
              <a:xfrm>
                <a:off x="1042920" y="4581360"/>
                <a:ext cx="768240" cy="824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207440" y="4581360"/>
                <a:ext cx="506520" cy="822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"/>
            <p:cNvGrpSpPr/>
            <p:nvPr/>
          </p:nvGrpSpPr>
          <p:grpSpPr>
            <a:xfrm>
              <a:off x="2268360" y="4653000"/>
              <a:ext cx="1152720" cy="768240"/>
              <a:chOff x="2268360" y="4653000"/>
              <a:chExt cx="1152720" cy="768240"/>
            </a:xfrm>
          </p:grpSpPr>
          <p:sp>
            <p:nvSpPr>
              <p:cNvPr id="103" name=""/>
              <p:cNvSpPr/>
              <p:nvPr/>
            </p:nvSpPr>
            <p:spPr>
              <a:xfrm>
                <a:off x="2268360" y="4653000"/>
                <a:ext cx="1152720" cy="768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323800" y="4707360"/>
                <a:ext cx="986760" cy="685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" name=""/>
            <p:cNvGrpSpPr/>
            <p:nvPr/>
          </p:nvGrpSpPr>
          <p:grpSpPr>
            <a:xfrm>
              <a:off x="3924360" y="4724280"/>
              <a:ext cx="1206360" cy="603360"/>
              <a:chOff x="3924360" y="4724280"/>
              <a:chExt cx="1206360" cy="603360"/>
            </a:xfrm>
          </p:grpSpPr>
          <p:sp>
            <p:nvSpPr>
              <p:cNvPr id="106" name=""/>
              <p:cNvSpPr/>
              <p:nvPr/>
            </p:nvSpPr>
            <p:spPr>
              <a:xfrm>
                <a:off x="3924360" y="4724280"/>
                <a:ext cx="1206360" cy="603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034160" y="4834440"/>
                <a:ext cx="986040" cy="36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" name=""/>
            <p:cNvGrpSpPr/>
            <p:nvPr/>
          </p:nvGrpSpPr>
          <p:grpSpPr>
            <a:xfrm>
              <a:off x="5867280" y="4508640"/>
              <a:ext cx="768600" cy="823680"/>
              <a:chOff x="5867280" y="4508640"/>
              <a:chExt cx="768600" cy="8236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67280" y="4508640"/>
                <a:ext cx="768600" cy="823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031800" y="4508640"/>
                <a:ext cx="506880" cy="822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1" name=""/>
            <p:cNvGrpSpPr/>
            <p:nvPr/>
          </p:nvGrpSpPr>
          <p:grpSpPr>
            <a:xfrm>
              <a:off x="7380360" y="4581360"/>
              <a:ext cx="1152360" cy="768600"/>
              <a:chOff x="7380360" y="4581360"/>
              <a:chExt cx="1152360" cy="768600"/>
            </a:xfrm>
          </p:grpSpPr>
          <p:sp>
            <p:nvSpPr>
              <p:cNvPr id="112" name=""/>
              <p:cNvSpPr/>
              <p:nvPr/>
            </p:nvSpPr>
            <p:spPr>
              <a:xfrm>
                <a:off x="7380360" y="4581360"/>
                <a:ext cx="1152360" cy="768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435800" y="4635720"/>
                <a:ext cx="986760" cy="686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900000" y="5661000"/>
              <a:ext cx="1152720" cy="768240"/>
              <a:chOff x="900000" y="5661000"/>
              <a:chExt cx="1152720" cy="768240"/>
            </a:xfrm>
          </p:grpSpPr>
          <p:sp>
            <p:nvSpPr>
              <p:cNvPr id="115" name=""/>
              <p:cNvSpPr/>
              <p:nvPr/>
            </p:nvSpPr>
            <p:spPr>
              <a:xfrm>
                <a:off x="900000" y="5661000"/>
                <a:ext cx="1152720" cy="768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955440" y="5715360"/>
                <a:ext cx="986760" cy="685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" name=""/>
            <p:cNvGrpSpPr/>
            <p:nvPr/>
          </p:nvGrpSpPr>
          <p:grpSpPr>
            <a:xfrm>
              <a:off x="2484360" y="5589720"/>
              <a:ext cx="768600" cy="823680"/>
              <a:chOff x="2484360" y="5589720"/>
              <a:chExt cx="768600" cy="823680"/>
            </a:xfrm>
          </p:grpSpPr>
          <p:sp>
            <p:nvSpPr>
              <p:cNvPr id="118" name=""/>
              <p:cNvSpPr/>
              <p:nvPr/>
            </p:nvSpPr>
            <p:spPr>
              <a:xfrm>
                <a:off x="2484360" y="5589720"/>
                <a:ext cx="768600" cy="823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48880" y="5589720"/>
                <a:ext cx="506880" cy="822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0" name=""/>
            <p:cNvGrpSpPr/>
            <p:nvPr/>
          </p:nvGrpSpPr>
          <p:grpSpPr>
            <a:xfrm>
              <a:off x="3924360" y="5589720"/>
              <a:ext cx="1152360" cy="768240"/>
              <a:chOff x="3924360" y="5589720"/>
              <a:chExt cx="1152360" cy="768240"/>
            </a:xfrm>
          </p:grpSpPr>
          <p:sp>
            <p:nvSpPr>
              <p:cNvPr id="121" name=""/>
              <p:cNvSpPr/>
              <p:nvPr/>
            </p:nvSpPr>
            <p:spPr>
              <a:xfrm>
                <a:off x="3924360" y="5589720"/>
                <a:ext cx="1152360" cy="768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979800" y="5644080"/>
                <a:ext cx="986760" cy="685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" name=""/>
            <p:cNvGrpSpPr/>
            <p:nvPr/>
          </p:nvGrpSpPr>
          <p:grpSpPr>
            <a:xfrm>
              <a:off x="5867280" y="5516640"/>
              <a:ext cx="768600" cy="823680"/>
              <a:chOff x="5867280" y="5516640"/>
              <a:chExt cx="768600" cy="823680"/>
            </a:xfrm>
          </p:grpSpPr>
          <p:sp>
            <p:nvSpPr>
              <p:cNvPr id="124" name=""/>
              <p:cNvSpPr/>
              <p:nvPr/>
            </p:nvSpPr>
            <p:spPr>
              <a:xfrm>
                <a:off x="5867280" y="5516640"/>
                <a:ext cx="768600" cy="823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031800" y="5516640"/>
                <a:ext cx="506880" cy="822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6" name=""/>
            <p:cNvGrpSpPr/>
            <p:nvPr/>
          </p:nvGrpSpPr>
          <p:grpSpPr>
            <a:xfrm>
              <a:off x="7308720" y="5661000"/>
              <a:ext cx="1206720" cy="603360"/>
              <a:chOff x="7308720" y="5661000"/>
              <a:chExt cx="1206720" cy="603360"/>
            </a:xfrm>
          </p:grpSpPr>
          <p:sp>
            <p:nvSpPr>
              <p:cNvPr id="127" name=""/>
              <p:cNvSpPr/>
              <p:nvPr/>
            </p:nvSpPr>
            <p:spPr>
              <a:xfrm>
                <a:off x="7308720" y="5661000"/>
                <a:ext cx="1206720" cy="603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8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418520" y="5771160"/>
                <a:ext cx="986400" cy="36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 теперь подведем итоги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го конкурс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C:\Documents and Settings\1\Рабочий стол\ДЛЯ ПРЕЗЕНТАЦИЙ\Страна фантазии\Рисунок53.gif"/>
          <p:cNvPicPr/>
          <p:nvPr/>
        </p:nvPicPr>
        <p:blipFill>
          <a:blip r:embed="rId2"/>
          <a:stretch/>
        </p:blipFill>
        <p:spPr>
          <a:xfrm>
            <a:off x="2643120" y="3827520"/>
            <a:ext cx="3143160" cy="303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C:\Documents and Settings\1\Рабочий стол\ДЛЯ ПРЕЗЕНТАЦИЙ\Страна фантазии\Рисунок51.gif"/>
          <p:cNvPicPr/>
          <p:nvPr/>
        </p:nvPicPr>
        <p:blipFill>
          <a:blip r:embed="rId3"/>
          <a:stretch/>
        </p:blipFill>
        <p:spPr>
          <a:xfrm>
            <a:off x="6715080" y="0"/>
            <a:ext cx="2143080" cy="37288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3:35:24Z</dcterms:created>
  <dc:creator>STNG11</dc:creator>
  <dc:description/>
  <dc:language>en-US</dc:language>
  <cp:lastModifiedBy>Admin</cp:lastModifiedBy>
  <dcterms:modified xsi:type="dcterms:W3CDTF">2012-07-30T13:24:29Z</dcterms:modified>
  <cp:revision>187</cp:revision>
  <dc:subject/>
  <dc:title>Who Wants To Be A Millionaire?  </dc:title>
</cp:coreProperties>
</file>