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ADC-AA9F-4CB9-8DF0-8927ECF5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55C-C7C7-4CDA-AEF3-31336892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ADF6-8726-41DB-B2A3-EE369C22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487-F720-40D7-8B1E-ADCF962E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0A7-E54B-4464-999B-558D462F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0A4-8895-4F06-83E3-674A0BFB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1EB-7A5B-420A-A6A8-3D2DC7BF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507-0998-4EED-9159-507846D1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6A5-2D9E-4507-9DEF-9CA1D906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F1A-57AB-4C29-B9C0-D65D0E80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C072-317A-474B-B5A9-61B372B6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CF7-639E-42CC-9C33-AE3E2C98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7121-1335-4765-AC02-32DC7A006C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792468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артинк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для развития реч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детей 3-7 лет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составление описательных рассказ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24280" y="4723920"/>
            <a:ext cx="3733920" cy="1752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гопед МДОУ «Ягод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.С Андре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200160"/>
            <a:ext cx="853452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231840"/>
            <a:ext cx="86104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97160" y="266760"/>
            <a:ext cx="6349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52600" y="380880"/>
            <a:ext cx="4438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70320" y="254160"/>
            <a:ext cx="4203360" cy="634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1884000">
            <a:off x="533160" y="4572000"/>
            <a:ext cx="163008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1872600">
            <a:off x="7086240" y="380520"/>
            <a:ext cx="163044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19845000">
            <a:off x="838080" y="228600"/>
            <a:ext cx="175104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667000">
            <a:off x="7162560" y="4647960"/>
            <a:ext cx="1388880" cy="1752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 rot="1767600">
            <a:off x="151920" y="2361960"/>
            <a:ext cx="2095560" cy="1623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 rot="19684200">
            <a:off x="7048440" y="2666520"/>
            <a:ext cx="20955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1:01:45Z</dcterms:created>
  <dc:creator>Администратор</dc:creator>
  <dc:description/>
  <dc:language>en-US</dc:language>
  <cp:lastModifiedBy>DNA7 X86</cp:lastModifiedBy>
  <dcterms:modified xsi:type="dcterms:W3CDTF">2012-07-30T18:20:14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