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C028-320D-4B45-B1E4-BB582BEE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F08E-752D-49A2-93D2-1907CBDD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9312-2D4E-4D05-A564-BAC2A6AC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3DDF-E227-4339-A8CF-F791754F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B59E-AC07-4CE3-BDC5-EFE4A574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B3D2-77AC-4850-97B9-7F837AAF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620F-71A4-4BED-928E-706A9B14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D192-7882-4B83-8AAA-AF414A81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1191-C693-478B-93BF-F154B2EC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8A4E-2CD9-46DA-92A5-187B6DE9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C53B-2E5A-4A10-9570-4DFD6617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1846-1BA0-4C54-850F-ED3CF7F1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3575-AB3F-42C9-9D51-98EC41105A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371240"/>
            <a:ext cx="7924680" cy="251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Картинки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для развития речи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детей 3-7 лет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составление описательных рассказ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24280" y="4723920"/>
            <a:ext cx="3733920" cy="1752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огопед МДОУ «Ягод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.С Андре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200160"/>
            <a:ext cx="853452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231840"/>
            <a:ext cx="861048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97160" y="254160"/>
            <a:ext cx="634968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97160" y="266760"/>
            <a:ext cx="63496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52600" y="380880"/>
            <a:ext cx="44388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70320" y="254160"/>
            <a:ext cx="4203360" cy="6349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1884000">
            <a:off x="533160" y="4572000"/>
            <a:ext cx="163008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1872600">
            <a:off x="7086240" y="380520"/>
            <a:ext cx="163044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19845000">
            <a:off x="838080" y="228600"/>
            <a:ext cx="1751040" cy="2209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rot="20667000">
            <a:off x="7162560" y="4647960"/>
            <a:ext cx="1388880" cy="1752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 rot="1767600">
            <a:off x="151920" y="2361960"/>
            <a:ext cx="2095560" cy="1623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 rot="19684200">
            <a:off x="7048440" y="2666520"/>
            <a:ext cx="209556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1:01:45Z</dcterms:created>
  <dc:creator>Администратор</dc:creator>
  <dc:description/>
  <dc:language>en-US</dc:language>
  <cp:lastModifiedBy>DNA7 X86</cp:lastModifiedBy>
  <dcterms:modified xsi:type="dcterms:W3CDTF">2012-07-30T18:20:14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