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DFA0-AE2C-4583-AC2B-B9F500788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E7A4-FE9C-45FE-9B7B-50B7FD8C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595A-BD53-449A-A8FC-19E36B6BE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BF05-7647-433D-858D-65787877C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1DFD-ED3E-4B8D-8A21-87A7F429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CA25-D912-4674-9A8F-75BA440F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8AFF-2E5C-46CE-935C-0817C1B6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516D-3592-4849-AEC6-399D640E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956C-6527-440E-A4BE-DD2F77B1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AC44-7882-4B23-8C89-4E899F60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E9FD-D497-48AF-8393-B3BD4D42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12EA-7F2E-4582-92E0-4D95A26D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D147-8DA0-4124-8553-BA1481832C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Мамочки со своими малышами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52480" y="2495520"/>
            <a:ext cx="5410440" cy="4057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1430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9000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9480" y="399960"/>
            <a:ext cx="8153640" cy="611532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3520" y="361800"/>
            <a:ext cx="8153280" cy="6115320"/>
          </a:xfrm>
          <a:prstGeom prst="rect">
            <a:avLst/>
          </a:prstGeom>
          <a:ln w="0">
            <a:noFill/>
          </a:ln>
        </p:spPr>
      </p:pic>
    </p:spTree>
  </p:cSld>
  <p:transition advTm="4000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23880" y="380880"/>
            <a:ext cx="6350040" cy="607068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380880"/>
            <a:ext cx="6278400" cy="610560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12840" y="380880"/>
            <a:ext cx="4397400" cy="617220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0880" y="806400"/>
            <a:ext cx="8363160" cy="567072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305920" cy="546732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344520"/>
            <a:ext cx="8058240" cy="6037200"/>
          </a:xfrm>
          <a:prstGeom prst="rect">
            <a:avLst/>
          </a:prstGeom>
          <a:ln w="0">
            <a:noFill/>
          </a:ln>
        </p:spPr>
      </p:pic>
    </p:spTree>
  </p:cSld>
  <p:transition advTm="4000"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420400" cy="5749920"/>
          </a:xfrm>
          <a:prstGeom prst="rect">
            <a:avLst/>
          </a:prstGeom>
          <a:ln w="0">
            <a:noFill/>
          </a:ln>
        </p:spPr>
      </p:pic>
    </p:spTree>
  </p:cSld>
  <p:transition advTm="4000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77360" cy="5751720"/>
          </a:xfrm>
          <a:prstGeom prst="rect">
            <a:avLst/>
          </a:prstGeom>
          <a:ln w="0">
            <a:noFill/>
          </a:ln>
        </p:spPr>
      </p:pic>
    </p:spTree>
  </p:cSld>
  <p:transition advTm="5000"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79640" y="146160"/>
            <a:ext cx="6984720" cy="6565680"/>
          </a:xfrm>
          <a:prstGeom prst="rect">
            <a:avLst/>
          </a:prstGeom>
          <a:ln w="0">
            <a:noFill/>
          </a:ln>
        </p:spPr>
      </p:pic>
    </p:spTree>
  </p:cSld>
  <p:transition advTm="4000"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266760"/>
            <a:ext cx="8381880" cy="628632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521560" cy="543744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00200" y="304920"/>
            <a:ext cx="6191280" cy="619128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05920" cy="535752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734240" cy="6188040"/>
          </a:xfrm>
          <a:prstGeom prst="rect">
            <a:avLst/>
          </a:prstGeom>
          <a:ln w="0">
            <a:noFill/>
          </a:ln>
        </p:spPr>
      </p:pic>
    </p:spTree>
  </p:cSld>
  <p:transition advTm="4000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407440" cy="5670360"/>
          </a:xfrm>
          <a:prstGeom prst="rect">
            <a:avLst/>
          </a:prstGeom>
          <a:ln w="0">
            <a:noFill/>
          </a:ln>
        </p:spPr>
      </p:pic>
    </p:spTree>
  </p:cSld>
  <p:transition advTm="5000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3520" y="473040"/>
            <a:ext cx="7981920" cy="5776920"/>
          </a:xfrm>
          <a:prstGeom prst="rect">
            <a:avLst/>
          </a:prstGeom>
          <a:ln w="0">
            <a:noFill/>
          </a:ln>
        </p:spPr>
      </p:pic>
    </p:spTree>
  </p:cSld>
  <p:transition advTm="4000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04880" y="304920"/>
            <a:ext cx="5824800" cy="617220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05920" cy="622908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8153640" cy="611532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344080" cy="589284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9480" y="20952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1T11:22:27Z</dcterms:created>
  <dc:creator>Администратор</dc:creator>
  <dc:description/>
  <dc:language>en-US</dc:language>
  <cp:lastModifiedBy>DNA7 X86</cp:lastModifiedBy>
  <dcterms:modified xsi:type="dcterms:W3CDTF">2012-07-30T18:05:41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