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F41-491F-4F4F-8236-422EAF74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08F-E133-4062-A323-B6C2D26A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E6E-D3E6-4828-B3B4-33BBFCC4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3C8-9C23-4ECA-804C-2F2654A2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D5A9-5D1C-4F5F-A6D9-2B41FCF9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7594-A429-48E7-8C76-D2345C08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A15-DA50-412C-8BEB-3D43FCD4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1F0-6449-4164-8E3D-8F763DF3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390-3E90-42F6-8994-38151BFE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6FF-B228-4DBE-BF39-8D930A7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283-E338-4035-9584-B6DDFBB5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A7F-7325-4B6F-848A-2DCD0CA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73A0-5DDC-4658-BFD4-999383249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Мамочки со своими малышам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52480" y="2495520"/>
            <a:ext cx="5410440" cy="40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399960"/>
            <a:ext cx="8153640" cy="61153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61800"/>
            <a:ext cx="8153280" cy="61153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350040" cy="60706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6278400" cy="61056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12840" y="380880"/>
            <a:ext cx="439740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806400"/>
            <a:ext cx="8363160" cy="56707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344520"/>
            <a:ext cx="8058240" cy="603720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20400" cy="57499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677360" cy="575172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146160"/>
            <a:ext cx="6984720" cy="656568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266760"/>
            <a:ext cx="8381880" cy="62863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21560" cy="54374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6191280" cy="61912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05920" cy="53575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34240" cy="618804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07440" cy="5670360"/>
          </a:xfrm>
          <a:prstGeom prst="rect">
            <a:avLst/>
          </a:prstGeom>
          <a:ln w="0">
            <a:noFill/>
          </a:ln>
        </p:spPr>
      </p:pic>
    </p:spTree>
  </p:cSld>
  <p:transition advTm="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473040"/>
            <a:ext cx="7981920" cy="577692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4880" y="304920"/>
            <a:ext cx="582480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153640" cy="611532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44080" cy="58928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09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1:22:27Z</dcterms:created>
  <dc:creator>Администратор</dc:creator>
  <dc:description/>
  <dc:language>en-US</dc:language>
  <cp:lastModifiedBy>DNA7 X86</cp:lastModifiedBy>
  <dcterms:modified xsi:type="dcterms:W3CDTF">2012-07-30T18:05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