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11.png" ContentType="image/png"/>
  <Override PartName="/ppt/media/image1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10.gif" ContentType="image/gif"/>
  <Override PartName="/ppt/media/image7.gif" ContentType="image/gif"/>
  <Override PartName="/ppt/media/image9.jpeg" ContentType="image/jpe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6B4D-12DB-496A-BC1A-3317306E3678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D95F-57FA-4657-8FE8-9A72FDDFE424}" type="slidenum">
              <a:rPr b="0" lang="ru-RU" sz="1200" spc="-1" strike="noStrike">
                <a:solidFill>
                  <a:srgbClr val="cc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C944-3E6E-4AC1-A657-8BB4543D9204}" type="slidenum">
              <a:rPr b="0" lang="ru-RU" sz="1200" spc="-1" strike="noStrike">
                <a:solidFill>
                  <a:srgbClr val="cc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-600120" y="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7C95-5402-48E2-83AA-0F1563155CED}" type="slidenum">
              <a:rPr b="0" lang="ru-RU" sz="1200" spc="-1" strike="noStrike">
                <a:solidFill>
                  <a:srgbClr val="cc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-600120" y="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117-5876-455D-A6F7-2F41ED5A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C85-90DA-4E6B-81D9-FADDC4E2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6CE-3541-419F-8F1C-D42DB1EE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5024-27B5-44A5-A627-8EEFC3A4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3DD-3981-4FCA-B762-3149F93F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6F0-84F4-420F-A589-2F9E65C8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BB8-72A1-4E57-BBC4-8106BAAA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F45-C084-4C1B-8B85-F8FC1AE3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7AA-95BC-4899-9B34-F5F21E2B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D16-369E-4E7B-8323-6A5F18E6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9DB-59E5-4F53-9D2D-28ADC9BC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4B4-9956-4F61-BCCB-163B07E6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949A-E85C-4F93-A5FA-F34AA21363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Documents and Settings\учитель.PC2\Рабочий стол\Мои рисунки\6.gif"/>
          <p:cNvPicPr/>
          <p:nvPr/>
        </p:nvPicPr>
        <p:blipFill>
          <a:blip r:embed="rId1"/>
          <a:stretch/>
        </p:blipFill>
        <p:spPr>
          <a:xfrm flipH="1">
            <a:off x="928800" y="857160"/>
            <a:ext cx="2690640" cy="1706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6800" y="2428560"/>
            <a:ext cx="762012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рок математики во 2 «Г» классе</a:t>
            </a:r>
            <a:br>
              <a:rPr sz="6000"/>
            </a:b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Picture 5" descr="C:\Documents and Settings\учитель.PC2\Рабочий стол\Мои рисунки\9.gif"/>
          <p:cNvPicPr/>
          <p:nvPr/>
        </p:nvPicPr>
        <p:blipFill>
          <a:blip r:embed="rId2"/>
          <a:stretch/>
        </p:blipFill>
        <p:spPr>
          <a:xfrm>
            <a:off x="7286760" y="3500280"/>
            <a:ext cx="1455480" cy="247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14240" y="5285880"/>
            <a:ext cx="7615440" cy="5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Учитель: Данилова И.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C:\Documents and Settings\учитель.PC2\Рабочий стол\Мои рисунки\осень.gif"/>
          <p:cNvPicPr/>
          <p:nvPr/>
        </p:nvPicPr>
        <p:blipFill>
          <a:blip r:embed="rId3"/>
          <a:stretch/>
        </p:blipFill>
        <p:spPr>
          <a:xfrm>
            <a:off x="5780160" y="380880"/>
            <a:ext cx="2506680" cy="226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Documents and Settings\учитель.PC2\Рабочий стол\Мои рисунки\127.gif"/>
          <p:cNvPicPr/>
          <p:nvPr/>
        </p:nvPicPr>
        <p:blipFill>
          <a:blip r:embed="rId4"/>
          <a:stretch/>
        </p:blipFill>
        <p:spPr>
          <a:xfrm>
            <a:off x="1000080" y="4643280"/>
            <a:ext cx="18576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642960" y="242892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Число 140 увеличьте на 7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3" name="Picture 2" descr="E:\3.gif"/>
          <p:cNvPicPr/>
          <p:nvPr/>
        </p:nvPicPr>
        <p:blipFill>
          <a:blip r:embed="rId1"/>
          <a:stretch/>
        </p:blipFill>
        <p:spPr>
          <a:xfrm>
            <a:off x="285840" y="285840"/>
            <a:ext cx="1285920" cy="11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вое слагаемое  780, второе слагаемое 2 . Чему равна сумма этих чисел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E:\3.gif"/>
          <p:cNvPicPr/>
          <p:nvPr/>
        </p:nvPicPr>
        <p:blipFill>
          <a:blip r:embed="rId1"/>
          <a:stretch/>
        </p:blipFill>
        <p:spPr>
          <a:xfrm>
            <a:off x="357120" y="214200"/>
            <a:ext cx="130176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ему равно произведение, если первый множитель равен 7, а второй множитель -  8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E:\3.gif"/>
          <p:cNvPicPr/>
          <p:nvPr/>
        </p:nvPicPr>
        <p:blipFill>
          <a:blip r:embed="rId1"/>
          <a:stretch/>
        </p:blipFill>
        <p:spPr>
          <a:xfrm>
            <a:off x="277920" y="214200"/>
            <a:ext cx="143676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Проверяем: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80,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804, 63, 147,  782, 5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17856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веряе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6, 63, 147, 782, 804, 88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174600"/>
            <a:ext cx="822960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        </a:t>
            </a:r>
            <a:r>
              <a:rPr b="1" lang="en-GB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Расположите единицы измерения</a:t>
            </a:r>
            <a:br>
              <a:rPr sz="2800"/>
            </a:br>
            <a:r>
              <a:rPr b="1" lang="en-GB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по возрастанию: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132000" y="1619280"/>
            <a:ext cx="2508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Times New Roman"/>
                <a:ea typeface="Lucida Sans Unicode"/>
              </a:rPr>
              <a:t>дециметр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119640" y="1619280"/>
            <a:ext cx="2521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Times New Roman"/>
                <a:ea typeface="Lucida Sans Unicode"/>
              </a:rPr>
              <a:t>километр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1557360"/>
            <a:ext cx="1979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метр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680000" y="2340000"/>
            <a:ext cx="2700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Times New Roman"/>
                <a:ea typeface="Lucida Sans Unicode"/>
              </a:rPr>
              <a:t>сантиметр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763640" y="2349360"/>
            <a:ext cx="428616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ff"/>
                </a:solidFill>
                <a:latin typeface="Times New Roman"/>
                <a:ea typeface="Lucida Sans Unicode"/>
              </a:rPr>
              <a:t>миллиметр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700360" y="5380200"/>
            <a:ext cx="5910120" cy="563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492360" y="4836960"/>
            <a:ext cx="5089680" cy="563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356000" y="4267080"/>
            <a:ext cx="4248360" cy="565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5364000" y="3733920"/>
            <a:ext cx="3246480" cy="563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6588000" y="3200400"/>
            <a:ext cx="2022480" cy="563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195640" y="4797360"/>
            <a:ext cx="1008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ccffff"/>
                </a:solidFill>
                <a:latin typeface="Times New Roman"/>
                <a:ea typeface="Lucida Sans Unicode"/>
              </a:rPr>
              <a:t>мм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276720" y="4221000"/>
            <a:ext cx="10461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ccffff"/>
                </a:solidFill>
                <a:latin typeface="Times New Roman"/>
                <a:ea typeface="Lucida Sans Unicode"/>
              </a:rPr>
              <a:t>см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356000" y="3645000"/>
            <a:ext cx="1044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ccffff"/>
                </a:solidFill>
                <a:latin typeface="Times New Roman"/>
                <a:ea typeface="Lucida Sans Unicode"/>
              </a:rPr>
              <a:t>дм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5724360" y="3068640"/>
            <a:ext cx="492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ccffff"/>
                </a:solidFill>
                <a:latin typeface="Times New Roman"/>
                <a:ea typeface="Lucida Sans Unicode"/>
              </a:rPr>
              <a:t>м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7236000" y="2463840"/>
            <a:ext cx="1081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ccffff"/>
                </a:solidFill>
                <a:latin typeface="Times New Roman"/>
                <a:ea typeface="Lucida Sans Unicode"/>
              </a:rPr>
              <a:t>км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ffff"/>
                </a:solidFill>
                <a:latin typeface="Times New Roman"/>
              </a:rPr>
              <a:t>Длина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0" y="-387360"/>
            <a:ext cx="9286920" cy="7623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95280" y="33336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24000" y="1700280"/>
            <a:ext cx="8216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6" name="Picture 4" descr="F:\часы в картинках\463a28d6bc49g.jpg"/>
          <p:cNvPicPr/>
          <p:nvPr/>
        </p:nvPicPr>
        <p:blipFill>
          <a:blip r:embed="rId2"/>
          <a:stretch/>
        </p:blipFill>
        <p:spPr>
          <a:xfrm>
            <a:off x="0" y="-747720"/>
            <a:ext cx="9286920" cy="8285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F:\часы в картинках\463a28d6bc49g.jpg"/>
          <p:cNvPicPr/>
          <p:nvPr/>
        </p:nvPicPr>
        <p:blipFill>
          <a:blip r:embed="rId3"/>
          <a:stretch/>
        </p:blipFill>
        <p:spPr>
          <a:xfrm>
            <a:off x="0" y="-928800"/>
            <a:ext cx="9286920" cy="828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-142920" y="-1108080"/>
            <a:ext cx="9683640" cy="7966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-1611360"/>
            <a:ext cx="8893080" cy="71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79280" y="-674640"/>
            <a:ext cx="3168720" cy="669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Секунда(с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Минута(мин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Час(ч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Сутки(с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Неделя(н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Месяц(мес.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Год(г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203640" y="3284640"/>
            <a:ext cx="1620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есяц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3355920" y="3436920"/>
            <a:ext cx="1620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есяц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628560" y="352440"/>
            <a:ext cx="788832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Расположите единицы измерения</a:t>
            </a:r>
            <a:br>
              <a:rPr sz="2800"/>
            </a:br>
            <a:r>
              <a:rPr b="1" lang="en-GB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по возрастанию: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835280" y="1557360"/>
            <a:ext cx="2504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месяц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80000" y="1557360"/>
            <a:ext cx="2504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неделя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724360" y="1484280"/>
            <a:ext cx="25052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ffff"/>
                </a:solidFill>
                <a:latin typeface="Times New Roman"/>
                <a:ea typeface="Lucida Sans Unicode"/>
              </a:rPr>
              <a:t>год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979640" y="2060640"/>
            <a:ext cx="2504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ff"/>
                </a:solidFill>
                <a:latin typeface="Times New Roman"/>
                <a:ea typeface="Lucida Sans Unicode"/>
              </a:rPr>
              <a:t>день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708360" y="2060640"/>
            <a:ext cx="1440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Times New Roman"/>
                <a:ea typeface="Lucida Sans Unicode"/>
              </a:rPr>
              <a:t>век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835280" y="4941720"/>
            <a:ext cx="6408720" cy="56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556000" y="4365720"/>
            <a:ext cx="5688000" cy="563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3924360" y="3789360"/>
            <a:ext cx="4325760" cy="565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859280" y="3213000"/>
            <a:ext cx="3387960" cy="563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6012000" y="2637000"/>
            <a:ext cx="2232000" cy="563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116000" y="4292640"/>
            <a:ext cx="1549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ень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4788000" y="2708280"/>
            <a:ext cx="1260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д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6227640" y="2133720"/>
            <a:ext cx="1260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ек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3203640" y="3284640"/>
            <a:ext cx="1620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есяц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1908000" y="3789360"/>
            <a:ext cx="1837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деля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0" y="-316080"/>
            <a:ext cx="9286920" cy="7623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11280" y="1125360"/>
            <a:ext cx="8532720" cy="456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Математику, друзья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Не любить никак нельзя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Очень строгая наука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Очень точная наука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Интересная наука -</a:t>
            </a:r>
            <a:r>
              <a:rPr b="0" lang="en-US" sz="3600" spc="-1" strike="noStrike">
                <a:solidFill>
                  <a:srgbClr val="010199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Это математика!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47280" y="1125000"/>
            <a:ext cx="713772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7160" indent="-317160">
              <a:lnSpc>
                <a:spcPct val="83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век               60 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3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год              60 м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3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сут               7 су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3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ч                  24 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3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мин             30 сут или 31сут (в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0">
              <a:lnSpc>
                <a:spcPct val="83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врале 28 или2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3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неделя         100 л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3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месяц          365 или 366 су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0">
              <a:lnSpc>
                <a:spcPct val="83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ме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0">
              <a:lnSpc>
                <a:spcPct val="8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2627280" y="1341360"/>
            <a:ext cx="2016000" cy="32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916360" y="2133720"/>
            <a:ext cx="1800000" cy="30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2916360" y="2133720"/>
            <a:ext cx="172692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2843280" y="2565360"/>
            <a:ext cx="1728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 flipV="1">
            <a:off x="2771640" y="1341360"/>
            <a:ext cx="19432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V="1">
            <a:off x="2484360" y="1915920"/>
            <a:ext cx="2016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 flipV="1">
            <a:off x="3203640" y="2492280"/>
            <a:ext cx="143964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 flipV="1">
            <a:off x="3132000" y="3573360"/>
            <a:ext cx="151308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142920" y="-214200"/>
            <a:ext cx="9572760" cy="9091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6" name="Picture 8" descr="F:\часы в картинках\0000256666-preview.jpg"/>
          <p:cNvPicPr/>
          <p:nvPr/>
        </p:nvPicPr>
        <p:blipFill>
          <a:blip r:embed="rId2"/>
          <a:stretch/>
        </p:blipFill>
        <p:spPr>
          <a:xfrm>
            <a:off x="-684360" y="-1251000"/>
            <a:ext cx="10114200" cy="960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1403280" y="1428840"/>
          <a:ext cx="6526440" cy="5703840"/>
        </p:xfrm>
        <a:graphic>
          <a:graphicData uri="http://schemas.openxmlformats.org/drawingml/2006/table">
            <a:tbl>
              <a:tblPr/>
              <a:tblGrid>
                <a:gridCol w="6526440"/>
              </a:tblGrid>
              <a:tr h="43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3600" spc="-1" strike="noStrike">
                          <a:solidFill>
                            <a:srgbClr val="007373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7373"/>
                          </a:solidFill>
                          <a:latin typeface="Arial"/>
                        </a:rPr>
                        <a:t>Физкультминутка</a:t>
                      </a:r>
                      <a:endParaRPr b="0" lang="en-US" sz="36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Тик – так! Тик – так! </a:t>
                      </a:r>
                      <a:endParaRPr b="0" lang="en-US" sz="36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Ходят часики вот так!</a:t>
                      </a:r>
                      <a:endParaRPr b="0" lang="en-US" sz="36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Влево – шаг! Вправо – шаг!</a:t>
                      </a:r>
                      <a:endParaRPr b="0" lang="en-US" sz="36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Тик - так! Тик – так!</a:t>
                      </a:r>
                      <a:endParaRPr b="0" lang="en-US" sz="36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3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pic>
        <p:nvPicPr>
          <p:cNvPr id="168" name="Picture 15" descr="clock11"/>
          <p:cNvPicPr/>
          <p:nvPr/>
        </p:nvPicPr>
        <p:blipFill>
          <a:blip r:embed="rId3"/>
          <a:stretch/>
        </p:blipFill>
        <p:spPr>
          <a:xfrm>
            <a:off x="5364000" y="5157720"/>
            <a:ext cx="1238400" cy="1238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0" y="-387360"/>
            <a:ext cx="9572760" cy="9091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Поставь вместо звёздочек числа, чтобы получились верные равенства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258920" y="2133720"/>
          <a:ext cx="6943680" cy="5546520"/>
        </p:xfrm>
        <a:graphic>
          <a:graphicData uri="http://schemas.openxmlformats.org/drawingml/2006/table">
            <a:tbl>
              <a:tblPr/>
              <a:tblGrid>
                <a:gridCol w="6943680"/>
              </a:tblGrid>
              <a:tr h="48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нед.  =     *     д</a:t>
                      </a: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мин   =     *    с</a:t>
                      </a: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ч       =     *  мин</a:t>
                      </a: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мин   =     *    с</a:t>
                      </a: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сут.    =    *     ч</a:t>
                      </a: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ч        =    *   мин</a:t>
                      </a: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-324000" y="-963720"/>
            <a:ext cx="10615680" cy="909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1187280" y="2060640"/>
          <a:ext cx="7561440" cy="3932280"/>
        </p:xfrm>
        <a:graphic>
          <a:graphicData uri="http://schemas.openxmlformats.org/drawingml/2006/table">
            <a:tbl>
              <a:tblPr/>
              <a:tblGrid>
                <a:gridCol w="7561440"/>
              </a:tblGrid>
              <a:tr h="39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Ежедневно второклассник                                                 читал 8 страниц. Сколько    страниц он прочитал за 7 дней?</a:t>
                      </a:r>
                      <a:endParaRPr b="0" lang="en-US" sz="40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85720" y="857160"/>
            <a:ext cx="3527640" cy="1038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Arial"/>
              </a:rPr>
              <a:t>Задача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6" descr="F:\часы в картинках\7art+Inflow+Clock+ScreenSaver.png"/>
          <p:cNvPicPr/>
          <p:nvPr/>
        </p:nvPicPr>
        <p:blipFill>
          <a:blip r:embed="rId1"/>
          <a:stretch/>
        </p:blipFill>
        <p:spPr>
          <a:xfrm>
            <a:off x="285840" y="-928800"/>
            <a:ext cx="10382040" cy="77868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1692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58920" y="1413000"/>
          <a:ext cx="6086520" cy="466380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6440"/>
                <a:gridCol w="712800"/>
                <a:gridCol w="639720"/>
                <a:gridCol w="676080"/>
                <a:gridCol w="676440"/>
                <a:gridCol w="676080"/>
                <a:gridCol w="67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pic>
        <p:nvPicPr>
          <p:cNvPr id="178" name="Picture 146" descr="F:\часы в картинках\7art+Inflow+Clock+ScreenSaver.png"/>
          <p:cNvPicPr/>
          <p:nvPr/>
        </p:nvPicPr>
        <p:blipFill>
          <a:blip r:embed="rId2"/>
          <a:stretch/>
        </p:blipFill>
        <p:spPr>
          <a:xfrm>
            <a:off x="0" y="-928800"/>
            <a:ext cx="10382400" cy="778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1042920" y="1773360"/>
          <a:ext cx="6554880" cy="3527280"/>
        </p:xfrm>
        <a:graphic>
          <a:graphicData uri="http://schemas.openxmlformats.org/drawingml/2006/table">
            <a:tbl>
              <a:tblPr/>
              <a:tblGrid>
                <a:gridCol w="6554880"/>
              </a:tblGrid>
              <a:tr h="35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 какой строке только единицы измерения времени ?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а) см, км, кг, м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б) км, м, дм, мм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) час, сутки, мин, месяц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46" descr="F:\часы в картинках\7art+Inflow+Clock+ScreenSaver.png"/>
          <p:cNvPicPr/>
          <p:nvPr/>
        </p:nvPicPr>
        <p:blipFill>
          <a:blip r:embed="rId1"/>
          <a:stretch/>
        </p:blipFill>
        <p:spPr>
          <a:xfrm>
            <a:off x="285840" y="-928800"/>
            <a:ext cx="10382040" cy="7786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692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58920" y="1413000"/>
          <a:ext cx="6086520" cy="466380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6440"/>
                <a:gridCol w="712800"/>
                <a:gridCol w="639720"/>
                <a:gridCol w="676080"/>
                <a:gridCol w="676440"/>
                <a:gridCol w="676080"/>
                <a:gridCol w="67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pic>
        <p:nvPicPr>
          <p:cNvPr id="183" name="Picture 146" descr="F:\часы в картинках\7art+Inflow+Clock+ScreenSaver.png"/>
          <p:cNvPicPr/>
          <p:nvPr/>
        </p:nvPicPr>
        <p:blipFill>
          <a:blip r:embed="rId2"/>
          <a:stretch/>
        </p:blipFill>
        <p:spPr>
          <a:xfrm>
            <a:off x="0" y="-928800"/>
            <a:ext cx="10382400" cy="778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468360" y="260280"/>
          <a:ext cx="7057800" cy="5977080"/>
        </p:xfrm>
        <a:graphic>
          <a:graphicData uri="http://schemas.openxmlformats.org/drawingml/2006/table">
            <a:tbl>
              <a:tblPr/>
              <a:tblGrid>
                <a:gridCol w="7057800"/>
              </a:tblGrid>
              <a:tr h="59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Закончите фразы: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 году … месяцев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 году … дней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 году … зимних месяца: …,…, … 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 году … весенних месяца: …,…, … 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 году … летних месяца: …, …, … 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 году … осенних месяца: …, …, … 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 неделе … дней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8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-1946160" y="0"/>
            <a:ext cx="11090160" cy="11709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1403280" y="3105000"/>
            <a:ext cx="5329440" cy="2471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Отгадай загадку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Что возвратить нельзя?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628560" y="352440"/>
            <a:ext cx="788832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159,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 488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835280" y="1557360"/>
            <a:ext cx="2504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90" name="Picture 4" descr="c62c8991684d"/>
          <p:cNvPicPr/>
          <p:nvPr/>
        </p:nvPicPr>
        <p:blipFill>
          <a:blip r:embed="rId1"/>
          <a:stretch/>
        </p:blipFill>
        <p:spPr>
          <a:xfrm>
            <a:off x="0" y="0"/>
            <a:ext cx="9144000" cy="73627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-2916360" y="1341360"/>
            <a:ext cx="15184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Заголовок 5"/>
          <p:cNvSpPr/>
          <p:nvPr/>
        </p:nvSpPr>
        <p:spPr>
          <a:xfrm>
            <a:off x="3635280" y="4005360"/>
            <a:ext cx="4105440" cy="10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Спасибо всем!</a:t>
            </a:r>
            <a:br>
              <a:rPr sz="3600"/>
            </a:b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93" name="Picture 7" descr="E:\weddingbells.gif"/>
          <p:cNvPicPr/>
          <p:nvPr/>
        </p:nvPicPr>
        <p:blipFill>
          <a:blip r:embed="rId2"/>
          <a:stretch/>
        </p:blipFill>
        <p:spPr>
          <a:xfrm>
            <a:off x="5651640" y="5686560"/>
            <a:ext cx="1619280" cy="117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Минутка час бережёт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4000" y="126828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cc99ff"/>
                </a:solidFill>
                <a:latin typeface="Arial"/>
              </a:rPr>
              <a:t>Делу время – потехе час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Век живи – век учись</a:t>
            </a:r>
            <a:r>
              <a:rPr b="0" lang="ru-RU" sz="4400" spc="-1" strike="noStrike">
                <a:solidFill>
                  <a:srgbClr val="0101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а часа просыпался,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а часа умывался,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дин час утирался,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утки одевался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0" y="-243000"/>
            <a:ext cx="9572760" cy="9091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2880" y="3141720"/>
            <a:ext cx="8510760" cy="1325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Без ног и крыльев оно,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Быстро летит, не догонишь его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0" y="-142920"/>
            <a:ext cx="9286920" cy="7623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428760"/>
            <a:ext cx="8510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155736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крепить ранее изученный материал по математике, расширить знания о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ремен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, воспитать бережное отношение ко времен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14 ма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Классная работ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142920"/>
            <a:ext cx="85104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6760" y="2286000"/>
            <a:ext cx="86281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571680" y="3786120"/>
            <a:ext cx="8143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Напишите число, которое находится между числами 879 и  881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1" name="Picture 2" descr="E:\3.gif"/>
          <p:cNvPicPr/>
          <p:nvPr/>
        </p:nvPicPr>
        <p:blipFill>
          <a:blip r:embed="rId1"/>
          <a:stretch/>
        </p:blipFill>
        <p:spPr>
          <a:xfrm>
            <a:off x="357120" y="214200"/>
            <a:ext cx="1428840" cy="12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142920"/>
            <a:ext cx="85104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6760" y="2286000"/>
            <a:ext cx="86281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42920" y="3429000"/>
            <a:ext cx="85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К 8 сотням прибавьте 4 единицы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5" name="Picture 2" descr="E:\3.gif"/>
          <p:cNvPicPr/>
          <p:nvPr/>
        </p:nvPicPr>
        <p:blipFill>
          <a:blip r:embed="rId1"/>
          <a:stretch/>
        </p:blipFill>
        <p:spPr>
          <a:xfrm>
            <a:off x="357120" y="214200"/>
            <a:ext cx="1428840" cy="12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632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Arial"/>
              </a:rPr>
              <a:t>Напишите число, в котором 6 десятков и 3 единицы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E:\3.gif"/>
          <p:cNvPicPr/>
          <p:nvPr/>
        </p:nvPicPr>
        <p:blipFill>
          <a:blip r:embed="rId1"/>
          <a:stretch/>
        </p:blipFill>
        <p:spPr>
          <a:xfrm>
            <a:off x="324000" y="836640"/>
            <a:ext cx="1285560" cy="1500120"/>
          </a:xfrm>
          <a:prstGeom prst="rect">
            <a:avLst/>
          </a:prstGeom>
          <a:ln w="0">
            <a:noFill/>
          </a:ln>
        </p:spPr>
      </p:pic>
      <p:sp>
        <p:nvSpPr>
          <p:cNvPr id="89" name="Подзаголовок 5"/>
          <p:cNvSpPr/>
          <p:nvPr/>
        </p:nvSpPr>
        <p:spPr>
          <a:xfrm>
            <a:off x="179280" y="4292640"/>
            <a:ext cx="79455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6:24:58Z</dcterms:created>
  <dc:creator>Жам</dc:creator>
  <dc:description/>
  <dc:language>en-US</dc:language>
  <cp:lastModifiedBy>Admin</cp:lastModifiedBy>
  <dcterms:modified xsi:type="dcterms:W3CDTF">2012-05-13T17:14:10Z</dcterms:modified>
  <cp:revision>149</cp:revision>
  <dc:subject/>
  <dc:title>Слайд 1</dc:title>
</cp:coreProperties>
</file>