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11.png" ContentType="image/png"/>
  <Override PartName="/ppt/media/image1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10.gif" ContentType="image/gif"/>
  <Override PartName="/ppt/media/image7.gif" ContentType="image/gif"/>
  <Override PartName="/ppt/media/image9.jpeg" ContentType="image/jpeg"/>
  <Override PartName="/ppt/media/image1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29C3-888A-454D-B67C-2F0D4B2A4958}" type="slidenum">
              <a:rPr b="0" lang="ru-RU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4AD8-6164-49D9-8CA6-C5E89D092C80}" type="slidenum">
              <a:rPr b="0" lang="ru-RU" sz="1200" spc="-1" strike="noStrike">
                <a:solidFill>
                  <a:srgbClr val="cc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9B7C-452F-4FED-AA4E-B2862AB66D97}" type="slidenum">
              <a:rPr b="0" lang="ru-RU" sz="1200" spc="-1" strike="noStrike">
                <a:solidFill>
                  <a:srgbClr val="cc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-600120" y="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DC64-B786-4F20-A3BB-A649E4E22A8D}" type="slidenum">
              <a:rPr b="0" lang="ru-RU" sz="1200" spc="-1" strike="noStrike">
                <a:solidFill>
                  <a:srgbClr val="cc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-600120" y="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CBB-1863-4903-B868-AF5CE12A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DC76-07EE-462C-8513-9BEC9E0F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000F-8C10-4A99-84E0-C89AF4D1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5FAC-DADA-4CEA-892D-F6713031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81C9-FB70-471C-BFCC-E7B8B7FD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F393-D1E6-4F7D-A432-F3706EC1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B045-957B-4E4A-A677-1F242013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EDFC-A879-4928-9CFB-0D152EF1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2BE0-BA33-4F86-B75B-C0D715DE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9568-422F-488E-85C2-D88DD14E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DCA6-F7C9-4CC5-A9B0-40EC9D84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87EA-706A-4EAC-888C-446BF39F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68FD-1B3F-4E7C-817E-83BC6924090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:\Documents and Settings\учитель.PC2\Рабочий стол\Мои рисунки\6.gif"/>
          <p:cNvPicPr/>
          <p:nvPr/>
        </p:nvPicPr>
        <p:blipFill>
          <a:blip r:embed="rId1"/>
          <a:stretch/>
        </p:blipFill>
        <p:spPr>
          <a:xfrm flipH="1">
            <a:off x="928800" y="857160"/>
            <a:ext cx="2690640" cy="1706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6800" y="2428560"/>
            <a:ext cx="762012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Урок математики во 2 «Г» классе</a:t>
            </a:r>
            <a:br>
              <a:rPr sz="6000"/>
            </a:b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0" name="Picture 5" descr="C:\Documents and Settings\учитель.PC2\Рабочий стол\Мои рисунки\9.gif"/>
          <p:cNvPicPr/>
          <p:nvPr/>
        </p:nvPicPr>
        <p:blipFill>
          <a:blip r:embed="rId2"/>
          <a:stretch/>
        </p:blipFill>
        <p:spPr>
          <a:xfrm>
            <a:off x="7286760" y="3500280"/>
            <a:ext cx="1455480" cy="2475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14240" y="5285880"/>
            <a:ext cx="7615440" cy="5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Учитель: Данилова И.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6" descr="C:\Documents and Settings\учитель.PC2\Рабочий стол\Мои рисунки\осень.gif"/>
          <p:cNvPicPr/>
          <p:nvPr/>
        </p:nvPicPr>
        <p:blipFill>
          <a:blip r:embed="rId3"/>
          <a:stretch/>
        </p:blipFill>
        <p:spPr>
          <a:xfrm>
            <a:off x="5780160" y="380880"/>
            <a:ext cx="2506680" cy="2262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Documents and Settings\учитель.PC2\Рабочий стол\Мои рисунки\127.gif"/>
          <p:cNvPicPr/>
          <p:nvPr/>
        </p:nvPicPr>
        <p:blipFill>
          <a:blip r:embed="rId4"/>
          <a:stretch/>
        </p:blipFill>
        <p:spPr>
          <a:xfrm>
            <a:off x="1000080" y="4643280"/>
            <a:ext cx="18576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642960" y="2428920"/>
            <a:ext cx="87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Число 140 увеличьте на 7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3" name="Picture 2" descr="E:\3.gif"/>
          <p:cNvPicPr/>
          <p:nvPr/>
        </p:nvPicPr>
        <p:blipFill>
          <a:blip r:embed="rId1"/>
          <a:stretch/>
        </p:blipFill>
        <p:spPr>
          <a:xfrm>
            <a:off x="285840" y="285840"/>
            <a:ext cx="1285920" cy="11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ервое слагаемое  780, второе слагаемое 2 . Чему равна сумма этих чисел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E:\3.gif"/>
          <p:cNvPicPr/>
          <p:nvPr/>
        </p:nvPicPr>
        <p:blipFill>
          <a:blip r:embed="rId1"/>
          <a:stretch/>
        </p:blipFill>
        <p:spPr>
          <a:xfrm>
            <a:off x="357120" y="214200"/>
            <a:ext cx="1301760" cy="11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ему равно произведение, если первый множитель равен 7, а второй множитель -  8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E:\3.gif"/>
          <p:cNvPicPr/>
          <p:nvPr/>
        </p:nvPicPr>
        <p:blipFill>
          <a:blip r:embed="rId1"/>
          <a:stretch/>
        </p:blipFill>
        <p:spPr>
          <a:xfrm>
            <a:off x="277920" y="214200"/>
            <a:ext cx="1436760" cy="12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Проверяем: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80,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804, 63, 147,  782, 5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760" y="178560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оверяем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56, 63, 147, 782, 804, 88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457200" y="174600"/>
            <a:ext cx="822960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         </a:t>
            </a:r>
            <a:r>
              <a:rPr b="1" lang="en-GB" sz="28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Расположите единицы измерения</a:t>
            </a:r>
            <a:br>
              <a:rPr sz="2800"/>
            </a:br>
            <a:r>
              <a:rPr b="1" lang="en-GB" sz="28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по возрастанию: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3132000" y="1619280"/>
            <a:ext cx="2508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Times New Roman"/>
                <a:ea typeface="Lucida Sans Unicode"/>
              </a:rPr>
              <a:t>дециметр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119640" y="1619280"/>
            <a:ext cx="2521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Times New Roman"/>
                <a:ea typeface="Lucida Sans Unicode"/>
              </a:rPr>
              <a:t>километр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476360" y="1557360"/>
            <a:ext cx="1979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метр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680000" y="2340000"/>
            <a:ext cx="2700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Times New Roman"/>
                <a:ea typeface="Lucida Sans Unicode"/>
              </a:rPr>
              <a:t>сантиметр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763640" y="2349360"/>
            <a:ext cx="428616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ff"/>
                </a:solidFill>
                <a:latin typeface="Times New Roman"/>
                <a:ea typeface="Lucida Sans Unicode"/>
              </a:rPr>
              <a:t>миллиметр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700360" y="5380200"/>
            <a:ext cx="5910120" cy="563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3492360" y="4836960"/>
            <a:ext cx="5089680" cy="563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4356000" y="4267080"/>
            <a:ext cx="4248360" cy="565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5364000" y="3733920"/>
            <a:ext cx="3246480" cy="563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6588000" y="3200400"/>
            <a:ext cx="2022480" cy="563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2195640" y="4797360"/>
            <a:ext cx="1008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ccffff"/>
                </a:solidFill>
                <a:latin typeface="Times New Roman"/>
                <a:ea typeface="Lucida Sans Unicode"/>
              </a:rPr>
              <a:t>мм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3276720" y="4221000"/>
            <a:ext cx="104616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ccffff"/>
                </a:solidFill>
                <a:latin typeface="Times New Roman"/>
                <a:ea typeface="Lucida Sans Unicode"/>
              </a:rPr>
              <a:t>см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4356000" y="3645000"/>
            <a:ext cx="1044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ccffff"/>
                </a:solidFill>
                <a:latin typeface="Times New Roman"/>
                <a:ea typeface="Lucida Sans Unicode"/>
              </a:rPr>
              <a:t>дм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5724360" y="3068640"/>
            <a:ext cx="4921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ccffff"/>
                </a:solidFill>
                <a:latin typeface="Times New Roman"/>
                <a:ea typeface="Lucida Sans Unicode"/>
              </a:rPr>
              <a:t>м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7236000" y="2463840"/>
            <a:ext cx="1081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ccffff"/>
                </a:solidFill>
                <a:latin typeface="Times New Roman"/>
                <a:ea typeface="Lucida Sans Unicode"/>
              </a:rPr>
              <a:t>км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ffffff"/>
                </a:solidFill>
                <a:latin typeface="Times New Roman"/>
              </a:rPr>
              <a:t>Длина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F:\часы в картинках\0000256666-preview.jpg"/>
          <p:cNvPicPr/>
          <p:nvPr/>
        </p:nvPicPr>
        <p:blipFill>
          <a:blip r:embed="rId1"/>
          <a:stretch/>
        </p:blipFill>
        <p:spPr>
          <a:xfrm>
            <a:off x="0" y="-387360"/>
            <a:ext cx="9286920" cy="76233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95280" y="333360"/>
            <a:ext cx="85107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324000" y="1700280"/>
            <a:ext cx="821664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6" name="Picture 4" descr="F:\часы в картинках\463a28d6bc49g.jpg"/>
          <p:cNvPicPr/>
          <p:nvPr/>
        </p:nvPicPr>
        <p:blipFill>
          <a:blip r:embed="rId2"/>
          <a:stretch/>
        </p:blipFill>
        <p:spPr>
          <a:xfrm>
            <a:off x="0" y="-747720"/>
            <a:ext cx="9286920" cy="8285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F:\часы в картинках\463a28d6bc49g.jpg"/>
          <p:cNvPicPr/>
          <p:nvPr/>
        </p:nvPicPr>
        <p:blipFill>
          <a:blip r:embed="rId3"/>
          <a:stretch/>
        </p:blipFill>
        <p:spPr>
          <a:xfrm>
            <a:off x="0" y="-928800"/>
            <a:ext cx="9286920" cy="8285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F:\часы в картинках\0000256666-preview.jpg"/>
          <p:cNvPicPr/>
          <p:nvPr/>
        </p:nvPicPr>
        <p:blipFill>
          <a:blip r:embed="rId1"/>
          <a:stretch/>
        </p:blipFill>
        <p:spPr>
          <a:xfrm>
            <a:off x="-142920" y="-1108080"/>
            <a:ext cx="9683640" cy="7966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4000" y="-1611360"/>
            <a:ext cx="8893080" cy="717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5092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5092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5092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79280" y="-674640"/>
            <a:ext cx="3168720" cy="6696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92"/>
                </a:solidFill>
                <a:latin typeface="Arial"/>
              </a:rPr>
              <a:t>Секунда(с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2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92"/>
                </a:solidFill>
                <a:latin typeface="Arial"/>
              </a:rPr>
              <a:t>Минута(мин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2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92"/>
                </a:solidFill>
                <a:latin typeface="Arial"/>
              </a:rPr>
              <a:t>Час(ч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2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92"/>
                </a:solidFill>
                <a:latin typeface="Arial"/>
              </a:rPr>
              <a:t>Сутки(с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2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92"/>
                </a:solidFill>
                <a:latin typeface="Arial"/>
              </a:rPr>
              <a:t>Неделя(н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2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92"/>
                </a:solidFill>
                <a:latin typeface="Arial"/>
              </a:rPr>
              <a:t>Месяц(мес.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2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92"/>
                </a:solidFill>
                <a:latin typeface="Arial"/>
              </a:rPr>
              <a:t>Год(г)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                              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3203640" y="3284640"/>
            <a:ext cx="1620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есяц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3355920" y="3436920"/>
            <a:ext cx="1620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есяц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628560" y="352440"/>
            <a:ext cx="788832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Расположите единицы измерения</a:t>
            </a:r>
            <a:br>
              <a:rPr sz="2800"/>
            </a:br>
            <a:r>
              <a:rPr b="1" lang="en-GB" sz="28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по возрастанию: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1835280" y="1557360"/>
            <a:ext cx="2504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месяц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780000" y="1557360"/>
            <a:ext cx="2504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Lucida Sans Unicode"/>
              </a:rPr>
              <a:t>неделя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5724360" y="1484280"/>
            <a:ext cx="25052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ffff"/>
                </a:solidFill>
                <a:latin typeface="Times New Roman"/>
                <a:ea typeface="Lucida Sans Unicode"/>
              </a:rPr>
              <a:t>год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979640" y="2060640"/>
            <a:ext cx="2504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ff"/>
                </a:solidFill>
                <a:latin typeface="Times New Roman"/>
                <a:ea typeface="Lucida Sans Unicode"/>
              </a:rPr>
              <a:t>день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3708360" y="2060640"/>
            <a:ext cx="1440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Times New Roman"/>
                <a:ea typeface="Lucida Sans Unicode"/>
              </a:rPr>
              <a:t>век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1835280" y="4941720"/>
            <a:ext cx="6408720" cy="563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556000" y="4365720"/>
            <a:ext cx="5688000" cy="563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3924360" y="3789360"/>
            <a:ext cx="4325760" cy="565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4859280" y="3213000"/>
            <a:ext cx="3387960" cy="563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6012000" y="2637000"/>
            <a:ext cx="2232000" cy="563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8a5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1116000" y="4292640"/>
            <a:ext cx="15494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ень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4788000" y="2708280"/>
            <a:ext cx="1260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од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6227640" y="2133720"/>
            <a:ext cx="1260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ек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3203640" y="3284640"/>
            <a:ext cx="1620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есяц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1908000" y="3789360"/>
            <a:ext cx="1837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еделя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F:\часы в картинках\0000256666-preview.jpg"/>
          <p:cNvPicPr/>
          <p:nvPr/>
        </p:nvPicPr>
        <p:blipFill>
          <a:blip r:embed="rId1"/>
          <a:stretch/>
        </p:blipFill>
        <p:spPr>
          <a:xfrm>
            <a:off x="0" y="-316080"/>
            <a:ext cx="9286920" cy="7623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5092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611280" y="1125360"/>
            <a:ext cx="8532720" cy="456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600" spc="-1" strike="noStrike">
                <a:solidFill>
                  <a:srgbClr val="010199"/>
                </a:solidFill>
                <a:latin typeface="Arial"/>
              </a:rPr>
              <a:t>Математику, друзья,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Arial"/>
              </a:rPr>
              <a:t>               </a:t>
            </a:r>
            <a:r>
              <a:rPr b="0" lang="ru-RU" sz="3600" spc="-1" strike="noStrike">
                <a:solidFill>
                  <a:srgbClr val="010199"/>
                </a:solidFill>
                <a:latin typeface="Arial"/>
              </a:rPr>
              <a:t>Не любить никак нельзя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Arial"/>
              </a:rPr>
              <a:t>               </a:t>
            </a:r>
            <a:r>
              <a:rPr b="0" lang="ru-RU" sz="3600" spc="-1" strike="noStrike">
                <a:solidFill>
                  <a:srgbClr val="010199"/>
                </a:solidFill>
                <a:latin typeface="Arial"/>
              </a:rPr>
              <a:t>Очень строгая наука,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Arial"/>
              </a:rPr>
              <a:t>               </a:t>
            </a:r>
            <a:r>
              <a:rPr b="0" lang="ru-RU" sz="3600" spc="-1" strike="noStrike">
                <a:solidFill>
                  <a:srgbClr val="010199"/>
                </a:solidFill>
                <a:latin typeface="Arial"/>
              </a:rPr>
              <a:t>Очень точная наука,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Arial"/>
              </a:rPr>
              <a:t>               </a:t>
            </a:r>
            <a:r>
              <a:rPr b="0" lang="ru-RU" sz="3600" spc="-1" strike="noStrike">
                <a:solidFill>
                  <a:srgbClr val="010199"/>
                </a:solidFill>
                <a:latin typeface="Arial"/>
              </a:rPr>
              <a:t>Интересная наука -</a:t>
            </a:r>
            <a:r>
              <a:rPr b="0" lang="en-US" sz="3600" spc="-1" strike="noStrike">
                <a:solidFill>
                  <a:srgbClr val="010199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Arial"/>
              </a:rPr>
              <a:t>               </a:t>
            </a:r>
            <a:r>
              <a:rPr b="0" lang="ru-RU" sz="3600" spc="-1" strike="noStrike">
                <a:solidFill>
                  <a:srgbClr val="010199"/>
                </a:solidFill>
                <a:latin typeface="Arial"/>
              </a:rPr>
              <a:t>Это математика!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547280" y="1125000"/>
            <a:ext cx="7137720" cy="499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7160" indent="-317160">
              <a:lnSpc>
                <a:spcPct val="83000"/>
              </a:lnSpc>
              <a:spcBef>
                <a:spcPts val="9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век               60 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lnSpc>
                <a:spcPct val="83000"/>
              </a:lnSpc>
              <a:spcBef>
                <a:spcPts val="9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год              60 м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lnSpc>
                <a:spcPct val="83000"/>
              </a:lnSpc>
              <a:spcBef>
                <a:spcPts val="9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сут               7 су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lnSpc>
                <a:spcPct val="83000"/>
              </a:lnSpc>
              <a:spcBef>
                <a:spcPts val="9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ч                  24 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lnSpc>
                <a:spcPct val="83000"/>
              </a:lnSpc>
              <a:spcBef>
                <a:spcPts val="9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мин             30 сут или 31сут (в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160" indent="0">
              <a:lnSpc>
                <a:spcPct val="83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еврале 28 или29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lnSpc>
                <a:spcPct val="83000"/>
              </a:lnSpc>
              <a:spcBef>
                <a:spcPts val="9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неделя         100 л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160" indent="-317160">
              <a:lnSpc>
                <a:spcPct val="83000"/>
              </a:lnSpc>
              <a:spcBef>
                <a:spcPts val="9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месяц          365 или 366 су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160" indent="0">
              <a:lnSpc>
                <a:spcPct val="83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 ме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160" indent="0">
              <a:lnSpc>
                <a:spcPct val="83000"/>
              </a:lnSpc>
              <a:spcBef>
                <a:spcPts val="9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2627280" y="1341360"/>
            <a:ext cx="2016000" cy="32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2916360" y="2133720"/>
            <a:ext cx="1800000" cy="30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2916360" y="2133720"/>
            <a:ext cx="1726920" cy="36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2843280" y="2565360"/>
            <a:ext cx="1728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" name="Line 9"/>
          <p:cNvSpPr/>
          <p:nvPr/>
        </p:nvSpPr>
        <p:spPr>
          <a:xfrm flipV="1">
            <a:off x="2771640" y="1341360"/>
            <a:ext cx="194328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 flipV="1">
            <a:off x="2484360" y="1915920"/>
            <a:ext cx="201636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 flipV="1">
            <a:off x="3203640" y="2492280"/>
            <a:ext cx="143964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 flipV="1">
            <a:off x="3132000" y="3573360"/>
            <a:ext cx="151308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8" descr="F:\часы в картинках\0000256666-preview.jpg"/>
          <p:cNvPicPr/>
          <p:nvPr/>
        </p:nvPicPr>
        <p:blipFill>
          <a:blip r:embed="rId1"/>
          <a:stretch/>
        </p:blipFill>
        <p:spPr>
          <a:xfrm>
            <a:off x="142920" y="-214200"/>
            <a:ext cx="9572760" cy="9091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66" name="Picture 8" descr="F:\часы в картинках\0000256666-preview.jpg"/>
          <p:cNvPicPr/>
          <p:nvPr/>
        </p:nvPicPr>
        <p:blipFill>
          <a:blip r:embed="rId2"/>
          <a:stretch/>
        </p:blipFill>
        <p:spPr>
          <a:xfrm>
            <a:off x="-684360" y="-1251000"/>
            <a:ext cx="10114200" cy="960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1403280" y="1428840"/>
          <a:ext cx="6526440" cy="5703840"/>
        </p:xfrm>
        <a:graphic>
          <a:graphicData uri="http://schemas.openxmlformats.org/drawingml/2006/table">
            <a:tbl>
              <a:tblPr/>
              <a:tblGrid>
                <a:gridCol w="6526440"/>
              </a:tblGrid>
              <a:tr h="43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         </a:t>
                      </a:r>
                      <a:r>
                        <a:rPr b="0" lang="ru-RU" sz="3600" spc="-1" strike="noStrike">
                          <a:solidFill>
                            <a:srgbClr val="007373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600" spc="-1" strike="noStrike">
                          <a:solidFill>
                            <a:srgbClr val="007373"/>
                          </a:solidFill>
                          <a:latin typeface="Arial"/>
                        </a:rPr>
                        <a:t>Физкультминутка</a:t>
                      </a:r>
                      <a:endParaRPr b="0" lang="en-US" sz="36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Тик – так! Тик – так! </a:t>
                      </a:r>
                      <a:endParaRPr b="0" lang="en-US" sz="36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Ходят часики вот так!</a:t>
                      </a:r>
                      <a:endParaRPr b="0" lang="en-US" sz="36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Влево – шаг! Вправо – шаг!</a:t>
                      </a:r>
                      <a:endParaRPr b="0" lang="en-US" sz="36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Тик - так! Тик – так!</a:t>
                      </a:r>
                      <a:endParaRPr b="0" lang="en-US" sz="36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3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pic>
        <p:nvPicPr>
          <p:cNvPr id="168" name="Picture 15" descr="clock11"/>
          <p:cNvPicPr/>
          <p:nvPr/>
        </p:nvPicPr>
        <p:blipFill>
          <a:blip r:embed="rId3"/>
          <a:stretch/>
        </p:blipFill>
        <p:spPr>
          <a:xfrm>
            <a:off x="5364000" y="5157720"/>
            <a:ext cx="1238400" cy="1238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F:\часы в картинках\0000256666-preview.jpg"/>
          <p:cNvPicPr/>
          <p:nvPr/>
        </p:nvPicPr>
        <p:blipFill>
          <a:blip r:embed="rId1"/>
          <a:stretch/>
        </p:blipFill>
        <p:spPr>
          <a:xfrm>
            <a:off x="0" y="-387360"/>
            <a:ext cx="9572760" cy="90918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"/>
              </a:rPr>
              <a:t>Поставь вместо звёздочек числа, чтобы получились верные равенства.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258920" y="2133720"/>
          <a:ext cx="6943680" cy="5546520"/>
        </p:xfrm>
        <a:graphic>
          <a:graphicData uri="http://schemas.openxmlformats.org/drawingml/2006/table">
            <a:tbl>
              <a:tblPr/>
              <a:tblGrid>
                <a:gridCol w="6943680"/>
              </a:tblGrid>
              <a:tr h="48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нед.  =     *     д</a:t>
                      </a: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мин   =     *    с</a:t>
                      </a: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ч       =     *  мин</a:t>
                      </a: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мин   =     *    с</a:t>
                      </a: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сут.    =    *     ч</a:t>
                      </a: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ч        =    *   мин</a:t>
                      </a: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9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1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F:\часы в картинках\0000256666-preview.jpg"/>
          <p:cNvPicPr/>
          <p:nvPr/>
        </p:nvPicPr>
        <p:blipFill>
          <a:blip r:embed="rId1"/>
          <a:stretch/>
        </p:blipFill>
        <p:spPr>
          <a:xfrm>
            <a:off x="-324000" y="-963720"/>
            <a:ext cx="10615680" cy="909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1187280" y="2060640"/>
          <a:ext cx="7561440" cy="3932280"/>
        </p:xfrm>
        <a:graphic>
          <a:graphicData uri="http://schemas.openxmlformats.org/drawingml/2006/table">
            <a:tbl>
              <a:tblPr/>
              <a:tblGrid>
                <a:gridCol w="7561440"/>
              </a:tblGrid>
              <a:tr h="39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Ежедневно второклассник                                                 читал 8 страниц. Сколько    страниц он прочитал за 7 дней?</a:t>
                      </a:r>
                      <a:endParaRPr b="0" lang="en-US" sz="40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85720" y="857160"/>
            <a:ext cx="3527640" cy="1038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0199"/>
                </a:solidFill>
                <a:latin typeface="Arial"/>
              </a:rPr>
              <a:t>Задача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6" descr="F:\часы в картинках\7art+Inflow+Clock+ScreenSaver.png"/>
          <p:cNvPicPr/>
          <p:nvPr/>
        </p:nvPicPr>
        <p:blipFill>
          <a:blip r:embed="rId1"/>
          <a:stretch/>
        </p:blipFill>
        <p:spPr>
          <a:xfrm>
            <a:off x="285840" y="-928800"/>
            <a:ext cx="10382040" cy="77868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169236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58920" y="1413000"/>
          <a:ext cx="6086520" cy="466380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676440"/>
                <a:gridCol w="712800"/>
                <a:gridCol w="639720"/>
                <a:gridCol w="676080"/>
                <a:gridCol w="676440"/>
                <a:gridCol w="676080"/>
                <a:gridCol w="67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pic>
        <p:nvPicPr>
          <p:cNvPr id="178" name="Picture 146" descr="F:\часы в картинках\7art+Inflow+Clock+ScreenSaver.png"/>
          <p:cNvPicPr/>
          <p:nvPr/>
        </p:nvPicPr>
        <p:blipFill>
          <a:blip r:embed="rId2"/>
          <a:stretch/>
        </p:blipFill>
        <p:spPr>
          <a:xfrm>
            <a:off x="0" y="-928800"/>
            <a:ext cx="10382400" cy="778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1042920" y="1773360"/>
          <a:ext cx="6554880" cy="3527280"/>
        </p:xfrm>
        <a:graphic>
          <a:graphicData uri="http://schemas.openxmlformats.org/drawingml/2006/table">
            <a:tbl>
              <a:tblPr/>
              <a:tblGrid>
                <a:gridCol w="6554880"/>
              </a:tblGrid>
              <a:tr h="35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2"/>
                          </a:solidFill>
                          <a:latin typeface="Arial"/>
                        </a:rPr>
                        <a:t>В какой строке только единицы измерения времени ?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2"/>
                          </a:solidFill>
                          <a:latin typeface="Arial"/>
                        </a:rPr>
                        <a:t>а) см, км, кг, м.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2"/>
                          </a:solidFill>
                          <a:latin typeface="Arial"/>
                        </a:rPr>
                        <a:t>б) км, м, дм, мм.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2"/>
                          </a:solidFill>
                          <a:latin typeface="Arial"/>
                        </a:rPr>
                        <a:t>в) час, сутки, мин, месяц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77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4" dur="770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46" descr="F:\часы в картинках\7art+Inflow+Clock+ScreenSaver.png"/>
          <p:cNvPicPr/>
          <p:nvPr/>
        </p:nvPicPr>
        <p:blipFill>
          <a:blip r:embed="rId1"/>
          <a:stretch/>
        </p:blipFill>
        <p:spPr>
          <a:xfrm>
            <a:off x="285840" y="-928800"/>
            <a:ext cx="10382040" cy="7786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169236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258920" y="1413000"/>
          <a:ext cx="6086520" cy="466380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676440"/>
                <a:gridCol w="712800"/>
                <a:gridCol w="639720"/>
                <a:gridCol w="676080"/>
                <a:gridCol w="676440"/>
                <a:gridCol w="676080"/>
                <a:gridCol w="676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pic>
        <p:nvPicPr>
          <p:cNvPr id="183" name="Picture 146" descr="F:\часы в картинках\7art+Inflow+Clock+ScreenSaver.png"/>
          <p:cNvPicPr/>
          <p:nvPr/>
        </p:nvPicPr>
        <p:blipFill>
          <a:blip r:embed="rId2"/>
          <a:stretch/>
        </p:blipFill>
        <p:spPr>
          <a:xfrm>
            <a:off x="0" y="-928800"/>
            <a:ext cx="10382400" cy="778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468360" y="260280"/>
          <a:ext cx="7057800" cy="5977080"/>
        </p:xfrm>
        <a:graphic>
          <a:graphicData uri="http://schemas.openxmlformats.org/drawingml/2006/table">
            <a:tbl>
              <a:tblPr/>
              <a:tblGrid>
                <a:gridCol w="7057800"/>
              </a:tblGrid>
              <a:tr h="59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2"/>
                          </a:solidFill>
                          <a:latin typeface="Arial"/>
                        </a:rPr>
                        <a:t>Закончите фразы: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2"/>
                          </a:solidFill>
                          <a:latin typeface="Arial"/>
                        </a:rPr>
                        <a:t>В году … месяцев.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2"/>
                          </a:solidFill>
                          <a:latin typeface="Arial"/>
                        </a:rPr>
                        <a:t>В году … дней.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2"/>
                          </a:solidFill>
                          <a:latin typeface="Arial"/>
                        </a:rPr>
                        <a:t>В году … зимних месяца: …,…, … .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2"/>
                          </a:solidFill>
                          <a:latin typeface="Arial"/>
                        </a:rPr>
                        <a:t>В году … весенних месяца: …,…, … .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2"/>
                          </a:solidFill>
                          <a:latin typeface="Arial"/>
                        </a:rPr>
                        <a:t>В году … летних месяца: …, …, … .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2"/>
                          </a:solidFill>
                          <a:latin typeface="Arial"/>
                        </a:rPr>
                        <a:t>В году … осенних месяца: …, …, … .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92"/>
                          </a:solidFill>
                          <a:latin typeface="Arial"/>
                        </a:rPr>
                        <a:t>В неделе … дней.</a:t>
                      </a: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cc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77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7" dur="770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1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8" descr="F:\часы в картинках\0000256666-preview.jpg"/>
          <p:cNvPicPr/>
          <p:nvPr/>
        </p:nvPicPr>
        <p:blipFill>
          <a:blip r:embed="rId1"/>
          <a:stretch/>
        </p:blipFill>
        <p:spPr>
          <a:xfrm>
            <a:off x="-1946160" y="0"/>
            <a:ext cx="11090160" cy="117093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0"/>
          <p:cNvSpPr/>
          <p:nvPr/>
        </p:nvSpPr>
        <p:spPr>
          <a:xfrm>
            <a:off x="1403280" y="3105000"/>
            <a:ext cx="5329440" cy="2471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10199"/>
                </a:solidFill>
                <a:latin typeface="Arial"/>
              </a:rPr>
              <a:t>Отгадай загадку: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Arial"/>
              </a:rPr>
              <a:t>Что возвратить нельзя?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628560" y="352440"/>
            <a:ext cx="788832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.159,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 488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1835280" y="1557360"/>
            <a:ext cx="2504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90" name="Picture 4" descr="c62c8991684d"/>
          <p:cNvPicPr/>
          <p:nvPr/>
        </p:nvPicPr>
        <p:blipFill>
          <a:blip r:embed="rId1"/>
          <a:stretch/>
        </p:blipFill>
        <p:spPr>
          <a:xfrm>
            <a:off x="0" y="0"/>
            <a:ext cx="9144000" cy="73627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-2916360" y="1341360"/>
            <a:ext cx="15184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2" name="Заголовок 5"/>
          <p:cNvSpPr/>
          <p:nvPr/>
        </p:nvSpPr>
        <p:spPr>
          <a:xfrm>
            <a:off x="3635280" y="4005360"/>
            <a:ext cx="4105440" cy="1081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199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10199"/>
                </a:solidFill>
                <a:latin typeface="Arial"/>
              </a:rPr>
              <a:t>Спасибо всем!</a:t>
            </a:r>
            <a:br>
              <a:rPr sz="3600"/>
            </a:br>
            <a:r>
              <a:rPr b="0" lang="ru-RU" sz="3200" spc="-1" strike="noStrike">
                <a:solidFill>
                  <a:srgbClr val="010199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93" name="Picture 7" descr="E:\weddingbells.gif"/>
          <p:cNvPicPr/>
          <p:nvPr/>
        </p:nvPicPr>
        <p:blipFill>
          <a:blip r:embed="rId2"/>
          <a:stretch/>
        </p:blipFill>
        <p:spPr>
          <a:xfrm>
            <a:off x="5651640" y="5686560"/>
            <a:ext cx="1619280" cy="117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ccff"/>
                </a:solidFill>
                <a:latin typeface="Arial"/>
              </a:rPr>
              <a:t>Минутка час бережёт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5092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5092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24000" y="1268280"/>
            <a:ext cx="854064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cc99ff"/>
                </a:solidFill>
                <a:latin typeface="Arial"/>
              </a:rPr>
              <a:t>Делу время – потехе час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66ccff"/>
                </a:solidFill>
                <a:latin typeface="Arial"/>
              </a:rPr>
              <a:t>Век живи – век учись</a:t>
            </a:r>
            <a:r>
              <a:rPr b="0" lang="ru-RU" sz="4400" spc="-1" strike="noStrike">
                <a:solidFill>
                  <a:srgbClr val="0101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ва часа просыпался,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ва часа умывался,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дин час утирался,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утки одевался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F:\часы в картинках\0000256666-preview.jpg"/>
          <p:cNvPicPr/>
          <p:nvPr/>
        </p:nvPicPr>
        <p:blipFill>
          <a:blip r:embed="rId1"/>
          <a:stretch/>
        </p:blipFill>
        <p:spPr>
          <a:xfrm>
            <a:off x="0" y="-243000"/>
            <a:ext cx="9572760" cy="9091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2880" y="3141720"/>
            <a:ext cx="8510760" cy="13255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Без ног и крыльев оно,</a:t>
            </a:r>
            <a:br>
              <a:rPr sz="4400"/>
            </a:b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Быстро летит, не догонишь его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F:\часы в картинках\0000256666-preview.jpg"/>
          <p:cNvPicPr/>
          <p:nvPr/>
        </p:nvPicPr>
        <p:blipFill>
          <a:blip r:embed="rId1"/>
          <a:stretch/>
        </p:blipFill>
        <p:spPr>
          <a:xfrm>
            <a:off x="0" y="-142920"/>
            <a:ext cx="9286920" cy="7623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428760"/>
            <a:ext cx="8510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25092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5092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0" y="1557360"/>
            <a:ext cx="854064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крепить ранее изученный материал по математике, расширить знания о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ремени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, воспитать бережное отношение ко времени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14 мая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Классная работ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142920"/>
            <a:ext cx="85104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56760" y="2286000"/>
            <a:ext cx="86281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571680" y="3786120"/>
            <a:ext cx="8143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Напишите число, которое находится между числами 879 и  881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1" name="Picture 2" descr="E:\3.gif"/>
          <p:cNvPicPr/>
          <p:nvPr/>
        </p:nvPicPr>
        <p:blipFill>
          <a:blip r:embed="rId1"/>
          <a:stretch/>
        </p:blipFill>
        <p:spPr>
          <a:xfrm>
            <a:off x="357120" y="214200"/>
            <a:ext cx="1428840" cy="12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142920"/>
            <a:ext cx="85104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56760" y="2286000"/>
            <a:ext cx="86281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142920" y="3429000"/>
            <a:ext cx="8572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К 8 сотням прибавьте 4 единицы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5" name="Picture 2" descr="E:\3.gif"/>
          <p:cNvPicPr/>
          <p:nvPr/>
        </p:nvPicPr>
        <p:blipFill>
          <a:blip r:embed="rId1"/>
          <a:stretch/>
        </p:blipFill>
        <p:spPr>
          <a:xfrm>
            <a:off x="357120" y="214200"/>
            <a:ext cx="1428840" cy="12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3357360"/>
            <a:ext cx="76327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Arial"/>
              </a:rPr>
              <a:t>Напишите число, в котором 6 десятков и 3 единицы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2" descr="E:\3.gif"/>
          <p:cNvPicPr/>
          <p:nvPr/>
        </p:nvPicPr>
        <p:blipFill>
          <a:blip r:embed="rId1"/>
          <a:stretch/>
        </p:blipFill>
        <p:spPr>
          <a:xfrm>
            <a:off x="324000" y="836640"/>
            <a:ext cx="1285560" cy="1500120"/>
          </a:xfrm>
          <a:prstGeom prst="rect">
            <a:avLst/>
          </a:prstGeom>
          <a:ln w="0">
            <a:noFill/>
          </a:ln>
        </p:spPr>
      </p:pic>
      <p:sp>
        <p:nvSpPr>
          <p:cNvPr id="89" name="Подзаголовок 5"/>
          <p:cNvSpPr/>
          <p:nvPr/>
        </p:nvSpPr>
        <p:spPr>
          <a:xfrm>
            <a:off x="179280" y="4292640"/>
            <a:ext cx="79455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6:24:58Z</dcterms:created>
  <dc:creator>Жам</dc:creator>
  <dc:description/>
  <dc:language>en-US</dc:language>
  <cp:lastModifiedBy>Admin</cp:lastModifiedBy>
  <dcterms:modified xsi:type="dcterms:W3CDTF">2012-05-13T17:14:10Z</dcterms:modified>
  <cp:revision>149</cp:revision>
  <dc:subject/>
  <dc:title>Слайд 1</dc:title>
</cp:coreProperties>
</file>