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7.png" ContentType="image/png"/>
  <Override PartName="/ppt/media/image1.jpeg" ContentType="image/jpeg"/>
  <Override PartName="/ppt/media/drumroll.wav" ContentType="audio/x-wav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286-10DA-442C-BBFD-AD4C9BA7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C46-124A-4777-900E-134953F7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552-AF60-464E-BE2A-D8C6B7C6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5CB-13BF-4048-B4A3-61437592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4BB9-4782-4C12-B035-681CC0CD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EB54-F433-4FE1-AC43-618ECA3F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7CCF-FF3B-43D1-AB20-3BEF17FB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514E-0555-4613-826F-20CF49C8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1C16-B4A2-4A1D-A141-0B28ECA5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47F4-17E0-4A30-A1E0-35D980D8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8F71-A4E0-43B9-8070-97D49193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DA1-624D-404C-B670-01C56D8D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691E-6A9F-495B-9E96-8A5C08FC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CC4B-134A-49D9-9CF4-B21AA86C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F848-AA40-4A44-B7FB-730E4AC8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38C3-E436-421C-9255-F4BBA6FA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A985-2455-4693-823A-0674A69F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4EDC9-E8A2-4BB1-B2E5-50CA62F6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8AB13-DFED-4A08-8FD0-2F0C081A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8DDE5-7BB8-4E8F-9F7B-0E35F648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6423B-331C-4C9E-A1F1-1A48B59A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4C01C-0578-4C52-AF2D-7F026719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B2B-096A-4E58-A974-44D5BD38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46AEA-8BB2-412D-9735-395261D8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D4D69-7999-49FB-AFC0-B02F3DB2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53979-D34D-4D79-95F7-BCC6EDE1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4BC16-FBC4-4DF8-82E3-208D9A38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155BB-059B-4A3F-9A95-6205D9FF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A7BB0-52F5-4C85-BB68-C6A40461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A9CF7-C991-42BF-AC3F-AC095862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A990-E3D9-4F93-B29B-CC7EC12B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52E27-A998-4EE1-9D30-442EDBEA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24A83-C1B7-447A-AAF5-E6F96EE3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841-1963-4A7D-A91F-3BCE47BA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3B57A-B245-421A-9330-6E7161C3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CBAAD-EE47-47F8-85F9-EA6F96DC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3587-DB8C-4030-86C3-E53ABFF1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E5A8C-A29E-479F-AA30-1ACA2B4E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5DEA3-24CE-481E-A28C-E6D124F1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14371-191C-4135-A52E-24A50DA3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E1DBE-4F5A-4D3C-85CB-6727DEEA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3B88F-40A6-400E-A78F-05446C14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C7342-8A75-41C9-9F8B-55B32635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D9F-13D7-4A59-9E09-958FCF04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DCA-3ACA-4AC6-8666-4B8B41B5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BA1-43BA-4751-BDE0-08DE5353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1C6-0A8F-4240-9610-12C53202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923-ECE7-4867-97DE-B6B14284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C348-DA52-4070-9892-E9E6F3387DB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D8F7-0DAD-4D97-A902-7388D5C6DE0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0E37-C05A-407B-934B-2E09C387898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BB1A-B611-4D08-8087-AF812ED9E34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170000" y="-249120"/>
            <a:ext cx="7577280" cy="3717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28760" y="4214520"/>
            <a:ext cx="804384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Выполнила</a:t>
            </a:r>
            <a:r>
              <a:rPr b="0" lang="ru-RU" sz="3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Monotype Corsiva"/>
              </a:rPr>
              <a:t>ученица 3 «В» класса  МБОУ «Гимназия №1 города Новопавловска» Ткачева Елизавета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newsflash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5000" spc="-1" strike="noStrike">
                <a:solidFill>
                  <a:srgbClr val="ff0070"/>
                </a:solidFill>
                <a:latin typeface="Monotype Corsiva"/>
              </a:rPr>
              <a:t>           </a:t>
            </a:r>
            <a:r>
              <a:rPr b="0" lang="ru-RU" sz="5000" spc="-1" strike="noStrike">
                <a:solidFill>
                  <a:srgbClr val="ff0070"/>
                </a:solidFill>
                <a:latin typeface="Monotype Corsiva"/>
              </a:rPr>
              <a:t>Виктори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Содержимое 3" descr="черепаха.bmp"/>
          <p:cNvPicPr/>
          <p:nvPr/>
        </p:nvPicPr>
        <p:blipFill>
          <a:blip r:embed="rId1"/>
          <a:stretch/>
        </p:blipFill>
        <p:spPr>
          <a:xfrm>
            <a:off x="785880" y="1928880"/>
            <a:ext cx="735804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drumroll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2bd8"/>
                </a:solidFill>
                <a:latin typeface="Monotype Corsiv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1. Самая быстрая рыба ?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:Парусник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:Акул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:Касат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400960" cy="1928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2.Самое крупное млекопитающее?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:Синий ки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:Розовый дельфин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:Рыба - клоун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3. Самая крупная рыба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:Китовая акул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:Осминог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:Молото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4. Самая кровожадная рыба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:Пирань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: Краб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: Морская звезд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Monotype Corsiva"/>
              </a:rPr>
              <a:t>5.Какой длины новорожденный китенок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: 100 кг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: 8 метров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: 2000 с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347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Monotype Corsiva"/>
              </a:rPr>
              <a:t>6. С помощью чего общаются дельфины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:язы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:высокочастотных звуков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: вод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8. Чем защищается ёрш 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А: колючками на плавниках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Б: собакой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: мечё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6000" spc="-1" strike="noStrike">
                <a:solidFill>
                  <a:srgbClr val="7030a0"/>
                </a:solidFill>
                <a:latin typeface="Monotype Corsiva"/>
              </a:rPr>
              <a:t>Третий лишний.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ОСМИНОГ                                        РЫБА-КЛОУН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ДЕЛЬФИН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Monotype Corsiva"/>
              </a:rPr>
              <a:t>РЫБА –МОЛО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Monotype Corsiva"/>
              </a:rPr>
              <a:t>РЫБА-ПИЛ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Monotype Corsiva"/>
              </a:rPr>
              <a:t>МОРСКАЯ ЗВЕЗД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ull dir="rd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ru-RU" sz="5000" spc="-1" strike="noStrike">
                <a:solidFill>
                  <a:srgbClr val="14de2c"/>
                </a:solidFill>
                <a:latin typeface="Monotype Corsiva"/>
              </a:rPr>
              <a:t>ЗАГАДКИ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Содержимое 3" descr="рак.bmp"/>
          <p:cNvPicPr/>
          <p:nvPr/>
        </p:nvPicPr>
        <p:blipFill>
          <a:blip r:embed="rId1"/>
          <a:stretch/>
        </p:blipFill>
        <p:spPr>
          <a:xfrm>
            <a:off x="500040" y="1571760"/>
            <a:ext cx="8072640" cy="4752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755640" y="237960"/>
            <a:ext cx="7907400" cy="2627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00720" y="2142720"/>
            <a:ext cx="4000320" cy="50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00"/>
                </a:solidFill>
                <a:latin typeface="Constantia"/>
              </a:rPr>
              <a:t>В. АСТАФЬЕВА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428760" y="2571840"/>
            <a:ext cx="8429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2bd8"/>
                </a:solidFill>
                <a:latin typeface="Monotype Corsiva"/>
              </a:rPr>
              <a:t>План 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Какие организмы обитают в морях и океан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Образ жизни обитателей морей и оке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Как питаются  жители морей и океан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Нужна ли животным и растениям океанов и морей помощ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Monotype Corsiva"/>
              </a:rPr>
              <a:t>Виктор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ак плывут они красиво-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чень быстро и игриво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ам показывают спин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з морской воды …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Дельфины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Содержимое 3" descr="d_516.bmp"/>
          <p:cNvPicPr/>
          <p:nvPr/>
        </p:nvPicPr>
        <p:blipFill>
          <a:blip r:embed="rId1"/>
          <a:stretch/>
        </p:blipFill>
        <p:spPr>
          <a:xfrm>
            <a:off x="928800" y="1785960"/>
            <a:ext cx="735804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drumroll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то же в мор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каменной рубахе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каменной рубах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море … 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         </a:t>
            </a: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Черепахи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Содержимое 3" descr="черепаххи.bmp"/>
          <p:cNvPicPr/>
          <p:nvPr/>
        </p:nvPicPr>
        <p:blipFill>
          <a:blip r:embed="rId1"/>
          <a:stretch/>
        </p:blipFill>
        <p:spPr>
          <a:xfrm>
            <a:off x="714240" y="1143000"/>
            <a:ext cx="7358040" cy="4987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drumroll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Ты со мною не знаком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Я живу на дне морском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Голова и восемь ног-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от и весь я -… 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</a:t>
            </a: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Осминог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Содержимое 3" descr="b5g0242i.bmp"/>
          <p:cNvPicPr/>
          <p:nvPr/>
        </p:nvPicPr>
        <p:blipFill>
          <a:blip r:embed="rId1"/>
          <a:stretch/>
        </p:blipFill>
        <p:spPr>
          <a:xfrm>
            <a:off x="571680" y="1571760"/>
            <a:ext cx="785808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drumroll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Для неё  волна-качели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 плывет она без цел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иоткуда в никуда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ся прозрачна как вода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Медуз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Содержимое 3" descr="медуза.bmp"/>
          <p:cNvPicPr/>
          <p:nvPr/>
        </p:nvPicPr>
        <p:blipFill>
          <a:blip r:embed="rId1"/>
          <a:stretch/>
        </p:blipFill>
        <p:spPr>
          <a:xfrm>
            <a:off x="500040" y="1428840"/>
            <a:ext cx="792972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drumroll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Глубоко на дне он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Словно на небе видн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о не светит и не греет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тому что не умеет…  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</a:t>
            </a:r>
            <a:r>
              <a:rPr b="0" lang="ru-RU" sz="5000" spc="-1" strike="noStrike">
                <a:solidFill>
                  <a:srgbClr val="000000"/>
                </a:solidFill>
                <a:latin typeface="Monotype Corsiva"/>
              </a:rPr>
              <a:t>Морская звезд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Содержимое 3" descr="b5g0204.bmp"/>
          <p:cNvPicPr/>
          <p:nvPr/>
        </p:nvPicPr>
        <p:blipFill>
          <a:blip r:embed="rId1"/>
          <a:stretch/>
        </p:blipFill>
        <p:spPr>
          <a:xfrm>
            <a:off x="1143000" y="1785960"/>
            <a:ext cx="6858000" cy="4389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Дельфины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Тело обтекаемой формы, плавают с помощью хвоста , напоминающего плавник. По скорости не уступают акулам . В основном  питаются рыбой и кальмарами. Самые большие дельфины-касатки  могут охотиться на тюлений и других   дельфин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Содержимое 7" descr="d_515.bmp"/>
          <p:cNvPicPr/>
          <p:nvPr/>
        </p:nvPicPr>
        <p:blipFill>
          <a:blip r:embed="rId1"/>
          <a:stretch/>
        </p:blipFill>
        <p:spPr>
          <a:xfrm>
            <a:off x="4500720" y="1143000"/>
            <a:ext cx="4143240" cy="4429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347760" y="701640"/>
            <a:ext cx="8424720" cy="1150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Monotype Corsiva"/>
              </a:rPr>
              <a:t>Большая энциклопедия   Кирилла  и Мефод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57280" y="0"/>
            <a:ext cx="3329280" cy="106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Дельфины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4" descr="d_516.bmp"/>
          <p:cNvPicPr/>
          <p:nvPr/>
        </p:nvPicPr>
        <p:blipFill>
          <a:blip r:embed="rId1"/>
          <a:stretch/>
        </p:blipFill>
        <p:spPr>
          <a:xfrm>
            <a:off x="285840" y="1143000"/>
            <a:ext cx="4038480" cy="471492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5" descr="d00061.bmp"/>
          <p:cNvPicPr/>
          <p:nvPr/>
        </p:nvPicPr>
        <p:blipFill>
          <a:blip r:embed="rId2"/>
          <a:stretch/>
        </p:blipFill>
        <p:spPr>
          <a:xfrm>
            <a:off x="4714920" y="1214280"/>
            <a:ext cx="385776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Рыба-клоун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Правильное название  оранжевая  или  актиниевая рыба-клоун. Живёт между щупальцами актиний , обитающих  на рифах. От ожогов  актинии её защищает толстые слизи и Волнообразные движения . В свою очередь рыбка очищает актинию  от мусора.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Содержимое 4" descr="r00064.bmp"/>
          <p:cNvPicPr/>
          <p:nvPr/>
        </p:nvPicPr>
        <p:blipFill>
          <a:blip r:embed="rId1"/>
          <a:stretch/>
        </p:blipFill>
        <p:spPr>
          <a:xfrm>
            <a:off x="4648320" y="1500120"/>
            <a:ext cx="4038480" cy="43578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99840" y="-360"/>
            <a:ext cx="397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Морская звезда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28400" y="1599840"/>
            <a:ext cx="40669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рская звезда тип  беспозвоночных  животных  возникли в докемрии . Длина от нескольких   мм до  1 м, редко  более(некоторые ископаемые – 20м). У иглокожих  вторично радиально-симметричное строение тела, скелет известковый ;  имеется  отсутствующая у других животных амбулакральная (водно-сосудистая) система ,  служащая для выделения и осяз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Содержимое 4" descr="b5g0204.bmp"/>
          <p:cNvPicPr/>
          <p:nvPr/>
        </p:nvPicPr>
        <p:blipFill>
          <a:blip r:embed="rId1"/>
          <a:stretch/>
        </p:blipFill>
        <p:spPr>
          <a:xfrm>
            <a:off x="4143240" y="1214280"/>
            <a:ext cx="47149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3920" y="214200"/>
            <a:ext cx="5572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Monotype Corsiva"/>
              </a:rPr>
              <a:t>Вымпельный щетинозуб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9680" y="1213920"/>
            <a:ext cx="47862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ымпельный щетинозуб -типичный обитатель коралловых  рифов , относящихся к группе родов рыб – бабочек  из семейства щетинозубов.  Встречается в Красном море и в Индийско –Тихоокеанском регионе .Имеет латерально уплощенное  тело длиной 15 см , высота которого превышает длину . Своё название вымпельные рыбы- бабочки  получили из – за  характерного строения четвёртого луча спинного  плавника , который  сильно удлинен и переходит в длинную мягкую нит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Содержимое 4" descr="r00063.bmp"/>
          <p:cNvPicPr/>
          <p:nvPr/>
        </p:nvPicPr>
        <p:blipFill>
          <a:blip r:embed="rId1"/>
          <a:stretch/>
        </p:blipFill>
        <p:spPr>
          <a:xfrm>
            <a:off x="5286240" y="1357200"/>
            <a:ext cx="357192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Вымпельный щетинозу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4" descr="r00062.bmp"/>
          <p:cNvPicPr/>
          <p:nvPr/>
        </p:nvPicPr>
        <p:blipFill>
          <a:blip r:embed="rId1"/>
          <a:stretch/>
        </p:blipFill>
        <p:spPr>
          <a:xfrm>
            <a:off x="357120" y="1857240"/>
            <a:ext cx="4286160" cy="4500720"/>
          </a:xfrm>
          <a:prstGeom prst="rect">
            <a:avLst/>
          </a:prstGeom>
          <a:ln w="0">
            <a:noFill/>
          </a:ln>
        </p:spPr>
      </p:pic>
      <p:pic>
        <p:nvPicPr>
          <p:cNvPr id="217" name="Содержимое 5" descr="rif_09.bmp"/>
          <p:cNvPicPr/>
          <p:nvPr/>
        </p:nvPicPr>
        <p:blipFill>
          <a:blip r:embed="rId2"/>
          <a:stretch/>
        </p:blipFill>
        <p:spPr>
          <a:xfrm>
            <a:off x="4648320" y="1857240"/>
            <a:ext cx="420984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         </a:t>
            </a:r>
            <a:r>
              <a:rPr b="0" lang="ru-RU" sz="5000" spc="-1" strike="noStrike">
                <a:solidFill>
                  <a:srgbClr val="04617b"/>
                </a:solidFill>
                <a:latin typeface="Monotype Corsiva"/>
              </a:rPr>
              <a:t>Морская коров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Monotype Corsiva"/>
              </a:rPr>
              <a:t>Морская корова – морские млекопитающие отряда сирен, полностью истреблённое людьми в период с 1741 по 1768 год. В позднем плиоцене эти животные  были , по – видимому , широко распространены вдоль  всего северного побережья Тихого океана. Однажды их ареал резко сократился ,  и к 1741 году  морские коровы обитали лишь у  Командорских  островов ,  причём только в тех их частях , где в море впадали  многочисленные речки и ручьи . Морские коровы занесены в Красную  книг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plus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46:55Z</dcterms:created>
  <dc:creator>лизунок</dc:creator>
  <dc:description/>
  <dc:language>en-US</dc:language>
  <cp:lastModifiedBy>1</cp:lastModifiedBy>
  <dcterms:modified xsi:type="dcterms:W3CDTF">2012-07-30T08:49:41Z</dcterms:modified>
  <cp:revision>58</cp:revision>
  <dc:subject/>
  <dc:title>Творческий проект на тему: «Обитатели  океанов и морей»</dc:title>
</cp:coreProperties>
</file>