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media/drumroll.wav" ContentType="audio/x-wav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CF9-53D1-490C-A30A-697C07FB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EF9-5EC2-4432-AA19-6F562285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915-09F7-4B87-89F5-06598F33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452-07C0-42B0-BB15-473FC62A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5F61-6462-4DED-AF3B-2E31FAD1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01A3-8446-41EC-991E-A7172684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35F-F5A0-47A5-8705-8FCF5DF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73C-1E8E-4D89-B0D5-D4EC90E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B1D9-CA2A-42B6-BA54-626D115F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810D-3C57-4821-A8ED-532399FB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BC41-99E6-4783-BE14-B332770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EF1-6B21-466A-A39B-9099181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76AD-6904-41EF-B0A2-4856DD3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8DC-A045-460D-8B36-0CA404C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DC52-5FE5-4FD0-AA82-58F9AF8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EFA-9B88-4299-806B-610A5174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24B-A2B2-4DF6-80B2-863966B7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57C4-51BC-4CD5-A7B0-1952E864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D032-96C2-49AF-834A-E151CBF7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2064-DCC0-45C3-ACF6-8C8E103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B7DB-4A0F-43A4-A66E-CBB36B03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501E-F79A-4447-8EB1-30C5069D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B2D-4F9E-49F3-8A5C-81BFC13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41ED-D7B1-428E-A0CB-1078212E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148E-4E5D-4BEE-82C0-89184BE7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564C-F624-406D-BC2B-CDB1E17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8A65-64EB-47C1-B904-52F4C57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2A97-DC6E-4DE2-8B19-2F16D7D6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484A-08DF-4E60-A8AC-3B349BDB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7F5D-19A8-4880-A09E-6A8E2D3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B369-33BB-43DA-A9C4-FAFD46C5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5F4B-96C5-4B55-85B6-759BA37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6DB1-BE84-4B6E-8795-3ADE953A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5CB-8E71-4227-84E4-34694FA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A0D9-D4D1-42D1-B0A6-21F1236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D153-9AB1-4E4D-A16E-46263E7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C63A-153C-435E-9668-DD4158B4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2633-42E2-40EE-B49A-E673F16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9B46-2507-4628-BF15-DEBB703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532A-FBD2-4457-92E9-4E09FF3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88DD-0CAF-4798-955F-B31B169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6CEC-77C8-4CB5-8B21-AF7BB13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CE95-9F0D-4EB2-9F00-8E2413A7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DE1-45CF-4E48-86C4-CE593A19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489-B597-4210-BC2F-DE214657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372-B09F-4A2A-B88B-5DCD2EE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D9A-9A3E-4532-8DC2-06DFE0E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89C-C995-434D-9BAD-4C377B8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572-0A68-4DC5-A23A-5949CEEBF6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5B3-2CE0-4AEF-8EA3-33442D909C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F222-1F57-4DD6-9E95-6E7DB57C26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EFB-61A8-4152-9710-0B95631EF2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70000" y="-249120"/>
            <a:ext cx="7577280" cy="3717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760" y="4214520"/>
            <a:ext cx="80438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Выполнила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ученица 3 «В» класса  МБОУ «Гимназия №1 города Новопавловска» Ткачева Елизавет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ff0070"/>
                </a:solidFill>
                <a:latin typeface="Monotype Corsiva"/>
              </a:rPr>
              <a:t>           </a:t>
            </a:r>
            <a:r>
              <a:rPr b="0" lang="ru-RU" sz="5000" spc="-1" strike="noStrike">
                <a:solidFill>
                  <a:srgbClr val="ff0070"/>
                </a:solidFill>
                <a:latin typeface="Monotype Corsiva"/>
              </a:rPr>
              <a:t>Виктор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черепаха.bmp"/>
          <p:cNvPicPr/>
          <p:nvPr/>
        </p:nvPicPr>
        <p:blipFill>
          <a:blip r:embed="rId1"/>
          <a:stretch/>
        </p:blipFill>
        <p:spPr>
          <a:xfrm>
            <a:off x="785880" y="1928880"/>
            <a:ext cx="73580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2bd8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. Самая быстрая рыба ?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Парусник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Аку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Касат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40096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.Самое крупное млекопитающее?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Синий ки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Розовый дельф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Рыба - клоу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3. Самая крупная рыб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Китовая аку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Осмино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Молото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4. Самая кровожадная рыб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Пирань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Краб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Морская звез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Monotype Corsiva"/>
              </a:rPr>
              <a:t>5.Какой длины новорожденный китенок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 100 к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8 метр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2000 с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34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Monotype Corsiva"/>
              </a:rPr>
              <a:t>6. С помощью чего общаются дельфин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язы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высокочастотных звук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вод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8. Чем защищается ёрш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 колючками на плавник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собако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мечё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7030a0"/>
                </a:solidFill>
                <a:latin typeface="Monotype Corsiva"/>
              </a:rPr>
              <a:t>Третий лишний.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СМИНОГ                                        РЫБА-КЛОУ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РЫБА –МОЛО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РЫБА-ПИ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МОРСКАЯ ЗВЕЗ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d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5000" spc="-1" strike="noStrike">
                <a:solidFill>
                  <a:srgbClr val="14de2c"/>
                </a:solidFill>
                <a:latin typeface="Monotype Corsiva"/>
              </a:rPr>
              <a:t>ЗАГАДК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рак.bmp"/>
          <p:cNvPicPr/>
          <p:nvPr/>
        </p:nvPicPr>
        <p:blipFill>
          <a:blip r:embed="rId1"/>
          <a:stretch/>
        </p:blipFill>
        <p:spPr>
          <a:xfrm>
            <a:off x="500040" y="1571760"/>
            <a:ext cx="807264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55640" y="237960"/>
            <a:ext cx="7907400" cy="262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00720" y="2142720"/>
            <a:ext cx="40003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Constantia"/>
              </a:rPr>
              <a:t>В. АСТАФЬЕВА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428760" y="2571840"/>
            <a:ext cx="84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2bd8"/>
                </a:solidFill>
                <a:latin typeface="Monotype Corsiva"/>
              </a:rPr>
              <a:t>План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акие организмы обитают в морях и океа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Образ жизни обитателей морей и оке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ак питаются  жители морей и океа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Нужна ли животным и растениям океанов и морей помощ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Викто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к плывут они красиво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чень быстро и игриво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м показывают спи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морской воды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Дельфин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d_516.bmp"/>
          <p:cNvPicPr/>
          <p:nvPr/>
        </p:nvPicPr>
        <p:blipFill>
          <a:blip r:embed="rId1"/>
          <a:stretch/>
        </p:blipFill>
        <p:spPr>
          <a:xfrm>
            <a:off x="928800" y="1785960"/>
            <a:ext cx="73580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то же в мор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каменной рубахе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каменной рубах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море 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Черепах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Содержимое 3" descr="черепаххи.bmp"/>
          <p:cNvPicPr/>
          <p:nvPr/>
        </p:nvPicPr>
        <p:blipFill>
          <a:blip r:embed="rId1"/>
          <a:stretch/>
        </p:blipFill>
        <p:spPr>
          <a:xfrm>
            <a:off x="714240" y="1143000"/>
            <a:ext cx="7358040" cy="4987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ы со мною не знако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Я живу на дне морском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олова и восемь ног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от и весь я -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Осмино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b5g0242i.bmp"/>
          <p:cNvPicPr/>
          <p:nvPr/>
        </p:nvPicPr>
        <p:blipFill>
          <a:blip r:embed="rId1"/>
          <a:stretch/>
        </p:blipFill>
        <p:spPr>
          <a:xfrm>
            <a:off x="571680" y="1571760"/>
            <a:ext cx="78580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ля неё  волна-качели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плывет она без цел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откуда в никуда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ся прозрачна как вод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Медуз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3" descr="медуза.bmp"/>
          <p:cNvPicPr/>
          <p:nvPr/>
        </p:nvPicPr>
        <p:blipFill>
          <a:blip r:embed="rId1"/>
          <a:stretch/>
        </p:blipFill>
        <p:spPr>
          <a:xfrm>
            <a:off x="500040" y="1428840"/>
            <a:ext cx="79297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лубоко на дне о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ловно на небе вид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о не светит и не греет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тому что не умеет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Морская звезд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b5g0204.bmp"/>
          <p:cNvPicPr/>
          <p:nvPr/>
        </p:nvPicPr>
        <p:blipFill>
          <a:blip r:embed="rId1"/>
          <a:stretch/>
        </p:blipFill>
        <p:spPr>
          <a:xfrm>
            <a:off x="1143000" y="1785960"/>
            <a:ext cx="68580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Дельфин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ело обтекаемой формы, плавают с помощью хвоста , напоминающего плавник. По скорости не уступают акулам . В основном  питаются рыбой и кальмарами. Самые большие дельфины-касатки  могут охотиться на тюлений и других   дельфи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Содержимое 7" descr="d_515.bmp"/>
          <p:cNvPicPr/>
          <p:nvPr/>
        </p:nvPicPr>
        <p:blipFill>
          <a:blip r:embed="rId1"/>
          <a:stretch/>
        </p:blipFill>
        <p:spPr>
          <a:xfrm>
            <a:off x="4500720" y="1143000"/>
            <a:ext cx="41432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347760" y="701640"/>
            <a:ext cx="842472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Monotype Corsiva"/>
              </a:rPr>
              <a:t>Большая энциклопедия   Кирилла  и Мефод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33292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Дельфин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d_516.bmp"/>
          <p:cNvPicPr/>
          <p:nvPr/>
        </p:nvPicPr>
        <p:blipFill>
          <a:blip r:embed="rId1"/>
          <a:stretch/>
        </p:blipFill>
        <p:spPr>
          <a:xfrm>
            <a:off x="285840" y="1143000"/>
            <a:ext cx="4038480" cy="47149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5" descr="d00061.bmp"/>
          <p:cNvPicPr/>
          <p:nvPr/>
        </p:nvPicPr>
        <p:blipFill>
          <a:blip r:embed="rId2"/>
          <a:stretch/>
        </p:blipFill>
        <p:spPr>
          <a:xfrm>
            <a:off x="4714920" y="1214280"/>
            <a:ext cx="385776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Рыба-клоун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равильное название  оранжевая  или  актиниевая рыба-клоун. Живёт между щупальцами актиний , обитающих  на рифах. От ожогов  актинии её защищает толстые слизи и Волнообразные движения . В свою очередь рыбка очищает актинию  от мусора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r00064.bmp"/>
          <p:cNvPicPr/>
          <p:nvPr/>
        </p:nvPicPr>
        <p:blipFill>
          <a:blip r:embed="rId1"/>
          <a:stretch/>
        </p:blipFill>
        <p:spPr>
          <a:xfrm>
            <a:off x="4648320" y="1500120"/>
            <a:ext cx="403848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397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Морская звезда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400" y="1599840"/>
            <a:ext cx="40669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рская звезда тип  беспозвоночных  животных  возникли в докемрии . Длина от нескольких   мм до  1 м, редко  более(некоторые ископаемые – 20м). У иглокожих  вторично радиально-симметричное строение тела, скелет известковый ;  имеется  отсутствующая у других животных амбулакральная (водно-сосудистая) система ,  служащая для выделения и осяз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Содержимое 4" descr="b5g0204.bmp"/>
          <p:cNvPicPr/>
          <p:nvPr/>
        </p:nvPicPr>
        <p:blipFill>
          <a:blip r:embed="rId1"/>
          <a:stretch/>
        </p:blipFill>
        <p:spPr>
          <a:xfrm>
            <a:off x="4143240" y="1214280"/>
            <a:ext cx="47149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5572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Monotype Corsiva"/>
              </a:rPr>
              <a:t>Вымпельный щетинозуб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9680" y="1213920"/>
            <a:ext cx="4786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мпельный щетинозуб -типичный обитатель коралловых  рифов , относящихся к группе родов рыб – бабочек  из семейства щетинозубов.  Встречается в Красном море и в Индийско –Тихоокеанском регионе .Имеет латерально уплощенное  тело длиной 15 см , высота которого превышает длину . Своё название вымпельные рыбы- бабочки  получили из – за  характерного строения четвёртого луча спинного  плавника , который  сильно удлинен и переходит в длинную мягкую н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r00063.bmp"/>
          <p:cNvPicPr/>
          <p:nvPr/>
        </p:nvPicPr>
        <p:blipFill>
          <a:blip r:embed="rId1"/>
          <a:stretch/>
        </p:blipFill>
        <p:spPr>
          <a:xfrm>
            <a:off x="5286240" y="1357200"/>
            <a:ext cx="357192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Вымпельный щетинозу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4" descr="r00062.bmp"/>
          <p:cNvPicPr/>
          <p:nvPr/>
        </p:nvPicPr>
        <p:blipFill>
          <a:blip r:embed="rId1"/>
          <a:stretch/>
        </p:blipFill>
        <p:spPr>
          <a:xfrm>
            <a:off x="357120" y="1857240"/>
            <a:ext cx="4286160" cy="450072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5" descr="rif_09.bmp"/>
          <p:cNvPicPr/>
          <p:nvPr/>
        </p:nvPicPr>
        <p:blipFill>
          <a:blip r:embed="rId2"/>
          <a:stretch/>
        </p:blipFill>
        <p:spPr>
          <a:xfrm>
            <a:off x="4648320" y="1857240"/>
            <a:ext cx="420984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Морская коров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орская корова – морские млекопитающие отряда сирен, полностью истреблённое людьми в период с 1741 по 1768 год. В позднем плиоцене эти животные  были , по – видимому , широко распространены вдоль  всего северного побережья Тихого океана. Однажды их ареал резко сократился ,  и к 1741 году  морские коровы обитали лишь у  Командорских  островов ,  причём только в тех их частях , где в море впадали  многочисленные речки и ручьи . Морские коровы занесены в Красную  кни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lus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6:55Z</dcterms:created>
  <dc:creator>лизунок</dc:creator>
  <dc:description/>
  <dc:language>en-US</dc:language>
  <cp:lastModifiedBy>1</cp:lastModifiedBy>
  <dcterms:modified xsi:type="dcterms:W3CDTF">2012-07-30T08:49:41Z</dcterms:modified>
  <cp:revision>58</cp:revision>
  <dc:subject/>
  <dc:title>Творческий проект на тему: «Обитатели  океанов и морей»</dc:title>
</cp:coreProperties>
</file>