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BF9-25C3-4058-8B06-B558C663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6AE-0AFF-4D9E-932E-52FFB65B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20A-05DB-4F8D-A8A8-C60C75AB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3D8-F28F-4640-BB62-948052A4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09E5-ED43-4246-AB9F-43C7A522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FA34-EF0E-46EB-B30A-F185B3B6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9AB9-C731-4272-8C22-503413FC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9DE0-1397-4E47-AE57-CDCB68B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FC3-8142-4E76-9857-60A4A0E0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39F3-1CFF-4B16-A03B-612F917E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7A88-E7BB-45B9-9666-347D466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F12-571C-4F38-8E26-328CFE61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B0CA-3F62-4586-9B37-0C4A7F5D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4B17-C0CD-408F-9B15-43C8F5F1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2B25-1789-4282-967F-21847B1E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97B6-06E2-4F23-8F31-676BE9C6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B9FD-DFD0-4D50-AAE6-D4381FCA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693-030E-4CE2-B36E-CED3BE45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66C-2224-4009-8674-B48B9CE4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878-FC63-4680-9B5E-06A38291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1AD-988F-4EC5-95DF-1A046927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0ED-A388-4E9E-951B-AD780AF4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5EF-63EC-47ED-BBB2-EF30BBF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F2D-1EE9-449A-928C-421D656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2141-6D1D-45FF-A4CA-6832831D36A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465-9BF0-4410-AAD6-B0516C64213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2514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Verdana"/>
              </a:rPr>
              <a:t>ВСЁ О ДИКИХ ЖИВОТНЫХ НАШЕГО ЛЕСА.</a:t>
            </a:r>
            <a:endParaRPr b="1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038120" y="5105160"/>
            <a:ext cx="4699080" cy="1181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Подготовила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Логопед МБДОУ д/с «Ягодка»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Андреева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М.С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rot="21099600">
            <a:off x="108000" y="3735000"/>
            <a:ext cx="3276720" cy="3063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flipH="1" rot="20614800">
            <a:off x="6775200" y="32320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7620120" cy="598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19320" y="1004760"/>
            <a:ext cx="7772400" cy="566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95280" y="858960"/>
            <a:ext cx="7696440" cy="582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785880"/>
            <a:ext cx="7696440" cy="591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785880"/>
            <a:ext cx="7696440" cy="591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696440" cy="582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696440" cy="5918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696440" cy="577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95280" y="9334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520" y="380880"/>
            <a:ext cx="5881680" cy="2438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ЧЕМ ПИТАЮТСЯ ДИКИЕ ЖИВОТНЫЕ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859120" cy="4290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284148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97164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744480"/>
            <a:ext cx="7696440" cy="592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7696080" cy="5924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7:58:35Z</dcterms:created>
  <dc:creator>Администратор</dc:creator>
  <dc:description/>
  <dc:language>en-US</dc:language>
  <cp:lastModifiedBy>DNA7 X86</cp:lastModifiedBy>
  <dcterms:modified xsi:type="dcterms:W3CDTF">2012-07-30T18:14:24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