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364-F17E-4014-97A7-4F965485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310-48A6-4A07-9474-C466D502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8DE-2974-4F93-9C8D-12635166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7D7-3843-4C91-BA6A-1C6B973F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61A1-5F40-4952-8DC7-8F459A19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5ED-2A82-4780-9863-3CA10DDA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AED1-7193-4D0F-B4B5-9089BCA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20E5-271E-4135-B032-0EF35C1B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9ED-2506-4885-8CEA-D53F8669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1F53-E657-4B97-A915-BC043E20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4D86-5C11-4B3D-990E-BEB1CE82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0B1-7E54-4B47-975F-D6FB37F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C538-C6B2-4728-B698-DDC545AE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E7CD-D2FB-448B-8A6B-8B0EE6BD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D4EE-C1EA-42B0-BBF8-276998D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F6FE-2B6E-4EBB-B51F-DE916C6A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547B-8B0C-41D1-9D92-05DD2C59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B1D-68A3-4440-A091-ED1F2547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339-C419-4697-8C4D-9B825895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540-351C-4C36-97A2-EF977E80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A8E-BE68-4950-A1D8-9ED4840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94C-3B76-45EF-88A8-2A9E13AD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3F7-96FB-4508-A594-04374EE5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7E0-705B-4432-8789-98DDB7DD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264-FE2C-4B05-B78B-E5C236E8C07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A997-39B6-4490-9364-393B4B8AE74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2514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Verdana"/>
              </a:rPr>
              <a:t>ВСЁ О ДИКИХ ЖИВОТНЫХ НАШЕГО ЛЕСА.</a:t>
            </a:r>
            <a:endParaRPr b="1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038120" y="5105160"/>
            <a:ext cx="4699080" cy="1181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Подготовила: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Логопед МБДОУ д/с «Ягодка»</a:t>
            </a:r>
            <a:endParaRPr b="1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Андреева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 М.С.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 rot="21099600">
            <a:off x="108000" y="3735000"/>
            <a:ext cx="3276720" cy="3063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 flipH="1" rot="20614800">
            <a:off x="6775200" y="3232080"/>
            <a:ext cx="205740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620120" cy="5981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219320" y="1004760"/>
            <a:ext cx="7772400" cy="566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858960"/>
            <a:ext cx="7696440" cy="582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95280" y="785880"/>
            <a:ext cx="769644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785880"/>
            <a:ext cx="7696440" cy="5919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96440" cy="582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96440" cy="5918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96440" cy="577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95280" y="9334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5881680" cy="2438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ЧЕМ ПИТАЮТСЯ ДИКИЕ ЖИВОТНЫ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859120" cy="4290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284148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97164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744480"/>
            <a:ext cx="7696440" cy="592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696080" cy="592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7:58:35Z</dcterms:created>
  <dc:creator>Администратор</dc:creator>
  <dc:description/>
  <dc:language>en-US</dc:language>
  <cp:lastModifiedBy>DNA7 X86</cp:lastModifiedBy>
  <dcterms:modified xsi:type="dcterms:W3CDTF">2012-07-30T18:14:24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