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9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D172-4686-452F-A249-500DB9EB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18E-C080-44E8-8E53-794B7189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9A6-0A4E-4A10-954B-470A97AE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DE7-D24D-494C-A324-B14DF04E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9B67-C6CB-400F-88BB-6161CCB2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7907-93CF-4CF5-A889-E7581D64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AA27-5D59-4CE8-8E3F-66A0C66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DE95-27A8-433F-90D6-30EECEB4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F3E-2781-4691-A278-C1F04FA0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D065-7506-47BF-A34E-E3D202C9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FD5E-04A2-4280-B7B6-4F11396C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1C7-3F3B-49CE-B7A3-8D38F67B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5C67-FA44-47B5-9B55-5BBA37BC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1D04-E020-4339-B79E-54B290D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9C4F-C8E2-4EA3-8AC9-A435060E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0103-5FF6-4A2B-ACE2-03BCFB86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9951-43D0-4950-8B16-59C2FB97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9FF-3C16-4040-947A-2337AE09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899-AE98-4AD3-A352-D4C5DC46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968-E3F0-45F0-9F7D-3417AEAF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232-0BAA-4D05-BA41-0F359880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5AF-8026-4E81-B3AB-61D62E88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7A2-069A-4B24-A1EC-7F58E7C0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838-D718-4964-A42B-5D37AE8D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DDEA-7F7D-47EA-916C-E2533E9BD5C8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CED2-3F42-4E51-A2F3-1C38AFFA3E9D}" type="slidenum">
              <a:rPr b="0" lang="ru-RU" sz="1200" spc="-1" strike="noStrike">
                <a:solidFill>
                  <a:srgbClr val="bcbcbc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1079640" y="219240"/>
            <a:ext cx="877068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0" y="3499920"/>
            <a:ext cx="438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изнь, творчество, лич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1891 – 194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Увеличить"/>
          <p:cNvPicPr/>
          <p:nvPr/>
        </p:nvPicPr>
        <p:blipFill>
          <a:blip r:embed="rId2"/>
          <a:stretch/>
        </p:blipFill>
        <p:spPr>
          <a:xfrm>
            <a:off x="88920" y="1413000"/>
            <a:ext cx="4083120" cy="52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33440" y="122400"/>
            <a:ext cx="8485200" cy="1676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116000" y="2060640"/>
            <a:ext cx="7478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ru-RU" sz="1700" spc="-1" strike="noStrike">
                <a:solidFill>
                  <a:srgbClr val="ed7d27"/>
                </a:solidFill>
                <a:latin typeface="Times New Roman"/>
              </a:rPr>
              <a:t>"Давно собираюсь написать тебе, но не в силах в письме изложить тебе всю эпопею, которую я пережила в эту зиму: Миша совершенно измочалил меня... В результате я должна предоставить ему самому пережить все последствия своего безумного шага: 26 апреля предполагается его свадьба. Дела стоят так, что все равно они повенчались бы, только со скандалом и с разрывом с родными; так я решила устроить лучше все без скандала. Пошла к о. Александру Александровичу (можешь представить, как Миша с Тасей меня выпроваживали поскорее на этот визит!), поговорила с ним откровенно, и он сказал, что лучше, конечно, повенчать их, что "Бог устроит все к лучшему"... Если бы я могла надеяться на хороший результат этого брака; а то я, к сожалению, никаких данных с обеих сторон к каким бы то ни было надеждам не вижу, и это меня приводит в ужас. Александр Александрович искренне сочувствовал мне, и мне стало легче после разговора с ним... Потом Миша был у него; он, конечно, старался обратить Мишино внимание на всю серьезность этого шага (а Мише его слова как с гуся вода!), призывал Божье благословение на это дело..."</a:t>
            </a:r>
            <a:r>
              <a:rPr b="0" lang="ru-RU" sz="1700" spc="-1" strike="noStrike">
                <a:solidFill>
                  <a:srgbClr val="ed7d27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000" y="1988640"/>
            <a:ext cx="8218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"Студентом Михаил женился. Его жена была Татьяна Николаевна Лаппа, Тася, дочь управляющего Саратовской казенной палатой, девица со средствами. Михаил хорошо прожил на средства жены последние три года студенчества как в Киеве, так и в Саратове... Своих средств у Михаила не было... Тася не была красива, но была очень хорошей женщиной, тихой и любящей женой, худенькой и незаметной. Детей у их не было. Это было категорическое условие Михаила...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324000" y="549360"/>
            <a:ext cx="84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465e9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з воспоминаний Леонида Сергеевича Карума:</a:t>
            </a:r>
            <a:endParaRPr b="0" lang="en-US" sz="1800" spc="1" strike="noStrike">
              <a:ln w="0">
                <a:noFill/>
              </a:ln>
              <a:solidFill>
                <a:srgbClr val="465e9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51_diplom"/>
          <p:cNvPicPr/>
          <p:nvPr/>
        </p:nvPicPr>
        <p:blipFill>
          <a:blip r:embed="rId1"/>
          <a:stretch/>
        </p:blipFill>
        <p:spPr>
          <a:xfrm rot="1426200">
            <a:off x="4572000" y="1557360"/>
            <a:ext cx="3724200" cy="4508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78920" y="1341000"/>
            <a:ext cx="7931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воё медицинское образов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н скрывал до конца жиз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Увеличить"/>
          <p:cNvPicPr/>
          <p:nvPr/>
        </p:nvPicPr>
        <p:blipFill>
          <a:blip r:embed="rId2"/>
          <a:stretch/>
        </p:blipFill>
        <p:spPr>
          <a:xfrm rot="20595600">
            <a:off x="1168200" y="2419200"/>
            <a:ext cx="2735280" cy="396396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971640" y="333360"/>
            <a:ext cx="77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иплом Михаила Афанасьевич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952880" y="2362320"/>
            <a:ext cx="357840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…приехал без денег, без вещей в Москву с тем, чтобы остаться в ней навсегд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Из автобиограф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. А. Булгаков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345600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563640" y="1844640"/>
            <a:ext cx="497340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«Цилиндр мой я с голодухи на базар снёс. Но сердце и мозг не понесу на базар, хоть издохну»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Из книги «Записки на манжетах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717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Увеличить"/>
          <p:cNvPicPr/>
          <p:nvPr/>
        </p:nvPicPr>
        <p:blipFill>
          <a:blip r:embed="rId1"/>
          <a:stretch/>
        </p:blipFill>
        <p:spPr>
          <a:xfrm rot="20291400">
            <a:off x="1033560" y="2336760"/>
            <a:ext cx="2643120" cy="366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 rot="1090800">
            <a:off x="5292360" y="1773000"/>
            <a:ext cx="2795760" cy="414972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"/>
          <p:cNvSpPr txBox="1"/>
          <p:nvPr/>
        </p:nvSpPr>
        <p:spPr>
          <a:xfrm>
            <a:off x="611280" y="404640"/>
            <a:ext cx="79214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юбовь Евгеньевна Белозерская - 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торая жена Булгакова</a:t>
            </a:r>
            <a:endParaRPr b="1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55640" y="1988640"/>
            <a:ext cx="77724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200" spc="-1" strike="noStrike">
                <a:solidFill>
                  <a:srgbClr val="d83e2c"/>
                </a:solidFill>
                <a:latin typeface="Times New Roman"/>
              </a:rPr>
              <a:t>"Тут у Булгакова пошли "дела семейные"- появились новые интересы, ему стало не до меня. Ударил в нос успех! К тому времени вернулся из Берлина Василевский с женой своей … Любовью Евгеньевной, неглупая, практическая женщина, многое испытавшая на своем веку, оставившая в Германии свою "любовь", - Василевская приглядывалась ко всем мужчинам, которые могли бы помочь строить ее будущее. С мужем она была не в ладах. Булгаков подвернулся кстати. Через месяц-два все узнали, что Миша бросил Татьяну Николаевну и сошелся с Любовью Евгеньевной".</a:t>
            </a:r>
            <a:r>
              <a:rPr b="0" lang="ru-RU" sz="2200" spc="-1" strike="noStrike">
                <a:solidFill>
                  <a:srgbClr val="d83e2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1476360" y="549360"/>
            <a:ext cx="612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Из воспоминаний писателя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Юрия Слезкина: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374920" cy="3456000"/>
          </a:xfrm>
          <a:prstGeom prst="rect">
            <a:avLst/>
          </a:prstGeom>
          <a:ln w="0">
            <a:noFill/>
          </a:ln>
        </p:spPr>
      </p:pic>
      <p:pic>
        <p:nvPicPr>
          <p:cNvPr id="126" name="AutoShape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560320" y="2349360"/>
            <a:ext cx="640404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"Подавляет меня чувственно моя жена. Это и хорошо, и отчаянно, и сладко, и, в то же время, безнадежно сложно: я как раз сейчас хворый, а она для меня... Как заноза сидит... что чертова баба завязила меня; как пушку в болоте, важный вопрос. Но один, без нее, уже не мыслюсь. Видно привык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…</a:t>
            </a:r>
            <a:r>
              <a:rPr b="0" i="1" lang="ru-RU" sz="2000" spc="-1" strike="noStrike">
                <a:solidFill>
                  <a:srgbClr val="008000"/>
                </a:solidFill>
                <a:latin typeface="Times New Roman"/>
              </a:rPr>
              <a:t>Эта ужасно глупо при моих замыслах, но, кажется, я в нее влюблен. Одна мысль интересует меня. При всяком ли она приспособилась бы так же уютно, или это избирательно для меня?"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1835280" y="476280"/>
            <a:ext cx="655308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99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з дневника Булгакова: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solidFill>
                <a:srgbClr val="0099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469800" y="255600"/>
            <a:ext cx="8210520" cy="142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Я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обращаюсь к правительству со следующим письмом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осле того, как все мои произведения были запрещены, среди многих граждан, которым я известен как писатель, стали раздаваться голоса, подающие мне один и тот же совет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Сочинить «коммунистическую пьесу» (в кавычках я привожу цитаты), а кроме того, обратиться </a:t>
            </a:r>
            <a:r>
              <a:rPr b="0" i="1" lang="ru-RU" sz="1400" spc="-1" strike="noStrike">
                <a:solidFill>
                  <a:srgbClr val="663300"/>
                </a:solidFill>
                <a:latin typeface="Verdana"/>
              </a:rPr>
              <a:t>к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равительству СССР с покаянным письмом, содержащим в себе отказ от прежних моих взглядов, высказанных мною в литературных произведениях, и уверения в том, что отныне я буду работать как преданный идее коммунизма писатель-попутчик. Цель: спастись от гонений, нищеты и неизбежной гибели в финал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Этого совета я не послушался. Навряд ли мне удалось бы предстать перед Правительством СССР в выгодном свете, написав лживое письмо, представляющее собой неопрятный и к тому же наивный политический курбет. Попыток же сочинить коммунистическую пьесу я даже не производил, зная заведомо, что такая пьеса у меня не выйдет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Созревшее во мне желание прекратить мои писательские мучения заставляет меня обратиться к Правительству СССР с письмом правдивым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роизведя анализ моих альбомных вырезок, я обнаружил в прессе СССР за десять лет моей литературной работы 301 отзыв обо мне. Из них: похвальных — было 3, враждебно-ругательных — 2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Последние 298 представляют собой зеркальное отражение моей писательской жизни…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Verdana"/>
              </a:rPr>
              <a:t>Я прошу принять во внимание, что невозможность писать равносильна для меня погребению заживо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прошу правительство СССР приказать мне в срочном порядке покинуть пределы СССР  в сопровождении моей жены Любови Евгеньевны Булгаков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обращаюсь к гуманности советской власти и прошу меня, писателя, который не может быть полезен у себя, в отечестве, великодушно отпустить на своб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Если же и то, что я написал, неубедительно и меня обрекут на пожизненное молчание в СССР, я прошу Советское правительство дать мне работу по специальности и командировать меня в театр на работу в качестве штатного режиссер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именно точно и подчеркнуто прошу о КАТЕГОРИЧЕСКОМ ПРИКАЗЕ, О КОМАНДИРОВАНИИ, потому что все мои попытки найти работу в той единственной области, где я могу быть полезен в СССР, как исключительно квалифицированный специалист, потерпели полное фиаско. Мое имя сделано настолько одиозным, что предложения работы с моей стороны встретили ИСПУГ, несмотря на то, что в Москве громадному количеству актеров и режиссеров, а с ними вместе и директорам театров, отлично известно мое виртуозное знание сцен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предлагаю СССР совершенно честного, без всякой тени вредительства специалиста, режиссера и актера, который берется добросовестно ставить любую пьесу, начиная с шекспировских пьес и вплоть до пьес сегодняшнего дн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 прошу о назначении меня лаборантом-режиссером в 1-й Художественный Театр — в  лучшую школу, возглавляемую мастерами К. С. Станиславским и В. И. Немировичем-Дан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Если меня не назначат режиссером, я прошусь на штатную должность статиста. Если и статистом нельзя — я прошусь на должность рабочего сцен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             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Если же и это невозможно, я прошу советское Правительство поступить со мной, как оно найдет нужным, но как-нибудь поступить, потому что у меня, драматурга, написавшего 5 пьес, известного в СССР и за границей, налицо, В ДАННЫЙ МОМЕНТ, — нищета, улица, гибель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   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М. Булга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427640" y="2133720"/>
            <a:ext cx="411624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На широком поле словесности российской в СССР я был один-единственный литературный волк. Мне советовали выкрасить шкуру. Нелепый совет. Крашеный ли волк, стриженый ли волк, он всё равно не похож на пудел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Из письма И. В. Сталину, март 1930 г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794400" cy="5689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5076720" y="765000"/>
            <a:ext cx="302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пиграф:</a:t>
            </a:r>
            <a:endParaRPr b="1" lang="en-US" sz="1800" spc="1" strike="noStrike">
              <a:ln w="0">
                <a:noFill/>
              </a:ln>
              <a:solidFill>
                <a:srgbClr val="66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82692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Мы ваше письмо получили. Читали с товарищами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Вы будете по нему благоприятный ответ иметь. 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может быть, правда, вас пустить за границу? Что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мы вам очень надоел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улгаков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Я много думал в последние годы, может л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русский писатель жить без родины, и мн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кажется, что не может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Вы правы. Я тоже так думаю. Вы где хотит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работать? В Художественном театр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Булгаков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Да, я хотел бы, но я говорил об этом, м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отказа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талин:</a:t>
            </a: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А вы подайте заявление туда. Мне кажется, чт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они согласятся. Нам бы нужно встретитьс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              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поговорить с вами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186080" y="3535200"/>
            <a:ext cx="771840" cy="8384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3"/>
          <p:cNvSpPr txBox="1"/>
          <p:nvPr/>
        </p:nvSpPr>
        <p:spPr>
          <a:xfrm>
            <a:off x="539640" y="260280"/>
            <a:ext cx="799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Елена Сергеевна Булгакова -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act"/>
              </a:rPr>
              <a:t>третья жена Булгак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8920" y="1125000"/>
            <a:ext cx="8775720" cy="50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"Мы познакомились очень неожиданно. Я интересовалась им давно. С тех пор как прочитала «Роковые яйца» и «Белую гвардию». Я почувствовала, что это совершенно особый писатель, хотя литература 20-х годов у нас была очень талантлива. Необычайный взлет был у русской литературы. И среди всех был Булгаков, причем среди этого большого созвездия он стоял как-то в стороне по своей необычности, необычности темы, необычности языка, взгляда, юмора: всего того, что, собственно, определяет писател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Все это поразило мен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Я была женой генерал-лейтенанта Шиловского, прекрасного, благороднейшего человека. Была, что называется, счастливая семья: муж, занимающий высокое положение, двое прекрасных сыновей... Вообще все было хорошо. Но когда я встретила Булгакова случайно в одном доме, я поняла, что это моя судьба, несмотря на безумно трудную трагедию разрыва. Я пошла на все это, потому что без Булгакова для меня не было бы ни смысла жизни, ни оправдания ее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Это было в 29-м году в феврале, на масленую. Какие-то знакомые устроили блины. Ни я не хотела идти туда, ни Булгаков, который почему-то решил, что в этот дом он не будет ходить. Но получилось так, что эти люди сумели заинтересовать составом приглашенных и его, и меня. Ну, меня, конечно, его фамилия. В общем, мы встретились и были рядом. Это была быстрая, необычайно быстрая, во всяком случае с моей стороны, любовь на всю жизнь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           </a:t>
            </a:r>
            <a:r>
              <a:rPr b="0" i="1" lang="ru-RU" sz="1400" spc="-1" strike="noStrike">
                <a:solidFill>
                  <a:srgbClr val="003399"/>
                </a:solidFill>
                <a:latin typeface="Times New Roman"/>
              </a:rPr>
              <a:t>Потом наступили гораздо более трудные времена, когда мне было очень трудно уйти из дома именно из-за того, что муж был очень хорошим человеком, из-за того, что у нас была такая дружная семья. В первый раз я смалодушествовала и осталась, и я не видела Булгакова 20 месяцев, давши слово, что не приму ни одного письма, не подойду ни разу к телефону, не выйду одна на улицу. Но, очевидно, все-таки это была судьба. Потому что, когда я в первый раз вышла на улицу, я встретила его, и первая фраза, которую он сказал, было: «Я не могу без тебя жить». И я ответила: «И я тоже». И мы решили соединиться, несмотря ни на что. Но тогда же он мне сказал то, что, я не знаю почему, но приняла со смехом. Он мне сказал: «Дай мне слово, что умирать я буду у тебя на руках». Если представить, что это говорил человек неполных сорока лет, здоровый, с веселыми голубыми глазами, сияющий от счастья, то, конечно, это выглядело очень странно. И я, смеясь, сказала: «Конечно, конечно, ты будешь умирать у меня на...». Он сказал: «Я говорю очень серьезно, поклянись». И в результате я поклялась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WordArt 3"/>
          <p:cNvSpPr txBox="1"/>
          <p:nvPr/>
        </p:nvSpPr>
        <p:spPr>
          <a:xfrm>
            <a:off x="395280" y="260280"/>
            <a:ext cx="828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 воспоминаний Е. С. Булгаковой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ru-RU" sz="2800" spc="-1" strike="noStrike">
                <a:solidFill>
                  <a:srgbClr val="fda023"/>
                </a:solidFill>
                <a:latin typeface="Times New Roman"/>
              </a:rPr>
              <a:t>"Дорогой Евгений Александрович, я виделся с Еленой Сергеевной по ее вызову, и мы объяснились с нею. Мы любим друг друга так же, как любили раньше. И мы хотим пожениться".</a:t>
            </a:r>
            <a:r>
              <a:rPr b="0" lang="ru-RU" sz="2800" spc="-1" strike="noStrike">
                <a:solidFill>
                  <a:srgbClr val="fda02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333360" y="692280"/>
            <a:ext cx="881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рывок из письма Булгакова Шиловскому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74520" y="2122200"/>
            <a:ext cx="7196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imes New Roman"/>
              </a:rPr>
              <a:t>"Секретно. Срочно. В 3 3/4 дня я венчаюсь в Загсе. Отпустите меня через 10 минут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WordArt 3"/>
          <p:cNvSpPr txBox="1"/>
          <p:nvPr/>
        </p:nvSpPr>
        <p:spPr>
          <a:xfrm>
            <a:off x="1619280" y="476280"/>
            <a:ext cx="6307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Записка М. Булгакова</a:t>
            </a:r>
            <a:endParaRPr b="1" i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utoShap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Слушали замечательно, после чтения долго, стоя, аплодировали. Однако главный герой пьесы, уже одобренной в Комитете по делам искусств, категорически высказался против ее постановки. Причем, в разговоре с В. Немировичем-Данченко, Сталин сказал, что «пьесу «Батум» он считает очень хорошей, но ее нельзя ставить». Режиссер несостоявшегося спектакля В. Г. Сахновский объяснил Булгакову, почему не приняли пьесу: «Нельзя такое лицо, как Иосиф Виссарионович Сталин, делать романтическим героем, нельзя ставить его в выдуманные положения и вкладывать в его уста выдуманные слов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 rot="20902200">
            <a:off x="250560" y="1844640"/>
            <a:ext cx="4064040" cy="2801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635280" y="206064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"Любовь выскочила перед нами, как из-под земли выскакивает убийца в переулке, и поразила нас сразу обоих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 поражает молния, так поражает финский нож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а-то, впрочем, утверждала впоследствии, что это не так, что любили мы, конечно, друг друга давным-давно, не зная друг друга...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755640" y="404640"/>
            <a:ext cx="7777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a023"/>
                </a:solidFill>
                <a:latin typeface="Impact"/>
              </a:rPr>
              <a:t>Из романа "Мастер и Маргарит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da023"/>
              </a:soli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94920" y="1844280"/>
            <a:ext cx="8280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…Только сильное радостное потрясение… может дать надежду на спасение…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 письма друзей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. А. Булгакова Сталин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pic012"/>
          <p:cNvPicPr/>
          <p:nvPr/>
        </p:nvPicPr>
        <p:blipFill>
          <a:blip r:embed="rId1"/>
          <a:stretch/>
        </p:blipFill>
        <p:spPr>
          <a:xfrm>
            <a:off x="2771640" y="1600200"/>
            <a:ext cx="3600720" cy="47084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1258920" y="549360"/>
            <a:ext cx="6626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водевичье кладбищ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гила М. А. Булгаков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10920" y="260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Семья Булгаковых – большая, дружная, культурная, музыкальная, театральна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3" descr="Варвара Михайловна Булгакова на даче в Буче под Киевом. 1915 год."/>
          <p:cNvPicPr/>
          <p:nvPr/>
        </p:nvPicPr>
        <p:blipFill>
          <a:blip r:embed="rId1"/>
          <a:stretch/>
        </p:blipFill>
        <p:spPr>
          <a:xfrm rot="20860200">
            <a:off x="468000" y="3213000"/>
            <a:ext cx="1913040" cy="237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Афанасий Иванович Булгаков. Киев, 1890-е годы."/>
          <p:cNvPicPr/>
          <p:nvPr/>
        </p:nvPicPr>
        <p:blipFill>
          <a:blip r:embed="rId2"/>
          <a:stretch/>
        </p:blipFill>
        <p:spPr>
          <a:xfrm rot="790200">
            <a:off x="2339640" y="1916280"/>
            <a:ext cx="1739880" cy="25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Н. А. Булгаков. Парижская лаборатория. 1930 год."/>
          <p:cNvPicPr/>
          <p:nvPr/>
        </p:nvPicPr>
        <p:blipFill>
          <a:blip r:embed="rId3"/>
          <a:stretch/>
        </p:blipFill>
        <p:spPr>
          <a:xfrm>
            <a:off x="4932360" y="1773360"/>
            <a:ext cx="1643040" cy="223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И. А. Булгаков. Париж, начало 30-х годов"/>
          <p:cNvPicPr/>
          <p:nvPr/>
        </p:nvPicPr>
        <p:blipFill>
          <a:blip r:embed="rId4"/>
          <a:stretch/>
        </p:blipFill>
        <p:spPr>
          <a:xfrm rot="1624200">
            <a:off x="6516360" y="3141360"/>
            <a:ext cx="1946160" cy="302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5"/>
          <a:stretch/>
        </p:blipFill>
        <p:spPr>
          <a:xfrm rot="20778000">
            <a:off x="3708360" y="4220640"/>
            <a:ext cx="15368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528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3" descr="Афанасий Иванович Булгаков. Киев, 1890-е годы."/>
          <p:cNvPicPr/>
          <p:nvPr/>
        </p:nvPicPr>
        <p:blipFill>
          <a:blip r:embed="rId1"/>
          <a:stretch/>
        </p:blipFill>
        <p:spPr>
          <a:xfrm>
            <a:off x="2987640" y="1773360"/>
            <a:ext cx="3328920" cy="4824360"/>
          </a:xfrm>
          <a:prstGeom prst="rect">
            <a:avLst/>
          </a:prstGeom>
          <a:ln w="0">
            <a:noFill/>
          </a:ln>
        </p:spPr>
      </p:pic>
      <p:sp>
        <p:nvSpPr>
          <p:cNvPr id="97" name="WordArt 4"/>
          <p:cNvSpPr txBox="1"/>
          <p:nvPr/>
        </p:nvSpPr>
        <p:spPr>
          <a:xfrm>
            <a:off x="250920" y="476280"/>
            <a:ext cx="873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фанасий Иванович Булгаков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ец писа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Варвара Михайловна Булгакова на даче в Буче под Киевом. 1915 год."/>
          <p:cNvPicPr/>
          <p:nvPr/>
        </p:nvPicPr>
        <p:blipFill>
          <a:blip r:embed="rId1"/>
          <a:stretch/>
        </p:blipFill>
        <p:spPr>
          <a:xfrm>
            <a:off x="2556000" y="1700280"/>
            <a:ext cx="3940200" cy="4895640"/>
          </a:xfrm>
          <a:prstGeom prst="rect">
            <a:avLst/>
          </a:prstGeom>
          <a:ln w="0">
            <a:noFill/>
          </a:ln>
        </p:spPr>
      </p:pic>
      <p:sp>
        <p:nvSpPr>
          <p:cNvPr id="99" name="WordArt 3"/>
          <p:cNvSpPr txBox="1"/>
          <p:nvPr/>
        </p:nvSpPr>
        <p:spPr>
          <a:xfrm>
            <a:off x="468360" y="404640"/>
            <a:ext cx="8497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рвара Михайловна Булгакова -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ать писат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797200" y="1484280"/>
            <a:ext cx="3360600" cy="504036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684360" y="836640"/>
            <a:ext cx="768636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ил Булгаков в годы учёбы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ександровской гимназ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249120" y="195120"/>
            <a:ext cx="8407440" cy="150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Увеличить"/>
          <p:cNvPicPr/>
          <p:nvPr/>
        </p:nvPicPr>
        <p:blipFill>
          <a:blip r:embed="rId2"/>
          <a:stretch/>
        </p:blipFill>
        <p:spPr>
          <a:xfrm>
            <a:off x="2867040" y="2768760"/>
            <a:ext cx="340992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Увеличить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5607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3"/>
          <p:cNvSpPr txBox="1"/>
          <p:nvPr/>
        </p:nvSpPr>
        <p:spPr>
          <a:xfrm>
            <a:off x="468360" y="189000"/>
            <a:ext cx="8351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ак выглядел Андреевский спус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конце XIX ве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Увеличить"/>
          <p:cNvPicPr/>
          <p:nvPr/>
        </p:nvPicPr>
        <p:blipFill>
          <a:blip r:embed="rId1"/>
          <a:stretch/>
        </p:blipFill>
        <p:spPr>
          <a:xfrm>
            <a:off x="1908000" y="1557360"/>
            <a:ext cx="4651560" cy="50403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324000" y="333360"/>
            <a:ext cx="84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тьяна Николаевна Лаппа -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вая жена Булгако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5:44:55Z</dcterms:created>
  <dc:creator>user</dc:creator>
  <dc:description/>
  <dc:language>en-US</dc:language>
  <cp:lastModifiedBy>Наталёк</cp:lastModifiedBy>
  <dcterms:modified xsi:type="dcterms:W3CDTF">2012-07-31T12:49:22Z</dcterms:modified>
  <cp:revision>4</cp:revision>
  <dc:subject/>
  <dc:title>Михаил Афанасьевич                        Булга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