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9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D69-0AC1-4D8E-A774-158CE580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7FD-ECE0-4A59-A47E-7FA5A753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311-9A02-4A10-B2A5-8BEB2296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FA5-1CC6-4E53-A839-C14CE452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836E-31A2-4B76-8E0B-51FD6455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A3E2-F164-4FFF-866F-C2240D38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CFB9-051D-4BD1-BED3-67CBCACD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65C0-0F91-40A8-BAB1-1A9B5CCC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FA12-E37F-4590-BFE9-97B5C9B0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539C-289C-4823-A1AF-F82F7575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9A35-D77A-4097-9A86-9E5CDF97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1E0-5FC1-4576-93E6-E2C4B5A8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9C4B-BC24-46EF-876E-752CD62C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0B8D-274D-4847-AD47-607DC95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789C-606B-4254-807E-F8D41A4E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0EDD-8FFE-47A3-BBBF-5944765E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6994-031A-4D61-B80F-2CCE57B2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3A1-57AC-4F3B-A959-89138FFE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C83-FEF4-49E7-BE42-EF336990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E64-9BC3-4CB9-ACDD-91633DB4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082-2454-4873-98FF-9DEA3445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14C-0265-4CFD-8137-549A5766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C64-EA8A-4ECA-A9C6-8BA9251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524-77E9-4C3C-85A3-639F002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B832-AEAC-4921-ACAB-5FDD6DD9F891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B75B-6632-4988-BA6A-C8B9E44E0F04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1079640" y="219240"/>
            <a:ext cx="87706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0" y="3499920"/>
            <a:ext cx="438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изнь, творчество, лич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1891 – 194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Увеличить"/>
          <p:cNvPicPr/>
          <p:nvPr/>
        </p:nvPicPr>
        <p:blipFill>
          <a:blip r:embed="rId2"/>
          <a:stretch/>
        </p:blipFill>
        <p:spPr>
          <a:xfrm>
            <a:off x="88920" y="1413000"/>
            <a:ext cx="408312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33440" y="122400"/>
            <a:ext cx="8485200" cy="1676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116000" y="2060640"/>
            <a:ext cx="7478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ru-RU" sz="1700" spc="-1" strike="noStrike">
                <a:solidFill>
                  <a:srgbClr val="ed7d27"/>
                </a:solidFill>
                <a:latin typeface="Times New Roman"/>
              </a:rPr>
              <a:t>"Давно собираюсь написать тебе, но не в силах в письме изложить тебе всю эпопею, которую я пережила в эту зиму: Миша совершенно измочалил меня... В результате я должна предоставить ему самому пережить все последствия своего безумного шага: 26 апреля предполагается его свадьба. Дела стоят так, что все равно они повенчались бы, только со скандалом и с разрывом с родными; так я решила устроить лучше все без скандала. Пошла к о. Александру Александровичу (можешь представить, как Миша с Тасей меня выпроваживали поскорее на этот визит!), поговорила с ним откровенно, и он сказал, что лучше, конечно, повенчать их, что "Бог устроит все к лучшему"... Если бы я могла надеяться на хороший результат этого брака; а то я, к сожалению, никаких данных с обеих сторон к каким бы то ни было надеждам не вижу, и это меня приводит в ужас. Александр Александрович искренне сочувствовал мне, и мне стало легче после разговора с ним... Потом Миша был у него; он, конечно, старался обратить Мишино внимание на всю серьезность этого шага (а Мише его слова как с гуся вода!), призывал Божье благословение на это дело..."</a:t>
            </a:r>
            <a:r>
              <a:rPr b="0" lang="ru-RU" sz="1700" spc="-1" strike="noStrike">
                <a:solidFill>
                  <a:srgbClr val="ed7d2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"Студентом Михаил женился. Его жена была Татьяна Николаевна Лаппа, Тася, дочь управляющего Саратовской казенной палатой, девица со средствами. Михаил хорошо прожил на средства жены последние три года студенчества как в Киеве, так и в Саратове... Своих средств у Михаила не было... Тася не была красива, но была очень хорошей женщиной, тихой и любящей женой, худенькой и незаметной. Детей у их не было. Это было категорическое условие Михаила..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549360"/>
            <a:ext cx="84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65e9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воспоминаний Леонида Сергеевича Карума:</a:t>
            </a:r>
            <a:endParaRPr b="0" lang="en-US" sz="1800" spc="1" strike="noStrike">
              <a:ln w="0">
                <a:noFill/>
              </a:ln>
              <a:solidFill>
                <a:srgbClr val="465e9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51_diplom"/>
          <p:cNvPicPr/>
          <p:nvPr/>
        </p:nvPicPr>
        <p:blipFill>
          <a:blip r:embed="rId1"/>
          <a:stretch/>
        </p:blipFill>
        <p:spPr>
          <a:xfrm rot="1426200">
            <a:off x="4572000" y="1557360"/>
            <a:ext cx="3724200" cy="4508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78920" y="1341000"/>
            <a:ext cx="7931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воё медицинское образов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н скрывал до конца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Увеличить"/>
          <p:cNvPicPr/>
          <p:nvPr/>
        </p:nvPicPr>
        <p:blipFill>
          <a:blip r:embed="rId2"/>
          <a:stretch/>
        </p:blipFill>
        <p:spPr>
          <a:xfrm rot="20595600">
            <a:off x="1168200" y="2419200"/>
            <a:ext cx="2735280" cy="396396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971640" y="333360"/>
            <a:ext cx="77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плом Михаила Афанасьевич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952880" y="2362320"/>
            <a:ext cx="3578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…приехал без денег, без вещей в Москву с тем, чтобы остаться в ней навсегд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Из автобиограф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. А. Булгаков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563640" y="1844640"/>
            <a:ext cx="497340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Цилиндр мой я с голодухи на базар снёс. Но сердце и мозг не понесу на базар, хоть издохну»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Из книги «Записки на манжетах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717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Увеличить"/>
          <p:cNvPicPr/>
          <p:nvPr/>
        </p:nvPicPr>
        <p:blipFill>
          <a:blip r:embed="rId1"/>
          <a:stretch/>
        </p:blipFill>
        <p:spPr>
          <a:xfrm rot="20291400">
            <a:off x="1033560" y="2336760"/>
            <a:ext cx="2643120" cy="366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 rot="1090800">
            <a:off x="5292360" y="1773000"/>
            <a:ext cx="2795760" cy="414972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"/>
          <p:cNvSpPr txBox="1"/>
          <p:nvPr/>
        </p:nvSpPr>
        <p:spPr>
          <a:xfrm>
            <a:off x="611280" y="404640"/>
            <a:ext cx="79214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юбовь Евгеньевна Белозерская - 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торая жена Булгакова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55640" y="19886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200" spc="-1" strike="noStrike">
                <a:solidFill>
                  <a:srgbClr val="d83e2c"/>
                </a:solidFill>
                <a:latin typeface="Times New Roman"/>
              </a:rPr>
              <a:t>"Тут у Булгакова пошли "дела семейные"- появились новые интересы, ему стало не до меня. Ударил в нос успех! К тому времени вернулся из Берлина Василевский с женой своей … Любовью Евгеньевной, неглупая, практическая женщина, многое испытавшая на своем веку, оставившая в Германии свою "любовь", - Василевская приглядывалась ко всем мужчинам, которые могли бы помочь строить ее будущее. С мужем она была не в ладах. Булгаков подвернулся кстати. Через месяц-два все узнали, что Миша бросил Татьяну Николаевну и сошелся с Любовью Евгеньевной".</a:t>
            </a:r>
            <a:r>
              <a:rPr b="0" lang="ru-RU" sz="2200" spc="-1" strike="noStrike">
                <a:solidFill>
                  <a:srgbClr val="d83e2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1476360" y="549360"/>
            <a:ext cx="612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 воспоминаний писателя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Юрия Слезкина: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374920" cy="3456000"/>
          </a:xfrm>
          <a:prstGeom prst="rect">
            <a:avLst/>
          </a:prstGeom>
          <a:ln w="0">
            <a:noFill/>
          </a:ln>
        </p:spPr>
      </p:pic>
      <p:pic>
        <p:nvPicPr>
          <p:cNvPr id="126" name="AutoShape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560320" y="2349360"/>
            <a:ext cx="640404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"Подавляет меня чувственно моя жена. Это и хорошо, и отчаянно, и сладко, и, в то же время, безнадежно сложно: я как раз сейчас хворый, а она для меня... Как заноза сидит... что чертова баба завязила меня; как пушку в болоте, важный вопрос. Но один, без нее, уже не мыслюсь. Видно привык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…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Эта ужасно глупо при моих замыслах, но, кажется, я в нее влюблен. Одна мысль интересует меня. При всяком ли она приспособилась бы так же уютно, или это избирательно для меня?"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1835280" y="476280"/>
            <a:ext cx="655308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 дневника Булгакова: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69800" y="255600"/>
            <a:ext cx="8210520" cy="142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Я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обращаюсь к правительству со следующим письмом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осле того, как все мои произведения были запрещены, среди многих граждан, которым я известен как писатель, стали раздаваться голоса, подающие мне один и тот же совет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Сочинить «коммунистическую пьесу» (в кавычках я привожу цитаты), а кроме того, обратиться 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к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равительству СССР с покаянным письмом, содержащим в себе отказ от прежних моих взглядов, высказанных мною в литературных произведениях, и уверения в том, что отныне я буду работать как преданный идее коммунизма писатель-попутчик. Цель: спастись от гонений, нищеты и неизбежной гибели в финал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Этого совета я не послушался. Навряд ли мне удалось бы предстать перед Правительством СССР в выгодном свете, написав лживое письмо, представляющее собой неопрятный и к тому же наивный политический курбет. Попыток же сочинить коммунистическую пьесу я даже не производил, зная заведомо, что такая пьеса у меня не выйдет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Созревшее во мне желание прекратить мои писательские мучения заставляет меня обратиться к Правительству СССР с письмом правдивым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роизведя анализ моих альбомных вырезок, я обнаружил в прессе СССР за десять лет моей литературной работы 301 отзыв обо мне. Из них: похвальных — было 3, враждебно-ругательных — 2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оследние 298 представляют собой зеркальное отражение моей писательской жизни…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Я прошу принять во внимание, что невозможность писать равносильна для меня погребению заживо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прошу правительство СССР приказать мне в срочном порядке покинуть пределы СССР  в сопровождении моей жены Любови Евгеньевны Булгаков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обращаюсь к гуманности советской власти и прошу меня, писателя, который не может быть полезен у себя, в отечестве, великодушно отпустить на своб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Если же и то, что я написал, неубедительно и меня обрекут на пожизненное молчание в СССР, я прошу Советское правительство дать мне работу по специальности и командировать меня в театр на работу в качестве штатного режиссер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именно точно и подчеркнуто прошу о КАТЕГОРИЧЕСКОМ ПРИКАЗЕ, О КОМАНДИРОВАНИИ, потому что все мои попытки найти работу в той единственной области, где я могу быть полезен в СССР, как исключительно квалифицированный специалист, потерпели полное фиаско. Мое имя сделано настолько одиозным, что предложения работы с моей стороны встретили ИСПУГ, несмотря на то, что в Москве громадному количеству актеров и режиссеров, а с ними вместе и директорам театров, отлично известно мое виртуозное знание сцен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предлагаю СССР совершенно честного, без всякой тени вредительства специалиста, режиссера и актера, который берется добросовестно ставить любую пьесу, начиная с шекспировских пьес и вплоть до пьес сегодняшнего дн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прошу о назначении меня лаборантом-режиссером в 1-й Художественный Театр — в  лучшую школу, возглавляемую мастерами К. С. Станиславским и В. И. Немировичем-Дан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Если меня не назначат режиссером, я прошусь на штатную должность статиста. Если и статистом нельзя — я прошусь на должность рабочего сцен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Если же и это невозможно, я прошу советское Правительство поступить со мной, как оно найдет нужным, но как-нибудь поступить, потому что у меня, драматурга, написавшего 5 пьес, известного в СССР и за границей, налицо, В ДАННЫЙ МОМЕНТ, — нищета, улица, гибель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. Булга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427640" y="2133720"/>
            <a:ext cx="411624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На широком поле словесности российской в СССР я был один-единственный литературный волк. Мне советовали выкрасить шкуру. Нелепый совет. Крашеный ли волк, стриженый ли волк, он всё равно не похож на пудел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Из письма И. В. Сталину, март 1930 г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794400" cy="5689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5076720" y="765000"/>
            <a:ext cx="302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пиграф:</a:t>
            </a:r>
            <a:endParaRPr b="1" lang="en-US" sz="1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82692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Мы ваше письмо получили. Читали с товарищами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Вы будете по нему благоприятный ответ иметь. 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может быть, правда, вас пустить за границу? Что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мы вам очень надоел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улгаков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Я много думал в последние годы, может 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русский писатель жить без родины, и мн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кажется, что не может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Вы правы. Я тоже так думаю. Вы где хотит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работать? В Художественном театр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улгаков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Да, я хотел бы, но я говорил об этом, м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отказа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А вы подайте заявление туда. Мне кажется, чт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они согласятся. Нам бы нужно встретить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поговорить с вами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186080" y="3535200"/>
            <a:ext cx="771840" cy="8384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>
            <a:off x="539640" y="260280"/>
            <a:ext cx="79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Елена Сергеевна Булгакова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третья жена Булгак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8920" y="1125000"/>
            <a:ext cx="87757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"Мы познакомились очень неожиданно. Я интересовалась им давно. С тех пор как прочитала «Роковые яйца» и «Белую гвардию». Я почувствовала, что это совершенно особый писатель, хотя литература 20-х годов у нас была очень талантлива. Необычайный взлет был у русской литературы. И среди всех был Булгаков, причем среди этого большого созвездия он стоял как-то в стороне по своей необычности, необычности темы, необычности языка, взгляда, юмора: всего того, что, собственно, определяет писател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Все это поразило мен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Я была женой генерал-лейтенанта Шиловского, прекрасного, благороднейшего человека. Была, что называется, счастливая семья: муж, занимающий высокое положение, двое прекрасных сыновей... Вообще все было хорошо. Но когда я встретила Булгакова случайно в одном доме, я поняла, что это моя судьба, несмотря на безумно трудную трагедию разрыва. Я пошла на все это, потому что без Булгакова для меня не было бы ни смысла жизни, ни оправдания ее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Это было в 29-м году в феврале, на масленую. Какие-то знакомые устроили блины. Ни я не хотела идти туда, ни Булгаков, который почему-то решил, что в этот дом он не будет ходить. Но получилось так, что эти люди сумели заинтересовать составом приглашенных и его, и меня. Ну, меня, конечно, его фамилия. В общем, мы встретились и были рядом. Это была быстрая, необычайно быстрая, во всяком случае с моей стороны, любовь на всю жизнь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Потом наступили гораздо более трудные времена, когда мне было очень трудно уйти из дома именно из-за того, что муж был очень хорошим человеком, из-за того, что у нас была такая дружная семья. В первый раз я смалодушествовала и осталась, и я не видела Булгакова 20 месяцев, давши слово, что не приму ни одного письма, не подойду ни разу к телефону, не выйду одна на улицу. Но, очевидно, все-таки это была судьба. Потому что, когда я в первый раз вышла на улицу, я встретила его, и первая фраза, которую он сказал, было: «Я не могу без тебя жить». И я ответила: «И я тоже». И мы решили соединиться, несмотря ни на что. Но тогда же он мне сказал то, что, я не знаю почему, но приняла со смехом. Он мне сказал: «Дай мне слово, что умирать я буду у тебя на руках». Если представить, что это говорил человек неполных сорока лет, здоровый, с веселыми голубыми глазами, сияющий от счастья, то, конечно, это выглядело очень странно. И я, смеясь, сказала: «Конечно, конечно, ты будешь умирать у меня на...». Он сказал: «Я говорю очень серьезно, поклянись». И в результате я поклялась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395280" y="260280"/>
            <a:ext cx="828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воспоминаний Е. С. Булгаковой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ru-RU" sz="2800" spc="-1" strike="noStrike">
                <a:solidFill>
                  <a:srgbClr val="fda023"/>
                </a:solidFill>
                <a:latin typeface="Times New Roman"/>
              </a:rPr>
              <a:t>"Дорогой Евгений Александрович, я виделся с Еленой Сергеевной по ее вызову, и мы объяснились с нею. Мы любим друг друга так же, как любили раньше. И мы хотим пожениться".</a:t>
            </a:r>
            <a:r>
              <a:rPr b="0" lang="ru-RU" sz="2800" spc="-1" strike="noStrike">
                <a:solidFill>
                  <a:srgbClr val="fda02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33360" y="692280"/>
            <a:ext cx="881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рывок из письма Булгакова Шиловскому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74520" y="2122200"/>
            <a:ext cx="7196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imes New Roman"/>
              </a:rPr>
              <a:t>"Секретно. Срочно. В 3 3/4 дня я венчаюсь в Загсе. Отпустите меня через 10 минут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1619280" y="476280"/>
            <a:ext cx="6307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Записка М. Булгакова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utoShap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Слушали замечательно, после чтения долго, стоя, аплодировали. Однако главный герой пьесы, уже одобренной в Комитете по делам искусств, категорически высказался против ее постановки. Причем, в разговоре с В. Немировичем-Данченко, Сталин сказал, что «пьесу «Батум» он считает очень хорошей, но ее нельзя ставить». Режиссер несостоявшегося спектакля В. Г. Сахновский объяснил Булгакову, почему не приняли пьесу: «Нельзя такое лицо, как Иосиф Виссарионович Сталин, делать романтическим героем, нельзя ставить его в выдуманные положения и вкладывать в его уста выдуманные слов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 rot="20902200">
            <a:off x="250560" y="1844640"/>
            <a:ext cx="4064040" cy="2801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635280" y="2060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Любовь выскочила перед нами, как из-под земли выскакивает убийца в переулке, и поразила нас сразу обоих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 поражает молния, так поражает финский нож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а-то, впрочем, утверждала впоследствии, что это не так, что любили мы, конечно, друг друга давным-давно, не зная друг друга..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755640" y="404640"/>
            <a:ext cx="7777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a023"/>
                </a:solidFill>
                <a:latin typeface="Impact"/>
              </a:rPr>
              <a:t>Из романа "Мастер и Маргарит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da023"/>
              </a:soli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94920" y="184428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…Только сильное радостное потрясение… может дать надежду на спасение…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письма друзей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. А. Булгакова Сталин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pic012"/>
          <p:cNvPicPr/>
          <p:nvPr/>
        </p:nvPicPr>
        <p:blipFill>
          <a:blip r:embed="rId1"/>
          <a:stretch/>
        </p:blipFill>
        <p:spPr>
          <a:xfrm>
            <a:off x="2771640" y="1600200"/>
            <a:ext cx="3600720" cy="4708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1258920" y="549360"/>
            <a:ext cx="6626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водевичье кладбищ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гила М. А. Булгако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10920" y="260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Семья Булгаковых – большая, дружная, культурная, музыкальная, театральна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3" descr="Варвара Михайловна Булгакова на даче в Буче под Киевом. 1915 год."/>
          <p:cNvPicPr/>
          <p:nvPr/>
        </p:nvPicPr>
        <p:blipFill>
          <a:blip r:embed="rId1"/>
          <a:stretch/>
        </p:blipFill>
        <p:spPr>
          <a:xfrm rot="20860200">
            <a:off x="468000" y="3213000"/>
            <a:ext cx="1913040" cy="237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Афанасий Иванович Булгаков. Киев, 1890-е годы."/>
          <p:cNvPicPr/>
          <p:nvPr/>
        </p:nvPicPr>
        <p:blipFill>
          <a:blip r:embed="rId2"/>
          <a:stretch/>
        </p:blipFill>
        <p:spPr>
          <a:xfrm rot="790200">
            <a:off x="2339640" y="1916280"/>
            <a:ext cx="1739880" cy="25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Н. А. Булгаков. Парижская лаборатория. 1930 год."/>
          <p:cNvPicPr/>
          <p:nvPr/>
        </p:nvPicPr>
        <p:blipFill>
          <a:blip r:embed="rId3"/>
          <a:stretch/>
        </p:blipFill>
        <p:spPr>
          <a:xfrm>
            <a:off x="4932360" y="1773360"/>
            <a:ext cx="1643040" cy="223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И. А. Булгаков. Париж, начало 30-х годов"/>
          <p:cNvPicPr/>
          <p:nvPr/>
        </p:nvPicPr>
        <p:blipFill>
          <a:blip r:embed="rId4"/>
          <a:stretch/>
        </p:blipFill>
        <p:spPr>
          <a:xfrm rot="1624200">
            <a:off x="6516360" y="3141360"/>
            <a:ext cx="1946160" cy="30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 rot="20778000">
            <a:off x="3708360" y="4220640"/>
            <a:ext cx="15368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528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3" descr="Афанасий Иванович Булгаков. Киев, 1890-е годы."/>
          <p:cNvPicPr/>
          <p:nvPr/>
        </p:nvPicPr>
        <p:blipFill>
          <a:blip r:embed="rId1"/>
          <a:stretch/>
        </p:blipFill>
        <p:spPr>
          <a:xfrm>
            <a:off x="2987640" y="1773360"/>
            <a:ext cx="3328920" cy="4824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250920" y="476280"/>
            <a:ext cx="873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фанасий Иванович Булгаков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ец писа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Варвара Михайловна Булгакова на даче в Буче под Киевом. 1915 год."/>
          <p:cNvPicPr/>
          <p:nvPr/>
        </p:nvPicPr>
        <p:blipFill>
          <a:blip r:embed="rId1"/>
          <a:stretch/>
        </p:blipFill>
        <p:spPr>
          <a:xfrm>
            <a:off x="2556000" y="1700280"/>
            <a:ext cx="3940200" cy="4895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3"/>
          <p:cNvSpPr txBox="1"/>
          <p:nvPr/>
        </p:nvSpPr>
        <p:spPr>
          <a:xfrm>
            <a:off x="468360" y="404640"/>
            <a:ext cx="849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рвара Михайловна Булгакова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ть писа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797200" y="1484280"/>
            <a:ext cx="3360600" cy="50403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684360" y="836640"/>
            <a:ext cx="768636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ил Булгаков в годы учёбы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андровской гимназ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249120" y="195120"/>
            <a:ext cx="8407440" cy="150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Увеличить"/>
          <p:cNvPicPr/>
          <p:nvPr/>
        </p:nvPicPr>
        <p:blipFill>
          <a:blip r:embed="rId2"/>
          <a:stretch/>
        </p:blipFill>
        <p:spPr>
          <a:xfrm>
            <a:off x="2867040" y="2768760"/>
            <a:ext cx="340992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Увеличить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5607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3"/>
          <p:cNvSpPr txBox="1"/>
          <p:nvPr/>
        </p:nvSpPr>
        <p:spPr>
          <a:xfrm>
            <a:off x="468360" y="189000"/>
            <a:ext cx="83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к выглядел Андреевский спус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конце XIX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Увеличить"/>
          <p:cNvPicPr/>
          <p:nvPr/>
        </p:nvPicPr>
        <p:blipFill>
          <a:blip r:embed="rId1"/>
          <a:stretch/>
        </p:blipFill>
        <p:spPr>
          <a:xfrm>
            <a:off x="1908000" y="1557360"/>
            <a:ext cx="4651560" cy="50403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324000" y="333360"/>
            <a:ext cx="84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тьяна Николаевна Лаппа -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ая жена Булгако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5:44:55Z</dcterms:created>
  <dc:creator>user</dc:creator>
  <dc:description/>
  <dc:language>en-US</dc:language>
  <cp:lastModifiedBy>Наталёк</cp:lastModifiedBy>
  <dcterms:modified xsi:type="dcterms:W3CDTF">2012-07-31T12:49:22Z</dcterms:modified>
  <cp:revision>4</cp:revision>
  <dc:subject/>
  <dc:title>Михаил Афанасьевич                        Булга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