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6158-C315-44C0-A06C-4A4B659AC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4EB2-1EBA-494D-A3A2-43406B72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31E4-E4DC-4907-BE6F-1F5C08016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0755-8187-4B00-9B3B-1DB383BBD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09CD-5209-4790-B66F-23136286E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84154-CAAD-4EE3-86FD-EBCAE9D1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ABE8-282F-42B9-9950-50D6CDC1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2B609-0F92-43B2-81B3-D0252981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A8D0-5586-46B8-AA7E-2D52A6FE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BA2E-5C4F-4961-863F-19565849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6BCE-F53E-4C4B-AA05-9B526BAD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BFD4-0DB0-4C21-9B21-2C4DAA7E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12A6-3237-4DD1-8FE6-E91F9BAC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AD9F-AA1B-4A30-BF19-81C847FC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03F8-B6A0-42EF-936D-8A5F445A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12CD-8E5B-4EA7-81C7-A469E07B9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A029A-D997-473C-AC97-578EADBE9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213A-9A2F-4F88-8F10-5BD92587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D4AA-623D-4C2B-83AC-46CDB7B1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C052-921F-454D-A3CD-D88A6CAC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AD37-030F-4BD8-A17A-F6EC7052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2C69-5318-48F2-A4B8-283CCBA8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8A24-ACAC-4742-8EBA-39FFFCD1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2567-94A9-4DC9-8C9D-E46D266D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A9A9-A86B-4707-827E-6E63CD8596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7C4C-558B-4E4F-983E-96301C7EFD44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Мягкий знак – показатель мягкости согласного звука.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зделительный 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04280"/>
            <a:ext cx="64008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читель начальных классов МБОУ «Средняя общеобразовательная школа с углубленным изучением отдельных     предметов   № 52»    г. Курск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Захарова               Светлана          Павловн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Упражнение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читайте. Разделите слова на две группы. Напишите слова в столбик парами. Чем отличаются слова в левом столбике от слов в правом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Мел, брать, есть, мель, ель, ест, ел, угол, хор, уголь, хорь, бра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Образец: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мел – мел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ь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Упражнение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 двум данным словам допишите подходящее по смыслу третье, в котором букв больше, чем звуков. Выбор слов обоснуйте. Орфограммы подчеркнит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Ручка                      2. Свёкл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п(е,и)нал                      реп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?                                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Д(е,и)ван                4. Л(е,и)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стол                           вол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?                                 ?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Упражнение 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ставьте цепочку слов, в которой каждое последующее слово начинается с последней буквы, обозначающей звук, предыдущего слова. Во всех словах звуков должно быть меньше, чем букв. Подчеркните все буквы, обозначающие мягкость согласных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Исходные слова: октябрь, олень, тетрад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Образец: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деталь – лебедь – день – ноль- лошадь – дельфин – нить- тюлен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Упражнение 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читайте цепочки слов. Исключите в них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лишне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Ответ обоснуйте. Оставшиеся в цепочках слова напишите по памяти. Орфограммы подчеркнит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дуб, дерево, ольха, тополь, берёз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дожд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снег, осадки, иней, град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секунда, час, год, день, недел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Упражнение 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читайте. Напишите предложения в порядке увеличения в них количества слов с мягким знаком в конце и в середине слова. Вставьте пропущенные буквы. Можно ли назвать написанное текстом? Почему? Устно исправьте написанное так, чтобы получился текст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Мал..чики ск..л..зят по л..ду на к..н..ках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Белоч..ка скрылас.. в густом ел..ник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На сн..гу  в..днелис.. сл..ды мален..кого звер..к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Физкультминут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 буду произносить слова. Если будет звучать слово с мягким знаком на конце после согласной, вы хлопаете в ладоши; если с мягким знаком в середине слова между согласными – приседаете; если произнесу слово без мягкого знака – топаете ногам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Тень, школьник, палка, соль, пилка, борьба, мель, зверьки, мелки, звать, пальчик, зорька, карас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ест «Проверь себя.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170028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то проверяет те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Представление о разделительном мягком знаке и мягком знаке- показателе мягкости согласных на письм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Умение различать слова с разделительным мягким знаком и мягким знаком – показателем мягкости согласны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Умение изменять форму слова, образовывать слова, близкие и противоположные по смысл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-37044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476280"/>
            <a:ext cx="7772400" cy="56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какой строке все слова, в которых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ь(мягкий знак)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означает только мягкость согласных звуков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пень, соловьи, метель, морков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б) угольки, зверь, коньки, фасол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в) вьюга, счастье, муравьи, жильё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какой строке все слова пишутся с разделительным мягким знаком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а) деньки, крыльцо, брать, мельник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б)воробьи, песня, здесь, ночью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в) друзья, ручьи, лисья, варень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-4896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99640" y="836280"/>
            <a:ext cx="8055000" cy="52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Измените слова по данному образцу.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Соня – Софь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Наташа - …                    Даша -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Таня -  …                      Луша -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Илюша - …                     Уля   -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ставьте слова во множественное числ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Друг - …           брат - …          звено -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Дерево - …        сук - …            перо -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Лист  - …          колос - …         прут -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-4194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333000"/>
            <a:ext cx="7772400" cy="57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5.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мените выделенные слова так, чтобы они обозначали признак предмет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Рога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оленя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- …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шкурка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белки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-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лапа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зайца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-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берлога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медведя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-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6.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ставь и запиши пословицу из данных сл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Без, учен…я, умен…я, не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есёлые рифм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ед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Е,Ё,И,Ю,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 в корнях стою, друзь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ороб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, сем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, жил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ё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ед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Я,Ю,И,Е,Ё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оробьи, жильё, ручьи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Листья, крылья, стулья, чь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лья, перья и семья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ьюга, осенью, друзь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-4194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907560"/>
            <a:ext cx="7772400" cy="52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7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одбери к данным словам противоположные по значению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Работа – бездель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болезнь - …            скука -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враги - …                вред  -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8.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дбери к данным словам близкие по значению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Приятели – друзь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метель - …                дом -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горе     - …                вьюга -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423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Мягкий знак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- хитрый знак.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Не назвать его никак.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н не произносится,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но в слово часто просится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5157720"/>
            <a:ext cx="836280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ягкий знак звука не обозначает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ягкий знак показывает, что согласный звук перед ним произносится мягко: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гол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гадк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708360" y="2017800"/>
            <a:ext cx="524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Я не печка и не грею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о тепло хранить умею. (…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лесу у пня суетня, беготн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род рабочий весь день хлопочет.(…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Есть, ребята, у мен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ва серебряных кон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Езжу сразу на обоих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то за кони у меня? (…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вост крючком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ос пятачко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ежит в грязной луж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 совсем не тужит. (…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словиц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енье - свет, а неученье - тьм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ть хорошо вместе, а говорить порозн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емь раз примерь, а один отреж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кучен день до вечера, коли делать нечег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ез терпенья нет умень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ыборочное списыв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елый день лежит тюлень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 лежать ему не лен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Жаль, тюленье прилежань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 пример для подражань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Б. Заходер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476360" y="189000"/>
          <a:ext cx="6095880" cy="406404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i="1" lang="en-US" sz="4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</a:t>
                      </a:r>
                      <a:endParaRPr b="0" i="1" lang="en-US" sz="4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</a:t>
                      </a:r>
                      <a:endParaRPr b="0" i="1" lang="en-US" sz="4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</a:t>
                      </a:r>
                      <a:endParaRPr b="0" i="1" lang="en-US" sz="4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i="1" lang="en-US" sz="4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</a:t>
                      </a:r>
                      <a:endParaRPr b="0" i="1" lang="en-US" sz="4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</a:t>
                      </a:r>
                      <a:endParaRPr b="0" i="1" lang="en-US" sz="4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</a:t>
                      </a:r>
                      <a:endParaRPr b="0" i="1" lang="en-US" sz="4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i="1" lang="en-US" sz="4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</a:t>
                      </a:r>
                      <a:endParaRPr b="0" i="1" lang="en-US" sz="4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2920" y="479736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ahoma"/>
              </a:rPr>
              <a:t>                                                              </a:t>
            </a:r>
            <a:r>
              <a:rPr b="0" lang="ru-RU" sz="1600" spc="-1" strike="noStrike">
                <a:solidFill>
                  <a:srgbClr val="333399"/>
                </a:solidFill>
                <a:latin typeface="Tahoma"/>
              </a:rPr>
              <a:t>1.Снежная буря.</a:t>
            </a:r>
            <a:br>
              <a:rPr sz="1600"/>
            </a:br>
            <a:r>
              <a:rPr b="0" lang="ru-RU" sz="1600" spc="-1" strike="noStrike">
                <a:solidFill>
                  <a:srgbClr val="333399"/>
                </a:solidFill>
                <a:latin typeface="Tahoma"/>
              </a:rPr>
              <a:t>                                                 2. Домики для пчёл.</a:t>
            </a:r>
            <a:br>
              <a:rPr sz="1600"/>
            </a:br>
            <a:r>
              <a:rPr b="0" lang="ru-RU" sz="1600" spc="-1" strike="noStrike">
                <a:solidFill>
                  <a:srgbClr val="333399"/>
                </a:solidFill>
                <a:latin typeface="Tahoma"/>
              </a:rPr>
              <a:t>                                                 3. 7Я</a:t>
            </a:r>
            <a:br>
              <a:rPr sz="1600"/>
            </a:br>
            <a:r>
              <a:rPr b="0" lang="ru-RU" sz="1600" spc="-1" strike="noStrike">
                <a:solidFill>
                  <a:srgbClr val="333399"/>
                </a:solidFill>
                <a:latin typeface="Tahoma"/>
              </a:rPr>
              <a:t>                                                 4. Животное.</a:t>
            </a:r>
            <a:br>
              <a:rPr sz="1600"/>
            </a:br>
            <a:r>
              <a:rPr b="0" lang="ru-RU" sz="1600" spc="-1" strike="noStrike">
                <a:solidFill>
                  <a:srgbClr val="333399"/>
                </a:solidFill>
                <a:latin typeface="Tahoma"/>
              </a:rPr>
              <a:t>                                                 5. Ягоды, сваренные в сахаре.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3" name="Picture 249" descr="1fnm9052[1]"/>
          <p:cNvPicPr/>
          <p:nvPr/>
        </p:nvPicPr>
        <p:blipFill>
          <a:blip r:embed="rId1"/>
          <a:stretch/>
        </p:blipFill>
        <p:spPr>
          <a:xfrm>
            <a:off x="5292720" y="115920"/>
            <a:ext cx="3311640" cy="2521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51" descr="1600x1200_2_SVOYO_RU_Spring_Wallpapers_collection"/>
          <p:cNvPicPr/>
          <p:nvPr/>
        </p:nvPicPr>
        <p:blipFill>
          <a:blip r:embed="rId2"/>
          <a:stretch/>
        </p:blipFill>
        <p:spPr>
          <a:xfrm>
            <a:off x="6804000" y="3429000"/>
            <a:ext cx="2016000" cy="1584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56" descr="1024x768_SVOYO"/>
          <p:cNvPicPr/>
          <p:nvPr/>
        </p:nvPicPr>
        <p:blipFill>
          <a:blip r:embed="rId3"/>
          <a:stretch/>
        </p:blipFill>
        <p:spPr>
          <a:xfrm>
            <a:off x="3059280" y="4292640"/>
            <a:ext cx="1923840" cy="1442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57" descr="SVOYO"/>
          <p:cNvPicPr/>
          <p:nvPr/>
        </p:nvPicPr>
        <p:blipFill>
          <a:blip r:embed="rId4"/>
          <a:stretch/>
        </p:blipFill>
        <p:spPr>
          <a:xfrm>
            <a:off x="250920" y="4581360"/>
            <a:ext cx="273528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9" descr="SVOYO_RU_summer_time_collection (91)"/>
          <p:cNvPicPr/>
          <p:nvPr/>
        </p:nvPicPr>
        <p:blipFill>
          <a:blip r:embed="rId1"/>
          <a:stretch/>
        </p:blipFill>
        <p:spPr>
          <a:xfrm>
            <a:off x="1403280" y="476280"/>
            <a:ext cx="2808360" cy="17557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21"/>
          <p:cNvSpPr/>
          <p:nvPr/>
        </p:nvSpPr>
        <p:spPr>
          <a:xfrm>
            <a:off x="3995640" y="44280"/>
            <a:ext cx="50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i="1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 Box 22"/>
          <p:cNvSpPr/>
          <p:nvPr/>
        </p:nvSpPr>
        <p:spPr>
          <a:xfrm>
            <a:off x="4140360" y="-387360"/>
            <a:ext cx="16030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Tahoma"/>
              </a:rPr>
              <a:t>Ь</a:t>
            </a:r>
            <a:endParaRPr b="0" i="1" lang="en-US" sz="20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23"/>
          <p:cNvSpPr/>
          <p:nvPr/>
        </p:nvSpPr>
        <p:spPr>
          <a:xfrm>
            <a:off x="4695840" y="1284120"/>
            <a:ext cx="52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24"/>
          <p:cNvSpPr/>
          <p:nvPr/>
        </p:nvSpPr>
        <p:spPr>
          <a:xfrm>
            <a:off x="4572000" y="126828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КО</a:t>
            </a: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25" descr="Копия Копия SVOYO_RU_summer_time_collection (75)"/>
          <p:cNvPicPr/>
          <p:nvPr/>
        </p:nvPicPr>
        <p:blipFill>
          <a:blip r:embed="rId2"/>
          <a:stretch/>
        </p:blipFill>
        <p:spPr>
          <a:xfrm>
            <a:off x="3503520" y="3789360"/>
            <a:ext cx="1892520" cy="27637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26"/>
          <p:cNvSpPr/>
          <p:nvPr/>
        </p:nvSpPr>
        <p:spPr>
          <a:xfrm>
            <a:off x="4932360" y="2997360"/>
            <a:ext cx="2828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000000"/>
                </a:solidFill>
                <a:latin typeface="Tahoma"/>
              </a:rPr>
              <a:t>,,</a:t>
            </a:r>
            <a:endParaRPr b="0" i="1" lang="en-US" sz="1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27"/>
          <p:cNvSpPr/>
          <p:nvPr/>
        </p:nvSpPr>
        <p:spPr>
          <a:xfrm>
            <a:off x="5867280" y="5013360"/>
            <a:ext cx="261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ahoma"/>
              </a:rPr>
              <a:t>ЦЫ</a:t>
            </a:r>
            <a:endParaRPr b="0" i="1" lang="en-US" sz="9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Line 28"/>
          <p:cNvSpPr/>
          <p:nvPr/>
        </p:nvSpPr>
        <p:spPr>
          <a:xfrm flipV="1">
            <a:off x="468360" y="2637000"/>
            <a:ext cx="2303280" cy="720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29"/>
          <p:cNvSpPr/>
          <p:nvPr/>
        </p:nvSpPr>
        <p:spPr>
          <a:xfrm>
            <a:off x="468360" y="3357720"/>
            <a:ext cx="2663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Freeform 30"/>
          <p:cNvSpPr/>
          <p:nvPr/>
        </p:nvSpPr>
        <p:spPr>
          <a:xfrm>
            <a:off x="1619280" y="2997360"/>
            <a:ext cx="156960" cy="360360"/>
          </a:xfrm>
          <a:custGeom>
            <a:avLst/>
            <a:gdLst>
              <a:gd name="textAreaLeft" fmla="*/ 0 w 156960"/>
              <a:gd name="textAreaRight" fmla="*/ 157320 w 1569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99" h="227">
                <a:moveTo>
                  <a:pt x="46" y="227"/>
                </a:moveTo>
                <a:cubicBezTo>
                  <a:pt x="72" y="178"/>
                  <a:pt x="99" y="129"/>
                  <a:pt x="91" y="91"/>
                </a:cubicBezTo>
                <a:cubicBezTo>
                  <a:pt x="83" y="53"/>
                  <a:pt x="15" y="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Freeform 31"/>
          <p:cNvSpPr/>
          <p:nvPr/>
        </p:nvSpPr>
        <p:spPr>
          <a:xfrm>
            <a:off x="1763640" y="2924280"/>
            <a:ext cx="155520" cy="433440"/>
          </a:xfrm>
          <a:custGeom>
            <a:avLst/>
            <a:gdLst>
              <a:gd name="textAreaLeft" fmla="*/ 0 w 155520"/>
              <a:gd name="textAreaRight" fmla="*/ 155880 w 15552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98" h="273">
                <a:moveTo>
                  <a:pt x="45" y="273"/>
                </a:moveTo>
                <a:cubicBezTo>
                  <a:pt x="71" y="227"/>
                  <a:pt x="98" y="182"/>
                  <a:pt x="91" y="137"/>
                </a:cubicBezTo>
                <a:cubicBezTo>
                  <a:pt x="84" y="92"/>
                  <a:pt x="8" y="15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32"/>
          <p:cNvSpPr/>
          <p:nvPr/>
        </p:nvSpPr>
        <p:spPr>
          <a:xfrm>
            <a:off x="2303280" y="270828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ЬКИ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AutoShape 36"/>
          <p:cNvSpPr/>
          <p:nvPr/>
        </p:nvSpPr>
        <p:spPr>
          <a:xfrm rot="12655200">
            <a:off x="7308000" y="764280"/>
            <a:ext cx="1613160" cy="1630440"/>
          </a:xfrm>
          <a:prstGeom prst="lightningBol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AutoShape 37"/>
          <p:cNvSpPr/>
          <p:nvPr/>
        </p:nvSpPr>
        <p:spPr>
          <a:xfrm rot="13023600">
            <a:off x="7094160" y="498240"/>
            <a:ext cx="1582920" cy="1944720"/>
          </a:xfrm>
          <a:prstGeom prst="lightningBol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AutoShape 38"/>
          <p:cNvSpPr/>
          <p:nvPr/>
        </p:nvSpPr>
        <p:spPr>
          <a:xfrm>
            <a:off x="8101080" y="0"/>
            <a:ext cx="914400" cy="914400"/>
          </a:xfrm>
          <a:prstGeom prst="sun">
            <a:avLst>
              <a:gd name="adj" fmla="val 25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39"/>
          <p:cNvSpPr/>
          <p:nvPr/>
        </p:nvSpPr>
        <p:spPr>
          <a:xfrm>
            <a:off x="6594840" y="404640"/>
            <a:ext cx="851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ahoma"/>
              </a:rPr>
              <a:t>М</a:t>
            </a:r>
            <a:endParaRPr b="0" i="1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Упражнение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ишите. Вставьте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ь,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де это следуе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Дружна наша сем..я. Вот сем..я огурца. Красивы рога олен..я. Олен..и рога дороги. Скоро дожд.. пол..ёт. Птицы собралис.. в полёт. Сол..ю суп сол..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08:43:32Z</dcterms:created>
  <dc:creator>user</dc:creator>
  <dc:description/>
  <dc:language>en-US</dc:language>
  <cp:lastModifiedBy>ЮЛИШКА</cp:lastModifiedBy>
  <dcterms:modified xsi:type="dcterms:W3CDTF">2012-07-31T14:33:54Z</dcterms:modified>
  <cp:revision>7</cp:revision>
  <dc:subject/>
  <dc:title>Разделительный ь</dc:title>
</cp:coreProperties>
</file>