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77D-ED36-4990-BE60-2D8A3DDA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024-305E-489B-BE7C-EFBE58D0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634-A9F2-425A-85B5-A0B2C54B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160-C694-42C1-AC34-C7B47D67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42C8-DDB6-4DAA-ADA8-F8CEC7EE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5C35-2C54-4338-BBC6-532B896B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F288-919F-48B2-93D5-B1AABB43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AB71-DF35-4BC7-B05A-C9982001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31F6-346A-43F8-9C3A-AAD502DA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5142-81B2-481A-B2E2-1C3F3B85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219F-3BD8-4FC6-8292-B24AB367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CF2-87F0-47A9-9DD1-27CD36AB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B927-BBED-4F75-ACD7-8C4F0858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2737-2403-4B8C-B886-8623ECE9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C165-8866-4D9F-B782-E80F820C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FB3B-7A10-45DD-84D1-45E4FDF9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6F5F-6A38-4126-BAF4-6D0908CE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70C-4E28-47DA-944D-049BC414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F2B-2486-4DD3-A74F-A8FCF1FA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CFC-132E-485B-9A6B-4FA09291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C37-EEEB-48C8-93E9-5C836E8E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1E3-552E-4273-849D-8D07539D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B8A-5D98-4977-97A4-A4730CC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A1C-71AA-451A-97A8-A098DF25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A941-8088-4285-B9D3-4B17A169EA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504D-7D12-42BE-A402-A978FE1B26D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ягкий знак – показатель мягкости согласного звука.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зделительный 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04280"/>
            <a:ext cx="64008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итель начальных классов МБОУ «Средняя общеобразовательная школа с углубленным изучением отдельных     предметов   № 52»    г. Курск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харова               Светлана          Павло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читайте. Разделите слова на две группы. Напишите слова в столбик парами. Чем отличаются слова в левом столбике от слов в право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ел, брать, есть, мель, ель, ест, ел, угол, хор, уголь, хорь, бр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бразец: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мел – мел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ь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 двум данным словам допишите подходящее по смыслу третье, в котором букв больше, чем звуков. Выбор слов обоснуйте. Орфограммы подчеркни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учка                      2. Свёк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(е,и)нал                      реп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?                                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(е,и)ван                4. Л(е,и)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тол                           вол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?                                 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ьте цепочку слов, в которой каждое последующее слово начинается с последней буквы, обозначающей звук, предыдущего слова. Во всех словах звуков должно быть меньше, чем букв. Подчеркните все буквы, обозначающие мягкость соглас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сходные слова: октябрь, олень, тетрад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бразец: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деталь – лебедь – день – ноль- лошадь – дельфин – нить- тюлен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читайте цепочки слов. Исключите в них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лишне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Ответ обоснуйте. Оставшиеся в цепочках слова напишите по памяти. Орфограммы подчеркнит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уб, дерево, ольха, тополь, берёз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ожд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снег, осадки, иней, град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екунда, час, год, день, нед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читайте. Напишите предложения в порядке увеличения в них количества слов с мягким знаком в конце и в середине слова. Вставьте пропущенные буквы. Можно ли назвать написанное текстом? Почему? Устно исправьте написанное так, чтобы получился текс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л..чики ск..л..зят по л..ду на к..н..ка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елоч..ка скрылас.. в густом ел..ник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 сн..гу  в..днелис.. сл..ды мален..кого звер..к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изкультминут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 буду произносить слова. Если будет звучать слово с мягким знаком на конце после согласной, вы хлопаете в ладоши; если с мягким знаком в середине слова между согласными – приседаете; если произнесу слово без мягкого знака – топаете ногам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ень, школьник, палка, соль, пилка, борьба, мель, зверьки, мелки, звать, пальчик, зорька, карас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«Проверь себя.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проверяет те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редставление о разделительном мягком знаке и мягком знаке- показателе мягкости согласных на пись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Умение различать слова с разделительным мягким знаком и мягким знаком – показателем мягкости соглас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Умение изменять форму слова, образовывать слова, близкие и противоположные по смысл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-370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47628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акой строке все слова, в которых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ь(мягкий знак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ает только мягкость согласных звук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нь, соловьи, метель, морков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) угольки, зверь, коньки, фасол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) вьюга, счастье, муравьи, жильё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какой строке все слова пишутся с разделительным мягким знако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) деньки, крыльцо, брать, мельни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)воробьи, песня, здесь, ночь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) друзья, ручьи, лисья, варень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-489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99640" y="836280"/>
            <a:ext cx="80550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Измените слова по данному образцу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Соня – Софь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таша - …                    Даша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аня -  …                      Луша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Илюша - …                     Уля  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ставьте слова во множественное чис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руг - …           брат - …          звено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ерево - …        сук - …            перо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Лист  - …          колос - …         прут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-4194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333000"/>
            <a:ext cx="7772400" cy="57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мените выделенные слова так, чтобы они обозначали признак предм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Рог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оленя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- …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шкурк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белки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лап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зайц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рлога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медведя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-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авь и запиши пословицу из данных сл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Без, учен…я, умен…я, 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есёлые риф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д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Е,Ё,И,Ю,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 в корнях стою, друзь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роб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, се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, жил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ё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д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,Ю,И,Е,Ё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робьи, жильё, ручь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стья, крылья, стулья, чь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лья, перья и семь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ьюга, осенью, друзь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4194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907560"/>
            <a:ext cx="777240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дбери к данным словам противоположные по значен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абота – бездель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олезнь - …            скука -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раги - …                вред  -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бери к данным словам близкие по значен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иятели – друзь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етель - …                дом -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горе     - …                вьюга -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42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ягкий знак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 хитрый знак.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е назвать его никак.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н не произносится,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о в слово часто проситс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3628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ягкий знак звука не обознача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ягкий знак показывает, что согласный звук перед ним произносится мягко: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го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гад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08360" y="2017800"/>
            <a:ext cx="524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 не печка и не грею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 тепло хранить умею. 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лесу у пня суетня, бегот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род рабочий весь день хлопочет.(…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ть, ребята, у мен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ва серебряных кон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зжу сразу на обоих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то за кони у меня? 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вост крючком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с пятачк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ежит в грязной луж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совсем не тужит. (…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ословиц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ье - свет, а неученье - тьм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ть хорошо вместе, а говорить пороз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мь раз примерь, а один отреж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учен день до вечера, коли делать нечег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терпенья нет умень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борочное списы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лый день лежит тюлен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лежать ему не л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аль, тюленье прилежань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пример для подражань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Б. Заходер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476360" y="189000"/>
          <a:ext cx="6095880" cy="40640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Ь</a:t>
                      </a:r>
                      <a:endParaRPr b="0" i="1" lang="en-US" sz="4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479736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1.Снежная буря.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2. Домики для пчёл.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3. 7Я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4. Животное.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                                                 5. Ягоды, сваренные в сахаре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3" name="Picture 249" descr="1fnm9052[1]"/>
          <p:cNvPicPr/>
          <p:nvPr/>
        </p:nvPicPr>
        <p:blipFill>
          <a:blip r:embed="rId1"/>
          <a:stretch/>
        </p:blipFill>
        <p:spPr>
          <a:xfrm>
            <a:off x="5292720" y="115920"/>
            <a:ext cx="3311640" cy="252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1" descr="1600x1200_2_SVOYO_RU_Spring_Wallpapers_collection"/>
          <p:cNvPicPr/>
          <p:nvPr/>
        </p:nvPicPr>
        <p:blipFill>
          <a:blip r:embed="rId2"/>
          <a:stretch/>
        </p:blipFill>
        <p:spPr>
          <a:xfrm>
            <a:off x="6804000" y="342900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6" descr="1024x768_SVOYO"/>
          <p:cNvPicPr/>
          <p:nvPr/>
        </p:nvPicPr>
        <p:blipFill>
          <a:blip r:embed="rId3"/>
          <a:stretch/>
        </p:blipFill>
        <p:spPr>
          <a:xfrm>
            <a:off x="3059280" y="4292640"/>
            <a:ext cx="1923840" cy="144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57" descr="SVOYO"/>
          <p:cNvPicPr/>
          <p:nvPr/>
        </p:nvPicPr>
        <p:blipFill>
          <a:blip r:embed="rId4"/>
          <a:stretch/>
        </p:blipFill>
        <p:spPr>
          <a:xfrm>
            <a:off x="250920" y="458136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9" descr="SVOYO_RU_summer_time_collection (91)"/>
          <p:cNvPicPr/>
          <p:nvPr/>
        </p:nvPicPr>
        <p:blipFill>
          <a:blip r:embed="rId1"/>
          <a:stretch/>
        </p:blipFill>
        <p:spPr>
          <a:xfrm>
            <a:off x="1403280" y="476280"/>
            <a:ext cx="2808360" cy="1755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1"/>
          <p:cNvSpPr/>
          <p:nvPr/>
        </p:nvSpPr>
        <p:spPr>
          <a:xfrm>
            <a:off x="3995640" y="4428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i="1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4140360" y="-387360"/>
            <a:ext cx="1603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Tahoma"/>
              </a:rPr>
              <a:t>Ь</a:t>
            </a:r>
            <a:endParaRPr b="0" i="1" lang="en-US" sz="20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4695840" y="128412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4572000" y="1268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КО</a:t>
            </a:r>
            <a:endParaRPr b="0" i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25" descr="Копия Копия SVOYO_RU_summer_time_collection (75)"/>
          <p:cNvPicPr/>
          <p:nvPr/>
        </p:nvPicPr>
        <p:blipFill>
          <a:blip r:embed="rId2"/>
          <a:stretch/>
        </p:blipFill>
        <p:spPr>
          <a:xfrm>
            <a:off x="3503520" y="3789360"/>
            <a:ext cx="1892520" cy="2763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6"/>
          <p:cNvSpPr/>
          <p:nvPr/>
        </p:nvSpPr>
        <p:spPr>
          <a:xfrm>
            <a:off x="4932360" y="2997360"/>
            <a:ext cx="282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ahoma"/>
              </a:rPr>
              <a:t>,,</a:t>
            </a:r>
            <a:endParaRPr b="0" i="1" lang="en-US" sz="15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5867280" y="5013360"/>
            <a:ext cx="261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ahoma"/>
              </a:rPr>
              <a:t>ЦЫ</a:t>
            </a:r>
            <a:endParaRPr b="0" i="1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28"/>
          <p:cNvSpPr/>
          <p:nvPr/>
        </p:nvSpPr>
        <p:spPr>
          <a:xfrm flipV="1">
            <a:off x="468360" y="2637000"/>
            <a:ext cx="230328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468360" y="3357720"/>
            <a:ext cx="2663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Freeform 30"/>
          <p:cNvSpPr/>
          <p:nvPr/>
        </p:nvSpPr>
        <p:spPr>
          <a:xfrm>
            <a:off x="1619280" y="2997360"/>
            <a:ext cx="156960" cy="360360"/>
          </a:xfrm>
          <a:custGeom>
            <a:avLst/>
            <a:gdLst>
              <a:gd name="textAreaLeft" fmla="*/ 0 w 156960"/>
              <a:gd name="textAreaRight" fmla="*/ 157320 w 1569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99" h="227">
                <a:moveTo>
                  <a:pt x="46" y="227"/>
                </a:moveTo>
                <a:cubicBezTo>
                  <a:pt x="72" y="178"/>
                  <a:pt x="99" y="129"/>
                  <a:pt x="91" y="91"/>
                </a:cubicBezTo>
                <a:cubicBezTo>
                  <a:pt x="83" y="53"/>
                  <a:pt x="15" y="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Freeform 31"/>
          <p:cNvSpPr/>
          <p:nvPr/>
        </p:nvSpPr>
        <p:spPr>
          <a:xfrm>
            <a:off x="1763640" y="2924280"/>
            <a:ext cx="155520" cy="433440"/>
          </a:xfrm>
          <a:custGeom>
            <a:avLst/>
            <a:gdLst>
              <a:gd name="textAreaLeft" fmla="*/ 0 w 155520"/>
              <a:gd name="textAreaRight" fmla="*/ 155880 w 155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98" h="273">
                <a:moveTo>
                  <a:pt x="45" y="273"/>
                </a:moveTo>
                <a:cubicBezTo>
                  <a:pt x="71" y="227"/>
                  <a:pt x="98" y="182"/>
                  <a:pt x="91" y="137"/>
                </a:cubicBezTo>
                <a:cubicBezTo>
                  <a:pt x="84" y="92"/>
                  <a:pt x="8" y="15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2303280" y="27082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ЬКИ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36"/>
          <p:cNvSpPr/>
          <p:nvPr/>
        </p:nvSpPr>
        <p:spPr>
          <a:xfrm rot="12655200">
            <a:off x="7308000" y="764280"/>
            <a:ext cx="1613160" cy="1630440"/>
          </a:xfrm>
          <a:prstGeom prst="lightningBol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7"/>
          <p:cNvSpPr/>
          <p:nvPr/>
        </p:nvSpPr>
        <p:spPr>
          <a:xfrm rot="13023600">
            <a:off x="7094160" y="498240"/>
            <a:ext cx="1582920" cy="1944720"/>
          </a:xfrm>
          <a:prstGeom prst="lightningBol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utoShape 38"/>
          <p:cNvSpPr/>
          <p:nvPr/>
        </p:nvSpPr>
        <p:spPr>
          <a:xfrm>
            <a:off x="8101080" y="0"/>
            <a:ext cx="914400" cy="914400"/>
          </a:xfrm>
          <a:prstGeom prst="sun">
            <a:avLst>
              <a:gd name="adj" fmla="val 2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6594840" y="404640"/>
            <a:ext cx="85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ahoma"/>
              </a:rPr>
              <a:t>М</a:t>
            </a:r>
            <a:endParaRPr b="0" i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Упражнение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шите. Вставьте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ь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это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ружна наша сем..я. Вот сем..я огурца. Красивы рога олен..я. Олен..и рога дороги. Скоро дожд.. пол..ёт. Птицы собралис.. в полёт. Сол..ю суп сол..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08:43:32Z</dcterms:created>
  <dc:creator>user</dc:creator>
  <dc:description/>
  <dc:language>en-US</dc:language>
  <cp:lastModifiedBy>ЮЛИШКА</cp:lastModifiedBy>
  <dcterms:modified xsi:type="dcterms:W3CDTF">2012-07-31T14:33:54Z</dcterms:modified>
  <cp:revision>7</cp:revision>
  <dc:subject/>
  <dc:title>Разделительный ь</dc:title>
</cp:coreProperties>
</file>