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1027-BD5F-41BD-9504-A44D9CC78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746E-8463-4395-86FE-37F235690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6347-E8EE-428D-AA1B-EDB075E74E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B8C3-C52C-4BD6-A9C6-8A384F5D7A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F338-5551-49C9-8D02-27C65F6DC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CFA4-0A4D-479B-8556-0F882321C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1515-3833-49C1-9130-D9590A39CB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F4A1-5DB5-4D07-8802-B019B763F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90F3-BEE4-4D9D-9AE4-3A114A5E8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739A-3E8E-4EF6-A623-5FCB3533C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8261-59B6-42CB-BCB4-F8EB6E927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DAE5-99A0-4A86-99FE-25E79F3901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9F9C-D681-4A3E-8E82-E71928045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71C7-DEDC-4BB0-A37E-A55C151E4D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7D5E-C47D-48AA-9505-A48544690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4CA2-692D-4C35-B9FA-EF8F14687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05A-260A-4574-AB2E-9AAF3EF1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723-F1CB-4310-A54B-857CDD6D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5CE-F194-4000-BF23-7411F99E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41EB-0B2A-4B84-A5DD-C50E18F9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4AC-6533-4397-8DEB-9993504C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529-5283-4898-BFE0-626D18ED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519-30F2-4B24-AE7B-4EA6DDB6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B37-119B-4927-A921-85B1D6D6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EDB-EEEC-4D03-9792-FAE6B5E4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6A0-51A4-4A95-AACC-0E6AB3A3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8D9-CC19-4A0D-964E-D908F2E4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D8B-E2C3-4139-BF42-8C0ED983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9B47-37D8-429F-BF10-600D7E323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404640"/>
            <a:ext cx="79218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нцип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фогра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C41-32 копия"/>
          <p:cNvPicPr/>
          <p:nvPr/>
        </p:nvPicPr>
        <p:blipFill>
          <a:blip r:embed="rId1"/>
          <a:stretch/>
        </p:blipFill>
        <p:spPr>
          <a:xfrm>
            <a:off x="250920" y="3500280"/>
            <a:ext cx="3457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Укажите слова, в которых гласный пишется в соответствии с традиционным принципом русской орфограф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жка; 2) чашка; 3) круж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 шишка; 5) книжка; 6) игру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Подсказка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всегда мягкий согласный в русском языке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всегда тверды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ва; 2) бетон; 3) заслон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батон; 5) вагон; 6) выг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476360" y="189000"/>
            <a:ext cx="40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верь себя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6" descr="C41-13 копия"/>
          <p:cNvPicPr/>
          <p:nvPr/>
        </p:nvPicPr>
        <p:blipFill>
          <a:blip r:embed="rId1"/>
          <a:stretch/>
        </p:blipFill>
        <p:spPr>
          <a:xfrm>
            <a:off x="7451640" y="4005360"/>
            <a:ext cx="16923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Укажите слова, написание которых опирается на фонетический принцип русской орфограф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дарный; 2) отважный; 3) бесплодный; 4) подходящ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отсталый; 6) подроб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ыстория; 2) розыгрыш; 3) представитель; 4) расписани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заигрывать; 6) расп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41-21 копия"/>
          <p:cNvPicPr/>
          <p:nvPr/>
        </p:nvPicPr>
        <p:blipFill>
          <a:blip r:embed="rId1"/>
          <a:stretch/>
        </p:blipFill>
        <p:spPr>
          <a:xfrm>
            <a:off x="7093080" y="3789360"/>
            <a:ext cx="1834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Укажите слова, написание которых опирается на морфемный принцип русской орфограф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умирать; 2) миролюбивы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разыгрывать; 4) под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41-15 копия"/>
          <p:cNvPicPr/>
          <p:nvPr/>
        </p:nvPicPr>
        <p:blipFill>
          <a:blip r:embed="rId1"/>
          <a:stretch/>
        </p:blipFill>
        <p:spPr>
          <a:xfrm>
            <a:off x="6659640" y="3933720"/>
            <a:ext cx="23828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жите слова, написание которых опирается на дифференцирующий  принцип русской орфограф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компания, 2)водолаз, 3)воды, 4)камп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пример, 2)пребывать, 3)президент, 4)при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41-33 копия"/>
          <p:cNvPicPr/>
          <p:nvPr/>
        </p:nvPicPr>
        <p:blipFill>
          <a:blip r:embed="rId1"/>
          <a:stretch/>
        </p:blipFill>
        <p:spPr>
          <a:xfrm>
            <a:off x="6804000" y="4365720"/>
            <a:ext cx="23400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2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2,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1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1, 2, 4,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2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1116000" y="189000"/>
            <a:ext cx="2808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Ю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6" descr="Картинка 9 из 887150"/>
          <p:cNvPicPr/>
          <p:nvPr/>
        </p:nvPicPr>
        <p:blipFill>
          <a:blip r:embed="rId1"/>
          <a:stretch/>
        </p:blipFill>
        <p:spPr>
          <a:xfrm>
            <a:off x="5292720" y="189000"/>
            <a:ext cx="36403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gramma.ru/RU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s.1september.ru/2004/07/5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festival.1september.ru/articles/413210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yarus.aspu.ru/?id=4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116000" y="260280"/>
            <a:ext cx="6048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ьзованные ресурсы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8" descr="0-38550-capital009"/>
          <p:cNvPicPr/>
          <p:nvPr/>
        </p:nvPicPr>
        <p:blipFill>
          <a:blip r:embed="rId1"/>
          <a:stretch/>
        </p:blipFill>
        <p:spPr>
          <a:xfrm>
            <a:off x="6877080" y="1268280"/>
            <a:ext cx="2138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8964720" cy="65944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0" y="0"/>
            <a:ext cx="90000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Левая фигурная скобка 5"/>
          <p:cNvSpPr/>
          <p:nvPr/>
        </p:nvSpPr>
        <p:spPr>
          <a:xfrm>
            <a:off x="0" y="5943600"/>
            <a:ext cx="6443640" cy="914400"/>
          </a:xfrm>
          <a:custGeom>
            <a:avLst/>
            <a:gdLst>
              <a:gd name="textAreaLeft" fmla="*/ 4116960 w 6443640"/>
              <a:gd name="textAreaRight" fmla="*/ 6444000 w 6443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755640" y="5445000"/>
            <a:ext cx="7488360" cy="129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ы орфогра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то закономерности, лежащие в основе орфографической системы. Кажд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 орфогра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ъединяет группу правил, являющихся приложением этого принципа к конкретным языковым я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ущи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рфографически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инципом нашего письма является так называемы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ем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принцип, суть которого состоит в следующем: необходимо сохранять единообразное написание всех значащих частей слова (морфем, то есть приставок, корней, суффиксов и окончаний), несмотря на различие в их произношении. И это необычайно важно вот по какой причине: слово складывается из морфем, как дом из отдельных кирпичиков, и в каждой из таких частей заложена определенная информация о его значении и грамматических свойств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епн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епь, рябинов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новый, подписа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пись, к ра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 вод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нц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ус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фограф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ему подчинено написание большей части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826920" y="189000"/>
            <a:ext cx="69138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фологический принци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24000" y="1268280"/>
            <a:ext cx="8496000" cy="61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едем несколько примеров. Самые прост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ды, вода, водя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корень 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произносится по-разному, но пишется одинаково, так как во всех словах является носителем их вещественного знач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езд, поехал, поезжа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приставк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 этих словах пишется одинаково, вне зависимости от произношения, так как имеет значение, указывающее на время или способ действ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убовый, березовы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суффикс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, производящий прилагательные со значением принадлежности, пишется одинаково, несмотря на разницу в произношени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олом, стул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окончан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ишется одинаково, несмотря на различие в произношении, ибо указывает на одну и ту же форму существительного мужского рода, а именно творительный падеж единственного числ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2771640" y="260280"/>
            <a:ext cx="30956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правило фонетического принц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чта каждого школьника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 "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лышим, так и пиш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". Руководствуясь этим правилом, следовало бы сегодня писа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мес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р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и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мест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я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1332000" y="260280"/>
            <a:ext cx="619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нетический принци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исание только двух согласных там, где морфологически должно быть т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 (в некоторых случаях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лько одной согласной там, где морфологически должно быть д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ес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есс-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суд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 + ссуд-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ман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анн-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ерет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перетт-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исание -с- вместо -з- на конце некоторых пристав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бе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ы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ре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д следующим глухим соглас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личие четырех письменных вариантов у приставки ро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где отраж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только чередование звонк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\з\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глух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\с\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удар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\о\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удар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\а\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озыс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ыскив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оспис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списа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исание начального ы вместо и в корнях после русскоязычных приставок, оканчивающихся на твердый соглас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роме приставо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ерх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безыскусный, предыюльский, сызн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выбор буквы нельзя проверить сильной позицией, так как такой нет в современном языке, слово пишется в соответствии с традицией, и его написание определяется по словарю. В этих случаях про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дицион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русской орфографии. На нем базируются такие правила: правописание непроверяемых и чередующихся гласных и согласных в корне, правописание гласных после шипящих 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употребле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шипящих, слитное и раздельное правописание наречий, наречных сочетаний и некоторых предлогов, правописание окончания прилагательных мужского рода р.п. ед. ч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1403280" y="189000"/>
            <a:ext cx="554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диционный принци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адиционны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заключается в том, что признаётся правильным написание, закреплённое традицией. Это, например, написание русских и заимствованных слов с непроверяемыми гласными, непроверяемыми, непроизносимыми или удвоенными согласными в корне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бака, топор, вокзал, футбол, здоровье, алле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р. В школьной практике слова с непроверяемыми гласными и согласными называ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ловарными сло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фференцирующ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писания реализуется в ситуациях, когда средствами орфографии необходимо разграничить одинаково звучащие слова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ценка)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танцевальный вечер)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жё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лагол)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жо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уществительное)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ач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лагол)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лач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уществительное)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уш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уществительное мужского рода)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уш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уществительное женского рода)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ё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тица),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рё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оро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1042920" y="189000"/>
            <a:ext cx="662472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ифференцирующий принци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2:13:30Z</dcterms:created>
  <dc:creator>Розалия</dc:creator>
  <dc:description/>
  <dc:language>en-US</dc:language>
  <cp:lastModifiedBy>надежда</cp:lastModifiedBy>
  <dcterms:modified xsi:type="dcterms:W3CDTF">2011-02-20T17:32:43Z</dcterms:modified>
  <cp:revision>12</cp:revision>
  <dc:subject/>
  <dc:title>Слайд 1</dc:title>
</cp:coreProperties>
</file>