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3D8-B74B-498D-A55A-7FC18B8C9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6390-16F7-4669-81C0-F79F052A6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2FC5-8C4D-4580-BEA9-52240F772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0A0-7E87-4FB5-B97E-21812639C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1DBA-7734-490E-B309-750EDAD7F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9612-78C7-4A02-A2B1-109BC0A97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EDBF-CD5D-41A1-A72E-4663E6BB2C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D3D-7013-4BF7-8007-3B462D254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B28-0ABC-4488-9974-3145FFDA4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D9E1-0A8B-44B1-B711-5BCF21A3D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1AD2-AD0E-4AA7-9AA0-9C5022A61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D911-14E7-4255-84D1-8AEE59BC8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F58-F8A1-4B70-A6E8-21BF4062A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BDA-81A2-4302-A7D9-70C32B988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AECE-4D5E-46B6-805C-6F99019F2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EFEE-94D9-49C4-9B87-F23280637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DD2-58CB-4262-AC4B-6EFE56D5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CAB-296B-46FB-AA4F-D9D5664E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DF6-4114-4A40-8B7B-F3B46944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12B-3978-419C-A579-7661E776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1F5-881E-4BC8-BFC3-CEB7662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837-125E-46D0-A542-7A2486F1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DC0-B9D1-4453-B02F-FD8AA5B1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089-0CB1-4114-BFD0-5F167B9F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3B4-3F68-41BB-B509-4781559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ABE-CF98-4993-BB79-F331DF7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F01-8CD6-4362-86FB-25382EE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776-9D62-44B4-9DF0-90924857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D1C-F9D6-4F78-BBE0-F2B9465A5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404640"/>
            <a:ext cx="7921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фогра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C41-32 копия"/>
          <p:cNvPicPr/>
          <p:nvPr/>
        </p:nvPicPr>
        <p:blipFill>
          <a:blip r:embed="rId1"/>
          <a:stretch/>
        </p:blipFill>
        <p:spPr>
          <a:xfrm>
            <a:off x="250920" y="3500280"/>
            <a:ext cx="3457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Укажите слова, в которых гласный пишется в соответствии с традиционным принципом русской орфограф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жка; 2) чашка; 3) круж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 шишка; 5) книжка; 6) игр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одсказка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всегда мягкий согласный в русском языке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всегда тверд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ва; 2) бетон; 3) заслон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батон; 5) вагон; 6) выг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476360" y="189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6" descr="C41-13 копия"/>
          <p:cNvPicPr/>
          <p:nvPr/>
        </p:nvPicPr>
        <p:blipFill>
          <a:blip r:embed="rId1"/>
          <a:stretch/>
        </p:blipFill>
        <p:spPr>
          <a:xfrm>
            <a:off x="7451640" y="4005360"/>
            <a:ext cx="1692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кажите слова, написание которых опирается на фонетический принцип русской орфограф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дарный; 2) отважный; 3) бесплодный; 4) подходящ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отсталый; 6) подроб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ыстория; 2) розыгрыш; 3) представитель; 4) распис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заигрывать; 6) ра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41-21 копия"/>
          <p:cNvPicPr/>
          <p:nvPr/>
        </p:nvPicPr>
        <p:blipFill>
          <a:blip r:embed="rId1"/>
          <a:stretch/>
        </p:blipFill>
        <p:spPr>
          <a:xfrm>
            <a:off x="7093080" y="3789360"/>
            <a:ext cx="183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Укажите слова, написание которых опирается на морфемный принцип русской орфограф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умирать; 2) миролюбив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разыгрывать; 4) под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41-15 копия"/>
          <p:cNvPicPr/>
          <p:nvPr/>
        </p:nvPicPr>
        <p:blipFill>
          <a:blip r:embed="rId1"/>
          <a:stretch/>
        </p:blipFill>
        <p:spPr>
          <a:xfrm>
            <a:off x="6659640" y="3933720"/>
            <a:ext cx="2382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жите слова, написание которых опирается на дифференцирующий  принцип русской орфограф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компания, 2)водолаз, 3)воды, 4)камп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пример, 2)пребывать, 3)президент, 4)при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41-33 копия"/>
          <p:cNvPicPr/>
          <p:nvPr/>
        </p:nvPicPr>
        <p:blipFill>
          <a:blip r:embed="rId1"/>
          <a:stretch/>
        </p:blipFill>
        <p:spPr>
          <a:xfrm>
            <a:off x="6804000" y="4365720"/>
            <a:ext cx="2340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2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1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1, 2, 4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16000" y="189000"/>
            <a:ext cx="280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Ю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6" descr="Картинка 9 из 887150"/>
          <p:cNvPicPr/>
          <p:nvPr/>
        </p:nvPicPr>
        <p:blipFill>
          <a:blip r:embed="rId1"/>
          <a:stretch/>
        </p:blipFill>
        <p:spPr>
          <a:xfrm>
            <a:off x="5292720" y="189000"/>
            <a:ext cx="36403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gramma.ru/R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.1september.ru/2004/07/5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festival.1september.ru/articles/413210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arus.aspu.ru/?id=4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116000" y="260280"/>
            <a:ext cx="604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ованные ресурсы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8" descr="0-38550-capital009"/>
          <p:cNvPicPr/>
          <p:nvPr/>
        </p:nvPicPr>
        <p:blipFill>
          <a:blip r:embed="rId1"/>
          <a:stretch/>
        </p:blipFill>
        <p:spPr>
          <a:xfrm>
            <a:off x="6877080" y="1268280"/>
            <a:ext cx="2138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8964720" cy="65944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000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Левая фигурная скобка 5"/>
          <p:cNvSpPr/>
          <p:nvPr/>
        </p:nvSpPr>
        <p:spPr>
          <a:xfrm>
            <a:off x="0" y="5943600"/>
            <a:ext cx="6443640" cy="914400"/>
          </a:xfrm>
          <a:custGeom>
            <a:avLst/>
            <a:gdLst>
              <a:gd name="textAreaLeft" fmla="*/ 4116960 w 6443640"/>
              <a:gd name="textAreaRight" fmla="*/ 6444000 w 6443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755640" y="5445000"/>
            <a:ext cx="7488360" cy="12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ы орфогра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закономерности, лежащие в основе орфографической системы. Кажд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орфогра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ъединяет группу правил, являющихся приложением этого принципа к конкретным языковым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ущ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фографическ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нципом нашего письма является так называем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ем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принцип, суть которого состоит в следующем: необходимо сохранять единообразное написание всех значащих частей слова (морфем, то есть приставок, корней, суффиксов и окончаний), несмотря на различие в их произношении. И это необычайно важно вот по какой причине: слово складывается из морфем, как дом из отдельных кирпичиков, и в каждой из таких частей заложена определенная информация о его значении и грамматических свой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епн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епь, рябинов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новый, подпис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пись, к ра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вод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ус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фограф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му подчинено написание большей части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826920" y="189000"/>
            <a:ext cx="6913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фологически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24000" y="1268280"/>
            <a:ext cx="84960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едем несколько примеров. Самые прос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ды, вода, водя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корень 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произносится по-разному, но пишется одинаково, так как во всех словах является носителем их вещественного зна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езд, поехал, поезжа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ристав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этих словах пишется одинаково, вне зависимости от произношения, так как имеет значение, указывающее на время или способ действ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бовый, березов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суффик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, производящий прилагательные со значением принадлежности, пишется одинаково, несмотря на разницу в произношени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олом, стул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оконча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ишется одинаково, несмотря на различие в произношении, ибо указывает на одну и ту же форму существительного мужского рода, а именно творительный падеж единственного чис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771640" y="260280"/>
            <a:ext cx="30956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правило фонетического принц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чта каждого школьника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 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лышим, так и пиш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. Руководствуясь этим правилом, следовало бы сегодня писа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1332000" y="26028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чески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исание только двух согласных там, где морфологически должно быть 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 (в некоторых случаях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лько одной согласной там, где морфологически должно быть д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ес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есс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суд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+ ссуд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ма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нн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ер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еретт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исание -с- вместо -з- на конце некоторых пристав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б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ы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р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д следующим глухим соглас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ичие четырех письменных вариантов у приставки ро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где отраж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только чередование звонк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з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глух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с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удар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о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уда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а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озы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ыскив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оспи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спис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исание начального ы вместо и в корнях после русскоязычных приставок, оканчивающихся на твердый соглас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роме приставо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рх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езыскусный, предыюльский, сызн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бор буквы нельзя проверить сильной позицией, так как такой нет в современном языке, слово пишется в соответствии с традицией, и его написание определяется по словарю. В этих случаях про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дицио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русской орфографии. На нем базируются такие правила: правописание непроверяемых и чередующихся гласных и согласных в корне, правописание гласных после шипящих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потребл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шипящих, слитное и раздельное правописание наречий, наречных сочетаний и некоторых предлогов, правописание окончания прилагательных мужского рода р.п. ед. ч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403280" y="189000"/>
            <a:ext cx="55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диционны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адицион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заключается в том, что признаётся правильным написание, закреплённое традицией. Это, например, написание русских и заимствованных слов с непроверяемыми гласными, непроверяемыми, непроизносимыми или удвоенными согласными в корне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бака, топор, вокзал, футбол, здоровье, алле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р. В школьной практике слова с непроверяемыми гласными и согласными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оварными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фференцирующ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писания реализуется в ситуациях, когда средствами орфографии необходимо разграничить одинаково звучащие слова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ценка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анцевальный вечер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ё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лагол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о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ч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лагол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ч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уш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 мужского рода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уш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 женского рода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ё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тица),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ё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ор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042920" y="189000"/>
            <a:ext cx="6624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фференцирующи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2:13:30Z</dcterms:created>
  <dc:creator>Розалия</dc:creator>
  <dc:description/>
  <dc:language>en-US</dc:language>
  <cp:lastModifiedBy>надежда</cp:lastModifiedBy>
  <dcterms:modified xsi:type="dcterms:W3CDTF">2011-02-20T17:32:43Z</dcterms:modified>
  <cp:revision>12</cp:revision>
  <dc:subject/>
  <dc:title>Слайд 1</dc:title>
</cp:coreProperties>
</file>