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B52-37B9-4849-9915-810540C3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A21-E094-4CFF-BB1E-4E55849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D9D-480F-40BD-983E-33884813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DFE-78ED-4A5C-A350-B61F8704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CC24-DE4C-4269-B1DE-1FF59638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76A-55BF-4EB0-8960-8C3A23BD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E68-11C4-44EA-B5F3-8405DCD3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64C-AEC9-41AF-83ED-6D989A8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0472-B6FD-4848-BD35-886C84B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946-CA5D-4F2F-BA1B-2F23A30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C2CD-8C7D-480E-A04A-B1EB2CF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340-2F48-4E0A-AA75-A700F6EA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294-F24C-4A05-B9A3-FCC2DFD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B543-6431-4CFD-91BC-E75341A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B086-0296-4EC7-B22B-C1D1986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EC03-8615-427E-A595-34799B5C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112A-AEEF-46B2-9583-71F37C0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50A-BE9D-41E7-BC46-F2BEE5F8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1AA-BEFA-4D28-8852-B230A856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CA7-652B-4A75-8316-1EB7C2E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F12-F3F6-4B8A-B175-A38B6C86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8D4-A8BD-4377-A606-0FA14BA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C96-0CA2-41FA-A546-109DE94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313-D82F-45AB-9368-1817D98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FF6-EE27-43FF-8D03-865398CB2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316-9AB3-411B-83FE-082420DAB51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56908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ектно-исследовательская технология обучени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и воспитани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 начальной школ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19640" y="5157720"/>
            <a:ext cx="5256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Кочкаева Лариса Анатолье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КОУ «Одесская СОШ № 2» Одесского М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Участники проек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учител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учащиеся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одител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100_0371"/>
          <p:cNvPicPr/>
          <p:nvPr/>
        </p:nvPicPr>
        <p:blipFill>
          <a:blip r:embed="rId1"/>
          <a:stretch/>
        </p:blipFill>
        <p:spPr>
          <a:xfrm>
            <a:off x="1109520" y="3571920"/>
            <a:ext cx="3492720" cy="2306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1071720" y="3643200"/>
            <a:ext cx="35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 «Речной флот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инципы организации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56991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чёт интересов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чение через деятельнос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знание и знание являются следствием преодоления труднос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отрудничество участников педагогического процесс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вободное творчество в выборе темы проекта, решения проблемы, оформления и защиты проек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916280"/>
            <a:ext cx="67071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актико-ориентированны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сследовательски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нформационны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ворчески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олевой проек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Классификация проектов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 по доминирующей деятельности учащихс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нутриклассны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нутришкольны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региональными (в пределах одной страны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еждународным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Классификация проектов по характеру контактов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ини-проекты (1 ч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раткосрочные проекты (2-6ч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среднесрочные (12-15 ч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долгосрочные проекты (четверть, полугодие, год) проекты, требующие времени для поиска материала, его анализа и т. 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Классификация проектов по продолжительн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Этапы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тивацион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планирующ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информационно-операцион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рефлексивно-оценочный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Формы продуктов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web-сайт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анализ данных социологического опрос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атлас, карт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идеофиль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ыставк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азета, журнал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действующая фирм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законопроект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игр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оллек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остю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одель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узыкальное произведение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ультимедийный продукт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формление кабинет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становк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раздник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рогноз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истема школьного самоуправления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правочник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равнительно-сопоставительный анализ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учебное пособие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кскурси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ЭТАПЫ РАБОТЫ 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НАД УЧЕБНЫМ ПРОЕКТ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погружение в проект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организация деятельности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осуществление деятельности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презентация результатов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Педагогические условия организации проектной деятельност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в начальной школ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В процессе работы над проектом проводить с младшими школьникам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экскур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прогулки-наблюд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социальные ак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опрос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интервьюирование учениками отдельных лиц, для которых предназначен детский проек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4" descr="10000"/>
          <p:cNvPicPr/>
          <p:nvPr/>
        </p:nvPicPr>
        <p:blipFill>
          <a:blip r:embed="rId1"/>
          <a:stretch/>
        </p:blipFill>
        <p:spPr>
          <a:xfrm>
            <a:off x="5500800" y="1571760"/>
            <a:ext cx="303372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835280" y="610920"/>
            <a:ext cx="66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«Спорьте, заблуждайтесь, ошибайтесь, но ради бога, размышляйте, и хотя и криво, да сам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Г.Э. Лессин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6" descr="Изображение 034"/>
          <p:cNvPicPr/>
          <p:nvPr/>
        </p:nvPicPr>
        <p:blipFill>
          <a:blip r:embed="rId1"/>
          <a:stretch/>
        </p:blipFill>
        <p:spPr>
          <a:xfrm>
            <a:off x="3000240" y="2143080"/>
            <a:ext cx="3071880" cy="2158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57120" y="478620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Обучение школьников специальным знаниям, а также развитие у них общих умений и навыков, необходимых в исследовательском поиске, - одна из основных практических задач современного образов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оследовательность приобщения учащихся к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т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едолговременных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(1-2 урока)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однопредметных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проектов к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долговременным,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межпредметн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т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личных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проектов к г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рупповым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общеклассн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езентация (защита) проек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Необходим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еникам произвести самооценку проек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ащимся оценить процесс проектирова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еникам подготовить проект к презент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Использование технологии проектного обучения в начальной школе способствует развитию таких качеств личности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самостоятель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целеустремл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ответств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инициатив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настойчив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толеран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Группа компетенций, на которые проектная деятельность оказывает наибольшее влияние у младших школьников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085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исследовательск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социального взаимодейств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оценоч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информацион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резентацион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рефлексивны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менеджерские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Участвуя в проектной деятельности, младшие школьники демонстрируют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готовность к познанию и овладению основными исследовательскими методами (анализ литературы, поиск источников информации, сбор и обработка данных, научное объяснение полученных результатов, видение и выдвижение новых проблем, гипотез, методов их решения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готовность овладеть компьютерной грамотностью, умение работать с аудиовизуальной и мультимедиатехник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ладение коммуникативными навыками, толерантность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интегрировать ранее полученные знания по разным учебным дисциплинам для решения познавательных зада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3264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«Числа в загадках, пословицах, поговорках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4365360"/>
            <a:ext cx="79516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математике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 1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Цель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получение информации о использовании математических знаний в жизни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расширить знания о числах в загадках, пословицах, поговорках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сплоченности коллектива через общее дело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 понимаете слова «математика вокруг нас»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Что такое пословицы и поговорки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 составить книгу «Числа в загадках, пословицах, поговорках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100_0824"/>
          <p:cNvPicPr/>
          <p:nvPr/>
        </p:nvPicPr>
        <p:blipFill>
          <a:blip r:embed="rId1"/>
          <a:stretch/>
        </p:blipFill>
        <p:spPr>
          <a:xfrm>
            <a:off x="2428920" y="2428920"/>
            <a:ext cx="3830760" cy="304308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3"/>
          <p:cNvSpPr/>
          <p:nvPr/>
        </p:nvSpPr>
        <p:spPr>
          <a:xfrm>
            <a:off x="1500120" y="78588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Arial"/>
              </a:rPr>
              <a:t>Защита проект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«Моя малая родин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4365720"/>
            <a:ext cx="82915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окружающему ми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1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Цель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получение информации о многообразии городов и сёл России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расширить знания о своём родном селе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сплоченности коллектива через общее дело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патриотизма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ие города и сёла России вы знаете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Что для вас является малой родиной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ие достопримечательности можно встретить в нашем селе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сследовательское поведени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в современном мир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сматривается как стиль жизн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временного человек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Проблема исследо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2781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заключается в том, что технология проектной деятельности слабо проработана в методике начального обучения. В то время как существует необходимость использовать эту технологию для осуществления связи теории с практикой в начальной школ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Рисунок 43" descr="http://www.logvanov.r52.ru/data/Personaz/2Dsumka.jpg"/>
          <p:cNvPicPr/>
          <p:nvPr/>
        </p:nvPicPr>
        <p:blipFill>
          <a:blip r:embed="rId1"/>
          <a:stretch/>
        </p:blipFill>
        <p:spPr>
          <a:xfrm>
            <a:off x="324000" y="333360"/>
            <a:ext cx="1790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Изображение 049"/>
          <p:cNvPicPr/>
          <p:nvPr/>
        </p:nvPicPr>
        <p:blipFill>
          <a:blip r:embed="rId1"/>
          <a:stretch/>
        </p:blipFill>
        <p:spPr>
          <a:xfrm>
            <a:off x="4572000" y="321480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Изображение 016"/>
          <p:cNvPicPr/>
          <p:nvPr/>
        </p:nvPicPr>
        <p:blipFill>
          <a:blip r:embed="rId2"/>
          <a:stretch/>
        </p:blipFill>
        <p:spPr>
          <a:xfrm>
            <a:off x="357120" y="714240"/>
            <a:ext cx="4286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44000" cy="26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 «Моя семья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окружающему миру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 1а класс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Цели проект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Получение знаний о семь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Формирование уважительного отношения к своей семь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Воспитание чувства гордости за свою семь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Что такое семь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Что было бы, если бы у человека не было семь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Что объединяет всех членов семь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Изображение 052"/>
          <p:cNvPicPr/>
          <p:nvPr/>
        </p:nvPicPr>
        <p:blipFill>
          <a:blip r:embed="rId1"/>
          <a:stretch/>
        </p:blipFill>
        <p:spPr>
          <a:xfrm>
            <a:off x="4587840" y="3643200"/>
            <a:ext cx="3944880" cy="281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Изображение 043"/>
          <p:cNvPicPr/>
          <p:nvPr/>
        </p:nvPicPr>
        <p:blipFill>
          <a:blip r:embed="rId2"/>
          <a:stretch/>
        </p:blipFill>
        <p:spPr>
          <a:xfrm>
            <a:off x="357120" y="357120"/>
            <a:ext cx="4318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000"/>
            </a:br>
            <a:r>
              <a:rPr b="1" lang="ru-RU" sz="4000" spc="-1" strike="noStrike">
                <a:solidFill>
                  <a:srgbClr val="cc0099"/>
                </a:solidFill>
                <a:latin typeface="Verdana"/>
              </a:rPr>
              <a:t> «Мой класс и моя школ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Picture 5" descr="100_0926"/>
          <p:cNvPicPr/>
          <p:nvPr/>
        </p:nvPicPr>
        <p:blipFill>
          <a:blip r:embed="rId1"/>
          <a:stretch/>
        </p:blipFill>
        <p:spPr>
          <a:xfrm>
            <a:off x="285840" y="1500120"/>
            <a:ext cx="4118040" cy="3206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сс 031"/>
          <p:cNvPicPr/>
          <p:nvPr/>
        </p:nvPicPr>
        <p:blipFill>
          <a:blip r:embed="rId2"/>
          <a:stretch/>
        </p:blipFill>
        <p:spPr>
          <a:xfrm>
            <a:off x="3755880" y="2928960"/>
            <a:ext cx="49197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Вывод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эффективность использования технологии проектно-исследовательской деятельности в начальной школе - это не просто один из методов обучения- это путь формирования особого стиля детской жизни и учебной деятельности, которая позволяет трансформировать обучение в самообучение, реально запускает механизм саморазви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Гипотез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истема формирования основ проектной деятельности будет эффективной ес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на включает изучение и анализ степени обученности проектной деяте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правлена на формирование мотивации к занятиям проектной деятельность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Характеризуется наличие системности в образовательном процесс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Verdana"/>
              </a:rPr>
              <a:t>Новиз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оектные приёмы отвечают всем современным тенденциям в образовани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Ведущая педагогическая иде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етод учебного проекта - один из путей формировани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целеполаган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оценк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действ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рефлекс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самовоспитанию и самообразова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Цель рабо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развить познавательные интересы, интеллектуальные, творческие и коммуникативные способности учащихся, определяющих формирование компетентности личности, способной к жизнедеятельности и самоопределению в информационном обществе, ясно представляющей свои возможности, ресурсы и способы реализации выбранного жизненного пу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Задач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зучить педагогические, психологические, методические литературные источники по пробл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- исследовать актуальность проблемы в рамках нашей школ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ыявить наиболее продуктивную технологию для достижения поставленной цел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зучить теоретические основы новой технолог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ыявить наиболее приемлемую форму введения метода проект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спользовать метод проектов в классно-урочной и внекласс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едполагаемый результа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расширение кругозора учащихся в интересующих их областях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находить источники информации; извлекать информацию, относящуюся к т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планировать работу над проекто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сотрудничать при выполнении проектов, доводить начатое дело до конц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5" descr="100_0390"/>
          <p:cNvPicPr/>
          <p:nvPr/>
        </p:nvPicPr>
        <p:blipFill>
          <a:blip r:embed="rId1"/>
          <a:stretch/>
        </p:blipFill>
        <p:spPr>
          <a:xfrm>
            <a:off x="2286000" y="4286160"/>
            <a:ext cx="3598920" cy="2378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2357280" y="4357800"/>
            <a:ext cx="34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оект  «Воздушный змей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17:01Z</dcterms:created>
  <dc:creator>Любовь</dc:creator>
  <dc:description/>
  <dc:language>en-US</dc:language>
  <cp:lastModifiedBy>Angel</cp:lastModifiedBy>
  <dcterms:modified xsi:type="dcterms:W3CDTF">2012-07-31T09:58:12Z</dcterms:modified>
  <cp:revision>50</cp:revision>
  <dc:subject/>
  <dc:title>Проектная деятельность  в начальной школе</dc:title>
</cp:coreProperties>
</file>