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2C9-8945-4165-8D7F-524AA0E5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6E5-7A4B-4AD9-9D8B-D9D80056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69E-2474-470D-BDCB-8F9BA888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569-BDE6-428C-9DA0-DE2A0F2C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2ABC-1450-4710-9BBD-FE9E3587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7B52-550D-4189-9479-96C67467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3E08-EC6F-491F-AA1E-3B8D106E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B45C-7C38-4B10-8525-C0F458E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63CC-9C6B-46E3-BD35-A7C3BD81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5414-71DD-4B43-89F2-12090A3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7E14-CD59-42C7-B33E-5CF909E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7AF-6F24-48B9-9996-676CC43F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2299-60B6-49A5-8772-4D0C215E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6D88-F259-4A17-8B34-E34DA22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D76-9B5B-4350-A6CD-4DD46C9A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C517-8DAB-430A-8CBA-6485A4DE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871E-1E28-47C5-AED0-0C937387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4A7-6E22-4DEA-B63C-5B6A085D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343-3102-4844-BAE2-7842CBDB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CC1-D940-4429-83A7-6B74A29E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537-5A54-4B4C-921E-37833D7D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EC3-E17A-46CA-9FB5-6EBAE823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FEF-8F3B-4147-B58B-C00A1E5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987-AC2C-43AB-ABCF-52A8705F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2BD6-3B1A-4D65-BF40-E72E984536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4680" y="58680"/>
              <a:ext cx="3626280" cy="6136920"/>
              <a:chOff x="5404680" y="58680"/>
              <a:chExt cx="3626280" cy="61369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76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600" y="26481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4840" y="124200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5320" y="29336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240" y="285480"/>
              <a:ext cx="892440" cy="825840"/>
              <a:chOff x="5646240" y="28548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78084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6044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880" y="38592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5280"/>
              <a:ext cx="1059120" cy="830880"/>
              <a:chOff x="968760" y="525528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02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156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98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5240"/>
              <a:ext cx="1690200" cy="1146600"/>
              <a:chOff x="375840" y="4352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37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88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26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3680" y="3712320"/>
              <a:ext cx="1155600" cy="1607760"/>
              <a:chOff x="739368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84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912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168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1A62-E0CE-4155-BB6C-7D9F6B3F807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569080" cy="28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ектно-исследовательская технология обучения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и воспитани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 начальной школ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419640" y="5157720"/>
            <a:ext cx="5256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Кочкаева Лариса Анатольевн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КОУ «Одесская СОШ № 2» Одесского М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Участники проек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92000" y="1600200"/>
            <a:ext cx="5194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учитель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учащиеся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одител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100_0371"/>
          <p:cNvPicPr/>
          <p:nvPr/>
        </p:nvPicPr>
        <p:blipFill>
          <a:blip r:embed="rId1"/>
          <a:stretch/>
        </p:blipFill>
        <p:spPr>
          <a:xfrm>
            <a:off x="1109520" y="3571920"/>
            <a:ext cx="3492720" cy="2306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1071720" y="3643200"/>
            <a:ext cx="35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ект  «Речной флот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5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инципы организации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44280"/>
            <a:ext cx="569916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чёт интересов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чение через деятельнос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познание и знание являются следствием преодоления труднос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отрудничество участников педагогического процесс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свободное творчество в выборе темы проекта, решения проблемы, оформления и защиты проекто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1916280"/>
            <a:ext cx="67071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актико-ориентированны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сследовательски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нформационны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ворческий проект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олевой проек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8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Классификация проектов</a:t>
            </a: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 по доминирующей деятельности учащихся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нутриклассны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внутришкольным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региональными (в пределах одной страны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еждународными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Классификация проектов по характеру контактов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84428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ини-проекты (1 ч)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краткосрочные проекты (2-6ч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среднесрочные (12-15 ч)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долгосрочные проекты (четверть, полугодие, год) проекты, требующие времени для поиска материала, его анализа и т. 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Классификация проектов по продолжительн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Этапы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тивацион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планирующ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информационно-операцион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рефлексивно-оценочный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Формы продуктов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web-сайт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анализ данных социологического опрос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атлас, карт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идеофиль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ыставк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азета, журнал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действующая фирм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законопроект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игра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оллекция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остюм;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одель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узыкальное произведение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мультимедийный продукт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оформление кабинет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остановка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раздник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прогноз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истема школьного самоуправления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правочник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сравнительно-сопоставительный анализ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учебное пособие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экскурсия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404280"/>
            <a:ext cx="82440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ЭТАПЫ РАБОТЫ </a:t>
            </a:r>
            <a:br>
              <a:rPr sz="3600"/>
            </a:b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НАД УЧЕБНЫМ ПРОЕКТО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погружение в проект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организация деятельности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осуществление деятельности;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презентация результатов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Педагогические условия организации проектной деятельност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0033"/>
                </a:solidFill>
                <a:latin typeface="Verdana"/>
              </a:rPr>
              <a:t>в начальной школе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В процессе работы над проектом проводить с младшими школьникам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экскурс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прогулки-наблюд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социальные ак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опрос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интервьюирование учениками отдельных лиц, для которых предназначен детский проек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4" descr="10000"/>
          <p:cNvPicPr/>
          <p:nvPr/>
        </p:nvPicPr>
        <p:blipFill>
          <a:blip r:embed="rId1"/>
          <a:stretch/>
        </p:blipFill>
        <p:spPr>
          <a:xfrm>
            <a:off x="5500800" y="1571760"/>
            <a:ext cx="303372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1835280" y="610920"/>
            <a:ext cx="66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«Спорьте, заблуждайтесь, ошибайтесь, но ради бога, размышляйте, и хотя и криво, да сам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Verdana"/>
              </a:rPr>
              <a:t>Г.Э. Лессинг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6" descr="Изображение 034"/>
          <p:cNvPicPr/>
          <p:nvPr/>
        </p:nvPicPr>
        <p:blipFill>
          <a:blip r:embed="rId1"/>
          <a:stretch/>
        </p:blipFill>
        <p:spPr>
          <a:xfrm>
            <a:off x="3000240" y="2143080"/>
            <a:ext cx="3071880" cy="21589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57120" y="4786200"/>
            <a:ext cx="846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Обучение школьников специальным знаниям, а также развитие у них общих умений и навыков, необходимых в исследовательском поиске, - одна из основных практических задач современного образов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оследовательность приобщения учащихся к проектной деятель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т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едолговременных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(1-2 урока)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однопредметных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проектов к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долговременным,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межпредметн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т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личных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проектов к г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рупповым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общеклассн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33336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езентация (защита) проект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Verdana"/>
              </a:rPr>
              <a:t>Необходим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еникам произвести самооценку проек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ащимся оценить процесс проектировани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омочь ученикам подготовить проект к презентац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333000"/>
            <a:ext cx="82440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Использование технологии проектного обучения в начальной школе способствует развитию таких качеств личности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21844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самостоятель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целеустремл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ответств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инициатив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настойчив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- толеран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Группа компетенций, на которые проектная деятельность оказывает наибольшее влияние у младших школьников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085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исследовательск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социального взаимодейств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оценоч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информацион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презентационны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рефлексивны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- менеджерские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44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Участвуя в проектной деятельности, младшие школьники демонстрируют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готовность к познанию и овладению основными исследовательскими методами (анализ литературы, поиск источников информации, сбор и обработка данных, научное объяснение полученных результатов, видение и выдвижение новых проблем, гипотез, методов их решения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готовность овладеть компьютерной грамотностью, умение работать с аудиовизуальной и мультимедиатехнико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ладение коммуникативными навыками, толерантность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интегрировать ранее полученные знания по разным учебным дисциплинам для решения познавательных зада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3264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«Числа в загадках, пословицах, поговорках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4365360"/>
            <a:ext cx="795168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математике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 1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Цель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получение информации о использовании математических знаний в жизни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расширить знания о числах в загадках, пословицах, поговорках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сплоченности коллектива через общее дело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 понимаете слова «математика вокруг нас»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Что такое пословицы и поговорки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 составить книгу «Числа в загадках, пословицах, поговорках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1" descr="100_0824"/>
          <p:cNvPicPr/>
          <p:nvPr/>
        </p:nvPicPr>
        <p:blipFill>
          <a:blip r:embed="rId1"/>
          <a:stretch/>
        </p:blipFill>
        <p:spPr>
          <a:xfrm>
            <a:off x="2428920" y="2428920"/>
            <a:ext cx="3830760" cy="304308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3"/>
          <p:cNvSpPr/>
          <p:nvPr/>
        </p:nvSpPr>
        <p:spPr>
          <a:xfrm>
            <a:off x="1500120" y="78588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33"/>
                </a:solidFill>
                <a:latin typeface="Arial"/>
              </a:rPr>
              <a:t>Защита проект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6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«Моя малая родина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4365720"/>
            <a:ext cx="829152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окружающему ми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1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296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Цель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получение информации о многообразии городов и сёл России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расширить знания о своём родном селе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сплоченности коллектива через общее дело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воспитание патриотизма.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ие города и сёла России вы знаете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Что для вас является малой родиной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Какие достопримечательности можно встретить в нашем селе?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Исследовательское поведени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в современном мире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сматривается как стиль жизни 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овременного человек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990033"/>
                </a:solidFill>
                <a:latin typeface="Verdana"/>
              </a:rPr>
              <a:t>Проблема исследо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68360" y="278136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заключается в том, что технология проектной деятельности слабо проработана в методике начального обучения. В то время как существует необходимость использовать эту технологию для осуществления связи теории с практикой в начальной школ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Рисунок 43" descr="http://www.logvanov.r52.ru/data/Personaz/2Dsumka.jpg"/>
          <p:cNvPicPr/>
          <p:nvPr/>
        </p:nvPicPr>
        <p:blipFill>
          <a:blip r:embed="rId1"/>
          <a:stretch/>
        </p:blipFill>
        <p:spPr>
          <a:xfrm>
            <a:off x="324000" y="333360"/>
            <a:ext cx="1790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Изображение 049"/>
          <p:cNvPicPr/>
          <p:nvPr/>
        </p:nvPicPr>
        <p:blipFill>
          <a:blip r:embed="rId1"/>
          <a:stretch/>
        </p:blipFill>
        <p:spPr>
          <a:xfrm>
            <a:off x="4572000" y="3214800"/>
            <a:ext cx="3929040" cy="2857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Изображение 016"/>
          <p:cNvPicPr/>
          <p:nvPr/>
        </p:nvPicPr>
        <p:blipFill>
          <a:blip r:embed="rId2"/>
          <a:stretch/>
        </p:blipFill>
        <p:spPr>
          <a:xfrm>
            <a:off x="357120" y="714240"/>
            <a:ext cx="4286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44000" cy="26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400"/>
            </a:br>
            <a:r>
              <a:rPr b="1" lang="ru-RU" sz="4400" spc="-1" strike="noStrike">
                <a:solidFill>
                  <a:srgbClr val="cc0099"/>
                </a:solidFill>
                <a:latin typeface="Verdana"/>
              </a:rPr>
              <a:t> «Моя семья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роект по окружающему миру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подготовленный обучающимися  1а класс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ОУ «Одесская СОШ №2» с. Одес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и учителем Кочкаевой Л. 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2011-2012 учебный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Цели проект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Получение знаний о семь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Формирование уважительного отношения к своей семь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Воспитание чувства гордости за свою семь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990033"/>
                </a:solidFill>
                <a:latin typeface="Verdana"/>
              </a:rPr>
              <a:t>Основополагающие вопросы проекта:</a:t>
            </a:r>
            <a:endParaRPr b="0" lang="en-US" sz="31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Что такое семь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Что было бы, если бы у человека не было семь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- Что объединяет всех членов семь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Изображение 052"/>
          <p:cNvPicPr/>
          <p:nvPr/>
        </p:nvPicPr>
        <p:blipFill>
          <a:blip r:embed="rId1"/>
          <a:stretch/>
        </p:blipFill>
        <p:spPr>
          <a:xfrm>
            <a:off x="4587840" y="3643200"/>
            <a:ext cx="3944880" cy="2810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Изображение 043"/>
          <p:cNvPicPr/>
          <p:nvPr/>
        </p:nvPicPr>
        <p:blipFill>
          <a:blip r:embed="rId2"/>
          <a:stretch/>
        </p:blipFill>
        <p:spPr>
          <a:xfrm>
            <a:off x="357120" y="357120"/>
            <a:ext cx="4318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Verdana"/>
              </a:rPr>
              <a:t>Проект</a:t>
            </a:r>
            <a:br>
              <a:rPr sz="4000"/>
            </a:br>
            <a:r>
              <a:rPr b="1" lang="ru-RU" sz="4000" spc="-1" strike="noStrike">
                <a:solidFill>
                  <a:srgbClr val="cc0099"/>
                </a:solidFill>
                <a:latin typeface="Verdana"/>
              </a:rPr>
              <a:t> «Мой класс и моя школа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Picture 5" descr="100_0926"/>
          <p:cNvPicPr/>
          <p:nvPr/>
        </p:nvPicPr>
        <p:blipFill>
          <a:blip r:embed="rId1"/>
          <a:stretch/>
        </p:blipFill>
        <p:spPr>
          <a:xfrm>
            <a:off x="285840" y="1500120"/>
            <a:ext cx="4118040" cy="3206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сс 031"/>
          <p:cNvPicPr/>
          <p:nvPr/>
        </p:nvPicPr>
        <p:blipFill>
          <a:blip r:embed="rId2"/>
          <a:stretch/>
        </p:blipFill>
        <p:spPr>
          <a:xfrm>
            <a:off x="3755880" y="2928960"/>
            <a:ext cx="491976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Вывод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эффективность использования технологии проектно-исследовательской деятельности в начальной школе - это не просто один из методов обучения- это путь формирования особого стиля детской жизни и учебной деятельности, которая позволяет трансформировать обучение в самообучение, реально запускает механизм саморазвит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Гипотез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истема формирования основ проектной деятельности будет эффективной есл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Она включает изучение и анализ степени обученности проектной деятель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правлена на формирование мотивации к занятиям проектной деятельность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Характеризуется наличие системности в образовательном процесс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Verdana"/>
              </a:rPr>
              <a:t>Новизна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оектные приёмы отвечают всем современным тенденциям в образовании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Ведущая педагогическая идея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Метод учебного проекта - один из путей формирования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целеполаган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оценк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действи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рефлекси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готовности к самовоспитанию и самообразованию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Цель рабо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развить познавательные интересы, интеллектуальные, творческие и коммуникативные способности учащихся, определяющих формирование компетентности личности, способной к жизнедеятельности и самоопределению в информационном обществе, ясно представляющей свои возможности, ресурсы и способы реализации выбранного жизненного пут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Задач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зучить педагогические, психологические, методические литературные источники по пробл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- исследовать актуальность проблемы в рамках нашей школ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ыявить наиболее продуктивную технологию для достижения поставленной цел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зучить теоретические основы новой технологи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Выявить наиболее приемлемую форму введения метода проект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Использовать метод проектов в классно-урочной и внеклассн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Verdana"/>
              </a:rPr>
              <a:t>Предполагаемый результа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расширение кругозора учащихся в интересующих их областях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находить источники информации; извлекать информацию, относящуюся к те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планировать работу над проекто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Verdana"/>
              </a:rPr>
              <a:t>умение сотрудничать при выполнении проектов, доводить начатое дело до конц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5" descr="100_0390"/>
          <p:cNvPicPr/>
          <p:nvPr/>
        </p:nvPicPr>
        <p:blipFill>
          <a:blip r:embed="rId1"/>
          <a:stretch/>
        </p:blipFill>
        <p:spPr>
          <a:xfrm>
            <a:off x="2286000" y="4286160"/>
            <a:ext cx="3598920" cy="2378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6"/>
          <p:cNvSpPr/>
          <p:nvPr/>
        </p:nvSpPr>
        <p:spPr>
          <a:xfrm>
            <a:off x="2357280" y="4357800"/>
            <a:ext cx="34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роект  «Воздушный змей»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9:17:01Z</dcterms:created>
  <dc:creator>Любовь</dc:creator>
  <dc:description/>
  <dc:language>en-US</dc:language>
  <cp:lastModifiedBy>Angel</cp:lastModifiedBy>
  <dcterms:modified xsi:type="dcterms:W3CDTF">2012-07-31T09:58:12Z</dcterms:modified>
  <cp:revision>50</cp:revision>
  <dc:subject/>
  <dc:title>Проектная деятельность  в начальной школе</dc:title>
</cp:coreProperties>
</file>