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4825" cy="9752013"/>
</p:presentation>
</file>

<file path=ppt/commentAuthors.xml><?xml version="1.0" encoding="utf-8"?>
<p:cmAuthorLst xmlns:p="http://schemas.openxmlformats.org/presentationml/2006/main">
  <p:cmAuthor id="0" name="Аня" initials="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<Relationship Id="rId18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07-04-16T17:10:54.484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4C03-53F9-4B5E-A13B-367FB01A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556C-EC56-457E-885C-F476772F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A3F6-C109-4DE3-838E-BF3ECBDB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55A3-38E6-4AED-92F6-4FE8B09A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42B7-AFDB-4C15-A6CE-C7E144C4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B083-FD90-4B8E-99ED-D2FAFB0C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FA61-30CC-4086-8019-80E2FDEF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7A0B-EBFB-46FB-9823-5082A536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FCE6-3EFC-440D-9CB3-A67140E3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474-DB76-4E55-A3AB-148F172C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895C-252F-4165-9684-19629FE1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8C8E-58AE-4275-8EC9-F422B99A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95E7-E457-4A28-A38D-F0D9F0B55E6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4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оссийская гимназия при Государственном Русском музе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онова Татьяна 10-а клас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708360" y="692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6600"/>
                </a:solidFill>
                <a:uFillTx/>
                <a:latin typeface="Tunga"/>
              </a:rPr>
              <a:t>МОРЖЕ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Tunga"/>
              </a:rPr>
              <a:t>  </a:t>
            </a:r>
            <a:r>
              <a:rPr b="0" i="1" lang="ru-RU" sz="3200" spc="-1" strike="noStrike">
                <a:solidFill>
                  <a:srgbClr val="ff6600"/>
                </a:solidFill>
                <a:latin typeface="Tunga"/>
              </a:rPr>
              <a:t>Наиболее эффективной водной процедурой является купание в ледяной воде. Однако подготовка к этому требует специальной тренировки и знаний физиологических процессов, проходящих в организме человека при купании в ледяной воде. Это высшая форма закаливания, так как в короткое время подключает к борьбе «за выживание» все органы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3300"/>
                </a:solidFill>
                <a:uFillTx/>
                <a:latin typeface="Tunga"/>
              </a:rPr>
              <a:t>СОЛНЕЧНЫЕ</a:t>
            </a:r>
            <a:r>
              <a:rPr b="0" lang="ru-RU" sz="4400" spc="-1" strike="noStrike" u="sng">
                <a:solidFill>
                  <a:srgbClr val="ff3300"/>
                </a:solidFill>
                <a:uFillTx/>
                <a:latin typeface="Tunga"/>
              </a:rPr>
              <a:t> </a:t>
            </a:r>
            <a:r>
              <a:rPr b="0" lang="ru-RU" sz="4800" spc="-1" strike="noStrike" u="sng">
                <a:solidFill>
                  <a:srgbClr val="ff3300"/>
                </a:solidFill>
                <a:uFillTx/>
                <a:latin typeface="Tunga"/>
              </a:rPr>
              <a:t>ВАННЫ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360" y="1267920"/>
            <a:ext cx="5651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400" spc="-1" strike="noStrike">
                <a:solidFill>
                  <a:srgbClr val="ff0000"/>
                </a:solidFill>
                <a:latin typeface="Tunga"/>
              </a:rPr>
              <a:t>Этот тип закаливания следует принимать разумно, иначе вместо пользы они могут вызвать ожоги кожи, перегрев организма, солнечный удар, перевозбуждение нервной системы. Прием солнечных ванн целесообразно сочетать с водными процедурами. После приёма рекомендуется 10 – 15 минут побыть в тени, а затем принять душ или искупать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ff00"/>
                </a:solidFill>
                <a:uFillTx/>
                <a:latin typeface="Times New Roman"/>
              </a:rPr>
              <a:t>ВОЗДУШНЫЕ ВАНН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ff33"/>
                </a:solidFill>
                <a:latin typeface="Tunga"/>
              </a:rPr>
              <a:t>Этот тип доступный каждому человеку в любое время года. Воздух действует непосредственно на наше тело. Кожу, приводит к ряду биохимических изменений в клетках тканей, раздражает кожные рецепторы нервной системы. Воздушные ванны лучше всего применять на открытом воздухе, их полезно сочетать с различными физическими упражнениями – ходьбой, бегом, гимнастикой</a:t>
            </a:r>
            <a:r>
              <a:rPr b="0" i="1" lang="ru-RU" sz="3200" spc="-1" strike="noStrike">
                <a:solidFill>
                  <a:srgbClr val="003300"/>
                </a:solidFill>
                <a:latin typeface="Tung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62276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ХОЖДЕНИЕ БОСИКО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1599840"/>
            <a:ext cx="558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igi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Gigi"/>
              </a:rPr>
              <a:t>Хождение босиком испокон веков использовалась для профилактики и лечения многих заболеваний. Современная наука подтверждает пользу босохождения. Прогулка по свежему снегу на первых порах должна быть не более 2 – 4 минут. Ходьба босиком – это сильнейшее профилактическое и целительное средство, одна из составляющих системы здорового образа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179280" y="5589720"/>
            <a:ext cx="878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агодарим за внимание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8000" y="1773360"/>
            <a:ext cx="399564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Tahoma"/>
              </a:rPr>
              <a:t>Закаливание организма и     его влияние   на здоровье челове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WordArt 9"/>
          <p:cNvSpPr txBox="1"/>
          <p:nvPr/>
        </p:nvSpPr>
        <p:spPr>
          <a:xfrm>
            <a:off x="4211640" y="620640"/>
            <a:ext cx="482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РЕЗЕНТАЦИЯ</a:t>
            </a:r>
            <a:endParaRPr b="1" lang="en-US" sz="1800" spc="1" strike="noStrike">
              <a:ln w="25560">
                <a:solidFill>
                  <a:srgbClr val="3333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4280" y="5791320"/>
            <a:ext cx="4114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83520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Showcard Gothic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Showcard Gothic"/>
              </a:rPr>
              <a:t>Закаливание – это повышение устойчивости организма к неблагоприятному воздействию ряда факторов окружающей среды (низкой или высокой температуры) путём систематического воздействия на организм этих факто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4149720"/>
            <a:ext cx="8748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Showcard Gothic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Showcard Gothic"/>
              </a:rPr>
              <a:t>В основе закаливания лежит способность организма человека приспосабливаться  к меняющимся условиям окружающей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6868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unga"/>
              </a:rPr>
              <a:t>  </a:t>
            </a:r>
            <a:r>
              <a:rPr b="1" i="1" lang="ru-RU" sz="3200" spc="-1" strike="noStrike">
                <a:solidFill>
                  <a:srgbClr val="ffff00"/>
                </a:solidFill>
                <a:latin typeface="Shruti"/>
              </a:rPr>
              <a:t>Использование закаливающих процедур было известно человеку ещё в древние времена. Им в укреплении здоровья отводил большую роль Гиппократ (древнегреческий врач, реформатор античной медицины). По его мнению, особой целительной силой обладают холодовые закаливающие процедуры, а те, кто держит тело в тепле, приобретают изнеженность мышц, слабость нервов, обмороки и кровотеч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66ff"/>
                </a:solidFill>
                <a:uFillTx/>
                <a:latin typeface="Tahoma"/>
              </a:rPr>
              <a:t>Правила закаливания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907560"/>
            <a:ext cx="79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Необходимость психологического настроя на закаливание, заинтересованность в нём . Это самый важный принци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 систематичны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комплексным, что предполагает различные виды закаливания: пассивные и активные, общие местные, коллективные,   индивидуальные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постепенным, время контакта с сильным холодом  должно увеличиваться постепен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проводиться с учётом индивидуальных особенностей организма и климатических условий конкретного регио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«на грани удовольствия«, т.е. не насиловать себя чрезмерными нагрузками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20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20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Organization Chart 16"/>
          <p:cNvGrpSpPr/>
          <p:nvPr/>
        </p:nvGrpSpPr>
        <p:grpSpPr>
          <a:xfrm>
            <a:off x="0" y="0"/>
            <a:ext cx="9142560" cy="6857640"/>
            <a:chOff x="0" y="0"/>
            <a:chExt cx="9142560" cy="6857640"/>
          </a:xfrm>
        </p:grpSpPr>
        <p:cxnSp>
          <p:nvCxnSpPr>
            <p:cNvPr id="53" name="_s1028"/>
            <p:cNvCxnSpPr>
              <a:stCxn id="54" idx="1"/>
              <a:endCxn id="55" idx="2"/>
            </p:cNvCxnSpPr>
            <p:nvPr/>
          </p:nvCxnSpPr>
          <p:spPr>
            <a:xfrm rot="10800000">
              <a:off x="2742120" y="595440"/>
              <a:ext cx="914760" cy="5963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6" name="_s1029"/>
            <p:cNvCxnSpPr>
              <a:stCxn id="57" idx="1"/>
              <a:endCxn id="55" idx="2"/>
            </p:cNvCxnSpPr>
            <p:nvPr/>
          </p:nvCxnSpPr>
          <p:spPr>
            <a:xfrm rot="10800000">
              <a:off x="2742120" y="595440"/>
              <a:ext cx="914760" cy="5069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8" name="_s1030"/>
            <p:cNvCxnSpPr>
              <a:stCxn id="59" idx="1"/>
              <a:endCxn id="55" idx="2"/>
            </p:cNvCxnSpPr>
            <p:nvPr/>
          </p:nvCxnSpPr>
          <p:spPr>
            <a:xfrm rot="10800000">
              <a:off x="2742120" y="595440"/>
              <a:ext cx="914760" cy="4174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0" name="_s1031"/>
            <p:cNvCxnSpPr>
              <a:stCxn id="61" idx="1"/>
              <a:endCxn id="55" idx="2"/>
            </p:cNvCxnSpPr>
            <p:nvPr/>
          </p:nvCxnSpPr>
          <p:spPr>
            <a:xfrm rot="10800000">
              <a:off x="2742120" y="595440"/>
              <a:ext cx="914760" cy="3280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2" name="_s1032"/>
            <p:cNvCxnSpPr>
              <a:stCxn id="63" idx="1"/>
              <a:endCxn id="55" idx="2"/>
            </p:cNvCxnSpPr>
            <p:nvPr/>
          </p:nvCxnSpPr>
          <p:spPr>
            <a:xfrm rot="10800000">
              <a:off x="2742120" y="595440"/>
              <a:ext cx="914760" cy="2385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4" name="_s1033"/>
            <p:cNvCxnSpPr>
              <a:stCxn id="65" idx="1"/>
              <a:endCxn id="55" idx="2"/>
            </p:cNvCxnSpPr>
            <p:nvPr/>
          </p:nvCxnSpPr>
          <p:spPr>
            <a:xfrm rot="10800000">
              <a:off x="2742120" y="595440"/>
              <a:ext cx="914760" cy="1491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6" name="_s1034"/>
            <p:cNvCxnSpPr>
              <a:stCxn id="67" idx="1"/>
              <a:endCxn id="55" idx="2"/>
            </p:cNvCxnSpPr>
            <p:nvPr/>
          </p:nvCxnSpPr>
          <p:spPr>
            <a:xfrm rot="10800000">
              <a:off x="2742120" y="595440"/>
              <a:ext cx="914760" cy="596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5" name="_s1035"/>
            <p:cNvSpPr/>
            <p:nvPr/>
          </p:nvSpPr>
          <p:spPr>
            <a:xfrm>
              <a:off x="0" y="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490092"/>
                  </a:solidFill>
                  <a:latin typeface="Calisto MT"/>
                </a:rPr>
                <a:t>Способы закаливания: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_s1036"/>
            <p:cNvSpPr/>
            <p:nvPr/>
          </p:nvSpPr>
          <p:spPr>
            <a:xfrm>
              <a:off x="3656880" y="8942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5f04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Обтир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_s1037"/>
            <p:cNvSpPr/>
            <p:nvPr/>
          </p:nvSpPr>
          <p:spPr>
            <a:xfrm>
              <a:off x="3656880" y="17888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Облив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_s1038"/>
            <p:cNvSpPr/>
            <p:nvPr/>
          </p:nvSpPr>
          <p:spPr>
            <a:xfrm>
              <a:off x="3656880" y="26834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Воздушные ванн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_s1039"/>
            <p:cNvSpPr/>
            <p:nvPr/>
          </p:nvSpPr>
          <p:spPr>
            <a:xfrm>
              <a:off x="3656880" y="35776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Солнечные ванн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_s1040"/>
            <p:cNvSpPr/>
            <p:nvPr/>
          </p:nvSpPr>
          <p:spPr>
            <a:xfrm>
              <a:off x="3656880" y="44722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90092"/>
                  </a:solidFill>
                  <a:latin typeface="Agency FB"/>
                </a:rPr>
                <a:t>Купание в открытых водоёмах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_s1041"/>
            <p:cNvSpPr/>
            <p:nvPr/>
          </p:nvSpPr>
          <p:spPr>
            <a:xfrm>
              <a:off x="3656880" y="53668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Босохожде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_s1042"/>
            <p:cNvSpPr/>
            <p:nvPr/>
          </p:nvSpPr>
          <p:spPr>
            <a:xfrm>
              <a:off x="3656880" y="6261480"/>
              <a:ext cx="547992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90092"/>
                  </a:solidFill>
                  <a:latin typeface="Agency FB"/>
                </a:rPr>
                <a:t>Моржев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00"/>
                </a:solidFill>
                <a:uFillTx/>
                <a:latin typeface="Tahoma"/>
              </a:rPr>
              <a:t>ОБТИР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360" y="1699920"/>
            <a:ext cx="88930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роцедура обтирания: полотенц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губку или специальну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рукавичку из материи смачив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в воде и слегка отжимаю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Затем последовательн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роизводят обтирание ру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(в направлении от пальцев 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лечам), шеи, груди, живот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спины и ног. После этого тел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растирают сухим жёстким полотенцем до покраснения и появления приятного ощущения тепл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1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816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ccff"/>
                </a:solidFill>
                <a:uFillTx/>
                <a:latin typeface="Tunga"/>
              </a:rPr>
              <a:t>ОБЛИ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360" y="907920"/>
            <a:ext cx="41403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unga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unga"/>
              </a:rPr>
              <a:t>Хорошим методом закаливания является обливание холодной водой. Для этого берут 2 – 3 ведра холодной воды желаемой температуры и выливают на всё тело. Основную роль при обливании играет температурное раздражение кожи, рефлекторно оказывает тонизирующее действие. После обливания тело необходимо обтереть сухим полотенц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8000"/>
                </a:solidFill>
                <a:uFillTx/>
                <a:latin typeface="Tunga"/>
              </a:rPr>
              <a:t>КУПАНИЕ В ОТКРЫТЫХ ВОДОЁМА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00"/>
                </a:solidFill>
                <a:latin typeface="Tunga"/>
              </a:rPr>
              <a:t>Наиболее эффективным средством закаливания является купание в открытых водоёмах. Во время купания на организм одновременно воздействует солнце, воздух и вода. Прежде чем купаться, обязательно обращайте внимание на правила безопасного поведения при купании. Купаться рекомендуется не раньше, чем через 1 – 1,5 часа после 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u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02:35:41Z</dcterms:created>
  <dc:creator>костян</dc:creator>
  <dc:description/>
  <dc:language>en-US</dc:language>
  <cp:lastModifiedBy>Пользователь</cp:lastModifiedBy>
  <dcterms:modified xsi:type="dcterms:W3CDTF">2012-07-27T07:00:47Z</dcterms:modified>
  <cp:revision>21</cp:revision>
  <dc:subject/>
  <dc:title>Закаливание организма и его влияние на здоровье человека</dc:title>
</cp:coreProperties>
</file>