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comments/comment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4825" cy="9752013"/>
</p:presentation>
</file>

<file path=ppt/commentAuthors.xml><?xml version="1.0" encoding="utf-8"?>
<p:cmAuthorLst xmlns:p="http://schemas.openxmlformats.org/presentationml/2006/main">
  <p:cmAuthor id="0" name="Аня" initials="А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<Relationship Id="rId18" Type="http://schemas.openxmlformats.org/officeDocument/2006/relationships/commentAuthors" Target="commentAuthors.xml"/>
</Relationships>
</file>

<file path=ppt/comments/comment4.xml><?xml version="1.0" encoding="utf-8"?>
<p:cmLst xmlns:p="http://schemas.openxmlformats.org/presentationml/2006/main">
  <p:cm authorId="0" dt="2007-04-16T17:10:54.484000000" idx="1">
    <p:pos x="10" y="1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31B0-1829-4135-8B99-1EE027DE7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4070-2679-4CB3-B126-A77F2646A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8A38-4A37-489A-844F-3069735D0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5140-C47D-4FF2-B2F3-6E1D4614C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8E4E-5573-4CD4-83D8-72058AE2F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0D2C-0902-436A-9652-69243743A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A49C-5F54-4558-86E9-0FDC4CED4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E6D6-0E52-4F2D-B196-87667556D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890F-28F2-417D-8BCD-49C70A67D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8331-A019-4107-8142-31707257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2155-E8B4-4349-A357-47A9D1A6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A30D-78E1-41CD-9497-26F84E0F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61A8E-CD14-45EC-8939-ED21594D470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24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Российская гимназия при Государственном Русском музе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Ионова Татьяна 10-а класс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708360" y="692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6600"/>
                </a:solidFill>
                <a:uFillTx/>
                <a:latin typeface="Tunga"/>
              </a:rPr>
              <a:t>МОРЖЕВ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9900"/>
                </a:solidFill>
                <a:latin typeface="Tunga"/>
              </a:rPr>
              <a:t>  </a:t>
            </a:r>
            <a:r>
              <a:rPr b="0" i="1" lang="ru-RU" sz="3200" spc="-1" strike="noStrike">
                <a:solidFill>
                  <a:srgbClr val="ff6600"/>
                </a:solidFill>
                <a:latin typeface="Tunga"/>
              </a:rPr>
              <a:t>Наиболее эффективной водной процедурой является купание в ледяной воде. Однако подготовка к этому требует специальной тренировки и знаний физиологических процессов, проходящих в организме человека при купании в ледяной воде. Это высшая форма закаливания, так как в короткое время подключает к борьбе «за выживание» все органы челове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ssolv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3300"/>
                </a:solidFill>
                <a:uFillTx/>
                <a:latin typeface="Tunga"/>
              </a:rPr>
              <a:t>СОЛНЕЧНЫЕ</a:t>
            </a:r>
            <a:r>
              <a:rPr b="0" lang="ru-RU" sz="4400" spc="-1" strike="noStrike" u="sng">
                <a:solidFill>
                  <a:srgbClr val="ff3300"/>
                </a:solidFill>
                <a:uFillTx/>
                <a:latin typeface="Tunga"/>
              </a:rPr>
              <a:t> </a:t>
            </a:r>
            <a:r>
              <a:rPr b="0" lang="ru-RU" sz="4800" spc="-1" strike="noStrike" u="sng">
                <a:solidFill>
                  <a:srgbClr val="ff3300"/>
                </a:solidFill>
                <a:uFillTx/>
                <a:latin typeface="Tunga"/>
              </a:rPr>
              <a:t>ВАННЫ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-360" y="1267920"/>
            <a:ext cx="56516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2400" spc="-1" strike="noStrike">
                <a:solidFill>
                  <a:srgbClr val="ff0000"/>
                </a:solidFill>
                <a:latin typeface="Tunga"/>
              </a:rPr>
              <a:t>Этот тип закаливания следует принимать разумно, иначе вместо пользы они могут вызвать ожоги кожи, перегрев организма, солнечный удар, перевозбуждение нервной системы. Прием солнечных ванн целесообразно сочетать с водными процедурами. После приёма рекомендуется 10 – 15 минут побыть в тени, а затем принять душ или искупать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rd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ff00"/>
                </a:solidFill>
                <a:uFillTx/>
                <a:latin typeface="Times New Roman"/>
              </a:rPr>
              <a:t>ВОЗДУШНЫЕ ВАНН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ff33"/>
                </a:solidFill>
                <a:latin typeface="Tunga"/>
              </a:rPr>
              <a:t>Этот тип доступный каждому человеку в любое время года. Воздух действует непосредственно на наше тело. Кожу, приводит к ряду биохимических изменений в клетках тканей, раздражает кожные рецепторы нервной системы. Воздушные ванны лучше всего применять на открытом воздухе, их полезно сочетать с различными физическими упражнениями – ходьбой, бегом, гимнастикой</a:t>
            </a:r>
            <a:r>
              <a:rPr b="0" i="1" lang="ru-RU" sz="3200" spc="-1" strike="noStrike">
                <a:solidFill>
                  <a:srgbClr val="003300"/>
                </a:solidFill>
                <a:latin typeface="Tung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mb dir="horz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62276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e5ffff"/>
                </a:solidFill>
                <a:uFillTx/>
                <a:latin typeface="Tahoma"/>
              </a:rPr>
              <a:t>ХОЖДЕНИЕ БОСИКОМ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0" y="1599840"/>
            <a:ext cx="5580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igi"/>
              </a:rPr>
              <a:t>   </a:t>
            </a:r>
            <a:r>
              <a:rPr b="1" i="1" lang="ru-RU" sz="2800" spc="-1" strike="noStrike">
                <a:solidFill>
                  <a:srgbClr val="ffffff"/>
                </a:solidFill>
                <a:latin typeface="Gigi"/>
              </a:rPr>
              <a:t>Хождение босиком испокон веков использовалась для профилактики и лечения многих заболеваний. Современная наука подтверждает пользу босохождения. Прогулка по свежему снегу на первых порах должна быть не более 2 – 4 минут. Ходьба босиком – это сильнейшее профилактическое и целительное средство, одна из составляющих системы здорового образа жизн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u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98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4"/>
          <p:cNvSpPr txBox="1"/>
          <p:nvPr/>
        </p:nvSpPr>
        <p:spPr>
          <a:xfrm>
            <a:off x="179280" y="5589720"/>
            <a:ext cx="8785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лагодарим за внимание!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148000" y="1773360"/>
            <a:ext cx="3995640" cy="44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ccff"/>
                </a:solidFill>
                <a:latin typeface="Tahoma"/>
              </a:rPr>
              <a:t>Закаливание организма и     его влияние   на здоровье человек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WordArt 9"/>
          <p:cNvSpPr txBox="1"/>
          <p:nvPr/>
        </p:nvSpPr>
        <p:spPr>
          <a:xfrm>
            <a:off x="4211640" y="620640"/>
            <a:ext cx="4824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3333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ПРЕЗЕНТАЦИЯ</a:t>
            </a:r>
            <a:endParaRPr b="1" lang="en-US" sz="1800" spc="1" strike="noStrike">
              <a:ln w="25560">
                <a:solidFill>
                  <a:srgbClr val="3333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4280" y="5791320"/>
            <a:ext cx="4114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549000"/>
            <a:ext cx="835200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Showcard Gothic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Showcard Gothic"/>
              </a:rPr>
              <a:t>Закаливание – это повышение устойчивости организма к неблагоприятному воздействию ряда факторов окружающей среды (низкой или высокой температуры) путём систематического воздействия на организм этих фактор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4149720"/>
            <a:ext cx="87487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Showcard Gothic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Showcard Gothic"/>
              </a:rPr>
              <a:t>В основе закаливания лежит способность организма человека приспосабливаться  к меняющимся условиям окружающей сре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blinds dir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79280" y="692280"/>
            <a:ext cx="8686800" cy="55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unga"/>
              </a:rPr>
              <a:t>  </a:t>
            </a:r>
            <a:r>
              <a:rPr b="1" i="1" lang="ru-RU" sz="3200" spc="-1" strike="noStrike">
                <a:solidFill>
                  <a:srgbClr val="ffff00"/>
                </a:solidFill>
                <a:latin typeface="Shruti"/>
              </a:rPr>
              <a:t>Использование закаливающих процедур было известно человеку ещё в древние времена. Им в укреплении здоровья отводил большую роль Гиппократ (древнегреческий врач, реформатор античной медицины). По его мнению, особой целительной силой обладают холодовые закаливающие процедуры, а те, кто держит тело в тепле, приобретают изнеженность мышц, слабость нервов, обмороки и кровотечени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66ff"/>
                </a:solidFill>
                <a:uFillTx/>
                <a:latin typeface="Tahoma"/>
              </a:rPr>
              <a:t>Правила закаливания: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-360" y="907560"/>
            <a:ext cx="7993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ffff"/>
                </a:solidFill>
                <a:latin typeface="Tahoma"/>
              </a:rPr>
              <a:t>Необходимость психологического настроя на закаливание, заинтересованность в нём . Это самый важный принцип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ffff"/>
                </a:solidFill>
                <a:latin typeface="Tahoma"/>
              </a:rPr>
              <a:t>Закаливание должно быть  систематичны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ffff"/>
                </a:solidFill>
                <a:latin typeface="Tahoma"/>
              </a:rPr>
              <a:t>Закаливание должно быть комплексным, что предполагает различные виды закаливания: пассивные и активные, общие местные, коллективные,   индивидуальные.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ffff"/>
                </a:solidFill>
                <a:latin typeface="Tahoma"/>
              </a:rPr>
              <a:t>Закаливание должно быть постепенным, время контакта с сильным холодом  должно увеличиваться постепенн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ffff"/>
                </a:solidFill>
                <a:latin typeface="Tahoma"/>
              </a:rPr>
              <a:t>Закаливание должно проводиться с учётом индивидуальных особенностей организма и климатических условий конкретного регио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ffff"/>
                </a:solidFill>
                <a:latin typeface="Tahoma"/>
              </a:rPr>
              <a:t>Закаливание должно быть «на грани удовольствия«, т.е. не насиловать себя чрезмерными нагрузками.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20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20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Bar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Organization Chart 16"/>
          <p:cNvGrpSpPr/>
          <p:nvPr/>
        </p:nvGrpSpPr>
        <p:grpSpPr>
          <a:xfrm>
            <a:off x="0" y="0"/>
            <a:ext cx="9142560" cy="6857640"/>
            <a:chOff x="0" y="0"/>
            <a:chExt cx="9142560" cy="6857640"/>
          </a:xfrm>
        </p:grpSpPr>
        <p:cxnSp>
          <p:nvCxnSpPr>
            <p:cNvPr id="53" name="_s1028"/>
            <p:cNvCxnSpPr>
              <a:stCxn id="54" idx="1"/>
              <a:endCxn id="55" idx="2"/>
            </p:cNvCxnSpPr>
            <p:nvPr/>
          </p:nvCxnSpPr>
          <p:spPr>
            <a:xfrm rot="10800000">
              <a:off x="2742120" y="595440"/>
              <a:ext cx="914760" cy="59637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6" name="_s1029"/>
            <p:cNvCxnSpPr>
              <a:stCxn id="57" idx="1"/>
              <a:endCxn id="55" idx="2"/>
            </p:cNvCxnSpPr>
            <p:nvPr/>
          </p:nvCxnSpPr>
          <p:spPr>
            <a:xfrm rot="10800000">
              <a:off x="2742120" y="595440"/>
              <a:ext cx="914760" cy="5069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8" name="_s1030"/>
            <p:cNvCxnSpPr>
              <a:stCxn id="59" idx="1"/>
              <a:endCxn id="55" idx="2"/>
            </p:cNvCxnSpPr>
            <p:nvPr/>
          </p:nvCxnSpPr>
          <p:spPr>
            <a:xfrm rot="10800000">
              <a:off x="2742120" y="595440"/>
              <a:ext cx="914760" cy="41745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0" name="_s1031"/>
            <p:cNvCxnSpPr>
              <a:stCxn id="61" idx="1"/>
              <a:endCxn id="55" idx="2"/>
            </p:cNvCxnSpPr>
            <p:nvPr/>
          </p:nvCxnSpPr>
          <p:spPr>
            <a:xfrm rot="10800000">
              <a:off x="2742120" y="595440"/>
              <a:ext cx="914760" cy="3280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2" name="_s1032"/>
            <p:cNvCxnSpPr>
              <a:stCxn id="63" idx="1"/>
              <a:endCxn id="55" idx="2"/>
            </p:cNvCxnSpPr>
            <p:nvPr/>
          </p:nvCxnSpPr>
          <p:spPr>
            <a:xfrm rot="10800000">
              <a:off x="2742120" y="595440"/>
              <a:ext cx="914760" cy="2385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4" name="_s1033"/>
            <p:cNvCxnSpPr>
              <a:stCxn id="65" idx="1"/>
              <a:endCxn id="55" idx="2"/>
            </p:cNvCxnSpPr>
            <p:nvPr/>
          </p:nvCxnSpPr>
          <p:spPr>
            <a:xfrm rot="10800000">
              <a:off x="2742120" y="595440"/>
              <a:ext cx="914760" cy="1491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6" name="_s1034"/>
            <p:cNvCxnSpPr>
              <a:stCxn id="67" idx="1"/>
              <a:endCxn id="55" idx="2"/>
            </p:cNvCxnSpPr>
            <p:nvPr/>
          </p:nvCxnSpPr>
          <p:spPr>
            <a:xfrm rot="10800000">
              <a:off x="2742120" y="595440"/>
              <a:ext cx="914760" cy="596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5" name="_s1035"/>
            <p:cNvSpPr/>
            <p:nvPr/>
          </p:nvSpPr>
          <p:spPr>
            <a:xfrm>
              <a:off x="0" y="0"/>
              <a:ext cx="5485680" cy="596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490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490092"/>
                  </a:solidFill>
                  <a:latin typeface="Calisto MT"/>
                </a:rPr>
                <a:t>Способы закаливания: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_s1036"/>
            <p:cNvSpPr/>
            <p:nvPr/>
          </p:nvSpPr>
          <p:spPr>
            <a:xfrm>
              <a:off x="3656880" y="894240"/>
              <a:ext cx="5485680" cy="596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5f04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90092"/>
                  </a:solidFill>
                  <a:latin typeface="Agency FB"/>
                </a:rPr>
                <a:t>Обтирание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_s1037"/>
            <p:cNvSpPr/>
            <p:nvPr/>
          </p:nvSpPr>
          <p:spPr>
            <a:xfrm>
              <a:off x="3656880" y="1788840"/>
              <a:ext cx="5485680" cy="596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490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90092"/>
                  </a:solidFill>
                  <a:latin typeface="Agency FB"/>
                </a:rPr>
                <a:t>Обливание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" name="_s1038"/>
            <p:cNvSpPr/>
            <p:nvPr/>
          </p:nvSpPr>
          <p:spPr>
            <a:xfrm>
              <a:off x="3656880" y="2683440"/>
              <a:ext cx="5485680" cy="596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490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90092"/>
                  </a:solidFill>
                  <a:latin typeface="Agency FB"/>
                </a:rPr>
                <a:t>Воздушные ванны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" name="_s1039"/>
            <p:cNvSpPr/>
            <p:nvPr/>
          </p:nvSpPr>
          <p:spPr>
            <a:xfrm>
              <a:off x="3656880" y="3577680"/>
              <a:ext cx="5485680" cy="596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490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90092"/>
                  </a:solidFill>
                  <a:latin typeface="Agency FB"/>
                </a:rPr>
                <a:t>Солнечные ванны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_s1040"/>
            <p:cNvSpPr/>
            <p:nvPr/>
          </p:nvSpPr>
          <p:spPr>
            <a:xfrm>
              <a:off x="3656880" y="4472280"/>
              <a:ext cx="5485680" cy="596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490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490092"/>
                  </a:solidFill>
                  <a:latin typeface="Agency FB"/>
                </a:rPr>
                <a:t>Купание в открытых водоёмах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" name="_s1041"/>
            <p:cNvSpPr/>
            <p:nvPr/>
          </p:nvSpPr>
          <p:spPr>
            <a:xfrm>
              <a:off x="3656880" y="5366880"/>
              <a:ext cx="5485680" cy="596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490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90092"/>
                  </a:solidFill>
                  <a:latin typeface="Agency FB"/>
                </a:rPr>
                <a:t>Босохождение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" name="_s1042"/>
            <p:cNvSpPr/>
            <p:nvPr/>
          </p:nvSpPr>
          <p:spPr>
            <a:xfrm>
              <a:off x="3656880" y="6261480"/>
              <a:ext cx="5479920" cy="596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490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90092"/>
                  </a:solidFill>
                  <a:latin typeface="Agency FB"/>
                </a:rPr>
                <a:t>Моржевание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spd="slow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00"/>
                </a:solidFill>
                <a:uFillTx/>
                <a:latin typeface="Tahoma"/>
              </a:rPr>
              <a:t>ОБТИР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-360" y="1699920"/>
            <a:ext cx="889308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Процедура обтирания: полотенце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губку или специальную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рукавичку из материи смачиваю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в воде и слегка отжимаю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Затем последовательн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производят обтирание рук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(в направлении от пальцев к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плечам), шеи, груди, живот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спины и ног. После этого тел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растирают сухим жёстким полотенцем до покраснения и появления приятного ощущения теплот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1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38163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ccff"/>
                </a:solidFill>
                <a:uFillTx/>
                <a:latin typeface="Tunga"/>
              </a:rPr>
              <a:t>ОБЛИВ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-360" y="907920"/>
            <a:ext cx="414036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ff"/>
                </a:solidFill>
                <a:latin typeface="Tunga"/>
              </a:rPr>
              <a:t>   </a:t>
            </a:r>
            <a:r>
              <a:rPr b="0" lang="ru-RU" sz="2400" spc="-1" strike="noStrike">
                <a:solidFill>
                  <a:srgbClr val="0000ff"/>
                </a:solidFill>
                <a:latin typeface="Tunga"/>
              </a:rPr>
              <a:t>Хорошим методом закаливания является обливание холодной водой. Для этого берут 2 – 3 ведра холодной воды желаемой температуры и выливают на всё тело. Основную роль при обливании играет температурное раздражение кожи, рефлекторно оказывает тонизирующее действие. После обливания тело необходимо обтереть сухим полотенце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8000"/>
                </a:solidFill>
                <a:uFillTx/>
                <a:latin typeface="Tunga"/>
              </a:rPr>
              <a:t>КУПАНИЕ В ОТКРЫТЫХ ВОДОЁМАХ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ff00"/>
                </a:solidFill>
                <a:latin typeface="Tunga"/>
              </a:rPr>
              <a:t>Наиболее эффективным средством закаливания является купание в открытых водоёмах. Во время купания на организм одновременно воздействует солнце, воздух и вода. Прежде чем купаться, обязательно обращайте внимание на правила безопасного поведения при купании. Купаться рекомендуется не раньше, чем через 1 – 1,5 часа после е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lu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6T02:35:41Z</dcterms:created>
  <dc:creator>костян</dc:creator>
  <dc:description/>
  <dc:language>en-US</dc:language>
  <cp:lastModifiedBy>Пользователь</cp:lastModifiedBy>
  <dcterms:modified xsi:type="dcterms:W3CDTF">2012-07-27T07:00:47Z</dcterms:modified>
  <cp:revision>21</cp:revision>
  <dc:subject/>
  <dc:title>Закаливание организма и его влияние на здоровье человека</dc:title>
</cp:coreProperties>
</file>