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01A-BD49-4942-9815-5D15F43B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461-C44F-4044-90E2-D4B5C7A8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6CC74-F831-4433-8CC4-8B00BE26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58F59-0104-4DA0-B7F1-CC6FBB5B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EE036-E3EC-473C-9AC9-6FB40C18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13EDB-11B5-4054-AF2A-AF62DE8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BFD2B-F702-4580-A6AE-5F355A5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13A75-1E9F-4D07-9AD0-9A76078F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046C9-6F31-4C53-A80E-87056B6C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095BE-1FE0-448E-8084-DBEBBC17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74DEF-6B29-4CD2-95E9-8CC427CF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EE524-B3CB-4753-96DD-56F8A1D4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C26-4866-4280-B3EE-BDFD2DB6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588E2-3CD6-4283-9FC7-89BC0F9B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B972E-A802-4B99-A994-768662A1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BC83E-CF52-494F-85C5-B4ECB459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6EE35-F93C-4C0D-B41B-F3C626EE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0CE97-E926-4281-900C-91B47A39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719C7-6A84-442B-9ABD-7E84BE3C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3B723-0AD2-4BCD-8BBB-A464DFA0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EC6D8-FB49-44CF-B0F6-B262F85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D3658-EB51-4D37-9CE8-4C02E51D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A05B0-6189-4FEE-9161-33BA3FAC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6D1-0AF4-4542-B08F-AFDF5789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5B7D8-8F0C-4FFF-82AB-4F43EB2A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45FF2-9029-4396-8576-A24F0D9E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1D189-23CB-461B-9AE5-0DDC35B0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AAD37-357F-4B91-818E-6A90092E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66763-E1E5-46C5-8758-DFE33EAD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3BD2F-C29F-4976-90D1-F02A0D09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3CFC8-C08F-4EE6-9F8A-E37DF8AA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0B881-26A1-4049-B847-D3A38D2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926E9-2688-4D89-A325-0E60421E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8058F-03E4-451F-AB2F-15998440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262D-362A-4F8B-90FD-D028C738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E8DA2-E302-403A-8845-A2C2DDCF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5DFDC-3A64-4D11-96F3-140A7C2B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E5338-FD5D-41BB-8B0B-26BF854B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26B53-0734-454B-8A2B-6A3C63F5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6842D-5146-4A4E-840D-6EF050A6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905D2-6AAF-4EB8-AD67-4A4527FC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AE037-1323-4610-8A59-E7C26F4B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2C93F-AF21-4E65-8729-38EB107D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04A9D-44F4-417C-9DEB-21548393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D10D3-6588-4B06-AA77-115F862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9368-84C9-4392-9BD5-11A6B728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8A8C0-2ACD-4BE8-9E0D-269F9F21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B5820-72AC-4035-B14A-C7251A5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C6F77-7FAD-4531-8C67-8FFD5D4E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C90DB-84D9-4861-A863-EBF77589E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9C9AA-658A-4293-BEA1-C90591E9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1D611-0F0E-4DA7-A0EE-9992A03D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FF2C5-8EA9-493B-A8D3-571CB7C4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47D0A-F5C1-4592-B956-4A687FA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A0E79-7F61-4858-B5DC-5C698C25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3E3E8-D607-4D7C-B0F0-97805ACE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9B39-0F9C-41BA-BF35-989BD0E9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F1E86-4CFD-491A-9E5C-0834F1B9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163113-4CBE-4658-A4C2-F98F331E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89040-EC43-4429-B947-07FBA720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254733-4777-4464-B32E-3A50CCDC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C9758-FFBF-49BF-AE1D-238E1189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DC5DE-C3DE-4B51-BC1C-96884F8B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277FD-EC8D-443D-9722-0627655A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0DD2D-241B-4AAF-9C5F-8F2EE505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FEA45-8C6F-40B7-A5C1-32ED72C2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EFE24-5DED-4CBE-945B-89582B45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01BE-08BB-43A9-8BAC-8988CF5A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80494-4A59-470F-91CA-FCE918F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23EDA-F490-49D9-B23D-D12891E8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7B1F0-A730-460F-9756-451A8BD5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0A9E2-9537-40CC-B69E-34DAE4B6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EE966-AEBC-488E-B3BD-373BF199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30351-5AB7-45C0-B389-81A9C7AF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63EA2-8E97-404D-9E65-EE3F5E0D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A38AF-20BE-41D8-A85C-1B84FDA1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BEC42A-FA63-418E-B44D-E2ECEAB7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837AA-D03C-4962-BAE3-746E9C54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E85E-EEA1-4059-8F6F-56356A18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6D079-648E-4CF3-B03D-79D0A672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C099E-BF25-40C0-BEA5-5100691B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5BA9A1-3FFA-4B71-BBF4-079F6BD9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E3A5D-3A78-44FE-92A0-63728FD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E48C0-99D4-4B75-BE55-37FDE498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ED99B-F48B-441A-98DA-30B431FD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B4890-2AC1-40B6-9A67-DF86DA19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35FAB-906C-42B4-AD44-A02C4FC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05C29-4F79-4242-B092-1163A73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30B8A-412E-4E34-90E0-A916C3F6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95D9-4F88-4EC5-A65E-FFDC158F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DEE02-7C1F-4A44-B35A-CED353C8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5C614-CABF-49AF-BEF9-39938E01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74CD6-1BC7-44E8-94AE-F9348B42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28326-5694-4562-9B43-8CAE5E46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BBA39-5F98-46FB-8805-0F45112F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67C59-B258-461E-8F4E-DD6FDD26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D7850-ED7D-47E0-9E83-C08FF31E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A074C-B775-4AA9-8363-B3E3BAFC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047980-D0FA-44CD-A478-7424364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E7809-487B-4078-8923-C7D2ECFF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4DA0-4F11-41C5-8119-3CA9849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92B2B7-5F4D-4C8D-9536-4DDAC60B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F2906-2458-4DB4-8412-E8F86C87E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049C9-38A8-4E31-8EAA-5E33317C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334-B7B5-413E-A1D7-743B135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3F35-8632-4F54-9605-F30E44A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E433-2B63-4B04-AD4D-2641C735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75D4-DA0A-43DE-A7E6-172ECB75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5E07-4EBE-4554-A869-D9AE4D8A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195B-35B3-4471-A13C-FD10D2CB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40BF-547A-41B1-BAA9-686DB5CD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05315-03BB-4C69-8E6F-ED2F5E4F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FC53-616A-4A5B-9A4E-761EF877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DF11-3D9F-4E3A-BBB9-D264B6FA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73A32-E6B9-4782-820A-92AC35C0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19A-72E9-4B19-9455-9EA4DD0D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6D78-1E5A-4E96-BD2E-3432E5E6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5049-858F-4898-AC27-B80BD10F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4DBBA-4DEC-457A-BA6A-B6936CA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D51E5-49B7-4338-A72D-AA896495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E57CC-AEA1-4275-88BA-8E801BBA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27C9-4CAE-48BC-892C-8B72F2E3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0C77-A25D-47C9-A534-4C731027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BE523-6E78-429D-B65B-469B084E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DE65-8A62-4802-886B-F3627329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6A97E-A29E-4479-B50D-DCDA4C1A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A6A-E3DA-4CA5-BBC4-8BF61554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D954-13A6-49C0-94D3-C94850E7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1F91-24B6-47B9-BCC1-CD38D891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7F82-75DB-4F7D-AA93-1B41BE22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E87D-FBAE-4BCF-B930-E6E91DB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49F49-182B-4E55-939A-B9655BB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0C655-E0FD-47C2-AB91-C7AA9B41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A24EA-9416-451A-BB0E-C94A61AE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E413-6DBF-4C59-8586-18280DA7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4C7F9-2A45-4E9F-A6CC-947E345B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2406E-6BF1-4C76-AFEF-FB60BE67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224-9418-465C-B7A9-C441E55B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30DD9-5A4D-43C6-A0C1-A70FEA58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9A356-865B-467A-A177-0E222632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55B7F-13A9-47E8-978A-2AC9C1C2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00AC2-1C46-4CD6-8516-0EEA6E73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C069A-42A8-4B7F-A585-000C3234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AEBB4-5A00-4722-AA3C-A73AC8DD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70D9B-A80F-4627-98F1-D67BA8A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BEF22-3E4F-4684-9E4B-BD19A6C8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50A6B-4A75-4C90-9FFA-03CE8C42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5B32-A421-4176-9EC1-5E444325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2F8-F16F-47E3-95BE-5468D33F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7AB56-5E61-48C4-A6C4-B85083A4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879BD-76C5-41A4-AF7E-2140DDCF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EB672-4C15-4A01-A4AC-154B9392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A3BBB-F784-4B79-9ABA-F598DA72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E6BA1-03BA-44E0-8F21-A58BCC0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868C-05F1-4C2B-A40B-543622D7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0132B-2472-452D-A486-247CA993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1706-AA44-40B9-9945-D3CB4190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4BF24-573A-4F8C-A982-42B9F9F6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17B5-1C59-4250-9041-E9681D3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181-87FF-4C6D-B672-B0AF25E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18691-3D20-4AD6-8AF2-AF5BB5F0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994D9-E981-4823-BA6C-60BBA523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C4582-E35D-4711-967E-FA925C74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2B5F3-9FA1-44E5-A356-2E17C066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90802-3A16-4278-AAD8-CCD0ED44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96528-FB5B-4A05-9AC2-BB0BBF3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9A97-7C80-4EE4-A91A-8506223D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C0284-F35B-435B-B48C-9A46A76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0972-F617-4D34-8B68-EC1E3656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6A6AA-3536-4DE7-B2DC-8C2D2454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F76-3052-4BA0-92E4-3D0C55EE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34EFB-86EF-4B8D-BA1D-7E4CFC2A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E57A0-B1CB-4255-AABC-74BC5F5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6D4C5-C9E1-4877-864E-41BFEBC1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AAE32-A59E-43EE-9F26-F0C7EEE9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D6450-79D5-4F06-B2D9-2E900EA8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ADEFF-EC7D-43D0-BBB8-57AC3307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24A38-6657-48B4-AFA6-5582A120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C3A7B-0616-47FB-B024-B86356D4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E657F-0236-4D36-BB68-0CC3DE4F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1C81F-BB43-48D7-8F8E-FD557A7C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63F-0A0F-4241-A6EB-D0F8C61E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BB918-F4D3-4B76-B033-AC1EC559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4CA27-E871-46C3-AEF4-BE282CB6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FF627-AAF5-4822-BFB8-3A718753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4ECB5-449F-4761-96AE-43FF6BA0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498C6-1F5A-4B57-B0A6-B408480D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C15E5-8AB0-4068-9F57-D77E73E1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429D2-5A90-401F-931A-B8BC1D0B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FE829-7126-4BC1-8F06-AD108CA4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E6A40-AD4C-48EF-AF92-8352A415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D163C-0131-4C8C-8654-698D5E8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B8FA-2FCA-452E-9E32-9C376AD791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6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6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8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9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9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0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7428-E6E6-41CE-82A0-58FAF0F009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7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5FBB-BBB5-42F1-8F5B-AAE834C1295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2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2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3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5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5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5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F8A1-52E2-45A6-9901-5BA3423A3F8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0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0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0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1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2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3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1315-016B-4534-82AA-47EF064768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7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8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8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9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0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0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1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CE8B-AC1B-4FB4-9CEE-6E8BB10F4FB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5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5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6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7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8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09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C08-7989-4039-8380-0BB9CE441F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3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3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3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5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6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6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6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9FC8-63B2-4BCC-97B6-C8D4CAE1FEF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D4BA-CFA0-4C9D-B06F-017ACCE5A1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0F85-6154-401D-9894-D4ABE2515F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9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1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2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03E1-FE9E-439A-BD3F-31061F651A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76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0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3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4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5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6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7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8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9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0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1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2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3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5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10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396A-8C99-484D-86FC-FE080EC5B00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5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7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8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65AE-D363-45C9-828D-8D853420685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3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3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3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4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4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5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6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46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6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6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FD85-C18E-4D47-9417-1F94DEDE601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10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2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14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27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0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1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2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3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4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5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6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37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38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39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0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1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2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43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44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45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5B6F-9A0D-4ECB-BF41-102D89D790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8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9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9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0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1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2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2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AFE2-75E9-4827-8247-F0E0D2B529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Защитим природу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ы предлагаем вам совершить небольшое путешествие в мир природы. А точнее в мир исчезающей природы Восточной Сибир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стения и животные, о которых мы расскажем, к сожалению, вымирают. Их на Земле становится всё меньше и меньше. Давайте вместе подумаем, почему? И что нужно сделать, чтобы приостановить это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 страницам Красной кни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642920" y="386028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7" name="Picture 14" descr="сканирование011"/>
          <p:cNvPicPr/>
          <p:nvPr/>
        </p:nvPicPr>
        <p:blipFill>
          <a:blip r:embed="rId1"/>
          <a:stretch/>
        </p:blipFill>
        <p:spPr>
          <a:xfrm>
            <a:off x="2050920" y="1413000"/>
            <a:ext cx="5042160" cy="5002200"/>
          </a:xfrm>
          <a:prstGeom prst="rect">
            <a:avLst/>
          </a:prstGeom>
          <a:ln w="0">
            <a:noFill/>
          </a:ln>
        </p:spPr>
      </p:pic>
      <p:sp>
        <p:nvSpPr>
          <p:cNvPr id="121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Эти красивейшие, нежные полевые цветы срывают люди для того чтобы украсить свой дом, подарить кому-нибудь. И не знают,  что такие растения не дадут плодов и семян, а значит, и потомств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0" name="Picture 9" descr="сканирование003"/>
          <p:cNvPicPr/>
          <p:nvPr/>
        </p:nvPicPr>
        <p:blipFill>
          <a:blip r:embed="rId1"/>
          <a:stretch/>
        </p:blipFill>
        <p:spPr>
          <a:xfrm>
            <a:off x="0" y="1773360"/>
            <a:ext cx="3311640" cy="475128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2" descr="сканирование010"/>
          <p:cNvPicPr/>
          <p:nvPr/>
        </p:nvPicPr>
        <p:blipFill>
          <a:blip r:embed="rId2"/>
          <a:stretch/>
        </p:blipFill>
        <p:spPr>
          <a:xfrm>
            <a:off x="4968720" y="1844640"/>
            <a:ext cx="417528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 сожалению, хозяйственная деятельность людей изменяет условия жизни растений. На месте лугов, лесов строят города, посёлки. Много дикорастущих растений при этом погибает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3" name="Picture 7" descr="сканирование012"/>
          <p:cNvPicPr/>
          <p:nvPr/>
        </p:nvPicPr>
        <p:blipFill>
          <a:blip r:embed="rId1"/>
          <a:stretch/>
        </p:blipFill>
        <p:spPr>
          <a:xfrm>
            <a:off x="4356000" y="1700280"/>
            <a:ext cx="4041720" cy="4392720"/>
          </a:xfrm>
          <a:prstGeom prst="rect">
            <a:avLst/>
          </a:prstGeom>
          <a:ln w="0">
            <a:noFill/>
          </a:ln>
        </p:spPr>
      </p:pic>
      <p:pic>
        <p:nvPicPr>
          <p:cNvPr id="1224" name="Picture 11" descr="сканирование004"/>
          <p:cNvPicPr/>
          <p:nvPr/>
        </p:nvPicPr>
        <p:blipFill>
          <a:blip r:embed="rId2"/>
          <a:stretch/>
        </p:blipFill>
        <p:spPr>
          <a:xfrm>
            <a:off x="395280" y="1700280"/>
            <a:ext cx="369108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Бывает, что люди, даже не срывая растений, губят их. Причина этого – вытаптывание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26" name="Picture 4" descr="сканирование006"/>
          <p:cNvPicPr/>
          <p:nvPr/>
        </p:nvPicPr>
        <p:blipFill>
          <a:blip r:embed="rId1"/>
          <a:stretch/>
        </p:blipFill>
        <p:spPr>
          <a:xfrm>
            <a:off x="1114560" y="1600200"/>
            <a:ext cx="2722320" cy="4530600"/>
          </a:xfrm>
          <a:prstGeom prst="rect">
            <a:avLst/>
          </a:prstGeom>
          <a:ln w="0">
            <a:noFill/>
          </a:ln>
        </p:spPr>
      </p:pic>
      <p:pic>
        <p:nvPicPr>
          <p:cNvPr id="1227" name="Picture 7" descr="сканирование008"/>
          <p:cNvPicPr/>
          <p:nvPr/>
        </p:nvPicPr>
        <p:blipFill>
          <a:blip r:embed="rId2"/>
          <a:stretch/>
        </p:blipFill>
        <p:spPr>
          <a:xfrm>
            <a:off x="5259240" y="1685880"/>
            <a:ext cx="281628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2-07-31T12:23:13Z</dcterms:modified>
  <cp:revision>16</cp:revision>
  <dc:subject/>
  <dc:title>PowerPoint Presentation</dc:title>
</cp:coreProperties>
</file>