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BAF-2633-4B87-B78A-5EAF3FEF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8A9-20C1-46A8-AE03-E6BC483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FB106-A5B8-4B99-9CD2-7F6A8758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CAC0-A6E1-4B20-9A3F-EA4A51B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3E95-CDBF-47C4-83F1-3FDACC80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06882-B925-4D3E-8621-2B358C1B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ACE1B-45FB-43A6-ACBF-536DB53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5C165-98AC-4860-BAFB-B5064B00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742D8-68CB-4109-9A24-9FD4A74F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4DF03-A802-4289-A325-89048073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D199B-89ED-4E18-8B89-2C8C92E9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2B142-8C51-4947-9316-39AFB8C7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56F-9331-47A9-AD2F-D095417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E2AF2-8FC8-48C2-B9F4-15FFC19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97EAC-0501-4F3D-A8AA-BE2C27B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580E9-B73F-4852-A29C-880E923F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F5C9-19DD-4701-8F99-DD96E89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2774-EF03-4B33-9CB0-7075BBA0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B48CA-3A1B-45EC-A031-15A7EEE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95075-80E1-4BF1-AF47-70C91B0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40E71-6F38-4083-8E8C-3612F1A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61FE1-AEBA-46B5-8F4B-A59A8DD3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F086-30F0-49A7-B7F8-5573762A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FE1-95DC-4E63-B0D8-4A2CF320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CD22C-50A6-4025-B283-F610123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5D998-810A-4309-8B8D-D43BF06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F952-B9D8-4B13-88AD-DA8F8982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F370-3DF7-4836-BAED-9477E51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8DFC-7272-4100-B325-E2820D0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999D-C0C3-4580-B97D-3EC6F9E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61867-079C-4FBF-9DFA-D888F64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FA97D-5E5F-4D7C-8071-DCABBD8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B9B5B-B6CA-4E14-95AD-165E791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F4EA-2B73-4FED-93C4-956DB18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5F55-CA86-45CD-A473-9CE74E02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8737-BE53-469E-AE05-F861362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EEE50-0B99-41CB-9BB4-6DFBE091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D9B7E-F537-4F79-B842-F919FBFC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6F428-CBC6-43FF-82B8-A8617116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5B8F7-07B9-4CA5-9876-2065F22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875A9-D42D-46B1-8907-57F23E0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D95B-F8F2-4654-ADB2-8F358EC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C8666-E4A9-42D7-9391-56A43DE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C77ED-9FE9-4A50-AE26-BBB2613E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8926D-AA72-412E-B38A-CC26375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457-942F-446D-926F-CED6D1D7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F937F-0A02-4B0B-88D7-62210D0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557F5-47C8-4FD5-AAAF-5069DC0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69FA0-5F37-40AF-8475-86C4F36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EC046-B6FE-4266-AF27-9B4AB2E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D7BB0-DC41-49AE-A6A5-47E07813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BDF14-6FFE-45A2-B3A2-CFE85B04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E90F0-F78D-47D3-BC3B-E88936C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6792D-0187-4EBE-B619-BC35B9C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F4860-794E-432A-92FA-BEBF6140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933A8-AD7E-431F-A2C0-E3274A4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1F7C-3025-4202-A830-2613BA8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F31A-31A5-4DA8-9634-05355EE5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409C7-DC39-47CD-BF99-3B81912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870CA-3BD4-496A-9046-C4BEC5F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F144F-1AAF-4DE0-8016-D8E9CDE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73DA7-A09C-41C8-9D96-4475CFC5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3ABD0-00CB-4518-9CA5-ACBB274E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0B866-3BCF-4147-9F4A-397FE745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F9DEE-87E2-4F42-B4F4-66E3FC9A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30AAA-0227-4359-9A77-737FD29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8B0F2-CEF6-4633-8174-8402B4E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6A0-D65F-400A-85D2-8738597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B749E-57CF-4391-844D-9BBC6FE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005F7-BB40-40FF-8BD8-44236C0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0CDB5-9758-463E-8AC8-1833E8A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C4F29-2C56-4243-AF6B-AC2CEEC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897D5-6208-4BC9-9AF6-B2543F3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1D6E2-7AA0-4EE6-A728-8860CB8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B785C-D211-429C-B8D7-CD6871B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0920E-987F-4ED3-B652-22BF25D0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5F69E-CDB8-4617-9BAA-17DDE18B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948DB-91E3-41B2-BA80-7681792D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70D-747A-4B48-A122-CD3FC00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941AD-9774-43F1-A4BF-0590855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F92CB-80E9-493B-BF71-D7C093B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18DC2-64F8-459C-A0E1-F89D8ED1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9E384-201A-46A9-AA44-FE55203A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B89F9-0EDF-492C-ABFF-5A26E6BE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429AF-379F-447F-B881-8DF0D45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934A3-AA37-4F44-A45B-2916DAC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DB840-F06A-46C7-B98E-61AFF43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53311-D628-499F-B642-872CD89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88D68-4B45-4A60-9096-EAB5250E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73E-FA80-4E8C-A5D9-E206EE2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DA8BB-E143-4A57-873F-8C5616D0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140CE-95B0-4C3C-B395-5CBC8622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7DBD9-A9D0-453F-A7A7-5C982F43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89E7D-9092-4ECD-88FC-F32CE46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5F58F-451D-4836-9AD9-0ADDA98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20386-6120-4646-9223-A0F33927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BE9EA-1928-4717-95A4-6B117BCB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412E7-4D67-4B0E-B73E-D40D6D2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540C4-DD53-4266-8AF2-09FA91F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5BE9D-1C76-4318-A955-17B40D9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72C-C842-42C6-BA1F-73AFF83A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38A85-EAFC-422D-8A65-B18295B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C3019-02B9-405C-9387-1B49C5B1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4EB8F-2CB4-4581-BFF8-50C83CC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B5-9874-4BF6-8BF6-A23F783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0934-EB38-4235-A9BA-5A2C258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530-D18E-4026-A8F2-8A9BCEF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6A3-1124-476C-9D84-AE61CFB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6945-7BE3-465D-BA0D-11AE2CAA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203-28B7-4FB7-865F-276CFE15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5036-29AE-430C-ABBC-531106F5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8A1A-D758-4745-9EBB-8C2580E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0482-6D12-4A36-B951-EFB0083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C3F8-8024-46FF-B835-60D248E2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A4E3-C614-4F14-BAA2-7D1E19D6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350-0E68-4757-8980-48EB2F0A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6942-5270-4A07-82AF-35A7E40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76EC-FF96-4504-9222-4C2486C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630B-2C3A-4E01-BF82-F5085FB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F520-93D1-4BFB-9BA9-53FB835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E335-0F36-4A26-8585-7D298410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DB27-1B8D-4325-8352-5E508E63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DEFE-1529-49FD-A4BE-E700ED6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1DA1-D984-4F91-A0A4-7A2F8AE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9CA4-78A2-4ACF-BAB6-8C917862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BBB8-16F2-4EBC-8F86-76E06AF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383-8F2C-4DA3-9EAA-60D47C63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0462-90F6-4C12-8266-A4062CA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9CCB-7093-414A-B4E3-726BA9C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8AC2-5E8B-402C-B535-9F6A432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98CA-2C4D-4AC3-A374-30540B4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7513-E8C4-43C0-939C-451A43D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9A60-CE4D-4F09-8788-F592D3F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239D-B327-40C5-B0D5-03B158C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38A5-0487-46FD-B9CF-AF209266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4BD8-1D87-44BC-A26A-B3BA956C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CBF8-E0C9-43C8-8687-C2740A7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B21-CB50-4255-9BDA-7E810E1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5E2F-83A6-4007-81D1-72B4E4EC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93DB-8AD1-4F93-8F1F-AA7A3E82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D7A4-C37D-4A56-8264-6DEABBF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5149-D355-4E2C-8D79-6B1E308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7D5F-A478-4AA9-A297-3D52F6A3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4A1E-F400-4BDF-9CAE-2A378E2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8F85-A167-4956-BA95-F999F12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FBFE-0D81-48DD-9FD7-12F29B1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1369-1724-4E26-81CA-3F69D4A3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5697-F09F-4B4E-A0DD-54EF0BBD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4FF-3257-4725-BB40-3A3FCA0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2D18-AF57-4C9F-8823-A369E14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999AD-2715-40A5-89E5-252C0B53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BADA8-19CE-4672-8DEC-9B0456D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C74A-5E15-44C9-BC9D-EA716363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755D-7FA5-438F-B0AD-2CD4E01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7456-524F-4928-9DAB-3B1AE2BD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0C16-0C32-42F6-9CBB-0804D0B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B288-1A73-4F2A-B8C8-EA52F1B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D89A-ED28-4016-96AD-EB4C72C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B268-74B9-4249-A1F7-8197DC9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5A2-C052-498C-B409-47EF0CE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3326-3B8E-4683-81E5-F249845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CD2D-0ADF-4356-A012-7679005E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C5CB-2A5B-499A-B859-1A73E946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087E-C636-4C93-88A8-7567DFCE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C49B-BEB0-4410-ACE1-8D7E7AA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77CA-2F77-4A9B-A164-81C2951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B852-C9D2-469B-9D7D-E7A3E23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FE32-BEEB-4873-977D-F61D360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343F-A54D-4028-92FE-5697B84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F42F-972F-473F-9BC0-23A51963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D1A-7D25-433B-8E1C-F118418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0C48-1945-429F-A913-3771E1F6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8927-E5C5-4244-8355-55D39DE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B2DF-BB1A-4BF1-B72C-644202DD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5453-A386-4663-AE1C-A491C837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3431-C8EA-4936-851A-45AED790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9A246-A8B0-48E7-94F3-AB33F386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6193D-E0D7-43FF-B3B8-8ED42D07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DFB4A-7D31-4250-9E5C-BECA0832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88442-CBB4-4140-A283-C826789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2034D-6EA4-494E-AC61-712563A7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6E6-59C6-43D7-BF4A-3151AC4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2E9A-49C2-4DC7-9EE5-79C39438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86C6-E6D7-422F-BEA9-E191200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BF42-7BAE-4FD8-BE83-D5DCC1C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86A0-8CD4-4F62-BFA4-D42EA55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6976-9551-406C-B131-E741F45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828F-4E58-46A6-8AF2-480585EA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9112B-0359-4B36-9F08-CDA9C7FB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C01A-FB6F-4CC4-A1A0-968FC0F1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C5EC-C744-4F32-B598-82AA077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DABD6-5FEB-4B02-94ED-686A49F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96E-3014-48FD-A7B8-BE237AB2BC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45C-78A4-4540-A94D-5FDD0E8FA2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CF92-A23E-48A6-8D74-73AF3A1BA8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9B0-1A96-494C-A403-B1AFEFD834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A2C0-BACE-4354-B788-44BE229095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BB58-0E0C-45C8-8691-4B6E3C8EF5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623-1D4E-4514-A597-D27B91B924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B36-3A2F-4179-B2B8-AA8D74D5C5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3CA8-4734-4C1D-87DE-055096447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B418-9BD8-4B92-896A-58AC275E2E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2FA9-D933-4F23-88C5-9C07D96E4F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DBE-71BB-49B2-BED0-012FAEEF0F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E69-5608-4A36-8F79-822401B888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2E9E-53D5-4799-8CB2-9CDB7493D6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C74-E71E-4586-ADE4-59EDCE8595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20A7-B043-496C-A9AC-DBABD122CD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Защитим природу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ы предлагаем вам совершить небольшое путешествие в мир природы. А точнее в мир исчезающей природы Восточной Сибир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тения и животные, о которых мы расскажем, к сожалению, вымирают. Их на Земле становится всё меньше и меньше. Давайте вместе подумаем, почему? И что нужно сделать, чтобы приостановить это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 страницам Красной кни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642920" y="386028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7" name="Picture 14" descr="сканирование011"/>
          <p:cNvPicPr/>
          <p:nvPr/>
        </p:nvPicPr>
        <p:blipFill>
          <a:blip r:embed="rId1"/>
          <a:stretch/>
        </p:blipFill>
        <p:spPr>
          <a:xfrm>
            <a:off x="2050920" y="1413000"/>
            <a:ext cx="5042160" cy="500220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Эти красивейшие, нежные полевые цветы срывают люди для того чтобы украсить свой дом, подарить кому-нибудь. И не знают,  что такие растения не дадут плодов и семян, а значит, и потомств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0" name="Picture 9" descr="сканирование003"/>
          <p:cNvPicPr/>
          <p:nvPr/>
        </p:nvPicPr>
        <p:blipFill>
          <a:blip r:embed="rId1"/>
          <a:stretch/>
        </p:blipFill>
        <p:spPr>
          <a:xfrm>
            <a:off x="0" y="1773360"/>
            <a:ext cx="3311640" cy="47512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2" descr="сканирование010"/>
          <p:cNvPicPr/>
          <p:nvPr/>
        </p:nvPicPr>
        <p:blipFill>
          <a:blip r:embed="rId2"/>
          <a:stretch/>
        </p:blipFill>
        <p:spPr>
          <a:xfrm>
            <a:off x="4968720" y="1844640"/>
            <a:ext cx="417528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 сожалению, хозяйственная деятельность людей изменяет условия жизни растений. На месте лугов, лесов строят города, посёлки. Много дикорастущих растений при этом погибает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3" name="Picture 7" descr="сканирование012"/>
          <p:cNvPicPr/>
          <p:nvPr/>
        </p:nvPicPr>
        <p:blipFill>
          <a:blip r:embed="rId1"/>
          <a:stretch/>
        </p:blipFill>
        <p:spPr>
          <a:xfrm>
            <a:off x="4356000" y="1700280"/>
            <a:ext cx="4041720" cy="43927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1" descr="сканирование004"/>
          <p:cNvPicPr/>
          <p:nvPr/>
        </p:nvPicPr>
        <p:blipFill>
          <a:blip r:embed="rId2"/>
          <a:stretch/>
        </p:blipFill>
        <p:spPr>
          <a:xfrm>
            <a:off x="395280" y="1700280"/>
            <a:ext cx="36910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Бывает, что люди, даже не срывая растений, губят их. Причина этого – вытаптывание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6" name="Picture 4" descr="сканирование006"/>
          <p:cNvPicPr/>
          <p:nvPr/>
        </p:nvPicPr>
        <p:blipFill>
          <a:blip r:embed="rId1"/>
          <a:stretch/>
        </p:blipFill>
        <p:spPr>
          <a:xfrm>
            <a:off x="1114560" y="1600200"/>
            <a:ext cx="2722320" cy="45306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7" descr="сканирование008"/>
          <p:cNvPicPr/>
          <p:nvPr/>
        </p:nvPicPr>
        <p:blipFill>
          <a:blip r:embed="rId2"/>
          <a:stretch/>
        </p:blipFill>
        <p:spPr>
          <a:xfrm>
            <a:off x="5259240" y="1685880"/>
            <a:ext cx="28162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7-31T12:23:13Z</dcterms:modified>
  <cp:revision>16</cp:revision>
  <dc:subject/>
  <dc:title>PowerPoint Presentation</dc:title>
</cp:coreProperties>
</file>