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A91-F401-44D0-B8B8-9C2335EC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6FA-DB9D-4007-AC3D-011C497C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4786A-681C-4329-8301-82C54D12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2A2FE-08AE-433D-876A-AAEBA20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3006C-38E8-47E5-A81C-43EC8519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FCCC4-25CD-47FD-8A6C-0602C0D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482A-4FBC-47E7-89A3-E926DA5F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1B25-A463-45FB-A157-5574D8D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E1AA9-3E97-42C5-94E6-D54801CC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2AD7B-B8F4-47FD-AE57-C8E7C46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496D0-2996-48DE-B8F2-BF284A5E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BDD19-D844-4439-B64B-9D989D45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BF0-B35C-4F92-BDC7-2DCF6DC5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F72BB-619E-48D6-8BC6-DEF9D55F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0AF6B-E197-4359-82E9-502B8CF9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D2D1B-F643-447A-9E3D-92A41592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574A2-31CE-4655-9F7C-1B228A9D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BFC30-DC91-4757-9401-7CCDB8BD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08CC6-70FB-4DD2-B904-28E60B5E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4C3EF-7E83-4E68-8583-A00F4DC5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F7D19-8D82-49BE-92E7-1EDA1CA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6ACF0-5FDD-4017-9764-B935E87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FECD46-028B-49DA-BAD5-1335EDAC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4FB-FB10-4D2A-A8E8-9A0D0145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10D5A-DD23-4A35-8A55-CA0BA670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0556E-994B-48D0-949D-7049A160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AE41C-3F52-4DEF-A623-CDFFAD98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D4156-92F0-449C-8AF6-9497B29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2D9E-5D80-4894-97FF-BCB7B11E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8243E-CC4A-46FA-AE25-0DF5431B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86A26-F7AB-47A0-9040-7E21C2C2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9E970-4C9A-4D91-B199-B65A09CF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881FC-7576-4D28-831F-8042CF4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170CA-D852-4A36-91CE-1DF497F4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992E-86C7-428A-A441-AE614B9C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E09E-2DE9-4683-A14E-7D5DB892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2C85E-46CD-47FD-98FA-CED3141E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E1F50-4391-4FC0-A90D-B1018EEA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6B6C-581B-488F-94DF-56DE4BE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108BD-123D-4A5C-AE5D-84387373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412E7-8934-4F3A-B477-1FFF54BD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1354-DB70-4CD5-BE52-6BCA4978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EE83E-8126-43E2-92EA-F028BAB6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4B19C-D9BC-40E2-850D-2E56815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64D51-247A-4C0A-80CC-363F4D3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F788-BD90-4CD9-B1ED-C322566E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B85C5-1611-4A84-AA0B-DD96343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50DC0-5E3A-402A-84F4-F8F3ABB5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E2121-6909-4EAF-8E3D-65971E68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15559-7EA5-4575-A88A-16C0FF0D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8E6AF-487A-40A6-B876-2402E89A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840B1-5688-4D7A-98EA-0AB7CFF0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0BE5C-5EA8-4D08-89AE-B1B7EEF2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AC79A-F69C-475A-ACD5-69CD576D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1FBED-3E75-41CF-B531-4855100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1AF0F-AE48-4B9B-93B3-B5F819D4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EDA-2900-41A5-B368-9009F041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983D0-7A68-4A97-AF9B-1C33783D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66001-9896-4C9D-9A3F-56A62C4E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6B697-764F-493A-BCB1-C8BC29A4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90683-5BE2-4343-B43F-F2E67AC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653CC6-A98A-4107-98B3-67EB3CF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62283-6303-4EEB-B9DE-DBE27706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A69BF-CCC1-4BCC-A530-C6052395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B7788-9C5A-4AAF-AEEF-4DD65297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3442CA-89BB-4282-9911-D37EE5A3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63C00-0A57-481C-988D-771947C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3F0-E6C8-406D-BDC4-B874E036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BCC67-1BFB-4B4C-8AAB-EA49590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23CA3-59C1-4084-9B50-CE9486B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E3FB2-88AB-4D8E-9F3B-53DA9E19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BBC96-95D1-48DD-968C-CD052D3C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3347F-0942-4985-9FE4-38ABE40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16ED4-D48E-4CF2-B105-59FB4F0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C7D81-BFE2-40A3-9D1E-C0FF5FC8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0D390D-3A24-4E15-A413-5C41C1DF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51BEB-E139-47BA-9C05-1609A2BA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5CD0E-6E0D-4C59-B562-BD96D0C8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598-A16D-4F35-895D-6D6F1CE6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832F8-F412-4129-8B8C-16A48487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AD5BD-1834-49B1-8ED2-0B62F2E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43172-EA89-49A6-8A2C-45ED22FC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559CF-4CDE-4806-8B8F-35EC9D1F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C02C0-1EE4-4CB9-BC20-21C26601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652C2-B3FC-4B32-8A36-FF4F37A3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0AFD8-0445-4C14-A4A3-90BA0DEA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9169E-79FE-4C78-A712-7330F34F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DBCC1-0E4E-4E1E-B24F-0493D729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401C94-E6C4-4899-ACD3-6365BA1A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E678-E86E-408C-9EC1-2D9BF65F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8C482-E8FB-4A79-9AF6-7B69D182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39E25-8C38-4F9F-B364-E18F5AEA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4D0A91-5762-4E3D-BA3B-FA3BCC96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B6862-D6E2-4976-9ACB-BCD05CB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63D9E-BEC4-476E-BE6C-82F67CD5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01585-A59F-4401-871B-2754C1A5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F0F52-B9AF-4598-8647-0821911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4DEF5-E458-428F-AB9D-14DCC96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A99C9E-483D-416D-BA23-171DA447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04E6D-E74A-425B-BF23-3705B55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1892-1B5D-4178-94DC-F9E4A8D8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C035A5-CF6D-4AB6-B8FA-3279810D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C2BF8-8532-4A3D-B379-A481EEDA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5AB33-2508-4DCA-AE03-096F56BF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FBE-CAF4-4D0C-9E71-5624DFE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F84D-46B3-41D3-99D9-EB4F885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00FC-F3C6-4E0A-8790-5B0578B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6DE5-B8D8-49F6-B3EA-6A66284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8CCA-CA10-44DB-845B-12CED5CD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EFCB-4AB5-4185-AA78-BB586E80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1D6C-E273-4AE9-99FC-F4D29D29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0E1C-A90A-4EF6-A04D-D2528B6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3A0A-F05B-4707-A6C5-0F51F04D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0189C-66AF-4A28-A1BE-BE26B76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B209E-7BA1-4AEB-A040-3AE3556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842-5DEA-4676-8EB6-4BA85897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11F1-91A1-439D-829A-89B6C41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996A-4F2A-42E6-A9B0-146557B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77F5-4749-4BB6-96B4-64C5164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7C4F-56D1-4780-9F44-5AC7DD76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F938-BEBF-4421-B6B5-22DC6EC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8E3C2-E07C-4FF5-A457-C610A17E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27AB-C261-41EE-9190-E52989C1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34A0-05BB-420E-AF0C-A2EF0383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AE008-2915-4553-950F-293F413B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4EFB-746D-441B-A1C9-03522BB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C92-FE35-423B-8E1C-F57AEDA0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1954F-8646-4AC3-ABAE-C085A87F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68B01-E8AE-4B26-82B5-CF5AC720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B3CB3-18BA-4F00-A9F1-F31B4AC7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57243-CB1E-4204-BEBE-3435E07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82CB-E08C-4C21-9216-3371905D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47B5-F5BD-4ECB-BCA1-561A500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3CBA-0607-42D1-B9EC-45EB854A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2CC99-D57E-41AA-B13F-4195A68E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491D-9DA9-4222-9CBC-3F698E47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B7A3C-720C-495E-9088-ED88DD49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F06-769D-446B-85FA-2B460F6A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316B-890E-4C7D-9AB2-DB8C743E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013A-C3CF-4D88-BDC6-4400B648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FDC3-4116-4D4B-8068-5B6DD8A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BD02-9D0C-4014-A4FF-D838433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FEFBD-EA14-4AB8-AE30-4302C89A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6FA1-D049-43C7-89E3-553549CD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ECF1-0D97-4E9F-88E8-2531152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1621-CB1A-4C6A-A73B-7C1FAB6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AAA50-090E-414D-B287-3A4403FB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F9244-2C11-488B-AF79-904CEED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EBD-4304-409D-A150-40017356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DDA6C-0191-4EEC-8F99-05274A78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540E-7F43-4926-8C56-4270D4D1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6345D-E744-48A3-B8D6-6A183C6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EE9C9-2AC1-4B49-A8D0-17A1E7BB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FFFAF-60A9-446F-A3EB-FB33DB55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13B13-AB01-4284-AF0B-E0E79040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5763-A40E-4252-8DFE-1C75FB5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F75A4-16CE-4431-80A0-60ABC0CE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D4ED7-F0C3-4840-B5CC-CF460511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8BE24-55E0-4050-ABAB-B9878A6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547-59C5-4CE4-B4B3-A909440F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67549-C998-4224-B8DB-75DD30C8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F29B-80A1-4886-987A-7B3F1CC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E4984-AA33-4533-8A8D-7829479C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8D80C-9FB4-41BC-926B-AE801ACC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881A-90BA-4F1E-A4AC-5E961B55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86034-C2BF-4DE5-BEC0-DFC3ACB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76304-A35C-4A8C-8AE7-664C1E40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F679-14EC-47A7-B18E-A9EBFA3C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B59D5-C6CF-4686-A2F0-A4159D02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0CB76-54EA-4034-9063-36312964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9E5-5A3A-4B4B-8BA9-C9BF7D2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16119-2CB7-4BF9-8251-A4515D7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9798D-2CE8-4445-8451-35DE4059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05005-4B07-4094-8938-92F6062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5C29-FC09-460A-9C8D-AC3D0006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54E3-FE81-4C1B-A151-6123D5CD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F3773-637C-4828-9339-69CCD42E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4379B-E1A4-43F7-93BA-9EEE8560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0A7FB-A966-49A5-AC3A-D791E0D5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F33A-953A-4C2F-9320-C6FD0B39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700A-79E9-4873-AF40-D2C82C57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B0B-C9C7-455C-9048-85970899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79B9-E2DC-4D3D-BA3B-E33036FC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4A49E-8DE4-468F-848A-985EA225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A815-26C2-472E-BAF4-34A6512A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036D1-921C-4499-AA57-DF16B822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F1772-03CD-4A6E-B27B-C09FEB14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AC3D8-512F-49C1-934F-36521223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FB2EB-6C7A-46ED-84AB-0C060F10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8004E-A5E6-49FD-8421-C5EE152C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A92EC-22FA-4D43-BB52-A945FAC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B8823-18E7-4B89-97F6-CEF93D0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8E0-30C4-4A6F-9B8C-E94217AE81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FF13-97B0-48D1-83AA-EF1A8EF2D4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E02-4483-4664-8CDC-82FD8DF198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D2A-B6DA-4648-9300-1B27BE1EABC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6C4E-D123-4A0A-AB27-07F0252AF9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4DB8-77CC-4F5D-8106-D57A1CAF20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B685-F11B-4366-B167-B8788D1108B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3EB-8E00-4BA6-A37E-0DADB058A71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B7A0-112A-4099-8AE1-9429B21BB1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DBF6-2C12-4414-86CB-458D27EA77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BD70-0BB1-4A82-B4E7-8A45740679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3B2-6FE6-4556-8AF7-6DBCCBA1B81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C91A-C663-4148-9CEB-8F663F31E9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8CF8-EBCF-4092-AFEB-1C82830CF8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50F-2C08-4355-A77E-A5FFDABB97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BEA-22EE-49D1-B5CD-D0A7F2AAF1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чезающие животны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12" name="Picture 13" descr="сканирование004"/>
          <p:cNvPicPr/>
          <p:nvPr/>
        </p:nvPicPr>
        <p:blipFill>
          <a:blip r:embed="rId1"/>
          <a:stretch/>
        </p:blipFill>
        <p:spPr>
          <a:xfrm>
            <a:off x="4500720" y="1628640"/>
            <a:ext cx="2320920" cy="218916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7" descr="сканирование002"/>
          <p:cNvPicPr/>
          <p:nvPr/>
        </p:nvPicPr>
        <p:blipFill>
          <a:blip r:embed="rId2"/>
          <a:stretch/>
        </p:blipFill>
        <p:spPr>
          <a:xfrm>
            <a:off x="5305320" y="3941640"/>
            <a:ext cx="2724120" cy="2189160"/>
          </a:xfrm>
          <a:prstGeom prst="rect">
            <a:avLst/>
          </a:prstGeom>
          <a:ln w="0">
            <a:noFill/>
          </a:ln>
        </p:spPr>
      </p:pic>
      <p:sp>
        <p:nvSpPr>
          <p:cNvPr id="1214" name="Rectangle 21"/>
          <p:cNvSpPr/>
          <p:nvPr/>
        </p:nvSpPr>
        <p:spPr>
          <a:xfrm>
            <a:off x="6084720" y="3500280"/>
            <a:ext cx="172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Большой баклан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5" name="Rectangle 24"/>
          <p:cNvSpPr/>
          <p:nvPr/>
        </p:nvSpPr>
        <p:spPr>
          <a:xfrm>
            <a:off x="5364000" y="403596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ветлый хор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6" name="Picture 26" descr="сканирование003"/>
          <p:cNvPicPr/>
          <p:nvPr/>
        </p:nvPicPr>
        <p:blipFill>
          <a:blip r:embed="rId3"/>
          <a:stretch/>
        </p:blipFill>
        <p:spPr>
          <a:xfrm>
            <a:off x="1187280" y="3284640"/>
            <a:ext cx="2552760" cy="2189160"/>
          </a:xfrm>
          <a:prstGeom prst="rect">
            <a:avLst/>
          </a:prstGeom>
          <a:ln w="0">
            <a:noFill/>
          </a:ln>
        </p:spPr>
      </p:pic>
      <p:sp>
        <p:nvSpPr>
          <p:cNvPr id="1217" name="Rectangle 27"/>
          <p:cNvSpPr/>
          <p:nvPr/>
        </p:nvSpPr>
        <p:spPr>
          <a:xfrm>
            <a:off x="1187280" y="3212280"/>
            <a:ext cx="14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удрявый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ликан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457200" y="3941280"/>
            <a:ext cx="145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0" name="Picture 9" descr="сканирование005"/>
          <p:cNvPicPr/>
          <p:nvPr/>
        </p:nvPicPr>
        <p:blipFill>
          <a:blip r:embed="rId1"/>
          <a:stretch/>
        </p:blipFill>
        <p:spPr>
          <a:xfrm>
            <a:off x="5364000" y="1628640"/>
            <a:ext cx="2616480" cy="21891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3" descr="сканирование004"/>
          <p:cNvPicPr/>
          <p:nvPr/>
        </p:nvPicPr>
        <p:blipFill>
          <a:blip r:embed="rId2"/>
          <a:stretch/>
        </p:blipFill>
        <p:spPr>
          <a:xfrm>
            <a:off x="1187280" y="2276640"/>
            <a:ext cx="2619720" cy="218916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4"/>
          <p:cNvSpPr/>
          <p:nvPr/>
        </p:nvSpPr>
        <p:spPr>
          <a:xfrm>
            <a:off x="198756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3" name="Rectangle 5"/>
          <p:cNvSpPr/>
          <p:nvPr/>
        </p:nvSpPr>
        <p:spPr>
          <a:xfrm>
            <a:off x="1424880" y="162792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Черношапочный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уро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4" name="Rectangle 16"/>
          <p:cNvSpPr/>
          <p:nvPr/>
        </p:nvSpPr>
        <p:spPr>
          <a:xfrm>
            <a:off x="6713640" y="5605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5" name="Picture 17" descr="сканирование003"/>
          <p:cNvPicPr/>
          <p:nvPr/>
        </p:nvPicPr>
        <p:blipFill>
          <a:blip r:embed="rId3"/>
          <a:stretch/>
        </p:blipFill>
        <p:spPr>
          <a:xfrm>
            <a:off x="4441680" y="4511520"/>
            <a:ext cx="3702240" cy="186876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20"/>
          <p:cNvSpPr/>
          <p:nvPr/>
        </p:nvSpPr>
        <p:spPr>
          <a:xfrm>
            <a:off x="6516720" y="45813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нежный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барс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7" name="Rectangle 21"/>
          <p:cNvSpPr/>
          <p:nvPr/>
        </p:nvSpPr>
        <p:spPr>
          <a:xfrm>
            <a:off x="5579640" y="1627920"/>
            <a:ext cx="145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Снежный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баран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Rectangle 22"/>
          <p:cNvSpPr/>
          <p:nvPr/>
        </p:nvSpPr>
        <p:spPr>
          <a:xfrm>
            <a:off x="2328480" y="407592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Красный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волк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1" name="Picture 4" descr="сканирование003"/>
          <p:cNvPicPr/>
          <p:nvPr/>
        </p:nvPicPr>
        <p:blipFill>
          <a:blip r:embed="rId1"/>
          <a:stretch/>
        </p:blipFill>
        <p:spPr>
          <a:xfrm>
            <a:off x="324000" y="0"/>
            <a:ext cx="8351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33" name="Picture 4" descr="сканирование004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Verdana"/>
              </a:rPr>
              <a:t>5 июня 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Международный ден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охраны окружающей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сред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7-31T12:35:30Z</dcterms:modified>
  <cp:revision>21</cp:revision>
  <dc:subject/>
  <dc:title>PowerPoint Presentation</dc:title>
</cp:coreProperties>
</file>