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C00-B753-4D29-ADE0-191F6457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D2-B4DD-400C-83AF-ABEE7AF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70AC-796F-410F-B7FE-953AC69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66A3E-7F76-482C-BF4C-63D2019F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4B9E7-34B6-44C4-B007-B09B0C0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4372D-DC81-4666-BF33-103AB03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5DCFC-6F8B-43BB-9CE9-C74EDA1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EEAB-1E72-4B34-A2DC-47CA167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2B307-1CBE-4FD0-AAFB-4C860A2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24FA-51C9-43FF-B73B-7A7F92B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6EE79-1DDC-46EF-943E-660AD66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D64B-86D9-4019-8082-2950818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A94-5966-4B66-9271-6F72DFE8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A00DA-A932-4C9E-AF2D-531CAEFD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6B204-A8D9-4459-8170-7D616E19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0C392-EBB6-42A8-90D1-C731FCAE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95269-9724-4890-97C4-A171C12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9B9D-F1D5-4F07-AC2D-A89AE5B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D15D6-1B2F-4F1B-983F-669D5667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C7A3D-3AD7-45D9-8197-205BE2C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7AD1C-03CD-49DE-99DC-A590955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89A9-4AB5-40C0-B4D7-8BF310F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F87D-8B5A-4035-A89D-96347A3A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7A7-BD7E-41D4-8E0E-D9A402A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0AF1-110F-4301-9BB5-2A2FC115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A708-2DC4-4685-A88B-52EEC71D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43048-A6E5-414F-8D43-C37E161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FAFF-15A6-41A7-98E0-C9001428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9E0E0-7745-4BB0-96F3-E12DCEE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4218A-1F98-4168-8C3B-A128CF06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F5337-E010-4BC1-BF0D-808565C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194F-DC94-41C0-AFE2-ACB2376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06D54-E087-4498-A622-5D461C7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80315-416C-41F7-B32F-64191FB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503-940A-45CC-AB8A-EA022EAE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4694-E9E1-4868-BCEA-36FBA93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86701-370F-40C2-9584-93A8561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1A3FF-42AE-4E78-B5F8-D51290B6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C72C2-70D0-4B15-AF8B-94F19DF5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A1E26-0508-4025-B3D3-D4B3A3F3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51A8B-4BC8-4908-992F-597D2A3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9753D-9676-4C66-8436-86F2360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6D798-3E3D-4F73-926B-329284D4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E8937-488E-4D0C-AFDE-0000C9A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20FB9-B477-4F47-A0BD-09547E5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D26E-DC65-47AC-9BF7-F3C89897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89013-E199-4D48-9E6A-72F2B5D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D830C-7FDD-42F8-AF16-E944BF7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EBE22-326E-483D-8FE9-078436B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7053B-3AF7-4864-9D41-A06262A8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624D3-F792-4F3D-9683-C44CFE8D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8BBEF-9981-4857-8026-1F0B4F5F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28F40-7863-4BBC-8CAC-3AC413D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DB59-A209-4A01-8A22-10F4CD9F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63030-1E3D-4DF4-A388-8021D7C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4B53A-7C08-4A90-94D7-AEA97E4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C66-3CA0-4B26-BEDA-5B4D32B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04B4A-7ABE-4D88-92DD-0D552808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D763D-D5D0-4C41-9C0A-88B4B65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E6EC8-BD21-455D-A748-AEBA66F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74E8E-0BE7-498F-B6EC-FA4321A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8FFFA-5696-46CB-908B-3DCEC21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A4CB2-3DEC-4A00-86EF-D943C95C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6462A-FC93-4836-99EE-9B6702A7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EBEA5-C405-4154-886B-2CD39BF4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67840-2D9C-448D-9DA5-7F56B222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A5D6B-25F9-4110-8A4A-18F6FA3B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F9C-D75B-4CEA-9AD1-AA5DE90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ED12F-5F96-4FCD-B5EE-D77A0FD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68B08-EDAC-4F60-A5FC-DA6D63D9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E4666-956E-457D-B073-6827D61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5FEE8-6631-4A17-9146-CB84328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841A3-A2FE-4A4B-8BBC-7B79EA2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8134F-8489-4CF2-8967-1C04259D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23B56-8628-4FB0-A3CC-78FA7F0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F83DA-E3D2-4C8F-9708-AF8ECB1F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CE5EE-1D67-4B33-9473-5224BC70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C3B42-7079-458D-B6F8-19B31DE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CC85-1C67-443A-9400-771A6F29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9AD15-5C3E-4BD9-8EF3-7DD72584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8AB1A-819B-4723-AAEA-0648B12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78C22-74BF-4D73-A9FB-4DF39D02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185A6-3365-4126-8D7E-DB1FE74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B9374-6DAD-4C16-998A-9C92EC1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3B00F-7B77-42C5-A689-2117E2C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47F1D-0CA3-4397-B21C-618531E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36492-4FA8-4AAE-80EB-55326DA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E3455-9690-4B35-ADC5-8684E5F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72617-D644-45B3-B88B-B15804F1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0912-799A-4C34-AD6C-0926B5F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14E4D-49DF-408E-A116-9376BA67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4A9E8-D975-4BD2-A9C3-3C418990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D6E67-B06B-4F61-BC29-08523523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AE147-2304-494C-948C-ACA0B75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E5190-9C1C-4997-BE8A-F2D7DAA7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175CC-AC53-4D93-9F7E-F99484B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639EF-5F8B-410B-93AC-F29B60D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8AE68-3766-4F52-8F2A-118F664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E4924-3B14-4BCF-98F0-5A146F3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A8BBC-3B16-494C-95FB-DD64FE0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D35-CD2A-46E3-9F8D-1BE23F6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B5963-C2DD-4656-B41E-DC80031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4BF68-4DF7-4883-A510-ACF58482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1F948-5F52-43D6-A8BA-F56C6EE4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68F-9939-400E-8F1B-E176739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8AFC-C625-470C-A36B-DE48EA3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74C-1DE6-4627-BE96-8129F99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8864-11C3-4ED8-BE13-80D8FEE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794-4DB8-4B15-859C-19B633C1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9731-C7B4-4ED2-8DCE-90EDCBE5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E30B-ACB4-42E6-97B9-C05D7A31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3D01-16AE-4269-8E31-887D4E3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00B5-8FE3-4735-BFF9-18AB7B2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A44B-6AAF-4093-832C-EB65C6D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7FCA-5D01-4A9C-8304-6D16FC7F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A5E-4897-478D-8C03-C878DB4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865D-3D89-4FC7-87A9-8FF6738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E8E8-9AAD-41D1-9A21-A2BB33C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9213-7C79-4E3D-9644-02B9E1B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2984-4DB1-4EAE-9DA0-42AA7CA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E39-CE84-4E78-A4A3-AA920DD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DAD5-D51E-4D36-9B34-92FC701E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861D-65D8-48B2-A7B6-FC242BD5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3588-33B1-48DC-9BAC-93EA783C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9410-C3AA-4E63-A472-2696FA6B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44FF-43F0-4167-96DA-AD9FFF09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C34-6D67-4C81-961A-76B26D6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086A-A421-4FBE-831D-166BED5B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16AB-F46D-464C-945A-1057148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4C7C-5D03-4235-94BA-DB07047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6401-0452-4A24-85E0-5A9AA423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E2B8-84B5-468A-9CCD-BDAF812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D02D-4792-4EED-9E4A-0A10B35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3441-6EEB-425D-8960-8F57A64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75B0-6AA3-4FA1-A311-873DE18E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964D-6489-415C-9F47-AA1ED92E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726D4-D095-40D4-B329-B7A804D8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ACF-E295-4504-A174-320CB340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AA8C-EBC8-4B1E-8882-E09D524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B227-3824-491B-81E5-5F1E875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CC0B-8017-4652-8836-8CA10C5E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8836-B06F-46BD-8E56-FC6A4A0D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A8E1-7625-4E98-9535-0216B3D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B3E7-2486-49F6-B407-00EF480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C1F4-E02A-4273-B970-55A013B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E3C3-3504-4718-A8D3-F5252E29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E856-6480-4EB7-B8DD-98F35D3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D5B1-7358-4131-B163-98543061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4C3-01FE-49F9-9C3A-95408808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BE98-6A82-4C8F-8386-F19AB70E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CB5B-CD46-45E2-814E-A5801A5F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D5CD-323E-48CA-B678-7D5167BA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ED70-C277-4BA7-BA67-90B7EF4E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354D-EC4C-402A-8C9C-002BD53F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1658E-C587-4056-BF45-14071227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4420-A729-479C-9542-3EAFFE1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66D5-69C1-4A06-AF04-D85C8B0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AB85E-A521-4D73-9C70-976FC0F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70B7-3A06-47AB-832E-8B85313A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807-047A-4012-A093-48F68A4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8301-0AA6-4D4D-B951-6A38316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C022-CAF1-45D2-B329-B41604DA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BEE1-C22B-40CA-B59A-3AB60D0E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B615-A6F3-4D3A-87FE-3C87BA84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5A12-28DC-4839-B79F-68C42C8D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8C91-0D06-41F0-B8E1-8B08AFD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297C-170C-49F6-BDD6-36990F3A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A198-0D7E-408B-AF8D-CF9E905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E695-C367-47E2-A2DB-80F05242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6FC7-E079-4D27-A980-7DD43D7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9C4-7EB4-4A63-AC8B-62EE1EF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B095-63CA-4C54-8078-37551C1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D07C-C387-454F-9E1A-79D9FD3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3B96-009C-4DF6-9C1E-0758CE3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EF53-F3F4-4C83-A371-4824B2FE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3F7A-C085-4EA2-8094-1F15CEEF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0A683-CB1A-4DA2-8693-272FED24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D13D-15DD-450C-819A-0603300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A5E0-1FE8-4FFF-94BF-87F8EA0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6430-2595-415A-922C-507B53D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9AAE-7A84-4F75-9F52-6EC6E9F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8BF-5A74-45E3-8910-08E1F14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48191-9630-490C-8249-FF9812A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1D04-920E-41E8-8784-BB868C8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0EDC9-F2D0-4040-B15C-8D3CC0C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870F-745C-4A1B-B639-1969E5B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4CB7-150E-4400-B783-9E073B35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01CAD-62EB-43EE-81D1-CA30F312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0713-69D1-4D1E-8633-D137DC5B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84121-2EAD-4F6B-8908-4CCCC7D1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23575-170C-4F2B-8580-10E75FA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85F1-0E99-423C-ABEB-0B345A7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6AB-B4E6-4154-83D4-5871CFD928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D4A2-4344-4119-9C82-AB2CE94088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A8D-6C5E-48F5-8826-A446435B9F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6C1-474C-4087-91D0-44D266ABAF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18A-A82D-410B-9571-D464809620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1A98-E861-4889-A0F4-A836C6CC7F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33E-60F4-4F2B-80F2-237B9D174D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3EE-601B-4D3B-B37C-D919D970EF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ABC-8B52-4DC3-AE3B-E0A02CB29B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7E8-41C6-4CBB-B7B8-7029223621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1BB-021E-4819-807C-D41747F8E0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3F7-C1D1-4680-BEB3-333B306196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2D7-4522-4613-B49B-4CD92E01AE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541-C5F0-4E7E-9646-4498DF1613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350-8AA3-48A9-8F00-743428712E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CA1-1F34-4426-9DC9-EE428FB18D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чезающие животны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12" name="Picture 13" descr="сканирование004"/>
          <p:cNvPicPr/>
          <p:nvPr/>
        </p:nvPicPr>
        <p:blipFill>
          <a:blip r:embed="rId1"/>
          <a:stretch/>
        </p:blipFill>
        <p:spPr>
          <a:xfrm>
            <a:off x="4500720" y="1628640"/>
            <a:ext cx="2320920" cy="21891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7" descr="сканирование002"/>
          <p:cNvPicPr/>
          <p:nvPr/>
        </p:nvPicPr>
        <p:blipFill>
          <a:blip r:embed="rId2"/>
          <a:stretch/>
        </p:blipFill>
        <p:spPr>
          <a:xfrm>
            <a:off x="5305320" y="3941640"/>
            <a:ext cx="2724120" cy="2189160"/>
          </a:xfrm>
          <a:prstGeom prst="rect">
            <a:avLst/>
          </a:prstGeom>
          <a:ln w="0">
            <a:noFill/>
          </a:ln>
        </p:spPr>
      </p:pic>
      <p:sp>
        <p:nvSpPr>
          <p:cNvPr id="1214" name="Rectangle 21"/>
          <p:cNvSpPr/>
          <p:nvPr/>
        </p:nvSpPr>
        <p:spPr>
          <a:xfrm>
            <a:off x="6084720" y="3500280"/>
            <a:ext cx="172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ольшой баклан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5" name="Rectangle 24"/>
          <p:cNvSpPr/>
          <p:nvPr/>
        </p:nvSpPr>
        <p:spPr>
          <a:xfrm>
            <a:off x="5364000" y="40359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ветлый хор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6" name="Picture 26" descr="сканирование003"/>
          <p:cNvPicPr/>
          <p:nvPr/>
        </p:nvPicPr>
        <p:blipFill>
          <a:blip r:embed="rId3"/>
          <a:stretch/>
        </p:blipFill>
        <p:spPr>
          <a:xfrm>
            <a:off x="1187280" y="3284640"/>
            <a:ext cx="2552760" cy="21891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27"/>
          <p:cNvSpPr/>
          <p:nvPr/>
        </p:nvSpPr>
        <p:spPr>
          <a:xfrm>
            <a:off x="1187280" y="321228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удрявый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лика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57200" y="3941280"/>
            <a:ext cx="145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0" name="Picture 9" descr="сканирование005"/>
          <p:cNvPicPr/>
          <p:nvPr/>
        </p:nvPicPr>
        <p:blipFill>
          <a:blip r:embed="rId1"/>
          <a:stretch/>
        </p:blipFill>
        <p:spPr>
          <a:xfrm>
            <a:off x="5364000" y="1628640"/>
            <a:ext cx="2616480" cy="21891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3" descr="сканирование004"/>
          <p:cNvPicPr/>
          <p:nvPr/>
        </p:nvPicPr>
        <p:blipFill>
          <a:blip r:embed="rId2"/>
          <a:stretch/>
        </p:blipFill>
        <p:spPr>
          <a:xfrm>
            <a:off x="1187280" y="2276640"/>
            <a:ext cx="2619720" cy="218916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4"/>
          <p:cNvSpPr/>
          <p:nvPr/>
        </p:nvSpPr>
        <p:spPr>
          <a:xfrm>
            <a:off x="198756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1424880" y="16279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Черношапочный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уро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Rectangle 16"/>
          <p:cNvSpPr/>
          <p:nvPr/>
        </p:nvSpPr>
        <p:spPr>
          <a:xfrm>
            <a:off x="6713640" y="5605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5" name="Picture 17" descr="сканирование003"/>
          <p:cNvPicPr/>
          <p:nvPr/>
        </p:nvPicPr>
        <p:blipFill>
          <a:blip r:embed="rId3"/>
          <a:stretch/>
        </p:blipFill>
        <p:spPr>
          <a:xfrm>
            <a:off x="4441680" y="4511520"/>
            <a:ext cx="3702240" cy="186876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20"/>
          <p:cNvSpPr/>
          <p:nvPr/>
        </p:nvSpPr>
        <p:spPr>
          <a:xfrm>
            <a:off x="6516720" y="4581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нежный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бар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7" name="Rectangle 21"/>
          <p:cNvSpPr/>
          <p:nvPr/>
        </p:nvSpPr>
        <p:spPr>
          <a:xfrm>
            <a:off x="5579640" y="162792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нежный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бара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2328480" y="407592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расный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1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3" name="Picture 4" descr="сканирование004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5 июня 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ждународный ден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храны окружающей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7-31T12:35:30Z</dcterms:modified>
  <cp:revision>21</cp:revision>
  <dc:subject/>
  <dc:title>PowerPoint Presentation</dc:title>
</cp:coreProperties>
</file>