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697-EFCA-4997-BAD1-085EE12B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C78-7A39-4505-BB2E-69EC9B2A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059-2BBD-4EE9-BFBD-43BDC7AA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7D6-89EC-42DF-93D7-B93E2189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50C8-4CFA-4039-8406-E0541B2F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23D3-81A9-4E89-8998-BC577C8D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224D-312F-4F11-9670-03A5CABF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0C5C-8FBB-4832-AA13-7D54F163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BA16-8AAE-4140-85E1-06D1A44C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2137-8B50-4745-B270-D6F009F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062F-E14C-4478-8B84-CF62FD5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33DB-F6B5-41DF-99F2-582D90ED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C4A0-F01C-4427-BC6B-80F2E31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710A-9D78-4F01-838C-ED9434C4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3970-0E2A-43AD-8D5D-5815066D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357C-EC27-4EDD-8C52-8F892CD9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8A1D-FEA8-4B5C-B1CA-E22B0889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5E7A-7C2C-479A-A68B-079CB3E8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45DA-CC0F-4E81-B2F3-ADC6ADBC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84CD-12CC-4A7A-B7D5-BC9BE774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6AF6-AD9F-4103-A2C8-EA8D6830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1AE7-4D7E-43FE-8E98-63A61050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69E-61EF-4DB0-A224-E3AEF700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7C07-6581-4518-AD15-DD36DEFD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440D-6144-40D8-99D7-D1BB764D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4604-AFC4-413D-85F0-E65EF3B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130B-FDB7-4830-B4C9-9400DA6A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4E45-6553-4945-9027-62B1D021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93E80-1EF5-4264-A65B-4188530F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368C-54A9-4877-A841-C5322197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FBAC0-9BFD-4078-950A-9EF2808D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637DB-B340-4C5A-ADF6-9B2877F7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6AF7-063F-439A-B413-0EFCAE74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C8B-61AA-4F67-9872-04809E62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3ADE-FBE7-44D3-AE75-2B4A90F6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00A5-578C-41C9-8DD8-ABA44868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67E3-9804-4EDA-9BFE-F8559BEE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1423-7FDC-4993-8305-FB9B9374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003E-B4D6-427D-8C8E-B059CB52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C7E9-4720-4794-909E-1E0F35AF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5AE6A-901C-432C-8F46-A90409FF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488CC-44AD-45BA-9DBD-C37CFE2A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B660D-49C7-40C7-B550-CA33A2B2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A5C4-A996-46A9-8237-F8372C87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C58-7468-4577-B90E-94E9E527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620C-F398-4D7E-AA63-F569E750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283D0-8DF6-4634-A641-A1A853B9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0D6CF-5BD7-4B64-957B-C3D65D48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92C9B-B7D9-40FB-AAC6-F3FCB31F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83EC-0228-490F-A18B-C39527F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FD58D-EEBD-410B-9A9F-9E2DBE6A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CE86-004F-431A-A743-BD6949F0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B6A3-23ED-4BD8-809E-F8711E72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5E7B2-E71E-4C2E-8CC0-43D28CAA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C5F5-DB48-44F1-A0F8-A9D8AE50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B2C-EED9-4D69-BE58-EDF82E2F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1FC4F-39C2-4707-BF07-59A88062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5EC-8566-4621-9BB6-161F02B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D30-4BE6-4F0F-9409-106D926B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7D1-176D-4FD5-A826-75D473F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DE06-E32F-4AE4-BFEA-7F23ADB5D78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C69A-9FE9-48BC-96D7-EF4909130D22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996C-2FFD-419F-A768-629951320BB3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9477-CD09-4C55-B83C-086163469E4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DE4-2F3A-4BAA-A592-842F14C18D9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3" descr=""/>
          <p:cNvPicPr/>
          <p:nvPr/>
        </p:nvPicPr>
        <p:blipFill>
          <a:blip r:embed="rId1"/>
          <a:stretch/>
        </p:blipFill>
        <p:spPr>
          <a:xfrm>
            <a:off x="-6480" y="85680"/>
            <a:ext cx="11211120" cy="1382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2142720"/>
            <a:ext cx="9144000" cy="26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отцов –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земля 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2" descr=""/>
          <p:cNvPicPr/>
          <p:nvPr/>
        </p:nvPicPr>
        <p:blipFill>
          <a:blip r:embed="rId1"/>
          <a:stretch/>
        </p:blipFill>
        <p:spPr>
          <a:xfrm>
            <a:off x="-85680" y="-36360"/>
            <a:ext cx="9236160" cy="2114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285840" y="222228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ат  наш  край  садами  и  хлеб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мент  и  нефть  он  Родине  да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 самый  ценный  капитал  Кубани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ой  и   скромный  труженик  -  нар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285840" y="428760"/>
            <a:ext cx="657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сама собой при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Хлеб на блюде пода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Сколько требует у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Мать-земля за цел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Чтоб сошлись, как в океан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В закромах твоей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Золотой поток с Куб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И далёкой це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J:\P1020608.JPG"/>
          <p:cNvPicPr/>
          <p:nvPr/>
        </p:nvPicPr>
        <p:blipFill>
          <a:blip r:embed="rId1"/>
          <a:stretch/>
        </p:blipFill>
        <p:spPr>
          <a:xfrm>
            <a:off x="214200" y="2857680"/>
            <a:ext cx="2428920" cy="171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C:\Documents and Settings\Admin\Мои документы\Убрка  урожая 2011\P1020622.JPG"/>
          <p:cNvPicPr/>
          <p:nvPr/>
        </p:nvPicPr>
        <p:blipFill>
          <a:blip r:embed="rId2"/>
          <a:stretch/>
        </p:blipFill>
        <p:spPr>
          <a:xfrm>
            <a:off x="4214880" y="571680"/>
            <a:ext cx="2714400" cy="2035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Documents and Settings\Admin\Мои документы\Убрка  урожая 2011\P1020641.JPG"/>
          <p:cNvPicPr/>
          <p:nvPr/>
        </p:nvPicPr>
        <p:blipFill>
          <a:blip r:embed="rId3"/>
          <a:stretch/>
        </p:blipFill>
        <p:spPr>
          <a:xfrm>
            <a:off x="1571760" y="4714920"/>
            <a:ext cx="2857320" cy="192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C:\Documents and Settings\Admin\Мои документы\Убрка  урожая 2011\P1020643.JPG"/>
          <p:cNvPicPr/>
          <p:nvPr/>
        </p:nvPicPr>
        <p:blipFill>
          <a:blip r:embed="rId4"/>
          <a:stretch/>
        </p:blipFill>
        <p:spPr>
          <a:xfrm>
            <a:off x="4572000" y="2714760"/>
            <a:ext cx="30718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C:\Documents and Settings\Admin\Мои документы\Убрка  урожая 2011\P1020630.JPG"/>
          <p:cNvPicPr/>
          <p:nvPr/>
        </p:nvPicPr>
        <p:blipFill>
          <a:blip r:embed="rId1"/>
          <a:stretch/>
        </p:blipFill>
        <p:spPr>
          <a:xfrm>
            <a:off x="4429080" y="348300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-244440" y="268200"/>
            <a:ext cx="9394920" cy="1158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Documents and Settings\Admin\Мои документы\Убрка  урожая 2011\P1020632.JPG"/>
          <p:cNvPicPr/>
          <p:nvPr/>
        </p:nvPicPr>
        <p:blipFill>
          <a:blip r:embed="rId3"/>
          <a:stretch/>
        </p:blipFill>
        <p:spPr>
          <a:xfrm>
            <a:off x="1000080" y="928800"/>
            <a:ext cx="2406600" cy="1758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Documents and Settings\Admin\Мои документы\Убрка  урожая 2011\P1020634.JPG"/>
          <p:cNvPicPr/>
          <p:nvPr/>
        </p:nvPicPr>
        <p:blipFill>
          <a:blip r:embed="rId4"/>
          <a:stretch/>
        </p:blipFill>
        <p:spPr>
          <a:xfrm>
            <a:off x="4643280" y="1000080"/>
            <a:ext cx="2243160" cy="1785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Admin\Мои документы\Убрка  урожая 2011\P1020633.JPG"/>
          <p:cNvPicPr/>
          <p:nvPr/>
        </p:nvPicPr>
        <p:blipFill>
          <a:blip r:embed="rId5"/>
          <a:stretch/>
        </p:blipFill>
        <p:spPr>
          <a:xfrm>
            <a:off x="785880" y="3357720"/>
            <a:ext cx="264312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C:\Documents and Settings\Admin\Мои документы\Кубань-наш общий дом\Мои рисунки\поле.лето\Изображение 014.jpg"/>
          <p:cNvPicPr/>
          <p:nvPr/>
        </p:nvPicPr>
        <p:blipFill>
          <a:blip r:embed="rId1"/>
          <a:stretch/>
        </p:blipFill>
        <p:spPr>
          <a:xfrm>
            <a:off x="1000080" y="357120"/>
            <a:ext cx="6643800" cy="403704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-1143000" y="4581000"/>
            <a:ext cx="1028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хлеб, что вдоволь есть у нас в дом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здоровы телом и душо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о зерно, что полнит закро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, хлебороб, тебе большо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09:36:27Z</dcterms:created>
  <dc:creator>Admin</dc:creator>
  <dc:description/>
  <dc:language>en-US</dc:language>
  <cp:lastModifiedBy>Admin</cp:lastModifiedBy>
  <dcterms:modified xsi:type="dcterms:W3CDTF">2012-07-31T11:02:48Z</dcterms:modified>
  <cp:revision>6</cp:revision>
  <dc:subject/>
  <dc:title>  Устный  журнал       </dc:title>
</cp:coreProperties>
</file>