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C8E-6FA8-4C5F-A8BA-ACA178C4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3C9-308A-43D6-8D0B-E5375EA1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F9A-25B7-4253-9473-270F5438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986-E5FC-48ED-AFC9-0D203937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B12-22B2-4C02-8E49-8E694D9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0340-C49A-4332-A07C-0D19A55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B56C-AC90-45D2-9FA0-FAA6A4C9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D4C2-8425-4772-8974-846A28A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FAA3-59C5-422B-8C98-0A978DE7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B865-D0AE-45FC-B8A7-CD909FE6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3C60-6938-47B2-A1D2-D02DB02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F1C-4A3A-43A0-B03F-073AB272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5ED-E20B-4246-8ACC-78CB195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2B2-C391-40F9-9172-AE53A6E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63D-B03D-4046-B856-CD86670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89A7-303B-44C2-88DF-DEE221ED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39C2-A8B3-43E1-9E43-2E95557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9D7D-4FFD-48A9-B145-063F66FC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2C46-32BE-447E-9B83-6C30828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53C8-B832-491A-94B6-B9DCF3A1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9652-240C-4457-9D8E-7D2BF93F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CA6D-9866-476A-BDD2-2E99C036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F43-D136-49B6-86AA-D15074B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6EF5-D2C2-43A2-A113-B17B454C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1564-5827-4300-BC49-466FFB30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DBD3-BE31-409B-97BD-A09BC73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AE6F-3AAF-488A-B5C4-F1AE43E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725F-6B0F-4DD8-8D16-A960985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08FF-6020-40DA-8436-AFE9F8D4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F12D-CE0E-4803-AAD0-C77F2E8E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6070-1C05-4B42-A093-2CB765EB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6288-2940-4C9B-B65A-D329A2E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ABD2-0B14-4462-9945-CAF6929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70A-E407-43F8-9EF0-6EEFE1F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1DF4-F399-4700-B6F1-22A7F102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F261-9796-4436-BBC6-A7157D07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814B-2EF8-4C51-97C9-92CC9656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674A-E4AE-4493-8AA5-74EF340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31E3-8E61-4924-999E-68682122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B1F9-3164-4EC5-B10F-E04E722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162B-2081-419A-8F83-5013F8A2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660B-D589-47D6-B126-A6F3BE6C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DC24-32D1-4A9C-90F5-6A02E0E1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E0A1-CD81-4218-984F-2A0D932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B41-AFBB-4F82-A7BF-43FD50E5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19D4-9DA7-4D23-B9C0-61298F2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0686C-5C85-458E-B9C9-4115794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8F9-0A29-4DA8-8A92-58F3638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EBE7-07AC-4D54-B4A2-EABFE80F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DC20-9CD9-49C6-A2D2-282AD1F2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B3AB-290B-4F31-9948-121C195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E44E-505E-4AB2-9DE4-51EE2AB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540E-9365-4748-8D6E-EB4807F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B190-B78F-4CEB-BD46-3A85291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F36A-B512-4CA4-A3B6-53B164EA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C68-427D-49D6-B3AD-BC4DD4A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B443-9617-44E7-9D79-0F4F24EC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F46-817C-4BF7-B72E-0F481E3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FB6-3EBF-4FBB-AFCD-C6F5145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E03-2E3E-4FD0-90E6-B7AC0FD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F17-64D6-4D59-A456-57F865453BF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923-E355-4462-BAA1-87BCD7B1A5E2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76E-7337-4301-8CD8-DE55CA56D4B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CB19-7967-42A5-B30C-26FE080C2F1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A2AA-F383-4CA2-A2B0-708626A00BE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3" descr=""/>
          <p:cNvPicPr/>
          <p:nvPr/>
        </p:nvPicPr>
        <p:blipFill>
          <a:blip r:embed="rId1"/>
          <a:stretch/>
        </p:blipFill>
        <p:spPr>
          <a:xfrm>
            <a:off x="-6480" y="85680"/>
            <a:ext cx="11211120" cy="1382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2142720"/>
            <a:ext cx="91440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отцов –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земля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-85680" y="-36360"/>
            <a:ext cx="9236160" cy="2114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285840" y="222228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ат  наш  край  садами  и  хле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мент  и  нефть  он  Родине 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 самый  ценный  капитал  Кубан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й  и   скромный  труженик  -  нар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285840" y="42876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сама собой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Хлеб на блюде пода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Сколько требует у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Мать-земля за це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Чтоб сошлись, как в океа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В закромах твое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Золотой поток с Ку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И далёкой це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J:\P1020608.JPG"/>
          <p:cNvPicPr/>
          <p:nvPr/>
        </p:nvPicPr>
        <p:blipFill>
          <a:blip r:embed="rId1"/>
          <a:stretch/>
        </p:blipFill>
        <p:spPr>
          <a:xfrm>
            <a:off x="214200" y="2857680"/>
            <a:ext cx="2428920" cy="171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C:\Documents and Settings\Admin\Мои документы\Убрка  урожая 2011\P1020622.JPG"/>
          <p:cNvPicPr/>
          <p:nvPr/>
        </p:nvPicPr>
        <p:blipFill>
          <a:blip r:embed="rId2"/>
          <a:stretch/>
        </p:blipFill>
        <p:spPr>
          <a:xfrm>
            <a:off x="4214880" y="57168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Admin\Мои документы\Убрка  урожая 2011\P1020641.JPG"/>
          <p:cNvPicPr/>
          <p:nvPr/>
        </p:nvPicPr>
        <p:blipFill>
          <a:blip r:embed="rId3"/>
          <a:stretch/>
        </p:blipFill>
        <p:spPr>
          <a:xfrm>
            <a:off x="1571760" y="4714920"/>
            <a:ext cx="285732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Admin\Мои документы\Убрка  урожая 2011\P1020643.JPG"/>
          <p:cNvPicPr/>
          <p:nvPr/>
        </p:nvPicPr>
        <p:blipFill>
          <a:blip r:embed="rId4"/>
          <a:stretch/>
        </p:blipFill>
        <p:spPr>
          <a:xfrm>
            <a:off x="4572000" y="2714760"/>
            <a:ext cx="30718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C:\Documents and Settings\Admin\Мои документы\Убрка  урожая 2011\P1020630.JPG"/>
          <p:cNvPicPr/>
          <p:nvPr/>
        </p:nvPicPr>
        <p:blipFill>
          <a:blip r:embed="rId1"/>
          <a:stretch/>
        </p:blipFill>
        <p:spPr>
          <a:xfrm>
            <a:off x="4429080" y="348300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-244440" y="268200"/>
            <a:ext cx="9394920" cy="115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Documents and Settings\Admin\Мои документы\Убрка  урожая 2011\P1020632.JPG"/>
          <p:cNvPicPr/>
          <p:nvPr/>
        </p:nvPicPr>
        <p:blipFill>
          <a:blip r:embed="rId3"/>
          <a:stretch/>
        </p:blipFill>
        <p:spPr>
          <a:xfrm>
            <a:off x="1000080" y="928800"/>
            <a:ext cx="2406600" cy="175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Documents and Settings\Admin\Мои документы\Убрка  урожая 2011\P1020634.JPG"/>
          <p:cNvPicPr/>
          <p:nvPr/>
        </p:nvPicPr>
        <p:blipFill>
          <a:blip r:embed="rId4"/>
          <a:stretch/>
        </p:blipFill>
        <p:spPr>
          <a:xfrm>
            <a:off x="4643280" y="1000080"/>
            <a:ext cx="2243160" cy="1785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Admin\Мои документы\Убрка  урожая 2011\P1020633.JPG"/>
          <p:cNvPicPr/>
          <p:nvPr/>
        </p:nvPicPr>
        <p:blipFill>
          <a:blip r:embed="rId5"/>
          <a:stretch/>
        </p:blipFill>
        <p:spPr>
          <a:xfrm>
            <a:off x="785880" y="3357720"/>
            <a:ext cx="26431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Admin\Мои документы\Кубань-наш общий дом\Мои рисунки\поле.лето\Изображение 014.jpg"/>
          <p:cNvPicPr/>
          <p:nvPr/>
        </p:nvPicPr>
        <p:blipFill>
          <a:blip r:embed="rId1"/>
          <a:stretch/>
        </p:blipFill>
        <p:spPr>
          <a:xfrm>
            <a:off x="1000080" y="357120"/>
            <a:ext cx="6643800" cy="40370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-1143000" y="4581000"/>
            <a:ext cx="1028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леб, что вдоволь есть у нас в дом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здоровы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о зерно, что полнит закр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хлебороб, тебе больш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36:27Z</dcterms:created>
  <dc:creator>Admin</dc:creator>
  <dc:description/>
  <dc:language>en-US</dc:language>
  <cp:lastModifiedBy>Admin</cp:lastModifiedBy>
  <dcterms:modified xsi:type="dcterms:W3CDTF">2012-07-31T11:02:48Z</dcterms:modified>
  <cp:revision>6</cp:revision>
  <dc:subject/>
  <dc:title>  Устный  журнал       </dc:title>
</cp:coreProperties>
</file>