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658-FEA2-406D-974F-B41AEB64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AAD-2CF4-490B-89F5-AEF4458A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D28-0AB8-4BDA-A293-F8B25A3C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50D-36EF-4A64-B226-121433A2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F5A1-1D44-46FA-9C7F-134D7EC4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D153-4ADF-4864-BDB9-E74E10E5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1CDF-67F6-4E3D-92DE-D5BF2DC0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307D-2755-4938-BD0A-09B06A7A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F394-9A06-43D6-A273-49BE465A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BCAE-D896-4B54-9C59-FDFFC09C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85C1-5F47-4341-999F-2E004EB6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956-D60D-44FF-B837-9B9110D7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95EA-DDDF-45DF-9A93-BA17E180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E536-18BC-4EC6-9ED6-395D7AB9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E0AA-0731-4CFF-A8B2-0C9617E2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D483-7F78-485C-A047-3FC2B467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F0EE-4E73-4DDD-A159-14A41FDE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4685-7CFB-4CA4-BCB5-732637B0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54457-DFCC-4B45-A251-CA78BB63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0D4DD-E179-493A-A34C-D41D70B1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26B8-DCB7-45B1-8D99-A4ECB87A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630C2-CF8E-4F79-8335-766C311D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331-A5B0-4B1B-92B7-CEFCC5D3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3437-E87B-486A-91C0-116A8033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BF8CA-6EAB-48B1-82F2-21F0E950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FE03B-931D-4A94-A649-E534B93A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1A1E-C663-462C-9C5D-E8C8B8A9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A4598-7074-4279-9CE6-A4C25FB0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767D2-963C-4489-B4B3-4DCD39BE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08F13-7CF7-4FAF-8DEC-AD9E5309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E6CDB-866A-4D1C-904A-C521B8A4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3B588-C866-4397-ABBA-328BEEB3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FB83D-DD62-464A-A495-5A342779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733-01C3-4FC5-93DB-B89C3691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D3D33-11F1-44C8-9AC7-7FE06457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E376F-DAA0-410C-BDEE-9E62DAD2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2AAF-9BF5-4CA5-98B2-7E7F5E36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AEB6B-760E-485E-A0D5-F7E4D16C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D9AC1-D6C7-4052-9332-BC6826DB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33661-C29C-489D-ADE2-2EC5D37E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7DC15-EC79-4C78-8432-3A2C5521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26921-2173-41FF-8EF6-969C1D44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DA12-DF6E-4521-B220-36A9090D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49E06-F3EE-4600-923E-B0CF9CE3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9EE-AB2C-4671-823E-4342CA55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593E6-DD27-4F8D-BDA5-BB085BE1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E3370-8CE3-4922-9E67-5CFA8A39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2B12D-4335-4C86-A387-2B90500B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1F225-529F-4C4A-888B-7E6ADDA6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73C7E-6D2B-45B1-8A4A-D7EDCB20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791CC-9D6D-4D58-A373-AD49BF39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8D006-9D75-44B8-A09D-FF5C26ED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BACA7-C54C-4558-A988-B4F3DBAD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29186-2C89-43AB-B3E5-990031D0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A4615-3F9E-42FB-9B13-6412CC6C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A9B-1EE6-477F-8AFA-F8C5A8C5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06561-808F-4CC2-9AC4-F0DD0862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90AC8-8E09-480E-97F8-FD0D193B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27A8A-1372-45E0-A02D-913938E1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EE3E5-070F-49AE-ACF1-303866C5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138AA-443E-4638-B25B-52D9488F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4DD58-FB3D-48AF-9EBA-337282A8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9139A-C4EE-4453-A4AD-B159E2EB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778DA-6E07-4376-AA1F-0586CC65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2A7FB-4A9A-4D84-8DDF-7A64782B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BD089-C927-40E1-A6CD-0A109416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2F3-6444-4D7D-BAC2-C7F7C9C9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3055E-647B-4135-B454-C74FD654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ED498-38E6-4AFB-8DF5-3212329D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CA8E5-878F-47C9-9B13-88DF42AB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92A-B8BA-4388-866B-7C84D999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D41-5B62-4CA8-A021-DB10F213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9CD4-6CB0-446F-8973-E143C0D6C580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C738-3C42-49F7-A615-A3C7B5A381AF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82A2-EFCA-4B77-8AE6-1C1086C2498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EC62-0446-4B72-9C22-474154EC982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27FF-1C73-4E05-BD0D-5C966CF5C335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E471-3B5B-4407-BEBB-4CBDCA0F6730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alter-tour.ru/userfiles/Image/3(17)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3" descr=""/>
          <p:cNvPicPr/>
          <p:nvPr/>
        </p:nvPicPr>
        <p:blipFill>
          <a:blip r:embed="rId1"/>
          <a:stretch/>
        </p:blipFill>
        <p:spPr>
          <a:xfrm>
            <a:off x="-96840" y="85680"/>
            <a:ext cx="9526680" cy="1382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0" y="2142720"/>
            <a:ext cx="9144000" cy="26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 отцов –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земля 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"/>
          <p:cNvSpPr/>
          <p:nvPr/>
        </p:nvSpPr>
        <p:spPr>
          <a:xfrm>
            <a:off x="500040" y="1723680"/>
            <a:ext cx="792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бань -  жемчужиной  назв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 это  низкая  ц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 пшеничной  золотой  оправ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бриллиант  блестит  она  .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798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http://www.fototerra.ru/image.html?id=83871&amp;size=medium"/>
          <p:cNvPicPr/>
          <p:nvPr/>
        </p:nvPicPr>
        <p:blipFill>
          <a:blip r:embed="rId2"/>
          <a:stretch/>
        </p:blipFill>
        <p:spPr>
          <a:xfrm>
            <a:off x="4143240" y="32148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http://www.fototerra.ru/image.html?id=83873&amp;size=medium"/>
          <p:cNvPicPr/>
          <p:nvPr/>
        </p:nvPicPr>
        <p:blipFill>
          <a:blip r:embed="rId3"/>
          <a:stretch/>
        </p:blipFill>
        <p:spPr>
          <a:xfrm>
            <a:off x="857160" y="1285920"/>
            <a:ext cx="2637000" cy="1643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22"/>
          <p:cNvPicPr/>
          <p:nvPr/>
        </p:nvPicPr>
        <p:blipFill>
          <a:blip r:embed="rId4"/>
          <a:stretch/>
        </p:blipFill>
        <p:spPr>
          <a:xfrm>
            <a:off x="4000680" y="1143000"/>
            <a:ext cx="3051000" cy="1758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C:\Documents and Settings\Admin\Мои документы\Мои рисунки\Изображение\Изображение 003.jpg"/>
          <p:cNvPicPr/>
          <p:nvPr/>
        </p:nvPicPr>
        <p:blipFill>
          <a:blip r:embed="rId5"/>
          <a:stretch/>
        </p:blipFill>
        <p:spPr>
          <a:xfrm>
            <a:off x="714240" y="3214800"/>
            <a:ext cx="28990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http://www.zem.ru/upload/objects/12249_ph1.jpg"/>
          <p:cNvPicPr/>
          <p:nvPr/>
        </p:nvPicPr>
        <p:blipFill>
          <a:blip r:embed="rId1"/>
          <a:stretch/>
        </p:blipFill>
        <p:spPr>
          <a:xfrm>
            <a:off x="4143240" y="1857240"/>
            <a:ext cx="2786040" cy="2089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Картинка 17 из 119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40" y="1571760"/>
            <a:ext cx="3000240" cy="2278080"/>
          </a:xfrm>
          <a:prstGeom prst="rect">
            <a:avLst/>
          </a:prstGeom>
          <a:ln w="0">
            <a:noFill/>
          </a:ln>
        </p:spPr>
      </p:pic>
      <p:pic>
        <p:nvPicPr>
          <p:cNvPr id="275" name="Заголовок 1" descr=""/>
          <p:cNvPicPr/>
          <p:nvPr/>
        </p:nvPicPr>
        <p:blipFill>
          <a:blip r:embed="rId4"/>
          <a:stretch/>
        </p:blipFill>
        <p:spPr>
          <a:xfrm>
            <a:off x="353880" y="317520"/>
            <a:ext cx="7351920" cy="762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Картинка 57 из 119000"/>
          <p:cNvPicPr/>
          <p:nvPr/>
        </p:nvPicPr>
        <p:blipFill>
          <a:blip r:embed="rId5"/>
          <a:stretch/>
        </p:blipFill>
        <p:spPr>
          <a:xfrm>
            <a:off x="2143080" y="4286160"/>
            <a:ext cx="3556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871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Documents and Settings\Admin\Мои документы\Мои рисунки\Убрка  урожая 2011\P1020652.JPG"/>
          <p:cNvPicPr/>
          <p:nvPr/>
        </p:nvPicPr>
        <p:blipFill>
          <a:blip r:embed="rId2"/>
          <a:stretch/>
        </p:blipFill>
        <p:spPr>
          <a:xfrm>
            <a:off x="4500720" y="1714680"/>
            <a:ext cx="2842920" cy="1753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Картинка 103 из 660"/>
          <p:cNvPicPr/>
          <p:nvPr/>
        </p:nvPicPr>
        <p:blipFill>
          <a:blip r:embed="rId3"/>
          <a:stretch/>
        </p:blipFill>
        <p:spPr>
          <a:xfrm>
            <a:off x="500040" y="1857240"/>
            <a:ext cx="2678040" cy="1708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Картинка 8 из 114"/>
          <p:cNvPicPr/>
          <p:nvPr/>
        </p:nvPicPr>
        <p:blipFill>
          <a:blip r:embed="rId4"/>
          <a:stretch/>
        </p:blipFill>
        <p:spPr>
          <a:xfrm>
            <a:off x="2643120" y="4214880"/>
            <a:ext cx="2971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70"/>
          <p:cNvPicPr/>
          <p:nvPr/>
        </p:nvPicPr>
        <p:blipFill>
          <a:blip r:embed="rId1"/>
          <a:stretch/>
        </p:blipFill>
        <p:spPr>
          <a:xfrm>
            <a:off x="4357800" y="4429080"/>
            <a:ext cx="2328840" cy="2077920"/>
          </a:xfrm>
          <a:prstGeom prst="rect">
            <a:avLst/>
          </a:prstGeom>
          <a:ln w="25560">
            <a:solidFill>
              <a:srgbClr val="808000"/>
            </a:solidFill>
            <a:miter/>
          </a:ln>
        </p:spPr>
      </p:pic>
      <p:pic>
        <p:nvPicPr>
          <p:cNvPr id="282" name="Заголовок 5" descr=""/>
          <p:cNvPicPr/>
          <p:nvPr/>
        </p:nvPicPr>
        <p:blipFill>
          <a:blip r:embed="rId2"/>
          <a:stretch/>
        </p:blipFill>
        <p:spPr>
          <a:xfrm>
            <a:off x="-6480" y="317520"/>
            <a:ext cx="7712280" cy="1150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71"/>
          <p:cNvPicPr/>
          <p:nvPr/>
        </p:nvPicPr>
        <p:blipFill>
          <a:blip r:embed="rId3"/>
          <a:stretch/>
        </p:blipFill>
        <p:spPr>
          <a:xfrm>
            <a:off x="428760" y="4500720"/>
            <a:ext cx="2928960" cy="2092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84" name="Picture 2" descr="Картинка 46 из 119000"/>
          <p:cNvPicPr/>
          <p:nvPr/>
        </p:nvPicPr>
        <p:blipFill>
          <a:blip r:embed="rId4"/>
          <a:stretch/>
        </p:blipFill>
        <p:spPr>
          <a:xfrm>
            <a:off x="2286000" y="1928880"/>
            <a:ext cx="306720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1T09:29:08Z</dcterms:created>
  <dc:creator>Admin</dc:creator>
  <dc:description/>
  <dc:language>en-US</dc:language>
  <cp:lastModifiedBy>Admin</cp:lastModifiedBy>
  <dcterms:modified xsi:type="dcterms:W3CDTF">2012-07-31T10:55:52Z</dcterms:modified>
  <cp:revision>5</cp:revision>
  <dc:subject/>
  <dc:title>  Устный  журнал       </dc:title>
</cp:coreProperties>
</file>