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5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0DEE-66F5-4B7F-907B-447B9AEC1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F0C8-0AC8-419B-BA9E-2CA097F1B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4179-05C7-4954-BFC5-CBCF0DAD9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D5F2-4D4A-4CCC-AE64-60859DF6C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8B3F6-16A6-4968-A8FF-746348BAD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7B40A-C6E9-42C7-87A2-2888DA966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AC75C-32CC-49AF-BE46-576A063A7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67E29-FFD8-4724-BA76-6DBA2F642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0A991-1F22-4FF6-8B36-F32891C77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6F4A1-D3F2-4FB4-9E75-43E4D6982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00D33-51D5-4568-B22E-59668D12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A44E-4362-4400-98EE-80ED92165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84752-1A59-46F5-9B72-BFA5550A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32513-C526-4037-94D7-B6243FAC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63510-2F03-4400-BC56-FD391C851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49251-63FA-4DF9-A813-BF8B1021C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8BAE8-EF2B-42A1-BF68-5E514E34E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90574-5439-4FA4-9BEC-829D19E2E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2D6E4-E8D8-45C9-9BCA-6625C124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57F6C-3406-40D9-BAF9-106C1CE4E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4A0AE-1E83-405F-A57A-6554F7267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59EC1-4FFF-4F97-A0ED-EC78248BF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8017-F182-4A75-948B-63E77CFC5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E2FF9-CA07-40BD-9E05-F20012A7C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EE2CD-1996-4C6C-B140-09343ACB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601ED-87CA-467A-A16F-71B0B461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23BB5-8897-4081-971C-73A02349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53BDD-01A2-42C2-A696-FA24C8C1E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CEBC5-A9EE-4C79-8185-B40A3FDB3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9FC75-5DB5-4C4C-870E-E0D0CB8E6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70967-8CC1-440D-990D-53B3FC268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9463D-5735-4665-B305-F029855AB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6F662-E579-433E-93AD-68901508F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8E6A-8E8F-4C83-A899-47BACEA0D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787AB-2987-4902-816E-D7A8A0A6E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18A47-BFB2-4996-8678-63EA8FBCD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6EF9A-4540-4E3D-AD3A-1F77D8DA4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B5A5C-E50D-49BF-972F-56237A66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EF8D4-FE15-436D-A800-9E56F789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80456-2D4F-4DF0-A02F-A5448709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8F065-A0AF-432C-906E-26BB5619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83A53-BF6A-47AD-9EB8-24347CA6B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57F2B-1362-47FF-BC16-D44BA23C9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E253E-28EF-4AEC-8EA2-C1899EA00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48E4-2EDE-45D5-89C1-71852D140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9C0C1-ED2F-4CB9-9EC7-B0750C3C8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A79AC-57C9-4F7F-AAA1-04E9581D3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4345B-1E16-4496-85CB-8A644D3E6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93A92-5CDA-4170-A36E-242202D33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FAB48-A98F-4A04-A07D-B8C1FAA4C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FD20D-6149-431B-83C0-E36B0F13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6C50F-147B-40D0-88A1-94D6CEAD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54028-BFEA-4EBE-AA31-4BC5EC36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828DA-6773-4A21-99C9-60B6E5396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20577-3B3B-4BA7-975F-78377B48C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037E-B49E-4241-A098-3B15703E9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E6833-D8B8-46C4-B6EA-F81C6CD6E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33F5E-5E15-4008-B237-0E0B0B025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0B16F-133C-47A0-A04C-A0DA45099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48467-1040-402D-997F-746ED3A5A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E90CD-FC35-46D8-8D68-DAAF15757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2384F0-32F9-4A6D-BA4C-26BB32435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214F6-4347-40C2-A444-07002DF41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A524F-2775-44BE-BFEB-8C313B80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B8307-1241-45D0-A464-0E05524F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450B4-8A1E-42C6-BB7D-91D14F54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A84C-4155-44D0-B108-5F9C37D5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E6D0E-2D90-4783-8E91-0E49A2DA9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0770F-EBFB-4A70-9C93-C1BD5523E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44248D-42D3-434C-83A9-70AB775B5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00BE-4CF7-4F0D-B045-E391E49D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E40C-1DC8-4FC2-82F1-0F5A5BDF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A185E-D84A-4BA0-B3C1-4CF0EEC794BC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2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206BB-ECB0-485A-A0AA-02D07A90E374}" type="slidenum">
              <a:rPr b="0" lang="ru-RU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4759B-D67E-4897-9F02-B0CA0B1AAB1F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AAB0B-B44A-4938-BB2C-50548439F1D8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B651F-2E7F-48FE-86D8-B70CD5757C2E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7B402-2BBB-45C5-8B57-4FA8C11E78EE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alter-tour.ru/userfiles/Image/3(17).jpg" TargetMode="External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Заголовок 3" descr=""/>
          <p:cNvPicPr/>
          <p:nvPr/>
        </p:nvPicPr>
        <p:blipFill>
          <a:blip r:embed="rId1"/>
          <a:stretch/>
        </p:blipFill>
        <p:spPr>
          <a:xfrm>
            <a:off x="-96840" y="85680"/>
            <a:ext cx="9526680" cy="138276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0" y="2142720"/>
            <a:ext cx="9144000" cy="26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ля отцов –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я земля 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Заголовок 1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7255080" cy="117648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1"/>
          <p:cNvSpPr/>
          <p:nvPr/>
        </p:nvSpPr>
        <p:spPr>
          <a:xfrm>
            <a:off x="500040" y="1723680"/>
            <a:ext cx="7929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убань -  жемчужиной  назвал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  это  низкая  це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 пшеничной  золотой  оправ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 бриллиант  блестит  она  .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Заголовок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7984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" descr="http://www.fototerra.ru/image.html?id=83871&amp;size=medium"/>
          <p:cNvPicPr/>
          <p:nvPr/>
        </p:nvPicPr>
        <p:blipFill>
          <a:blip r:embed="rId2"/>
          <a:stretch/>
        </p:blipFill>
        <p:spPr>
          <a:xfrm>
            <a:off x="4143240" y="3214800"/>
            <a:ext cx="2667240" cy="20001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4" descr="http://www.fototerra.ru/image.html?id=83873&amp;size=medium"/>
          <p:cNvPicPr/>
          <p:nvPr/>
        </p:nvPicPr>
        <p:blipFill>
          <a:blip r:embed="rId3"/>
          <a:stretch/>
        </p:blipFill>
        <p:spPr>
          <a:xfrm>
            <a:off x="857160" y="1285920"/>
            <a:ext cx="2637000" cy="16430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22"/>
          <p:cNvPicPr/>
          <p:nvPr/>
        </p:nvPicPr>
        <p:blipFill>
          <a:blip r:embed="rId4"/>
          <a:stretch/>
        </p:blipFill>
        <p:spPr>
          <a:xfrm>
            <a:off x="4000680" y="1143000"/>
            <a:ext cx="3051000" cy="17589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3" descr="C:\Documents and Settings\Admin\Мои документы\Мои рисунки\Изображение\Изображение 003.jpg"/>
          <p:cNvPicPr/>
          <p:nvPr/>
        </p:nvPicPr>
        <p:blipFill>
          <a:blip r:embed="rId5"/>
          <a:stretch/>
        </p:blipFill>
        <p:spPr>
          <a:xfrm>
            <a:off x="714240" y="3214800"/>
            <a:ext cx="289908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4" descr="http://www.zem.ru/upload/objects/12249_ph1.jpg"/>
          <p:cNvPicPr/>
          <p:nvPr/>
        </p:nvPicPr>
        <p:blipFill>
          <a:blip r:embed="rId1"/>
          <a:stretch/>
        </p:blipFill>
        <p:spPr>
          <a:xfrm>
            <a:off x="4143240" y="1857240"/>
            <a:ext cx="2786040" cy="20894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" descr="Картинка 17 из 11900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0040" y="1571760"/>
            <a:ext cx="3000240" cy="2278080"/>
          </a:xfrm>
          <a:prstGeom prst="rect">
            <a:avLst/>
          </a:prstGeom>
          <a:ln w="0">
            <a:noFill/>
          </a:ln>
        </p:spPr>
      </p:pic>
      <p:pic>
        <p:nvPicPr>
          <p:cNvPr id="275" name="Заголовок 1" descr=""/>
          <p:cNvPicPr/>
          <p:nvPr/>
        </p:nvPicPr>
        <p:blipFill>
          <a:blip r:embed="rId4"/>
          <a:stretch/>
        </p:blipFill>
        <p:spPr>
          <a:xfrm>
            <a:off x="353880" y="317520"/>
            <a:ext cx="7351920" cy="7621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6" descr="Картинка 57 из 119000"/>
          <p:cNvPicPr/>
          <p:nvPr/>
        </p:nvPicPr>
        <p:blipFill>
          <a:blip r:embed="rId5"/>
          <a:stretch/>
        </p:blipFill>
        <p:spPr>
          <a:xfrm>
            <a:off x="2143080" y="4286160"/>
            <a:ext cx="3556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Заголовок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8715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" descr="C:\Documents and Settings\Admin\Мои документы\Мои рисунки\Убрка  урожая 2011\P1020652.JPG"/>
          <p:cNvPicPr/>
          <p:nvPr/>
        </p:nvPicPr>
        <p:blipFill>
          <a:blip r:embed="rId2"/>
          <a:stretch/>
        </p:blipFill>
        <p:spPr>
          <a:xfrm>
            <a:off x="4500720" y="1714680"/>
            <a:ext cx="2842920" cy="17539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6" descr="Картинка 103 из 660"/>
          <p:cNvPicPr/>
          <p:nvPr/>
        </p:nvPicPr>
        <p:blipFill>
          <a:blip r:embed="rId3"/>
          <a:stretch/>
        </p:blipFill>
        <p:spPr>
          <a:xfrm>
            <a:off x="500040" y="1857240"/>
            <a:ext cx="2678040" cy="17082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4" descr="Картинка 8 из 114"/>
          <p:cNvPicPr/>
          <p:nvPr/>
        </p:nvPicPr>
        <p:blipFill>
          <a:blip r:embed="rId4"/>
          <a:stretch/>
        </p:blipFill>
        <p:spPr>
          <a:xfrm>
            <a:off x="2643120" y="4214880"/>
            <a:ext cx="29718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5" descr="70"/>
          <p:cNvPicPr/>
          <p:nvPr/>
        </p:nvPicPr>
        <p:blipFill>
          <a:blip r:embed="rId1"/>
          <a:stretch/>
        </p:blipFill>
        <p:spPr>
          <a:xfrm>
            <a:off x="4357800" y="4429080"/>
            <a:ext cx="2328840" cy="2077920"/>
          </a:xfrm>
          <a:prstGeom prst="rect">
            <a:avLst/>
          </a:prstGeom>
          <a:ln w="25560">
            <a:solidFill>
              <a:srgbClr val="808000"/>
            </a:solidFill>
            <a:miter/>
          </a:ln>
        </p:spPr>
      </p:pic>
      <p:pic>
        <p:nvPicPr>
          <p:cNvPr id="282" name="Заголовок 5" descr=""/>
          <p:cNvPicPr/>
          <p:nvPr/>
        </p:nvPicPr>
        <p:blipFill>
          <a:blip r:embed="rId2"/>
          <a:stretch/>
        </p:blipFill>
        <p:spPr>
          <a:xfrm>
            <a:off x="-6480" y="317520"/>
            <a:ext cx="7712280" cy="11509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4" descr="71"/>
          <p:cNvPicPr/>
          <p:nvPr/>
        </p:nvPicPr>
        <p:blipFill>
          <a:blip r:embed="rId3"/>
          <a:stretch/>
        </p:blipFill>
        <p:spPr>
          <a:xfrm>
            <a:off x="428760" y="4500720"/>
            <a:ext cx="2928960" cy="20923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284" name="Picture 2" descr="Картинка 46 из 119000"/>
          <p:cNvPicPr/>
          <p:nvPr/>
        </p:nvPicPr>
        <p:blipFill>
          <a:blip r:embed="rId4"/>
          <a:stretch/>
        </p:blipFill>
        <p:spPr>
          <a:xfrm>
            <a:off x="2286000" y="1928880"/>
            <a:ext cx="3067200" cy="20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31T09:29:08Z</dcterms:created>
  <dc:creator>Admin</dc:creator>
  <dc:description/>
  <dc:language>en-US</dc:language>
  <cp:lastModifiedBy>Admin</cp:lastModifiedBy>
  <dcterms:modified xsi:type="dcterms:W3CDTF">2012-07-31T10:55:52Z</dcterms:modified>
  <cp:revision>5</cp:revision>
  <dc:subject/>
  <dc:title>  Устный  журнал       </dc:title>
</cp:coreProperties>
</file>