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0182-9E32-42F8-8133-A93A7CF8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7027-6895-4C4F-A9AC-049A34AD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F2D4-06C8-4EE2-B77D-83DD63DB5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E374-A036-4185-AA0A-41381611C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2E3F-820F-4D42-83A3-E4459136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DA0A-CD85-4CDC-844C-E0C1937A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A01F-2791-48B7-A9A3-9A0841F2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5A24-73C0-477D-9D28-C84232EB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B74F-069C-4455-ACCF-920963F5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2B1D-23AD-4386-97CB-8E264869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B7D6-62B2-450E-ADBF-3B68FFE6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6609-E66F-46F7-BF51-58F93272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8A7A-8D07-4D32-A8A6-892D8823786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резентация к уроку по теме: «Решение задач с помощью уравнений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981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готовила: учитель математики МБОУ СОШ № 2 г. Балако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рмак Е.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Решение уравнения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42508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5х+20=17х-6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5х-17х=-6-20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2х=-26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=26:2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=1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вет: 1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Сказка на этом закончилась, а урок продолжается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шите задачу, составляя уравнени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620(а,в), 621 (а), 622 (а, в), 623, 624 (а), 633, 63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0920" y="367920"/>
            <a:ext cx="688644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9999"/>
                </a:solidFill>
                <a:latin typeface="Tahoma"/>
              </a:rPr>
              <a:t>Домашнее задание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0" name="Picture 3" descr="BL00130_"/>
          <p:cNvPicPr/>
          <p:nvPr/>
        </p:nvPicPr>
        <p:blipFill>
          <a:blip r:embed="rId1"/>
          <a:stretch/>
        </p:blipFill>
        <p:spPr>
          <a:xfrm>
            <a:off x="6958080" y="189000"/>
            <a:ext cx="2025720" cy="19796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476280" y="2565360"/>
            <a:ext cx="866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  <a:ea typeface="Arial"/>
              </a:rPr>
              <a:t>№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  <a:ea typeface="Arial"/>
              </a:rPr>
              <a:t>620 (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  <a:ea typeface="Arial"/>
              </a:rPr>
              <a:t>в,г), 622 (в), 63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624120" y="5389560"/>
            <a:ext cx="432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267000" y="5138640"/>
            <a:ext cx="29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  <a:ea typeface="Arial"/>
              </a:rPr>
              <a:t>Желаю удачи</a:t>
            </a:r>
            <a:r>
              <a:rPr b="1" i="1" lang="en-US" sz="2400" spc="-1" strike="noStrike">
                <a:solidFill>
                  <a:srgbClr val="ffffff"/>
                </a:solidFill>
                <a:latin typeface="Monotype Corsiva"/>
                <a:ea typeface="Arial"/>
              </a:rPr>
              <a:t> !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2"/>
          <a:stretch/>
        </p:blipFill>
        <p:spPr>
          <a:xfrm>
            <a:off x="0" y="4014720"/>
            <a:ext cx="2112840" cy="2664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840"/>
                            </p:stCondLst>
                            <p:childTnLst>
                              <p:par>
                                <p:cTn id="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2421000"/>
            <a:ext cx="2341440" cy="29527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99"/>
                </a:solidFill>
                <a:latin typeface="Monotype Corsiva"/>
              </a:rPr>
              <a:t>Здравствуйте, ребята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839600" y="1981080"/>
            <a:ext cx="6846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5481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Сегодня на уроке мы будем решать задачи с помощью уравнений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Тема нашего урока: «Решение задач с помощью уравнений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Сказ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19760" y="2072880"/>
            <a:ext cx="36338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днажды шестиклассник Серёжа заблудился в лесу. К вечеру он очутился на краю большого овраг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8" name="Object 4"/>
          <p:cNvGraphicFramePr/>
          <p:nvPr/>
        </p:nvGraphicFramePr>
        <p:xfrm>
          <a:off x="0" y="1773360"/>
          <a:ext cx="4753080" cy="44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3360"/>
                    <a:ext cx="4753080" cy="44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281800" cy="19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друг он услышал злорадное хихиканье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920" y="2190600"/>
            <a:ext cx="74232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2" name="Object 4"/>
          <p:cNvGraphicFramePr/>
          <p:nvPr/>
        </p:nvGraphicFramePr>
        <p:xfrm>
          <a:off x="395280" y="3141720"/>
          <a:ext cx="5148360" cy="32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141720"/>
                    <a:ext cx="5148360" cy="32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AutoShape 9"/>
          <p:cNvSpPr/>
          <p:nvPr/>
        </p:nvSpPr>
        <p:spPr>
          <a:xfrm>
            <a:off x="4356000" y="1052640"/>
            <a:ext cx="4392720" cy="3024000"/>
          </a:xfrm>
          <a:prstGeom prst="cloudCallout">
            <a:avLst>
              <a:gd name="adj1" fmla="val -47541"/>
              <a:gd name="adj2" fmla="val 49421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5148360" y="1628640"/>
            <a:ext cx="3095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пался, голубчик! Сейчас мы заставим тебя решать наше любимое уравнение: 77х = 1001. А не решишь – в клет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57" name="Object 4"/>
          <p:cNvGraphicFramePr/>
          <p:nvPr/>
        </p:nvGraphicFramePr>
        <p:xfrm>
          <a:off x="395280" y="1989000"/>
          <a:ext cx="6191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989000"/>
                    <a:ext cx="6191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AutoShape 7"/>
          <p:cNvSpPr/>
          <p:nvPr/>
        </p:nvSpPr>
        <p:spPr>
          <a:xfrm>
            <a:off x="4859280" y="0"/>
            <a:ext cx="3924360" cy="25923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219640" y="62064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шь ты. А мы – то! Вырыли 77 ям, 1001 сушёную лягушку в них положили. В каждую поровн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62" name="Object 4"/>
          <p:cNvGraphicFramePr/>
          <p:nvPr/>
        </p:nvGraphicFramePr>
        <p:xfrm>
          <a:off x="250920" y="1989000"/>
          <a:ext cx="4038480" cy="37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89000"/>
                    <a:ext cx="4038480" cy="37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 теперь вы решите моё уравнение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х- 16 = -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66" name="Object 4"/>
          <p:cNvGraphicFramePr/>
          <p:nvPr/>
        </p:nvGraphicFramePr>
        <p:xfrm>
          <a:off x="468360" y="2060640"/>
          <a:ext cx="6191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060640"/>
                    <a:ext cx="6191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AutoShape 7"/>
          <p:cNvSpPr/>
          <p:nvPr/>
        </p:nvSpPr>
        <p:spPr>
          <a:xfrm>
            <a:off x="5580000" y="549360"/>
            <a:ext cx="2737080" cy="23749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6372360" y="1413000"/>
            <a:ext cx="129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6443640" y="112536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Задание от Бабок - Ёжек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юбим мы чайком побаловаться. А шишки для растопки нам мыши носят. Вчера 15 мышей принесли нам шишек поровну, и 20 штук нам пришлось добавить. А сегодня 17 мышей по столько же принесли. Так 6 шишек осталось. Как бы узнать, выполняют ли мышки норму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Составление условия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усть  каждая мышка приносит по х шишек, тогда 15 мышек – (15х) шишек, а 17 – (17х) шишек. После того, как вчера добавили 20 шишек, то их стало (15х+20) ш., а сегодня 6 шишек осталось, то их стало (17х-6) ш. По условию задачи шишек стало поровну. Составим и решим уравнение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5х+20=17х-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8-01T18:34:01Z</dcterms:modified>
  <cp:revision>4</cp:revision>
  <dc:subject/>
  <dc:title>PowerPoint Presentation</dc:title>
</cp:coreProperties>
</file>