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E4C-2126-407B-B6B3-96722E73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898-46D4-4B71-BA83-F3423E23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476-4574-4CD7-9FBA-704D69A7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285-A759-4CA5-9DF4-FF834765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696-CFD0-4EE6-A550-D13B8B7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38A-B565-4ABB-B807-35755B5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D2D-A638-40EA-8CB5-FB8EF71F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299-ECD5-4B0E-8869-9B36805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D3D-4C31-4BD8-A7F8-ABD0D3FA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9CA-91A4-43D5-B24C-ADF49532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7DA-916D-4943-806F-84A0B2E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C87-4978-4E20-8244-7FF2E8C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B60-077D-4DB0-8070-8215F262BB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зентация к уроку по теме: «Решение задач с помощью уравнений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981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: учитель математики МБОУ СОШ № 2 г. Балак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рмак Е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шение уравн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5х+20=17х-6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5х-17х=-6-2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2х=-26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=26: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=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: 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казка на этом закончилась, а урок продолжается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те задачу, составляя уравн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20(а,в), 621 (а), 622 (а, в), 623, 624 (а), 633, 6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0920" y="367920"/>
            <a:ext cx="68864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99"/>
                </a:solidFill>
                <a:latin typeface="Tahoma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3" descr="BL00130_"/>
          <p:cNvPicPr/>
          <p:nvPr/>
        </p:nvPicPr>
        <p:blipFill>
          <a:blip r:embed="rId1"/>
          <a:stretch/>
        </p:blipFill>
        <p:spPr>
          <a:xfrm>
            <a:off x="6958080" y="189000"/>
            <a:ext cx="2025720" cy="1979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476280" y="2565360"/>
            <a:ext cx="866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620 (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в,г), 622 (в), 6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624120" y="5389560"/>
            <a:ext cx="432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67000" y="513864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  <a:ea typeface="Arial"/>
              </a:rPr>
              <a:t>Желаю удачи</a:t>
            </a:r>
            <a:r>
              <a:rPr b="1" i="1" lang="en-US" sz="2400" spc="-1" strike="noStrike">
                <a:solidFill>
                  <a:srgbClr val="ffffff"/>
                </a:solidFill>
                <a:latin typeface="Monotype Corsiva"/>
                <a:ea typeface="Arial"/>
              </a:rPr>
              <a:t>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4014720"/>
            <a:ext cx="2112840" cy="26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4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234144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Monotype Corsiva"/>
              </a:rPr>
              <a:t>Здравствуйте, ребята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39600" y="19810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годня на уроке мы будем решать задачи с помощью уравнени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а нашего урока: «Решение задач с помощью уравнен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9760" y="2072880"/>
            <a:ext cx="3633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ажды шестиклассник Серёжа заблудился в лесу. К вечеру он очутился на краю большого овраг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0" y="1773360"/>
          <a:ext cx="475308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75308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281800" cy="19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друг он услышал злорадное хихикань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2190600"/>
            <a:ext cx="74232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95280" y="3141720"/>
          <a:ext cx="514836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141720"/>
                    <a:ext cx="514836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AutoShape 9"/>
          <p:cNvSpPr/>
          <p:nvPr/>
        </p:nvSpPr>
        <p:spPr>
          <a:xfrm>
            <a:off x="4356000" y="1052640"/>
            <a:ext cx="4392720" cy="3024000"/>
          </a:xfrm>
          <a:prstGeom prst="cloudCallout">
            <a:avLst>
              <a:gd name="adj1" fmla="val -47541"/>
              <a:gd name="adj2" fmla="val 4942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148360" y="1628640"/>
            <a:ext cx="30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пался, голубчик! Сейчас мы заставим тебя решать наше любимое уравнение: 77х = 1001. А не решишь – в клет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395280" y="1989000"/>
          <a:ext cx="61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61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AutoShape 7"/>
          <p:cNvSpPr/>
          <p:nvPr/>
        </p:nvSpPr>
        <p:spPr>
          <a:xfrm>
            <a:off x="4859280" y="0"/>
            <a:ext cx="3924360" cy="259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219640" y="620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шь ты. А мы – то! Вырыли 77 ям, 1001 сушёную лягушку в них положили. В каждую поров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50920" y="1989000"/>
          <a:ext cx="4038480" cy="37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0384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теперь вы решите моё уравн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- 16 = 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468360" y="2060640"/>
          <a:ext cx="61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61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AutoShape 7"/>
          <p:cNvSpPr/>
          <p:nvPr/>
        </p:nvSpPr>
        <p:spPr>
          <a:xfrm>
            <a:off x="5580000" y="549360"/>
            <a:ext cx="2737080" cy="237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372360" y="141300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443640" y="112536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Задание от Бабок - Ёжек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им мы чайком побаловаться. А шишки для растопки нам мыши носят. Вчера 15 мышей принесли нам шишек поровну, и 20 штук нам пришлось добавить. А сегодня 17 мышей по столько же принесли. Так 6 шишек осталось. Как бы узнать, выполняют ли мышки норм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оставление услов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 каждая мышка приносит по х шишек, тогда 15 мышек – (15х) шишек, а 17 – (17х) шишек. После того, как вчера добавили 20 шишек, то их стало (15х+20) ш., а сегодня 6 шишек осталось, то их стало (17х-6) ш. По условию задачи шишек стало поровну. Составим и решим уравн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5х+20=17х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01T18:34:01Z</dcterms:modified>
  <cp:revision>4</cp:revision>
  <dc:subject/>
  <dc:title>PowerPoint Presentation</dc:title>
</cp:coreProperties>
</file>