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8CA-DEDA-4B2A-894C-4997686E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AB9-C81D-49FA-9401-09C25E1B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19E-0A0E-42E8-970F-54BCA865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C00-30A7-454A-9BC9-5D81BD88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4F04-04DA-4843-B74E-E8A7DE3B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B96E-A410-4DC2-9EA7-0AF11C9C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292D-1A4E-4D8D-8490-8B1B80BE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DBEB-B16D-477C-B65B-10650A50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BE66-51BA-47EC-AD10-C344A41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0C84-A20D-4C47-8108-6AE0E230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A259-FADE-428A-A34A-A2A81FD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C89-BEB3-4701-BEC7-6D91B79A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E927-EF09-409F-9A03-89A5D624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94CE-8E59-4EBC-AFB5-2FE36149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9A98-69CE-485D-8376-B477657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8CCC-9879-488C-9456-2566720B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A4B9-07EB-49B6-897D-131FBB73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CC01-9AE3-4E0C-9B08-FF559F54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8A97-747D-478B-A502-3022DF7D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E7CE-1DD3-4430-A665-3FBFB21A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65694-1FC8-46B2-B605-4C8C0D04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C3A9-99F0-405F-B5A3-D1CA2676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75C-1486-4481-B0E9-40527C48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0F46-E46C-40C1-9F4E-24C1001F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BF24-532A-40A5-B912-8A68AF4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C9EA-2463-4880-AA68-BA9A21D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50E2-82EF-4DA8-8761-89B96089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C013-A48B-478D-927A-94416DB0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35CD-9ED8-4E72-9192-68B36792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2CF2-ADF2-48E7-8D16-69B577A6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9F10-3C69-44D6-A87D-C95E205B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AB849-221F-4458-8002-7BCEFD69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AC82A-125B-44E5-B233-64ABE84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042-13A2-4218-BF70-B7858B52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F8615-CEB6-49F0-95B3-2943140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0BFE-D9A6-484F-A302-ADE3941F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19368-ABAA-45F7-9E8D-F47C8B6C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1D6D-ACAC-444F-AD6C-F1CA5A8C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F0688-85B8-4C95-91BC-107562A6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FEE49-5F3C-43B0-BE88-7D639998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E999-3D6D-455B-A6C5-5C5FBB31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7503-65F7-4A85-AE96-8CD8420F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97715-4E06-4629-B620-B962CA81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037AF-A4DE-4C02-8D62-5F3CC8CD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5E5-25B5-441F-AEEE-C4198AA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0A2AB-1DD8-4EAD-BBE7-B72B7E32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0DA5-4FAB-48BF-B7F7-DBBF8D2C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337CD-0A5F-4A33-BF70-4030826F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9819-CA64-424C-923E-74BBCDB6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3099-556D-4A99-BE81-2213515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8EFB1-64F1-48BA-AE87-9AFC7B5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DA96-1AE2-4EA9-A786-63CB0852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61209-62FC-4185-A850-140F701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60C0F-55EB-4B35-ABDE-06957C5D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5104C-1A1E-4802-9A30-9E7B084F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972-2FAC-4F3A-9F36-C81B52C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F3D51-FF9F-4728-887C-5FB875A3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6658E-16B0-471E-B1B8-6973D98F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B929B-4D38-4D09-BD65-B6AFB6B3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1CA49-5D4C-4278-BA5D-36054DEB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4C417-8B7E-4225-98BD-4DEAAB95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A99B2-854F-4CCD-A76B-EA02A58B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FEE78-F322-4C5D-A4CF-ED1C8C20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33ADA-778D-47A3-9745-5E28C4C3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7B76D-08B9-4FBE-9671-E44F375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1F774-F945-4B16-B483-A13E462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C3A-C7EB-4404-A430-47ED356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BAEC0-DB63-43DA-B01B-B607296A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9F63D-E0FF-44A6-81B7-571FDC09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0811B-DD5D-446D-96CC-D2BD0C50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917-DB87-40AC-AC54-D606A5AF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6B3-BF6E-4BBC-B231-22CD1203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6C3C-105E-4640-ACE3-2B2D1A8735E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F293-48E2-483E-B44B-1A3DFA39D37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3773-1B2D-4C58-B242-A58E52EECA3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E63B-2182-48B7-8378-23ECA8108B3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9150-5B95-4F78-8611-045DBC1A975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7D0C-85BC-4118-87C0-64E4A977E4F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5" name="Прямоугольник 5" descr=""/>
          <p:cNvPicPr/>
          <p:nvPr/>
        </p:nvPicPr>
        <p:blipFill>
          <a:blip r:embed="rId1"/>
          <a:stretch/>
        </p:blipFill>
        <p:spPr>
          <a:xfrm>
            <a:off x="493560" y="1609560"/>
            <a:ext cx="815688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3. Истина и ее критер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ина – соответствие представлений реальному положению де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с одним вырезанным углом 3"/>
          <p:cNvSpPr/>
          <p:nvPr/>
        </p:nvSpPr>
        <p:spPr>
          <a:xfrm>
            <a:off x="642960" y="2357280"/>
            <a:ext cx="2714760" cy="2214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тносительная и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ограниченное знание об объект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с одним вырезанным углом 4"/>
          <p:cNvSpPr/>
          <p:nvPr/>
        </p:nvSpPr>
        <p:spPr>
          <a:xfrm>
            <a:off x="4857840" y="2357280"/>
            <a:ext cx="2571840" cy="221472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бсолютная и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(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лное зание об объект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ритерии истины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Знание непротиворечиво, логически стройн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признание истинным того, что полезно для челове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Практика включает материальное производство, накопленный опыт, эксперимен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ла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Познание и зн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Чувственное и рациональное позн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Истина и ее критер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1. Познание и зн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Знани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результат позн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Arial"/>
              </a:rPr>
              <a:t>Познание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процесс постижения действительности, накопление данных, полученных в опыте взаимодействия человека с окружающим мир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3"/>
          <p:cNvSpPr/>
          <p:nvPr/>
        </p:nvSpPr>
        <p:spPr>
          <a:xfrm>
            <a:off x="714240" y="1928880"/>
            <a:ext cx="2214720" cy="1342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ссимисты отрицают познаваемость 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5286240" y="1857240"/>
            <a:ext cx="2071800" cy="135756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тими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 познав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2071800" y="3857760"/>
            <a:ext cx="3571920" cy="214308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еп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нание возможно, выражают сомнение в достоверности  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2. Чувственное позн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11"/>
          <p:cNvSpPr/>
          <p:nvPr/>
        </p:nvSpPr>
        <p:spPr>
          <a:xfrm>
            <a:off x="928800" y="2214720"/>
            <a:ext cx="2357280" cy="128556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жение отдельных свойств, призн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12"/>
          <p:cNvSpPr/>
          <p:nvPr/>
        </p:nvSpPr>
        <p:spPr>
          <a:xfrm>
            <a:off x="5286240" y="2071800"/>
            <a:ext cx="2000520" cy="128592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сприя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остное отражение 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13"/>
          <p:cNvSpPr/>
          <p:nvPr/>
        </p:nvSpPr>
        <p:spPr>
          <a:xfrm>
            <a:off x="2928960" y="4286160"/>
            <a:ext cx="2643120" cy="164304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Прямоугольник с одним вырезанным углом 4"/>
          <p:cNvSpPr/>
          <p:nvPr/>
        </p:nvSpPr>
        <p:spPr>
          <a:xfrm>
            <a:off x="357120" y="2071800"/>
            <a:ext cx="2286000" cy="1428480"/>
          </a:xfrm>
          <a:prstGeom prst="pi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льные предст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571840" cy="271476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6"/>
          <p:cNvSpPr/>
          <p:nvPr/>
        </p:nvSpPr>
        <p:spPr>
          <a:xfrm>
            <a:off x="5072040" y="1857240"/>
            <a:ext cx="2571840" cy="128592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ре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5500800" y="3286080"/>
            <a:ext cx="229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уждения – мысль, утверждающая или отрицающая нечто об объектах позна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мозаключения  - рассуждения, в ходе которых выводится новое сужд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785880" y="3071880"/>
            <a:ext cx="198576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зы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4"/>
          <p:cNvSpPr/>
          <p:nvPr/>
        </p:nvSpPr>
        <p:spPr>
          <a:xfrm>
            <a:off x="5072040" y="3214800"/>
            <a:ext cx="22860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Выгнутая влево стрелка 6"/>
          <p:cNvSpPr/>
          <p:nvPr/>
        </p:nvSpPr>
        <p:spPr>
          <a:xfrm>
            <a:off x="3000240" y="30718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284"/>
                <a:lnTo>
                  <a:pt x="16200" y="21334"/>
                </a:lnTo>
                <a:lnTo>
                  <a:pt x="21600" y="18352"/>
                </a:lnTo>
                <a:lnTo>
                  <a:pt x="16200" y="14838"/>
                </a:lnTo>
                <a:lnTo>
                  <a:pt x="16200" y="16462"/>
                </a:lnTo>
                <a:arcTo wR="21600" hR="8364" stAng="7421716" swAng="3115316"/>
                <a:lnTo>
                  <a:pt x="411" y="9988"/>
                </a:lnTo>
                <a:arcTo wR="21600" hR="8364" stAng="-10537032" swAng="5137032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8"/>
                <a:lnTo>
                  <a:pt x="411" y="9988"/>
                </a:lnTo>
                <a:arcTo wR="21600" hR="8364" stAng="-10537032" swAng="5137032"/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Выгнутая вправо стрелка 7"/>
          <p:cNvSpPr/>
          <p:nvPr/>
        </p:nvSpPr>
        <p:spPr>
          <a:xfrm>
            <a:off x="4214880" y="3071880"/>
            <a:ext cx="785880" cy="1285920"/>
          </a:xfrm>
          <a:custGeom>
            <a:avLst/>
            <a:gdLst>
              <a:gd name="textAreaLeft" fmla="*/ 105120 w 785880"/>
              <a:gd name="textAreaRight" fmla="*/ 680760 w 785880"/>
              <a:gd name="textAreaTop" fmla="*/ 247680 h 1285920"/>
              <a:gd name="textAreaBottom" fmla="*/ 93996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25" stAng="-5400000" swAng="5400000"/>
                <a:lnTo>
                  <a:pt x="21600" y="11625"/>
                </a:lnTo>
                <a:arcTo wR="21600" hR="8325" stAng="0" swAng="3370861"/>
                <a:lnTo>
                  <a:pt x="5400" y="21336"/>
                </a:lnTo>
                <a:lnTo>
                  <a:pt x="0" y="18300"/>
                </a:lnTo>
                <a:lnTo>
                  <a:pt x="5400" y="14736"/>
                </a:lnTo>
                <a:lnTo>
                  <a:pt x="5400" y="16386"/>
                </a:lnTo>
                <a:arcTo wR="21600" hR="8325" stAng="3370861" swAng="-3103481"/>
                <a:lnTo>
                  <a:pt x="21171" y="9975"/>
                </a:lnTo>
                <a:arcTo wR="21600" hR="8325" stAng="-267380" swAng="-5132620"/>
                <a:close/>
              </a:path>
              <a:path fill="darkenLess" w="21600" h="21600">
                <a:moveTo>
                  <a:pt x="0" y="0"/>
                </a:moveTo>
                <a:arcTo wR="21600" hR="8325" stAng="-5400000" swAng="5400000"/>
                <a:lnTo>
                  <a:pt x="21600" y="11625"/>
                </a:lnTo>
                <a:arcTo wR="21600" hR="8325" stAng="0" swAng="-267380"/>
                <a:lnTo>
                  <a:pt x="21171" y="9975"/>
                </a:lnTo>
                <a:arcTo wR="21600" hR="8325" stAng="-267380" swAng="-5132620"/>
                <a:close/>
              </a:path>
            </a:pathLst>
          </a:cu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7:27:07Z</dcterms:created>
  <dc:creator>Кристина</dc:creator>
  <dc:description/>
  <dc:language>en-US</dc:language>
  <cp:lastModifiedBy>Кристина</cp:lastModifiedBy>
  <dcterms:modified xsi:type="dcterms:W3CDTF">2011-10-06T18:40:38Z</dcterms:modified>
  <cp:revision>8</cp:revision>
  <dc:subject/>
  <dc:title> </dc:title>
</cp:coreProperties>
</file>