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9308-70C2-4B7C-B5FC-F865CF69F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CEB8-5503-415F-9853-2B0F338C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9830-E2B4-499F-9BD8-DF0969D6D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0D38-F72C-4917-8600-CA3788A5E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51C60-35C6-4C10-9C1D-D47F18AAD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82ED9-4860-4C5E-AEF6-C358185AE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7528A-4697-40A1-B8A5-F343BC262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F38BD-F5EB-4E63-96CE-854BA8084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25E90-0644-444C-8852-5DF82FCDC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70E85-7AD3-482D-B69B-B2C06A2C7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83EBE-7B84-4DF1-9F43-6B49C803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CB06-6213-4511-AB32-15AF2CA8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9773D-5926-43AF-A588-FC4F4EB8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6DD20-746B-413F-A1E9-FAF78D5A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E04C2-EAB0-41EE-80F2-F515A8212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A60A6-CD26-49EE-BD8D-3E095930C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06303-4420-4742-9B02-211ACBF82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927A7-512D-451D-B796-5669A1014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570D9-601A-47EA-A26A-AF85B230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EEE57-B0F6-4837-882A-688506A8B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94B38-05B7-495A-9DAD-8FDD98F73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98B82-F806-44D4-BCB5-844F49AE7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6839-97C4-4895-9281-EF1EF6FBA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639AF-3299-451B-B783-AAB40BC78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5CF13-268F-4ADD-A769-EEDC6EC8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10601-1009-4BA5-94DD-7699A2A3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5172B-A2E2-4A0F-968E-6F751809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C3735-D4C9-4517-B4FD-0D49FCF0C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D3BD1-FBDF-419F-9212-6F0D057A2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57300-CD70-46BF-8F9D-047934DD5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15ADF-1F00-4225-95E9-0B834649A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3BB3C-8431-4E93-BBF6-C818BBC3B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DDC65-81E6-48D5-91E8-A9A1FDBB1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E0AF-3D4B-46DD-9A59-017E19D55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B481B-6122-4F2E-9EA6-C315F12D9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DC0C6-2951-405A-9610-7A67F5FA8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3C35B-9091-43A1-92F9-7ED6D7BAF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AF68A-B3FD-46E1-B553-AD42E2C8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C6CD0-A804-4B8F-8B01-0F73722B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D50EC-FEE5-4BCA-A7C0-726EE852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33006-142D-4F86-BDD1-DA7D4292B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DFB56-132B-4684-8D5C-996AEDFC0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58150-4D5D-432E-A19B-FEEE1397E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FB292-9AB3-4162-8B08-2981C8C8E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874A-7BE5-4FA3-A5DA-A58BB66FD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7BCCB-361B-42F4-B0A3-58B32FCE7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2C3EB-B2FD-4807-BEA6-6088428BF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D13C3-4DC5-45EB-8F39-F6EE68CE2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9814F-1EFA-4D1A-8FAF-EE8B7DA21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15AA7-F744-4A54-A868-206E86481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F74443-6D2B-43BA-B654-73BAAC1D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D1513-1DCF-4908-B797-BE61C26D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280DC-4BAD-40D0-BF09-EFE6E4DC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7DE99-5CB5-4DBB-90B8-E8FF1176A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9C392-9544-4C84-8067-4F1094B25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4AB9-55A5-4092-9BC9-6794C0883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6D72F-9F73-4EDB-965F-EE4A57E7D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A49497-01B6-4249-A41C-1487BAD01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09B0B-E647-43EA-9539-E36F7A080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45B69-0901-4FDB-9247-A338A9426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25C7F-73E7-45D0-9AB8-6631718DB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0269E-2696-4AE0-8F15-088EBE2C6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75586-E1E8-4730-8834-92B2E8792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5383D-6B90-44A7-B479-5B8E06A5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C89EA-A39E-4BBF-B194-329399C5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CB2AB-3A1F-4E1B-8CB3-018F842B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85ED-1AA9-4017-9A09-C5547C7E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A044F-0473-4B71-92A2-D1ABE0D75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F5A6C-97B6-4466-9801-03AEE929E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23F54-FECA-4486-8BA3-CFAE9010A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C0F9-54AB-4FCB-AAB2-7B98E3AD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7DB6-E62E-41D9-B750-7E875981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A83D7-E9BE-4E87-87F3-5DBD9FD43A97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DA189-1F96-4D6B-8F64-1D051C72D4BF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CB69B-341E-4942-B0C4-E2AC9397F759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78B91-0AA6-45F6-9DF6-9A048314ADE1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FFC2F-A0E9-468D-ABD6-F95C9A5169DD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DD651-3FBA-42E3-BC7C-FD14302F5AB1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55" name="Прямоугольник 5" descr=""/>
          <p:cNvPicPr/>
          <p:nvPr/>
        </p:nvPicPr>
        <p:blipFill>
          <a:blip r:embed="rId1"/>
          <a:stretch/>
        </p:blipFill>
        <p:spPr>
          <a:xfrm>
            <a:off x="493560" y="1609560"/>
            <a:ext cx="8156880" cy="19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3. Истина и ее критерии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Истина – соответствие представлений реальному положению де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456840" y="1600200"/>
            <a:ext cx="7467480" cy="4525920"/>
          </a:xfrm>
          <a:prstGeom prst="rect">
            <a:avLst/>
          </a:prstGeom>
          <a:ln w="0">
            <a:noFill/>
          </a:ln>
        </p:spPr>
      </p:pic>
      <p:sp>
        <p:nvSpPr>
          <p:cNvPr id="289" name="Прямоугольник с одним вырезанным углом 3"/>
          <p:cNvSpPr/>
          <p:nvPr/>
        </p:nvSpPr>
        <p:spPr>
          <a:xfrm>
            <a:off x="642960" y="2357280"/>
            <a:ext cx="2714760" cy="2214720"/>
          </a:xfrm>
          <a:prstGeom prst="pi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Относительная ист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 ограниченное знание об объекте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Прямоугольник с одним вырезанным углом 4"/>
          <p:cNvSpPr/>
          <p:nvPr/>
        </p:nvSpPr>
        <p:spPr>
          <a:xfrm>
            <a:off x="4857840" y="2357280"/>
            <a:ext cx="2571840" cy="2214720"/>
          </a:xfrm>
          <a:prstGeom prst="pi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Абсолютная ист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(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полное зание об объекте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Критерии истины: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. Знание непротиворечиво, логически стройн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. признание истинным того, что полезно для человек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. Практика включает материальное производство, накопленный опыт, эксперимен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План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. Познание и знани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. Чувственное и рациональное познани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. Истина и ее критери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1. Познание и знани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ffff"/>
                </a:solidFill>
                <a:uFillTx/>
                <a:latin typeface="Arial"/>
              </a:rPr>
              <a:t>Знание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– результат познани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Arial"/>
              </a:rPr>
              <a:t>Познание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– процесс постижения действительности, накопление данных, полученных в опыте взаимодействия человека с окружающим миром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456840" y="1600200"/>
            <a:ext cx="7467480" cy="4525920"/>
          </a:xfrm>
          <a:prstGeom prst="rect">
            <a:avLst/>
          </a:prstGeom>
          <a:ln w="0">
            <a:noFill/>
          </a:ln>
        </p:spPr>
      </p:pic>
      <p:sp>
        <p:nvSpPr>
          <p:cNvPr id="262" name="Прямоугольник 3"/>
          <p:cNvSpPr/>
          <p:nvPr/>
        </p:nvSpPr>
        <p:spPr>
          <a:xfrm>
            <a:off x="714240" y="1928880"/>
            <a:ext cx="2214720" cy="1342800"/>
          </a:xfrm>
          <a:prstGeom prst="rect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ссимисты отрицают познаваемость ми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Прямоугольник 4"/>
          <p:cNvSpPr/>
          <p:nvPr/>
        </p:nvSpPr>
        <p:spPr>
          <a:xfrm>
            <a:off x="5286240" y="1857240"/>
            <a:ext cx="2071800" cy="1357560"/>
          </a:xfrm>
          <a:prstGeom prst="rect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тимист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р познава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Прямоугольник 5"/>
          <p:cNvSpPr/>
          <p:nvPr/>
        </p:nvSpPr>
        <p:spPr>
          <a:xfrm>
            <a:off x="2071800" y="3857760"/>
            <a:ext cx="3571920" cy="2143080"/>
          </a:xfrm>
          <a:prstGeom prst="rect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кептик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знание возможно, выражают сомнение в достоверности  зн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2. Чувственное познани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456840" y="1600200"/>
            <a:ext cx="7467480" cy="4525920"/>
          </a:xfrm>
          <a:prstGeom prst="rect">
            <a:avLst/>
          </a:prstGeom>
          <a:ln w="0">
            <a:noFill/>
          </a:ln>
        </p:spPr>
      </p:pic>
      <p:sp>
        <p:nvSpPr>
          <p:cNvPr id="267" name="Прямоугольник 11"/>
          <p:cNvSpPr/>
          <p:nvPr/>
        </p:nvSpPr>
        <p:spPr>
          <a:xfrm>
            <a:off x="928800" y="2214720"/>
            <a:ext cx="2357280" cy="1285560"/>
          </a:xfrm>
          <a:prstGeom prst="rect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Ощущ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ражение отдельных свойств, призна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Прямоугольник 12"/>
          <p:cNvSpPr/>
          <p:nvPr/>
        </p:nvSpPr>
        <p:spPr>
          <a:xfrm>
            <a:off x="5286240" y="2071800"/>
            <a:ext cx="2000520" cy="1285920"/>
          </a:xfrm>
          <a:prstGeom prst="rect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осприят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елостное отражение предмет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Прямоугольник 13"/>
          <p:cNvSpPr/>
          <p:nvPr/>
        </p:nvSpPr>
        <p:spPr>
          <a:xfrm>
            <a:off x="2928960" y="4286160"/>
            <a:ext cx="2643120" cy="1643040"/>
          </a:xfrm>
          <a:prstGeom prst="rect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дставл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Прямоугольник с одним вырезанным углом 4"/>
          <p:cNvSpPr/>
          <p:nvPr/>
        </p:nvSpPr>
        <p:spPr>
          <a:xfrm>
            <a:off x="357120" y="2071800"/>
            <a:ext cx="2286000" cy="1428480"/>
          </a:xfrm>
          <a:prstGeom prst="pi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альные представ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357120" y="3643200"/>
            <a:ext cx="2571840" cy="2714760"/>
          </a:xfrm>
          <a:prstGeom prst="rect">
            <a:avLst/>
          </a:prstGeom>
          <a:ln w="0">
            <a:noFill/>
          </a:ln>
        </p:spPr>
      </p:pic>
      <p:sp>
        <p:nvSpPr>
          <p:cNvPr id="273" name="Прямоугольник 6"/>
          <p:cNvSpPr/>
          <p:nvPr/>
        </p:nvSpPr>
        <p:spPr>
          <a:xfrm>
            <a:off x="5072040" y="1857240"/>
            <a:ext cx="2571840" cy="1285920"/>
          </a:xfrm>
          <a:prstGeom prst="rect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реаль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дстав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Picture 3" descr=""/>
          <p:cNvPicPr/>
          <p:nvPr/>
        </p:nvPicPr>
        <p:blipFill>
          <a:blip r:embed="rId2"/>
          <a:stretch/>
        </p:blipFill>
        <p:spPr>
          <a:xfrm>
            <a:off x="5500800" y="3286080"/>
            <a:ext cx="22906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уждения – мысль, утверждающая или отрицающая нечто об объектах познани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Умозаключения  - рассуждения, в ходе которых выводится новое суждени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6840" y="1600200"/>
            <a:ext cx="7467480" cy="4525920"/>
          </a:xfrm>
          <a:prstGeom prst="rect">
            <a:avLst/>
          </a:prstGeom>
          <a:ln w="0">
            <a:noFill/>
          </a:ln>
        </p:spPr>
      </p:pic>
      <p:sp>
        <p:nvSpPr>
          <p:cNvPr id="281" name="Прямоугольник 3"/>
          <p:cNvSpPr/>
          <p:nvPr/>
        </p:nvSpPr>
        <p:spPr>
          <a:xfrm>
            <a:off x="785880" y="3071880"/>
            <a:ext cx="1985760" cy="914400"/>
          </a:xfrm>
          <a:prstGeom prst="rect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Язы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Прямоугольник 4"/>
          <p:cNvSpPr/>
          <p:nvPr/>
        </p:nvSpPr>
        <p:spPr>
          <a:xfrm>
            <a:off x="5072040" y="3214800"/>
            <a:ext cx="2286000" cy="914400"/>
          </a:xfrm>
          <a:prstGeom prst="rect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ышл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Выгнутая влево стрелка 6"/>
          <p:cNvSpPr/>
          <p:nvPr/>
        </p:nvSpPr>
        <p:spPr>
          <a:xfrm>
            <a:off x="3000240" y="3071880"/>
            <a:ext cx="731880" cy="1216080"/>
          </a:xfrm>
          <a:custGeom>
            <a:avLst/>
            <a:gdLst>
              <a:gd name="textAreaLeft" fmla="*/ 97920 w 731880"/>
              <a:gd name="textAreaRight" fmla="*/ 633960 w 731880"/>
              <a:gd name="textAreaTop" fmla="*/ 235440 h 1216080"/>
              <a:gd name="textAreaBottom" fmla="*/ 889200 h 1216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64" stAng="-5400000" swAng="-5400000"/>
                <a:lnTo>
                  <a:pt x="0" y="11612"/>
                </a:lnTo>
                <a:arcTo wR="21600" hR="8364" stAng="10800000" swAng="-3378284"/>
                <a:lnTo>
                  <a:pt x="16200" y="21334"/>
                </a:lnTo>
                <a:lnTo>
                  <a:pt x="21600" y="18352"/>
                </a:lnTo>
                <a:lnTo>
                  <a:pt x="16200" y="14838"/>
                </a:lnTo>
                <a:lnTo>
                  <a:pt x="16200" y="16462"/>
                </a:lnTo>
                <a:arcTo wR="21600" hR="8364" stAng="7421716" swAng="3115316"/>
                <a:lnTo>
                  <a:pt x="411" y="9988"/>
                </a:lnTo>
                <a:arcTo wR="21600" hR="8364" stAng="-10537032" swAng="5137032"/>
                <a:close/>
              </a:path>
              <a:path fill="darkenLess" w="21600" h="21600">
                <a:moveTo>
                  <a:pt x="21600" y="0"/>
                </a:moveTo>
                <a:arcTo wR="21600" hR="8364" stAng="-5400000" swAng="-5400000"/>
                <a:lnTo>
                  <a:pt x="0" y="8364"/>
                </a:lnTo>
                <a:arcTo wR="21600" hR="8364" stAng="10800000" swAng="-262968"/>
                <a:lnTo>
                  <a:pt x="411" y="9988"/>
                </a:lnTo>
                <a:arcTo wR="21600" hR="8364" stAng="-10537032" swAng="5137032"/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Выгнутая вправо стрелка 7"/>
          <p:cNvSpPr/>
          <p:nvPr/>
        </p:nvSpPr>
        <p:spPr>
          <a:xfrm>
            <a:off x="4214880" y="3071880"/>
            <a:ext cx="785880" cy="1285920"/>
          </a:xfrm>
          <a:custGeom>
            <a:avLst/>
            <a:gdLst>
              <a:gd name="textAreaLeft" fmla="*/ 105120 w 785880"/>
              <a:gd name="textAreaRight" fmla="*/ 680760 w 785880"/>
              <a:gd name="textAreaTop" fmla="*/ 247680 h 1285920"/>
              <a:gd name="textAreaBottom" fmla="*/ 939960 h 1285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25" stAng="-5400000" swAng="5400000"/>
                <a:lnTo>
                  <a:pt x="21600" y="11625"/>
                </a:lnTo>
                <a:arcTo wR="21600" hR="8325" stAng="0" swAng="3370861"/>
                <a:lnTo>
                  <a:pt x="5400" y="21336"/>
                </a:lnTo>
                <a:lnTo>
                  <a:pt x="0" y="18300"/>
                </a:lnTo>
                <a:lnTo>
                  <a:pt x="5400" y="14736"/>
                </a:lnTo>
                <a:lnTo>
                  <a:pt x="5400" y="16386"/>
                </a:lnTo>
                <a:arcTo wR="21600" hR="8325" stAng="3370861" swAng="-3103481"/>
                <a:lnTo>
                  <a:pt x="21171" y="9975"/>
                </a:lnTo>
                <a:arcTo wR="21600" hR="8325" stAng="-267380" swAng="-5132620"/>
                <a:close/>
              </a:path>
              <a:path fill="darkenLess" w="21600" h="21600">
                <a:moveTo>
                  <a:pt x="0" y="0"/>
                </a:moveTo>
                <a:arcTo wR="21600" hR="8325" stAng="-5400000" swAng="5400000"/>
                <a:lnTo>
                  <a:pt x="21600" y="11625"/>
                </a:lnTo>
                <a:arcTo wR="21600" hR="8325" stAng="0" swAng="-267380"/>
                <a:lnTo>
                  <a:pt x="21171" y="9975"/>
                </a:lnTo>
                <a:arcTo wR="21600" hR="8325" stAng="-267380" swAng="-5132620"/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6T17:27:07Z</dcterms:created>
  <dc:creator>Кристина</dc:creator>
  <dc:description/>
  <dc:language>en-US</dc:language>
  <cp:lastModifiedBy>Кристина</cp:lastModifiedBy>
  <dcterms:modified xsi:type="dcterms:W3CDTF">2011-10-06T18:40:38Z</dcterms:modified>
  <cp:revision>8</cp:revision>
  <dc:subject/>
  <dc:title> </dc:title>
</cp:coreProperties>
</file>