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E38-43A5-4F70-AF80-F3570A1A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A38-7B3E-4B6C-83A3-F934C066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AF0-72E0-42BD-8F71-E2DE9D27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DDA-0943-4DF6-8A4B-C1AB2AAF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D79-A192-4AB1-A9B4-3F9EF364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F17-C7F6-4A35-ACC2-3E3ADB77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6DF-F412-4BBC-8E51-A079402E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AC2-B27F-4106-ADE7-4A7D70BD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4B2-D681-4A26-AA46-A823F490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4B4-D382-47EF-B3BE-77FF1A8B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38A-DE5F-469B-B85A-9CE8AE1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5A5-6B7E-4C9E-856D-FDDB3B24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CC63-7F76-4053-A1BE-CDDCDA0BD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2.xml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slide2.xml"/><Relationship Id="rId8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" Target="slide12.xml"/><Relationship Id="rId4" Type="http://schemas.openxmlformats.org/officeDocument/2006/relationships/image" Target="../media/image2.png"/><Relationship Id="rId5" Type="http://schemas.openxmlformats.org/officeDocument/2006/relationships/slide" Target="slide13.xml"/><Relationship Id="rId6" Type="http://schemas.openxmlformats.org/officeDocument/2006/relationships/image" Target="../media/image2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slide" Target="slide15.xml"/><Relationship Id="rId10" Type="http://schemas.openxmlformats.org/officeDocument/2006/relationships/image" Target="../media/image2.png"/><Relationship Id="rId11" Type="http://schemas.openxmlformats.org/officeDocument/2006/relationships/slide" Target="slide17.xml"/><Relationship Id="rId12" Type="http://schemas.openxmlformats.org/officeDocument/2006/relationships/image" Target="../media/image2.png"/><Relationship Id="rId13" Type="http://schemas.openxmlformats.org/officeDocument/2006/relationships/slide" Target="slide18.xml"/><Relationship Id="rId14" Type="http://schemas.openxmlformats.org/officeDocument/2006/relationships/image" Target="../media/image2.png"/><Relationship Id="rId15" Type="http://schemas.openxmlformats.org/officeDocument/2006/relationships/slide" Target="slide19.xml"/><Relationship Id="rId16" Type="http://schemas.openxmlformats.org/officeDocument/2006/relationships/image" Target="../media/image2.png"/><Relationship Id="rId17" Type="http://schemas.openxmlformats.org/officeDocument/2006/relationships/slide" Target="slide20.xml"/><Relationship Id="rId18" Type="http://schemas.openxmlformats.org/officeDocument/2006/relationships/image" Target="../media/image2.png"/><Relationship Id="rId19" Type="http://schemas.openxmlformats.org/officeDocument/2006/relationships/slide" Target="slide21.xml"/><Relationship Id="rId20" Type="http://schemas.openxmlformats.org/officeDocument/2006/relationships/image" Target="../media/image2.png"/><Relationship Id="rId21" Type="http://schemas.openxmlformats.org/officeDocument/2006/relationships/slide" Target="slide23.xml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slide" Target="slide24.xml"/><Relationship Id="rId25" Type="http://schemas.openxmlformats.org/officeDocument/2006/relationships/image" Target="../media/image2.png"/><Relationship Id="rId26" Type="http://schemas.openxmlformats.org/officeDocument/2006/relationships/slide" Target="slide25.xml"/><Relationship Id="rId27" Type="http://schemas.openxmlformats.org/officeDocument/2006/relationships/image" Target="../media/image2.png"/><Relationship Id="rId28" Type="http://schemas.openxmlformats.org/officeDocument/2006/relationships/slide" Target="slide26.xml"/><Relationship Id="rId29" Type="http://schemas.openxmlformats.org/officeDocument/2006/relationships/image" Target="../media/image2.png"/><Relationship Id="rId30" Type="http://schemas.openxmlformats.org/officeDocument/2006/relationships/slide" Target="slide32.xml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slide" Target="slide28.xml"/><Relationship Id="rId36" Type="http://schemas.openxmlformats.org/officeDocument/2006/relationships/image" Target="../media/image2.png"/><Relationship Id="rId37" Type="http://schemas.openxmlformats.org/officeDocument/2006/relationships/slide" Target="slide3.xml"/><Relationship Id="rId38" Type="http://schemas.openxmlformats.org/officeDocument/2006/relationships/image" Target="../media/image2.png"/><Relationship Id="rId39" Type="http://schemas.openxmlformats.org/officeDocument/2006/relationships/slide" Target="slide4.xml"/><Relationship Id="rId40" Type="http://schemas.openxmlformats.org/officeDocument/2006/relationships/image" Target="../media/image2.png"/><Relationship Id="rId41" Type="http://schemas.openxmlformats.org/officeDocument/2006/relationships/slide" Target="slide5.xml"/><Relationship Id="rId42" Type="http://schemas.openxmlformats.org/officeDocument/2006/relationships/image" Target="../media/image2.png"/><Relationship Id="rId43" Type="http://schemas.openxmlformats.org/officeDocument/2006/relationships/slide" Target="slide6.xml"/><Relationship Id="rId44" Type="http://schemas.openxmlformats.org/officeDocument/2006/relationships/image" Target="../media/image2.png"/><Relationship Id="rId45" Type="http://schemas.openxmlformats.org/officeDocument/2006/relationships/slide" Target="slide7.xml"/><Relationship Id="rId46" Type="http://schemas.openxmlformats.org/officeDocument/2006/relationships/image" Target="../media/image2.png"/><Relationship Id="rId47" Type="http://schemas.openxmlformats.org/officeDocument/2006/relationships/slide" Target="slide9.xml"/><Relationship Id="rId48" Type="http://schemas.openxmlformats.org/officeDocument/2006/relationships/image" Target="../media/image2.png"/><Relationship Id="rId49" Type="http://schemas.openxmlformats.org/officeDocument/2006/relationships/slide" Target="slide16.xml"/><Relationship Id="rId50" Type="http://schemas.openxmlformats.org/officeDocument/2006/relationships/image" Target="../media/image2.png"/><Relationship Id="rId51" Type="http://schemas.openxmlformats.org/officeDocument/2006/relationships/slide" Target="slide22.xml"/><Relationship Id="rId52" Type="http://schemas.openxmlformats.org/officeDocument/2006/relationships/image" Target="../media/image2.png"/><Relationship Id="rId53" Type="http://schemas.openxmlformats.org/officeDocument/2006/relationships/slide" Target="slide27.xml"/><Relationship Id="rId54" Type="http://schemas.openxmlformats.org/officeDocument/2006/relationships/image" Target="../media/image2.png"/><Relationship Id="rId55" Type="http://schemas.openxmlformats.org/officeDocument/2006/relationships/slide" Target="slide10.xml"/><Relationship Id="rId56" Type="http://schemas.openxmlformats.org/officeDocument/2006/relationships/image" Target="../media/image2.png"/><Relationship Id="rId57" Type="http://schemas.openxmlformats.org/officeDocument/2006/relationships/slide" Target="slide3.xml"/><Relationship Id="rId58" Type="http://schemas.openxmlformats.org/officeDocument/2006/relationships/image" Target="../media/image2.png"/><Relationship Id="rId59" Type="http://schemas.openxmlformats.org/officeDocument/2006/relationships/slide" Target="slide16.xml"/><Relationship Id="rId60" Type="http://schemas.openxmlformats.org/officeDocument/2006/relationships/image" Target="../media/image2.png"/><Relationship Id="rId61" Type="http://schemas.openxmlformats.org/officeDocument/2006/relationships/slide" Target="slide20.xml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slide" Target="slide3.xml"/><Relationship Id="rId65" Type="http://schemas.openxmlformats.org/officeDocument/2006/relationships/image" Target="../media/image2.png"/><Relationship Id="rId6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2.xml"/><Relationship Id="rId9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slide2.xml"/><Relationship Id="rId8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amp;Kcy;&amp;acy;&amp;rcy;&amp;tcy;&amp;icy;&amp;ncy;&amp;kcy;&amp;acy; 125 &amp;icy;&amp;zcy; 65344"/>
          <p:cNvPicPr/>
          <p:nvPr/>
        </p:nvPicPr>
        <p:blipFill>
          <a:blip r:embed="rId1"/>
          <a:stretch/>
        </p:blipFill>
        <p:spPr>
          <a:xfrm>
            <a:off x="3851280" y="1828800"/>
            <a:ext cx="529272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0920" y="0"/>
            <a:ext cx="5398920" cy="60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шение задач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Началь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еометрическ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ведения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476280"/>
            <a:ext cx="18255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 класс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8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8320" y="5734080"/>
            <a:ext cx="47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Каратано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МКОУ СОШ №256 г.Фо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516720" y="476280"/>
            <a:ext cx="18255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 часть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8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9853400">
            <a:off x="2484360" y="105228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452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9440" y="35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8880" y="33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877080" y="3789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338560" y="24940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042920" y="260280"/>
            <a:ext cx="7921800" cy="2384640"/>
            <a:chOff x="1042920" y="260280"/>
            <a:chExt cx="7921800" cy="2384640"/>
          </a:xfrm>
        </p:grpSpPr>
        <p:grpSp>
          <p:nvGrpSpPr>
            <p:cNvPr id="201" name=""/>
            <p:cNvGrpSpPr/>
            <p:nvPr/>
          </p:nvGrpSpPr>
          <p:grpSpPr>
            <a:xfrm>
              <a:off x="1042920" y="260280"/>
              <a:ext cx="7777080" cy="1584360"/>
              <a:chOff x="1042920" y="260280"/>
              <a:chExt cx="7777080" cy="1584360"/>
            </a:xfrm>
          </p:grpSpPr>
          <p:sp>
            <p:nvSpPr>
              <p:cNvPr id="202" name=""/>
              <p:cNvSpPr/>
              <p:nvPr/>
            </p:nvSpPr>
            <p:spPr>
              <a:xfrm>
                <a:off x="1042920" y="260280"/>
                <a:ext cx="7777080" cy="1584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Дана прямая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F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Может ли прямая </a:t>
                </a:r>
                <a:r>
                  <a:rPr b="1" i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АВ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 не пересекат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отрезок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F</a:t>
                </a: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3" name=""/>
                  <p:cNvSpPr txBox="1"/>
                  <p:nvPr/>
                </p:nvSpPr>
                <p:spPr>
                  <a:xfrm>
                    <a:off x="4932360" y="260280"/>
                    <a:ext cx="3311640" cy="66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А</m:t>
                        </m:r>
                        <m:r>
                          <m:t xml:space="preserve">∉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  <m:r>
                          <m:t xml:space="preserve">,</m:t>
                        </m:r>
                        <m:r>
                          <m:t xml:space="preserve">В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pic>
          <p:nvPicPr>
            <p:cNvPr id="204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413000"/>
              <a:ext cx="12970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341800" y="198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143240" y="5805360"/>
            <a:ext cx="275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Не мож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3073320"/>
            <a:ext cx="6564240" cy="1077840"/>
          </a:xfrm>
          <a:custGeom>
            <a:avLst/>
            <a:gdLst/>
            <a:ahLst/>
            <a:rect l="l" t="t" r="r" b="b"/>
            <a:pathLst>
              <a:path w="4135" h="679">
                <a:moveTo>
                  <a:pt x="0" y="679"/>
                </a:moveTo>
                <a:lnTo>
                  <a:pt x="4135" y="0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762920" y="393372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292720" y="335772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8127800">
            <a:off x="-39240" y="2718720"/>
            <a:ext cx="2881080" cy="7189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00000" y="260280"/>
            <a:ext cx="8101080" cy="2313000"/>
            <a:chOff x="900000" y="260280"/>
            <a:chExt cx="8101080" cy="2313000"/>
          </a:xfrm>
        </p:grpSpPr>
        <p:sp>
          <p:nvSpPr>
            <p:cNvPr id="215" name=""/>
            <p:cNvSpPr/>
            <p:nvPr/>
          </p:nvSpPr>
          <p:spPr>
            <a:xfrm>
              <a:off x="900000" y="260280"/>
              <a:ext cx="8101080" cy="1513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Сколько точек пересечения могут иметь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три прямые? Рассмотрите все возмож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случаи и сделайте рисунк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34136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324000" y="2133720"/>
            <a:ext cx="502920" cy="55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9835400">
            <a:off x="250560" y="278100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277000">
            <a:off x="1211400" y="2408400"/>
            <a:ext cx="2054160" cy="6681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80000" y="2133720"/>
            <a:ext cx="502920" cy="55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0838600">
            <a:off x="4859280" y="249192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277000">
            <a:off x="5103360" y="2568240"/>
            <a:ext cx="2087640" cy="64764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8127800">
            <a:off x="4786200" y="256536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3640" y="4365720"/>
            <a:ext cx="503280" cy="55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0838600">
            <a:off x="2700000" y="4868640"/>
            <a:ext cx="2879640" cy="936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838600">
            <a:off x="2843280" y="407628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277000">
            <a:off x="3131640" y="4581360"/>
            <a:ext cx="2054520" cy="6685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84720" y="4365720"/>
            <a:ext cx="503280" cy="555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8127800">
            <a:off x="5722920" y="465444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8127800">
            <a:off x="6154560" y="5057640"/>
            <a:ext cx="2881440" cy="7189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8127800">
            <a:off x="6443640" y="537372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8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900000" y="115920"/>
            <a:ext cx="8101080" cy="2744640"/>
            <a:chOff x="900000" y="115920"/>
            <a:chExt cx="8101080" cy="2744640"/>
          </a:xfrm>
        </p:grpSpPr>
        <p:sp>
          <p:nvSpPr>
            <p:cNvPr id="236" name=""/>
            <p:cNvSpPr/>
            <p:nvPr/>
          </p:nvSpPr>
          <p:spPr>
            <a:xfrm>
              <a:off x="900000" y="115920"/>
              <a:ext cx="8101080" cy="201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 плоскости даны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три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точки. Скольк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прямых можно провести через эти точ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так, чтобы на каждой прямой лежа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хотя бы две из данных точек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62864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"/>
          <p:cNvSpPr/>
          <p:nvPr/>
        </p:nvSpPr>
        <p:spPr>
          <a:xfrm>
            <a:off x="611280" y="2708280"/>
            <a:ext cx="503280" cy="55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92720" y="2708280"/>
            <a:ext cx="503280" cy="55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1960" y="4368960"/>
            <a:ext cx="3886200" cy="444240"/>
          </a:xfrm>
          <a:custGeom>
            <a:avLst/>
            <a:gdLst/>
            <a:ahLst/>
            <a:rect l="l" t="t" r="r" b="b"/>
            <a:pathLst>
              <a:path w="2448" h="280">
                <a:moveTo>
                  <a:pt x="0" y="0"/>
                </a:moveTo>
                <a:lnTo>
                  <a:pt x="2448" y="28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39880" y="2413080"/>
            <a:ext cx="1841400" cy="2882880"/>
          </a:xfrm>
          <a:custGeom>
            <a:avLst/>
            <a:gdLst/>
            <a:ahLst/>
            <a:rect l="l" t="t" r="r" b="b"/>
            <a:pathLst>
              <a:path w="1160" h="1816">
                <a:moveTo>
                  <a:pt x="0" y="0"/>
                </a:moveTo>
                <a:lnTo>
                  <a:pt x="1160" y="1816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8127800">
            <a:off x="395280" y="343044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3380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180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266200" y="321300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9744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116000" y="43671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131280" y="458136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8160" y="378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2144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35640" y="52308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372360" y="436572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450920" y="335772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82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76720" y="2924280"/>
            <a:ext cx="2973600" cy="2779560"/>
          </a:xfrm>
          <a:custGeom>
            <a:avLst/>
            <a:gdLst/>
            <a:ahLst/>
            <a:rect l="l" t="t" r="r" b="b"/>
            <a:pathLst>
              <a:path w="1873" h="1751">
                <a:moveTo>
                  <a:pt x="0" y="1751"/>
                </a:moveTo>
                <a:lnTo>
                  <a:pt x="1873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6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115920"/>
            <a:ext cx="8101080" cy="201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плоскости даны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етыр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точки. Ск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ямых можно провести через эти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, чтобы на каждой прямой леж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отя бы две из данных точ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&amp;Kcy;&amp;acy;&amp;rcy;&amp;tcy;&amp;icy;&amp;ncy;&amp;kcy;&amp;acy; 125 &amp;icy;&amp;zcy; 65344"/>
          <p:cNvPicPr/>
          <p:nvPr/>
        </p:nvPicPr>
        <p:blipFill>
          <a:blip r:embed="rId3"/>
          <a:stretch/>
        </p:blipFill>
        <p:spPr>
          <a:xfrm>
            <a:off x="7667640" y="16286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84360" y="2708280"/>
            <a:ext cx="502920" cy="55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4076640"/>
            <a:ext cx="503280" cy="555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08320" y="5232240"/>
            <a:ext cx="3886200" cy="444600"/>
          </a:xfrm>
          <a:custGeom>
            <a:avLst/>
            <a:gdLst/>
            <a:ahLst/>
            <a:rect l="l" t="t" r="r" b="b"/>
            <a:pathLst>
              <a:path w="2448" h="280">
                <a:moveTo>
                  <a:pt x="0" y="0"/>
                </a:moveTo>
                <a:lnTo>
                  <a:pt x="2448" y="28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55880" y="3276720"/>
            <a:ext cx="1841760" cy="2882880"/>
          </a:xfrm>
          <a:custGeom>
            <a:avLst/>
            <a:gdLst/>
            <a:ahLst/>
            <a:rect l="l" t="t" r="r" b="b"/>
            <a:pathLst>
              <a:path w="1160" h="1816">
                <a:moveTo>
                  <a:pt x="0" y="0"/>
                </a:moveTo>
                <a:lnTo>
                  <a:pt x="1160" y="1816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8127800">
            <a:off x="2411280" y="429408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50160" y="494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1816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050200" y="350208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9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131280" y="52308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148360" y="544500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05080" y="33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81840" y="47991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619280" y="393372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698920" y="292572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29080" y="24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920" y="2565360"/>
            <a:ext cx="2973240" cy="2779920"/>
          </a:xfrm>
          <a:custGeom>
            <a:avLst/>
            <a:gdLst/>
            <a:ahLst/>
            <a:rect l="l" t="t" r="r" b="b"/>
            <a:pathLst>
              <a:path w="1873" h="1751">
                <a:moveTo>
                  <a:pt x="0" y="1751"/>
                </a:moveTo>
                <a:lnTo>
                  <a:pt x="1873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8652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284720" y="40784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1344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211640" y="537372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16320" y="2921040"/>
            <a:ext cx="177840" cy="3124080"/>
          </a:xfrm>
          <a:custGeom>
            <a:avLst/>
            <a:gdLst/>
            <a:ahLst/>
            <a:rect l="l" t="t" r="r" b="b"/>
            <a:pathLst>
              <a:path w="112" h="1968">
                <a:moveTo>
                  <a:pt x="112" y="0"/>
                </a:moveTo>
                <a:lnTo>
                  <a:pt x="0" y="1968"/>
                </a:lnTo>
              </a:path>
            </a:pathLst>
          </a:custGeom>
          <a:noFill/>
          <a:ln w="572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940360" y="2637000"/>
            <a:ext cx="503280" cy="55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72496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947640" y="371808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5016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093080" y="56642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8604360" y="5013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3452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171640" y="371808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29800" y="32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97760" y="4940280"/>
            <a:ext cx="2781000" cy="1219320"/>
          </a:xfrm>
          <a:custGeom>
            <a:avLst/>
            <a:gdLst/>
            <a:ahLst/>
            <a:rect l="l" t="t" r="r" b="b"/>
            <a:pathLst>
              <a:path w="1752" h="768">
                <a:moveTo>
                  <a:pt x="0" y="768"/>
                </a:moveTo>
                <a:lnTo>
                  <a:pt x="1752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823160" y="2717640"/>
            <a:ext cx="1079640" cy="3200400"/>
          </a:xfrm>
          <a:custGeom>
            <a:avLst/>
            <a:gdLst/>
            <a:ahLst/>
            <a:rect l="l" t="t" r="r" b="b"/>
            <a:pathLst>
              <a:path w="680" h="2016">
                <a:moveTo>
                  <a:pt x="0" y="0"/>
                </a:moveTo>
                <a:lnTo>
                  <a:pt x="680" y="2016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3784680"/>
            <a:ext cx="2781360" cy="38160"/>
          </a:xfrm>
          <a:custGeom>
            <a:avLst/>
            <a:gdLst/>
            <a:ahLst/>
            <a:rect l="l" t="t" r="r" b="b"/>
            <a:pathLst>
              <a:path w="1752" h="24">
                <a:moveTo>
                  <a:pt x="1752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46920" y="3200400"/>
            <a:ext cx="190440" cy="2984400"/>
          </a:xfrm>
          <a:custGeom>
            <a:avLst/>
            <a:gdLst/>
            <a:ahLst/>
            <a:rect l="l" t="t" r="r" b="b"/>
            <a:pathLst>
              <a:path w="120" h="1880">
                <a:moveTo>
                  <a:pt x="120" y="1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3327480"/>
            <a:ext cx="1854360" cy="3327480"/>
          </a:xfrm>
          <a:custGeom>
            <a:avLst/>
            <a:gdLst/>
            <a:ahLst/>
            <a:rect l="l" t="t" r="r" b="b"/>
            <a:pathLst>
              <a:path w="1168" h="2096">
                <a:moveTo>
                  <a:pt x="0" y="2096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02320" y="3416400"/>
            <a:ext cx="2590920" cy="2044440"/>
          </a:xfrm>
          <a:custGeom>
            <a:avLst/>
            <a:gdLst/>
            <a:ahLst/>
            <a:rect l="l" t="t" r="r" b="b"/>
            <a:pathLst>
              <a:path w="1632" h="1288">
                <a:moveTo>
                  <a:pt x="1632" y="1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7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9853400">
            <a:off x="2484360" y="105228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94880" y="285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49440" y="35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8880" y="33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877080" y="3789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42520" y="580536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АС, 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42920" y="3073320"/>
            <a:ext cx="6564240" cy="1077840"/>
          </a:xfrm>
          <a:custGeom>
            <a:avLst/>
            <a:gdLst/>
            <a:ahLst/>
            <a:rect l="l" t="t" r="r" b="b"/>
            <a:pathLst>
              <a:path w="4135" h="679">
                <a:moveTo>
                  <a:pt x="0" y="679"/>
                </a:moveTo>
                <a:lnTo>
                  <a:pt x="4135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762920" y="393372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292720" y="335772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8216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38036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4544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442920" y="313992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042920" y="260280"/>
            <a:ext cx="7921800" cy="2643120"/>
            <a:chOff x="1042920" y="260280"/>
            <a:chExt cx="7921800" cy="2643120"/>
          </a:xfrm>
        </p:grpSpPr>
        <p:sp>
          <p:nvSpPr>
            <p:cNvPr id="316" name=""/>
            <p:cNvSpPr/>
            <p:nvPr/>
          </p:nvSpPr>
          <p:spPr>
            <a:xfrm>
              <a:off x="1042920" y="260280"/>
              <a:ext cx="7777080" cy="158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Выпишите все отрезки, изображён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 рисунке на которых точ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лежит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о не является их концом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413000"/>
              <a:ext cx="12970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flipH="1">
              <a:off x="2338560" y="2494080"/>
              <a:ext cx="71280" cy="195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41800" y="198900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61080" y="227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059280" y="2708280"/>
              <a:ext cx="71280" cy="195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841400" y="3111480"/>
            <a:ext cx="5550120" cy="901800"/>
          </a:xfrm>
          <a:custGeom>
            <a:avLst/>
            <a:gdLst/>
            <a:ahLst/>
            <a:rect l="l" t="t" r="r" b="b"/>
            <a:pathLst>
              <a:path w="3496" h="568">
                <a:moveTo>
                  <a:pt x="0" y="568"/>
                </a:moveTo>
                <a:lnTo>
                  <a:pt x="3496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4120" y="3098880"/>
            <a:ext cx="2082600" cy="342720"/>
          </a:xfrm>
          <a:custGeom>
            <a:avLst/>
            <a:gdLst/>
            <a:ahLst/>
            <a:rect l="l" t="t" r="r" b="b"/>
            <a:pathLst>
              <a:path w="1312" h="216">
                <a:moveTo>
                  <a:pt x="0" y="216"/>
                </a:moveTo>
                <a:lnTo>
                  <a:pt x="1312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9853400">
            <a:off x="2484360" y="105228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94880" y="285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9440" y="35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0160" y="33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877080" y="3789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042920" y="260280"/>
            <a:ext cx="7921800" cy="2428920"/>
            <a:chOff x="1042920" y="260280"/>
            <a:chExt cx="7921800" cy="2428920"/>
          </a:xfrm>
        </p:grpSpPr>
        <p:sp>
          <p:nvSpPr>
            <p:cNvPr id="333" name=""/>
            <p:cNvSpPr/>
            <p:nvPr/>
          </p:nvSpPr>
          <p:spPr>
            <a:xfrm>
              <a:off x="1042920" y="260280"/>
              <a:ext cx="7777080" cy="158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Выпишите все отрезки, изображён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 рисунке концом которых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является точ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лежит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413000"/>
              <a:ext cx="12970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 flipH="1">
              <a:off x="2338560" y="2494080"/>
              <a:ext cx="71280" cy="195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41800" y="1989000"/>
              <a:ext cx="4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142880" y="5805360"/>
            <a:ext cx="27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ВС, ОВ, 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42920" y="3073320"/>
            <a:ext cx="6564240" cy="1077840"/>
          </a:xfrm>
          <a:custGeom>
            <a:avLst/>
            <a:gdLst/>
            <a:ahLst/>
            <a:rect l="l" t="t" r="r" b="b"/>
            <a:pathLst>
              <a:path w="4135" h="679">
                <a:moveTo>
                  <a:pt x="0" y="679"/>
                </a:moveTo>
                <a:lnTo>
                  <a:pt x="4135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762920" y="393372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292720" y="335772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8216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738036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4544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442920" y="313992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61080" y="2276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059280" y="2708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03240" y="3263760"/>
            <a:ext cx="4623120" cy="762120"/>
          </a:xfrm>
          <a:custGeom>
            <a:avLst/>
            <a:gdLst/>
            <a:ahLst/>
            <a:rect l="l" t="t" r="r" b="b"/>
            <a:pathLst>
              <a:path w="2912" h="480">
                <a:moveTo>
                  <a:pt x="0" y="480"/>
                </a:moveTo>
                <a:lnTo>
                  <a:pt x="2912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89720" y="3098880"/>
            <a:ext cx="927000" cy="152280"/>
          </a:xfrm>
          <a:custGeom>
            <a:avLst/>
            <a:gdLst/>
            <a:ahLst/>
            <a:rect l="l" t="t" r="r" b="b"/>
            <a:pathLst>
              <a:path w="584" h="96">
                <a:moveTo>
                  <a:pt x="0" y="96"/>
                </a:moveTo>
                <a:lnTo>
                  <a:pt x="58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72280" y="3263760"/>
            <a:ext cx="1054080" cy="177840"/>
          </a:xfrm>
          <a:custGeom>
            <a:avLst/>
            <a:gdLst/>
            <a:ahLst/>
            <a:rect l="l" t="t" r="r" b="b"/>
            <a:pathLst>
              <a:path w="664" h="112">
                <a:moveTo>
                  <a:pt x="664" y="0"/>
                </a:moveTo>
                <a:lnTo>
                  <a:pt x="0" y="112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500"/>
                            </p:stCondLst>
                            <p:childTnLst>
                              <p:par>
                                <p:cTn id="509" nodeType="after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17" nodeType="after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2880" y="2057400"/>
            <a:ext cx="6197400" cy="2108160"/>
          </a:xfrm>
          <a:custGeom>
            <a:avLst/>
            <a:gdLst/>
            <a:ahLst/>
            <a:rect l="l" t="t" r="r" b="b"/>
            <a:pathLst>
              <a:path w="3904" h="1328">
                <a:moveTo>
                  <a:pt x="2920" y="0"/>
                </a:moveTo>
                <a:lnTo>
                  <a:pt x="0" y="1248"/>
                </a:lnTo>
                <a:lnTo>
                  <a:pt x="3904" y="132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308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4508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98160" y="36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 рисунку назовите точ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надлежащие внешней области у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012000" y="2708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13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64256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308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203640" y="4005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05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556000" y="3139920"/>
            <a:ext cx="7128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523280" y="407664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346560" y="220500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2180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979640" y="45086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81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500720" y="5300640"/>
                <a:ext cx="27414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48428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 flipH="1">
            <a:off x="7093080" y="335592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5240" y="29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54200" y="25653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9080" y="2205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12880" y="2057400"/>
            <a:ext cx="6197400" cy="2108160"/>
          </a:xfrm>
          <a:custGeom>
            <a:avLst/>
            <a:gdLst/>
            <a:ahLst/>
            <a:rect l="l" t="t" r="r" b="b"/>
            <a:pathLst>
              <a:path w="3904" h="1328">
                <a:moveTo>
                  <a:pt x="2920" y="0"/>
                </a:moveTo>
                <a:lnTo>
                  <a:pt x="0" y="1248"/>
                </a:lnTo>
                <a:lnTo>
                  <a:pt x="3904" y="132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308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4508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598160" y="36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 рисунку назовите точ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надлежащие внутренней области у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012000" y="2708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13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64256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308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203640" y="4005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05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56000" y="3139920"/>
            <a:ext cx="7128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523280" y="407664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346560" y="220500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2180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1979640" y="45086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81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718160" y="5300640"/>
                <a:ext cx="2305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Е</m:t>
                    </m:r>
                    <m:r>
                      <m:t xml:space="preserve">,</m:t>
                    </m:r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8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48428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flipH="1">
            <a:off x="7093080" y="335592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095240" y="29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54200" y="25653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9080" y="2205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12880" y="2057400"/>
            <a:ext cx="6197400" cy="2108160"/>
          </a:xfrm>
          <a:custGeom>
            <a:avLst/>
            <a:gdLst/>
            <a:ahLst/>
            <a:rect l="l" t="t" r="r" b="b"/>
            <a:pathLst>
              <a:path w="3904" h="1328">
                <a:moveTo>
                  <a:pt x="2920" y="0"/>
                </a:moveTo>
                <a:lnTo>
                  <a:pt x="0" y="1248"/>
                </a:lnTo>
                <a:lnTo>
                  <a:pt x="3904" y="132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308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4508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598160" y="36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 рисунку назовите точ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надлежащие сторонам у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012000" y="2708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64256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1308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203640" y="4005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05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56000" y="3139920"/>
            <a:ext cx="7128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523280" y="407664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346560" y="220500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21800" y="184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979640" y="45086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81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718160" y="5313240"/>
                <a:ext cx="23050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4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48428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 flipH="1">
            <a:off x="7093080" y="335592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95240" y="29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54200" y="25653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9080" y="2205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40560" y="4140360"/>
            <a:ext cx="2895480" cy="63360"/>
          </a:xfrm>
          <a:custGeom>
            <a:avLst/>
            <a:gdLst/>
            <a:ahLst/>
            <a:rect l="l" t="t" r="r" b="b"/>
            <a:pathLst>
              <a:path w="1824" h="40">
                <a:moveTo>
                  <a:pt x="0" y="0"/>
                </a:moveTo>
                <a:lnTo>
                  <a:pt x="1824" y="4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2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74920" y="2489040"/>
            <a:ext cx="5626080" cy="2374920"/>
          </a:xfrm>
          <a:custGeom>
            <a:avLst/>
            <a:gdLst/>
            <a:ahLst/>
            <a:rect l="l" t="t" r="r" b="b"/>
            <a:pathLst>
              <a:path w="3544" h="1496">
                <a:moveTo>
                  <a:pt x="3544" y="1488"/>
                </a:moveTo>
                <a:lnTo>
                  <a:pt x="1392" y="1496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1344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66944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00000" y="260280"/>
            <a:ext cx="8101080" cy="194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 неразвёрнутый уго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Прове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учи с началом в точк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так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разовалось шесть углов, один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торых был бы развёрнут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01416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308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170028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914400" y="4851360"/>
            <a:ext cx="4381560" cy="12600"/>
          </a:xfrm>
          <a:custGeom>
            <a:avLst/>
            <a:gdLst/>
            <a:ahLst/>
            <a:rect l="l" t="t" r="r" b="b"/>
            <a:pathLst>
              <a:path w="2760" h="8">
                <a:moveTo>
                  <a:pt x="0" y="0"/>
                </a:moveTo>
                <a:lnTo>
                  <a:pt x="2760" y="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59400" y="2438280"/>
            <a:ext cx="1447560" cy="2413080"/>
          </a:xfrm>
          <a:custGeom>
            <a:avLst/>
            <a:gdLst/>
            <a:ahLst/>
            <a:rect l="l" t="t" r="r" b="b"/>
            <a:pathLst>
              <a:path w="912" h="1520">
                <a:moveTo>
                  <a:pt x="912" y="0"/>
                </a:moveTo>
                <a:lnTo>
                  <a:pt x="0" y="152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00000" y="2637000"/>
            <a:ext cx="3594240" cy="2171520"/>
          </a:xfrm>
          <a:custGeom>
            <a:avLst/>
            <a:gdLst/>
            <a:ahLst/>
            <a:rect l="l" t="t" r="r" b="b"/>
            <a:pathLst>
              <a:path w="2264" h="1368">
                <a:moveTo>
                  <a:pt x="0" y="1352"/>
                </a:moveTo>
                <a:lnTo>
                  <a:pt x="2264" y="1368"/>
                </a:lnTo>
                <a:lnTo>
                  <a:pt x="976" y="0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5272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89040" y="2540160"/>
            <a:ext cx="3403800" cy="2247840"/>
          </a:xfrm>
          <a:custGeom>
            <a:avLst/>
            <a:gdLst/>
            <a:ahLst/>
            <a:rect l="l" t="t" r="r" b="b"/>
            <a:pathLst>
              <a:path w="2144" h="1416">
                <a:moveTo>
                  <a:pt x="0" y="0"/>
                </a:moveTo>
                <a:lnTo>
                  <a:pt x="1304" y="1416"/>
                </a:lnTo>
                <a:lnTo>
                  <a:pt x="2144" y="0"/>
                </a:lnTo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97560" y="2565360"/>
            <a:ext cx="3213000" cy="2260800"/>
          </a:xfrm>
          <a:custGeom>
            <a:avLst/>
            <a:gdLst/>
            <a:ahLst/>
            <a:rect l="l" t="t" r="r" b="b"/>
            <a:pathLst>
              <a:path w="2024" h="1424">
                <a:moveTo>
                  <a:pt x="880" y="0"/>
                </a:moveTo>
                <a:lnTo>
                  <a:pt x="0" y="1424"/>
                </a:lnTo>
                <a:lnTo>
                  <a:pt x="2024" y="1408"/>
                </a:lnTo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71640" y="2421000"/>
            <a:ext cx="5003640" cy="2405160"/>
          </a:xfrm>
          <a:custGeom>
            <a:avLst/>
            <a:gdLst/>
            <a:ahLst/>
            <a:rect l="l" t="t" r="r" b="b"/>
            <a:pathLst>
              <a:path w="3152" h="1515">
                <a:moveTo>
                  <a:pt x="0" y="1504"/>
                </a:moveTo>
                <a:lnTo>
                  <a:pt x="2260" y="1515"/>
                </a:lnTo>
                <a:lnTo>
                  <a:pt x="3152" y="0"/>
                </a:lnTo>
                <a:lnTo>
                  <a:pt x="888" y="40"/>
                </a:lnTo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84360" y="2421000"/>
            <a:ext cx="5461200" cy="2425680"/>
          </a:xfrm>
          <a:custGeom>
            <a:avLst/>
            <a:gdLst/>
            <a:ahLst/>
            <a:rect l="l" t="t" r="r" b="b"/>
            <a:pathLst>
              <a:path w="3440" h="1528">
                <a:moveTo>
                  <a:pt x="1336" y="1528"/>
                </a:moveTo>
                <a:lnTo>
                  <a:pt x="3440" y="1512"/>
                </a:lnTo>
                <a:lnTo>
                  <a:pt x="2240" y="0"/>
                </a:lnTo>
                <a:lnTo>
                  <a:pt x="0" y="16"/>
                </a:lnTo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48000" y="4076640"/>
            <a:ext cx="2305080" cy="1633680"/>
          </a:xfrm>
          <a:prstGeom prst="blockArc">
            <a:avLst>
              <a:gd name="adj1" fmla="val 10862978"/>
              <a:gd name="adj2" fmla="val 21537022"/>
              <a:gd name="adj3" fmla="val 10324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500"/>
                            </p:stCondLst>
                            <p:childTnLst>
                              <p:par>
                                <p:cTn id="61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7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8000"/>
                            </p:stCondLst>
                            <p:childTnLst>
                              <p:par>
                                <p:cTn id="62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29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7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5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2000"/>
                            </p:stCondLst>
                            <p:childTnLst>
                              <p:par>
                                <p:cTn id="653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908000" y="11970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3348000" y="1197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4788000" y="1197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6227640" y="11970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7667640" y="1197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3348000" y="2349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4788000" y="2349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5" action="ppaction://hlinksldjump"/>
          </p:cNvPr>
          <p:cNvSpPr/>
          <p:nvPr/>
        </p:nvSpPr>
        <p:spPr>
          <a:xfrm>
            <a:off x="6227640" y="2349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1908000" y="350028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9" action="ppaction://hlinksldjump"/>
          </p:cNvPr>
          <p:cNvSpPr/>
          <p:nvPr/>
        </p:nvSpPr>
        <p:spPr>
          <a:xfrm>
            <a:off x="3348000" y="350028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1" action="ppaction://hlinksldjump"/>
          </p:cNvPr>
          <p:cNvSpPr/>
          <p:nvPr/>
        </p:nvSpPr>
        <p:spPr>
          <a:xfrm>
            <a:off x="6227640" y="350028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653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4" action="ppaction://hlinksldjump"/>
          </p:cNvPr>
          <p:cNvSpPr/>
          <p:nvPr/>
        </p:nvSpPr>
        <p:spPr>
          <a:xfrm>
            <a:off x="1908000" y="46530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6" action="ppaction://hlinksldjump"/>
          </p:cNvPr>
          <p:cNvSpPr/>
          <p:nvPr/>
        </p:nvSpPr>
        <p:spPr>
          <a:xfrm>
            <a:off x="3348000" y="4653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8" action="ppaction://hlinksldjump"/>
          </p:cNvPr>
          <p:cNvSpPr/>
          <p:nvPr/>
        </p:nvSpPr>
        <p:spPr>
          <a:xfrm>
            <a:off x="4788000" y="4653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0" action="ppaction://hlinksldjump"/>
          </p:cNvPr>
          <p:cNvSpPr/>
          <p:nvPr/>
        </p:nvSpPr>
        <p:spPr>
          <a:xfrm>
            <a:off x="6227640" y="5805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8000" y="5805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5805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5805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7669080" y="46530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7" action="ppaction://hlinksldjump"/>
          </p:cNvPr>
          <p:cNvSpPr/>
          <p:nvPr/>
        </p:nvSpPr>
        <p:spPr>
          <a:xfrm>
            <a:off x="468360" y="693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9" action="ppaction://hlinksldjump"/>
          </p:cNvPr>
          <p:cNvSpPr/>
          <p:nvPr/>
        </p:nvSpPr>
        <p:spPr>
          <a:xfrm>
            <a:off x="1908000" y="693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41" action="ppaction://hlinksldjump"/>
          </p:cNvPr>
          <p:cNvSpPr/>
          <p:nvPr/>
        </p:nvSpPr>
        <p:spPr>
          <a:xfrm>
            <a:off x="3348000" y="693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3" action="ppaction://hlinksldjump"/>
          </p:cNvPr>
          <p:cNvSpPr/>
          <p:nvPr/>
        </p:nvSpPr>
        <p:spPr>
          <a:xfrm>
            <a:off x="4788000" y="693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45" action="ppaction://hlinksldjump"/>
          </p:cNvPr>
          <p:cNvSpPr/>
          <p:nvPr/>
        </p:nvSpPr>
        <p:spPr>
          <a:xfrm>
            <a:off x="6227640" y="693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7" action="ppaction://hlinksldjump"/>
          </p:cNvPr>
          <p:cNvSpPr/>
          <p:nvPr/>
        </p:nvSpPr>
        <p:spPr>
          <a:xfrm>
            <a:off x="7667640" y="693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49" action="ppaction://hlinksldjump"/>
          </p:cNvPr>
          <p:cNvSpPr/>
          <p:nvPr/>
        </p:nvSpPr>
        <p:spPr>
          <a:xfrm>
            <a:off x="1908000" y="2349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51" action="ppaction://hlinksldjump"/>
          </p:cNvPr>
          <p:cNvSpPr/>
          <p:nvPr/>
        </p:nvSpPr>
        <p:spPr>
          <a:xfrm>
            <a:off x="4788000" y="350028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53" action="ppaction://hlinksldjump"/>
          </p:cNvPr>
          <p:cNvSpPr/>
          <p:nvPr/>
        </p:nvSpPr>
        <p:spPr>
          <a:xfrm>
            <a:off x="6229440" y="4653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5" action="ppaction://hlinksldjump"/>
          </p:cNvPr>
          <p:cNvSpPr/>
          <p:nvPr/>
        </p:nvSpPr>
        <p:spPr>
          <a:xfrm>
            <a:off x="468360" y="11970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57" action="ppaction://hlinksldjump"/>
          </p:cNvPr>
          <p:cNvSpPr/>
          <p:nvPr/>
        </p:nvSpPr>
        <p:spPr>
          <a:xfrm>
            <a:off x="468360" y="117360"/>
            <a:ext cx="8207280" cy="503280"/>
          </a:xfrm>
          <a:custGeom>
            <a:avLst/>
            <a:gdLst>
              <a:gd name="textAreaLeft" fmla="*/ 32400 w 8207280"/>
              <a:gd name="textAreaRight" fmla="*/ 8174880 w 820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52007" h="21600">
                <a:moveTo>
                  <a:pt x="0" y="0"/>
                </a:moveTo>
                <a:lnTo>
                  <a:pt x="352007" y="0"/>
                </a:lnTo>
                <a:lnTo>
                  <a:pt x="352007" y="21600"/>
                </a:lnTo>
                <a:lnTo>
                  <a:pt x="0" y="21600"/>
                </a:lnTo>
                <a:close/>
              </a:path>
              <a:path fill="lightenLess" w="352007" h="21600">
                <a:moveTo>
                  <a:pt x="0" y="0"/>
                </a:moveTo>
                <a:lnTo>
                  <a:pt x="352007" y="0"/>
                </a:lnTo>
                <a:lnTo>
                  <a:pt x="350607" y="1400"/>
                </a:lnTo>
                <a:lnTo>
                  <a:pt x="1400" y="1400"/>
                </a:lnTo>
                <a:close/>
              </a:path>
              <a:path fill="darken" w="352007" h="21600">
                <a:moveTo>
                  <a:pt x="352007" y="0"/>
                </a:moveTo>
                <a:lnTo>
                  <a:pt x="352007" y="21600"/>
                </a:lnTo>
                <a:lnTo>
                  <a:pt x="350607" y="20200"/>
                </a:lnTo>
                <a:lnTo>
                  <a:pt x="350607" y="1400"/>
                </a:lnTo>
                <a:close/>
              </a:path>
              <a:path fill="darkenLess" w="352007" h="21600">
                <a:moveTo>
                  <a:pt x="352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607" y="20200"/>
                </a:lnTo>
                <a:close/>
              </a:path>
              <a:path fill="lighten" w="352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ямая и отре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59" action="ppaction://hlinksldjump"/>
          </p:cNvPr>
          <p:cNvSpPr/>
          <p:nvPr/>
        </p:nvSpPr>
        <p:spPr>
          <a:xfrm>
            <a:off x="468360" y="1773360"/>
            <a:ext cx="8207280" cy="503280"/>
          </a:xfrm>
          <a:custGeom>
            <a:avLst/>
            <a:gdLst>
              <a:gd name="textAreaLeft" fmla="*/ 32400 w 8207280"/>
              <a:gd name="textAreaRight" fmla="*/ 8174880 w 820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52007" h="21600">
                <a:moveTo>
                  <a:pt x="0" y="0"/>
                </a:moveTo>
                <a:lnTo>
                  <a:pt x="352007" y="0"/>
                </a:lnTo>
                <a:lnTo>
                  <a:pt x="352007" y="21600"/>
                </a:lnTo>
                <a:lnTo>
                  <a:pt x="0" y="21600"/>
                </a:lnTo>
                <a:close/>
              </a:path>
              <a:path fill="lightenLess" w="352007" h="21600">
                <a:moveTo>
                  <a:pt x="0" y="0"/>
                </a:moveTo>
                <a:lnTo>
                  <a:pt x="352007" y="0"/>
                </a:lnTo>
                <a:lnTo>
                  <a:pt x="350607" y="1400"/>
                </a:lnTo>
                <a:lnTo>
                  <a:pt x="1400" y="1400"/>
                </a:lnTo>
                <a:close/>
              </a:path>
              <a:path fill="darken" w="352007" h="21600">
                <a:moveTo>
                  <a:pt x="352007" y="0"/>
                </a:moveTo>
                <a:lnTo>
                  <a:pt x="352007" y="21600"/>
                </a:lnTo>
                <a:lnTo>
                  <a:pt x="350607" y="20200"/>
                </a:lnTo>
                <a:lnTo>
                  <a:pt x="350607" y="1400"/>
                </a:lnTo>
                <a:close/>
              </a:path>
              <a:path fill="darkenLess" w="352007" h="21600">
                <a:moveTo>
                  <a:pt x="352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607" y="20200"/>
                </a:lnTo>
                <a:close/>
              </a:path>
              <a:path fill="lighten" w="352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уч и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61" action="ppaction://hlinksldjump"/>
          </p:cNvPr>
          <p:cNvSpPr/>
          <p:nvPr/>
        </p:nvSpPr>
        <p:spPr>
          <a:xfrm>
            <a:off x="468360" y="2924280"/>
            <a:ext cx="8207280" cy="503280"/>
          </a:xfrm>
          <a:custGeom>
            <a:avLst/>
            <a:gdLst>
              <a:gd name="textAreaLeft" fmla="*/ 32400 w 8207280"/>
              <a:gd name="textAreaRight" fmla="*/ 8174880 w 820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52007" h="21600">
                <a:moveTo>
                  <a:pt x="0" y="0"/>
                </a:moveTo>
                <a:lnTo>
                  <a:pt x="352007" y="0"/>
                </a:lnTo>
                <a:lnTo>
                  <a:pt x="352007" y="21600"/>
                </a:lnTo>
                <a:lnTo>
                  <a:pt x="0" y="21600"/>
                </a:lnTo>
                <a:close/>
              </a:path>
              <a:path fill="lightenLess" w="352007" h="21600">
                <a:moveTo>
                  <a:pt x="0" y="0"/>
                </a:moveTo>
                <a:lnTo>
                  <a:pt x="352007" y="0"/>
                </a:lnTo>
                <a:lnTo>
                  <a:pt x="350607" y="1400"/>
                </a:lnTo>
                <a:lnTo>
                  <a:pt x="1400" y="1400"/>
                </a:lnTo>
                <a:close/>
              </a:path>
              <a:path fill="darken" w="352007" h="21600">
                <a:moveTo>
                  <a:pt x="352007" y="0"/>
                </a:moveTo>
                <a:lnTo>
                  <a:pt x="352007" y="21600"/>
                </a:lnTo>
                <a:lnTo>
                  <a:pt x="350607" y="20200"/>
                </a:lnTo>
                <a:lnTo>
                  <a:pt x="350607" y="1400"/>
                </a:lnTo>
                <a:close/>
              </a:path>
              <a:path fill="darkenLess" w="352007" h="21600">
                <a:moveTo>
                  <a:pt x="352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607" y="20200"/>
                </a:lnTo>
                <a:close/>
              </a:path>
              <a:path fill="lighten" w="352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равнение отрезков и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076640"/>
            <a:ext cx="8207280" cy="503280"/>
          </a:xfrm>
          <a:custGeom>
            <a:avLst/>
            <a:gdLst>
              <a:gd name="textAreaLeft" fmla="*/ 32400 w 8207280"/>
              <a:gd name="textAreaRight" fmla="*/ 8174880 w 820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52007" h="21600">
                <a:moveTo>
                  <a:pt x="0" y="0"/>
                </a:moveTo>
                <a:lnTo>
                  <a:pt x="352007" y="0"/>
                </a:lnTo>
                <a:lnTo>
                  <a:pt x="352007" y="21600"/>
                </a:lnTo>
                <a:lnTo>
                  <a:pt x="0" y="21600"/>
                </a:lnTo>
                <a:close/>
              </a:path>
              <a:path fill="lightenLess" w="352007" h="21600">
                <a:moveTo>
                  <a:pt x="0" y="0"/>
                </a:moveTo>
                <a:lnTo>
                  <a:pt x="352007" y="0"/>
                </a:lnTo>
                <a:lnTo>
                  <a:pt x="350607" y="1400"/>
                </a:lnTo>
                <a:lnTo>
                  <a:pt x="1400" y="1400"/>
                </a:lnTo>
                <a:close/>
              </a:path>
              <a:path fill="darken" w="352007" h="21600">
                <a:moveTo>
                  <a:pt x="352007" y="0"/>
                </a:moveTo>
                <a:lnTo>
                  <a:pt x="352007" y="21600"/>
                </a:lnTo>
                <a:lnTo>
                  <a:pt x="350607" y="20200"/>
                </a:lnTo>
                <a:lnTo>
                  <a:pt x="350607" y="1400"/>
                </a:lnTo>
                <a:close/>
              </a:path>
              <a:path fill="darkenLess" w="352007" h="21600">
                <a:moveTo>
                  <a:pt x="352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607" y="20200"/>
                </a:lnTo>
                <a:close/>
              </a:path>
              <a:path fill="lighten" w="352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рение отрез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64" action="ppaction://hlinksldjump"/>
          </p:cNvPr>
          <p:cNvSpPr/>
          <p:nvPr/>
        </p:nvSpPr>
        <p:spPr>
          <a:xfrm>
            <a:off x="468360" y="5229360"/>
            <a:ext cx="8207280" cy="503280"/>
          </a:xfrm>
          <a:custGeom>
            <a:avLst/>
            <a:gdLst>
              <a:gd name="textAreaLeft" fmla="*/ 32400 w 8207280"/>
              <a:gd name="textAreaRight" fmla="*/ 8174880 w 8207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52007" h="21600">
                <a:moveTo>
                  <a:pt x="0" y="0"/>
                </a:moveTo>
                <a:lnTo>
                  <a:pt x="352007" y="0"/>
                </a:lnTo>
                <a:lnTo>
                  <a:pt x="352007" y="21600"/>
                </a:lnTo>
                <a:lnTo>
                  <a:pt x="0" y="21600"/>
                </a:lnTo>
                <a:close/>
              </a:path>
              <a:path fill="lightenLess" w="352007" h="21600">
                <a:moveTo>
                  <a:pt x="0" y="0"/>
                </a:moveTo>
                <a:lnTo>
                  <a:pt x="352007" y="0"/>
                </a:lnTo>
                <a:lnTo>
                  <a:pt x="350607" y="1400"/>
                </a:lnTo>
                <a:lnTo>
                  <a:pt x="1400" y="1400"/>
                </a:lnTo>
                <a:close/>
              </a:path>
              <a:path fill="darken" w="352007" h="21600">
                <a:moveTo>
                  <a:pt x="352007" y="0"/>
                </a:moveTo>
                <a:lnTo>
                  <a:pt x="352007" y="21600"/>
                </a:lnTo>
                <a:lnTo>
                  <a:pt x="350607" y="20200"/>
                </a:lnTo>
                <a:lnTo>
                  <a:pt x="350607" y="1400"/>
                </a:lnTo>
                <a:close/>
              </a:path>
              <a:path fill="darkenLess" w="352007" h="21600">
                <a:moveTo>
                  <a:pt x="352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607" y="20200"/>
                </a:lnTo>
                <a:close/>
              </a:path>
              <a:path fill="lighten" w="352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рение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189060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6508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13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81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роение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730800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9488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427640" y="342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00292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86108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122560" y="342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5796000" y="5013360"/>
                <a:ext cx="24256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СЕ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3" name=""/>
          <p:cNvGrpSpPr/>
          <p:nvPr/>
        </p:nvGrpSpPr>
        <p:grpSpPr>
          <a:xfrm>
            <a:off x="684360" y="189000"/>
            <a:ext cx="8245440" cy="2448000"/>
            <a:chOff x="684360" y="189000"/>
            <a:chExt cx="8245440" cy="2448000"/>
          </a:xfrm>
        </p:grpSpPr>
        <p:sp>
          <p:nvSpPr>
            <p:cNvPr id="464" name=""/>
            <p:cNvSpPr/>
            <p:nvPr/>
          </p:nvSpPr>
          <p:spPr>
            <a:xfrm>
              <a:off x="684360" y="189000"/>
              <a:ext cx="8245440" cy="244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 прямой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от точ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в одно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правлении отложены два отрез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В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СЕ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так, что                  . От точ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на эт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прямой отложите такой отрезок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СЕ,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чтоб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Сравните отрез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СЕ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900000" y="2133720"/>
                  <a:ext cx="172908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ВЕ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3276720" y="1125360"/>
                  <a:ext cx="19447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67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2276640"/>
            <a:ext cx="1297080" cy="12315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184480" y="3492360"/>
            <a:ext cx="2832120" cy="1800"/>
          </a:xfrm>
          <a:custGeom>
            <a:avLst/>
            <a:gdLst/>
            <a:ahLst/>
            <a:rect l="l" t="t" r="r" b="b"/>
            <a:pathLst>
              <a:path w="1784" h="1">
                <a:moveTo>
                  <a:pt x="0" y="0"/>
                </a:moveTo>
                <a:lnTo>
                  <a:pt x="178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195640" y="3500280"/>
            <a:ext cx="2249280" cy="7920"/>
          </a:xfrm>
          <a:custGeom>
            <a:avLst/>
            <a:gdLst/>
            <a:ahLst/>
            <a:rect l="l" t="t" r="r" b="b"/>
            <a:pathLst>
              <a:path w="1417" h="5">
                <a:moveTo>
                  <a:pt x="0" y="5"/>
                </a:moveTo>
                <a:lnTo>
                  <a:pt x="1417" y="0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76720" y="3500280"/>
            <a:ext cx="2249640" cy="7920"/>
          </a:xfrm>
          <a:custGeom>
            <a:avLst/>
            <a:gdLst/>
            <a:ahLst/>
            <a:rect l="l" t="t" r="r" b="b"/>
            <a:pathLst>
              <a:path w="1417" h="5">
                <a:moveTo>
                  <a:pt x="0" y="5"/>
                </a:moveTo>
                <a:lnTo>
                  <a:pt x="1417" y="0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70836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0.00116 L 0.24792 0.00116 E">
                                      <p:cBhvr>
                                        <p:cTn id="666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L 0.21268 0.19953 E">
                                      <p:cBhvr>
                                        <p:cTn id="695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L -0.0993 0.19907 E">
                                      <p:cBhvr>
                                        <p:cTn id="698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189060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65440" y="2852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981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213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роение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00292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78980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4427640" y="342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730800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6616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122560" y="342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796000" y="5041800"/>
                <a:ext cx="2425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М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6" name=""/>
          <p:cNvGrpSpPr/>
          <p:nvPr/>
        </p:nvGrpSpPr>
        <p:grpSpPr>
          <a:xfrm>
            <a:off x="684360" y="189000"/>
            <a:ext cx="8245440" cy="2448000"/>
            <a:chOff x="684360" y="189000"/>
            <a:chExt cx="8245440" cy="2448000"/>
          </a:xfrm>
        </p:grpSpPr>
        <p:sp>
          <p:nvSpPr>
            <p:cNvPr id="487" name=""/>
            <p:cNvSpPr/>
            <p:nvPr/>
          </p:nvSpPr>
          <p:spPr>
            <a:xfrm>
              <a:off x="684360" y="189000"/>
              <a:ext cx="8245440" cy="244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 прямой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от точ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в разно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правлении отложены два отрез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В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С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так, что                  . От точ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на эт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прямой отложите такой отрезок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СМ,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чтоб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Сравните отрез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МС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8" name=""/>
                <p:cNvSpPr txBox="1"/>
                <p:nvPr/>
              </p:nvSpPr>
              <p:spPr>
                <a:xfrm>
                  <a:off x="900000" y="2147760"/>
                  <a:ext cx="17290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ВМ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АС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9" name=""/>
                <p:cNvSpPr txBox="1"/>
                <p:nvPr/>
              </p:nvSpPr>
              <p:spPr>
                <a:xfrm>
                  <a:off x="3276720" y="1125360"/>
                  <a:ext cx="19447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0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2276640"/>
            <a:ext cx="1297080" cy="12315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500720" y="3500280"/>
            <a:ext cx="2832120" cy="1800"/>
          </a:xfrm>
          <a:custGeom>
            <a:avLst/>
            <a:gdLst/>
            <a:ahLst/>
            <a:rect l="l" t="t" r="r" b="b"/>
            <a:pathLst>
              <a:path w="1784" h="1">
                <a:moveTo>
                  <a:pt x="0" y="0"/>
                </a:moveTo>
                <a:lnTo>
                  <a:pt x="178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95640" y="3500280"/>
            <a:ext cx="2249280" cy="9720"/>
          </a:xfrm>
          <a:custGeom>
            <a:avLst/>
            <a:gdLst/>
            <a:ahLst/>
            <a:rect l="l" t="t" r="r" b="b"/>
            <a:pathLst>
              <a:path w="1417" h="6">
                <a:moveTo>
                  <a:pt x="0" y="0"/>
                </a:moveTo>
                <a:lnTo>
                  <a:pt x="1417" y="6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76720" y="3500280"/>
            <a:ext cx="2271960" cy="7920"/>
          </a:xfrm>
          <a:custGeom>
            <a:avLst/>
            <a:gdLst/>
            <a:ahLst/>
            <a:rect l="l" t="t" r="r" b="b"/>
            <a:pathLst>
              <a:path w="1431" h="5">
                <a:moveTo>
                  <a:pt x="0" y="0"/>
                </a:moveTo>
                <a:lnTo>
                  <a:pt x="1431" y="5"/>
                </a:ln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0836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3.33333E-006 L -4.16667E-006 3.33333E-006 E">
                                      <p:cBhvr>
                                        <p:cTn id="715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L 0.14444 0.19005 E">
                                      <p:cBhvr>
                                        <p:cTn id="744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22222E-006 L -0.1691 0.18982 E">
                                      <p:cBhvr>
                                        <p:cTn id="747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8127800">
            <a:off x="-39240" y="2718720"/>
            <a:ext cx="2881080" cy="7189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сколько частей могут разде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лоскость три прямые? Рассмотрите в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озможные случаи и сделайте рису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&amp;Kcy;&amp;acy;&amp;rcy;&amp;tcy;&amp;icy;&amp;ncy;&amp;kcy;&amp;acy; 125 &amp;icy;&amp;zcy; 65344"/>
          <p:cNvPicPr/>
          <p:nvPr/>
        </p:nvPicPr>
        <p:blipFill>
          <a:blip r:embed="rId3"/>
          <a:stretch/>
        </p:blipFill>
        <p:spPr>
          <a:xfrm>
            <a:off x="7667640" y="134136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324000" y="2133720"/>
            <a:ext cx="502920" cy="55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9835400">
            <a:off x="250560" y="278100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2277000">
            <a:off x="1211400" y="2408400"/>
            <a:ext cx="2054160" cy="6681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780000" y="2133720"/>
            <a:ext cx="502920" cy="55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20838600">
            <a:off x="4859280" y="249192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2277000">
            <a:off x="5103360" y="2568240"/>
            <a:ext cx="2087640" cy="64764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8127800">
            <a:off x="4786200" y="256536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763640" y="4365720"/>
            <a:ext cx="503280" cy="55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20838600">
            <a:off x="2700000" y="4868640"/>
            <a:ext cx="2879640" cy="936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20838600">
            <a:off x="2843280" y="407628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2277000">
            <a:off x="2940120" y="4799160"/>
            <a:ext cx="2879640" cy="1008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4365720"/>
            <a:ext cx="503280" cy="555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8127800">
            <a:off x="5578560" y="4438080"/>
            <a:ext cx="2881080" cy="7189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18127800">
            <a:off x="5938560" y="4870440"/>
            <a:ext cx="2881440" cy="7189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8127800">
            <a:off x="6443640" y="537372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rId8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7308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09440" y="184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34144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01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93800" y="32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2360" y="342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3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9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13440" y="20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949800" y="234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6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941800" y="32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4980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6072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41800" y="400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0216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8944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2580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9380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09452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237440" y="45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381800" y="522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52616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0"/>
                            </p:stCondLst>
                            <p:childTnLst>
                              <p:par>
                                <p:cTn id="8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4000"/>
                            </p:stCondLst>
                            <p:childTnLst>
                              <p:par>
                                <p:cTn id="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000"/>
                            </p:stCondLst>
                            <p:childTnLst>
                              <p:par>
                                <p:cTn id="9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0"/>
                            </p:stCondLst>
                            <p:childTnLst>
                              <p:par>
                                <p:cTn id="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8127800">
            <a:off x="463680" y="3079080"/>
            <a:ext cx="2881080" cy="7189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сколько частей могут разде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лоскость три прямые? Рассмотрите в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озможные случаи и сделайте рису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&amp;Kcy;&amp;acy;&amp;rcy;&amp;tcy;&amp;icy;&amp;ncy;&amp;kcy;&amp;acy; 125 &amp;icy;&amp;zcy; 65344"/>
          <p:cNvPicPr/>
          <p:nvPr/>
        </p:nvPicPr>
        <p:blipFill>
          <a:blip r:embed="rId3"/>
          <a:stretch/>
        </p:blipFill>
        <p:spPr>
          <a:xfrm>
            <a:off x="7667640" y="134136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826920" y="2494080"/>
            <a:ext cx="503280" cy="55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20680800">
            <a:off x="684000" y="357336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2277000">
            <a:off x="1557000" y="2941200"/>
            <a:ext cx="2712960" cy="9478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80000" y="2133720"/>
            <a:ext cx="502920" cy="55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20838600">
            <a:off x="4859280" y="249192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rot="2277000">
            <a:off x="5103360" y="2568240"/>
            <a:ext cx="2087640" cy="64764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8127800">
            <a:off x="4786200" y="2565360"/>
            <a:ext cx="2881440" cy="71928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80000" y="5013360"/>
            <a:ext cx="502920" cy="55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20838600">
            <a:off x="4498560" y="5371920"/>
            <a:ext cx="2879640" cy="936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20838600">
            <a:off x="4427640" y="4436640"/>
            <a:ext cx="2879640" cy="93672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2277000">
            <a:off x="4667400" y="4870440"/>
            <a:ext cx="2879640" cy="1008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rId7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621800" y="450864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21800" y="328464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 т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54160" y="508464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500"/>
                            </p:stCondLst>
                            <p:childTnLst>
                              <p:par>
                                <p:cTn id="9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03320" y="1676520"/>
            <a:ext cx="3556080" cy="25200"/>
          </a:xfrm>
          <a:custGeom>
            <a:avLst/>
            <a:gdLst/>
            <a:ahLst/>
            <a:rect l="l" t="t" r="r" b="b"/>
            <a:pathLst>
              <a:path w="2240" h="16">
                <a:moveTo>
                  <a:pt x="0" y="16"/>
                </a:moveTo>
                <a:lnTo>
                  <a:pt x="224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2908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744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939640" y="494028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26520" y="508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500720" y="162864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5780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971640" y="162864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4932360" y="2060640"/>
                <a:ext cx="27367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826920" y="189000"/>
            <a:ext cx="8102880" cy="1950840"/>
            <a:chOff x="826920" y="189000"/>
            <a:chExt cx="8102880" cy="1950840"/>
          </a:xfrm>
        </p:grpSpPr>
        <p:sp>
          <p:nvSpPr>
            <p:cNvPr id="572" name=""/>
            <p:cNvSpPr/>
            <p:nvPr/>
          </p:nvSpPr>
          <p:spPr>
            <a:xfrm>
              <a:off x="826920" y="189000"/>
              <a:ext cx="8102880" cy="1224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2195640" y="260280"/>
                  <a:ext cx="2363760" cy="63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C</m:t>
                      </m:r>
                      <m:r>
                        <m:t xml:space="preserve">=</m:t>
                      </m:r>
                      <m:r>
                        <m:t xml:space="preserve">2,5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4" name=""/>
                <p:cNvSpPr txBox="1"/>
                <p:nvPr/>
              </p:nvSpPr>
              <p:spPr>
                <a:xfrm>
                  <a:off x="2411280" y="765000"/>
                  <a:ext cx="8845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75" name="" descr="&amp;Kcy;&amp;acy;&amp;rcy;&amp;tcy;&amp;icy;&amp;ncy;&amp;kcy;&amp;acy; 125 &amp;icy;&amp;zcy; 65344"/>
            <p:cNvPicPr/>
            <p:nvPr/>
          </p:nvPicPr>
          <p:blipFill>
            <a:blip r:embed="rId4"/>
            <a:stretch/>
          </p:blipFill>
          <p:spPr>
            <a:xfrm>
              <a:off x="7524720" y="90792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"/>
          <p:cNvSpPr/>
          <p:nvPr/>
        </p:nvSpPr>
        <p:spPr>
          <a:xfrm>
            <a:off x="1906560" y="162864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50920" y="162864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770920" y="162864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5280" y="2349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564000" y="162864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708360" y="162864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21300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826920" y="3429000"/>
            <a:ext cx="8102880" cy="1951200"/>
            <a:chOff x="826920" y="3429000"/>
            <a:chExt cx="8102880" cy="1951200"/>
          </a:xfrm>
        </p:grpSpPr>
        <p:sp>
          <p:nvSpPr>
            <p:cNvPr id="584" name=""/>
            <p:cNvSpPr/>
            <p:nvPr/>
          </p:nvSpPr>
          <p:spPr>
            <a:xfrm>
              <a:off x="826920" y="3429000"/>
              <a:ext cx="8102880" cy="12240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195640" y="3510000"/>
                  <a:ext cx="432108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D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2</m:t>
                      </m:r>
                      <m:r>
                        <m:rPr>
                          <m:lit/>
                          <m:nor/>
                        </m:rPr>
                        <m:t xml:space="preserve">см, </m:t>
                      </m:r>
                      <m:r>
                        <m:rPr>
                          <m:lit/>
                          <m:nor/>
                        </m:rPr>
                        <m:t xml:space="preserve">B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rPr>
                          <m:lit/>
                          <m:nor/>
                        </m:rPr>
                        <m:t xml:space="preserve">c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2430360" y="4005360"/>
                  <a:ext cx="84636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87" name="" descr="&amp;Kcy;&amp;acy;&amp;rcy;&amp;tcy;&amp;icy;&amp;ncy;&amp;kcy;&amp;acy; 125 &amp;icy;&amp;zcy; 65344"/>
            <p:cNvPicPr/>
            <p:nvPr/>
          </p:nvPicPr>
          <p:blipFill>
            <a:blip r:embed="rId7"/>
            <a:stretch/>
          </p:blipFill>
          <p:spPr>
            <a:xfrm>
              <a:off x="7524720" y="414828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971640" y="4991040"/>
            <a:ext cx="4997520" cy="47520"/>
          </a:xfrm>
          <a:custGeom>
            <a:avLst/>
            <a:gdLst/>
            <a:ahLst/>
            <a:rect l="l" t="t" r="r" b="b"/>
            <a:pathLst>
              <a:path w="3148" h="30">
                <a:moveTo>
                  <a:pt x="0" y="30"/>
                </a:moveTo>
                <a:lnTo>
                  <a:pt x="3148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81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5760" y="5110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932360" y="4956120"/>
            <a:ext cx="71280" cy="204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789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939960" y="49658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924360" y="4940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35640" y="4869000"/>
            <a:ext cx="73080" cy="21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427640" y="4869000"/>
            <a:ext cx="73080" cy="21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772160" y="5734080"/>
                <a:ext cx="30574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5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046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7869200">
            <a:off x="2050920" y="98064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4508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7344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6083280" y="256392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869080" y="270828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094880" y="234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186560" y="407664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211640" y="5084640"/>
                <a:ext cx="32893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K</m:t>
                    </m:r>
                    <m:r>
                      <m:t xml:space="preserve">=</m:t>
                    </m:r>
                    <m:r>
                      <m:t xml:space="preserve">2,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9" name=""/>
          <p:cNvGrpSpPr/>
          <p:nvPr/>
        </p:nvGrpSpPr>
        <p:grpSpPr>
          <a:xfrm>
            <a:off x="826920" y="189000"/>
            <a:ext cx="8102880" cy="2211480"/>
            <a:chOff x="826920" y="189000"/>
            <a:chExt cx="8102880" cy="2211480"/>
          </a:xfrm>
        </p:grpSpPr>
        <p:sp>
          <p:nvSpPr>
            <p:cNvPr id="610" name=""/>
            <p:cNvSpPr/>
            <p:nvPr/>
          </p:nvSpPr>
          <p:spPr>
            <a:xfrm flipH="1">
              <a:off x="7237440" y="2205000"/>
              <a:ext cx="71280" cy="195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826920" y="189000"/>
              <a:ext cx="8102880" cy="1224000"/>
              <a:chOff x="826920" y="189000"/>
              <a:chExt cx="8102880" cy="1224000"/>
            </a:xfrm>
          </p:grpSpPr>
          <p:sp>
            <p:nvSpPr>
              <p:cNvPr id="612" name=""/>
              <p:cNvSpPr/>
              <p:nvPr/>
            </p:nvSpPr>
            <p:spPr>
              <a:xfrm>
                <a:off x="826920" y="189000"/>
                <a:ext cx="8102880" cy="1224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Дано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Найти:  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3" name=""/>
                  <p:cNvSpPr txBox="1"/>
                  <p:nvPr/>
                </p:nvSpPr>
                <p:spPr>
                  <a:xfrm>
                    <a:off x="2050920" y="260280"/>
                    <a:ext cx="5975640" cy="63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А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В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4" name=""/>
                  <p:cNvSpPr txBox="1"/>
                  <p:nvPr/>
                </p:nvSpPr>
                <p:spPr>
                  <a:xfrm>
                    <a:off x="2411280" y="765000"/>
                    <a:ext cx="884520" cy="538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pic>
          <p:nvPicPr>
            <p:cNvPr id="615" name="" descr="&amp;Kcy;&amp;acy;&amp;rcy;&amp;tcy;&amp;icy;&amp;ncy;&amp;kcy;&amp;acy; 125 &amp;icy;&amp;zcy; 65344"/>
            <p:cNvPicPr/>
            <p:nvPr/>
          </p:nvPicPr>
          <p:blipFill>
            <a:blip r:embed="rId4"/>
            <a:stretch/>
          </p:blipFill>
          <p:spPr>
            <a:xfrm>
              <a:off x="7524720" y="90792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6" name=""/>
          <p:cNvSpPr/>
          <p:nvPr/>
        </p:nvSpPr>
        <p:spPr>
          <a:xfrm flipH="1">
            <a:off x="3059280" y="350028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845080" y="36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050920" y="378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732720" y="2349360"/>
            <a:ext cx="7272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88000" y="242100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2654280"/>
            <a:ext cx="2946600" cy="914400"/>
          </a:xfrm>
          <a:custGeom>
            <a:avLst/>
            <a:gdLst/>
            <a:ahLst/>
            <a:rect l="l" t="t" r="r" b="b"/>
            <a:pathLst>
              <a:path w="1856" h="576">
                <a:moveTo>
                  <a:pt x="0" y="576"/>
                </a:moveTo>
                <a:lnTo>
                  <a:pt x="1856" y="0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321300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435640" y="2781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270828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4788000" y="2924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003320" y="2422440"/>
            <a:ext cx="5689440" cy="3240"/>
          </a:xfrm>
          <a:custGeom>
            <a:avLst/>
            <a:gdLst/>
            <a:ahLst/>
            <a:rect l="l" t="t" r="r" b="b"/>
            <a:pathLst>
              <a:path w="3584" h="2">
                <a:moveTo>
                  <a:pt x="0" y="0"/>
                </a:moveTo>
                <a:lnTo>
                  <a:pt x="3584" y="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29080" y="24940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7440" y="2494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358160" y="249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971640" y="23493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508720" y="3141720"/>
                <a:ext cx="29527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826920" y="189000"/>
            <a:ext cx="8102880" cy="14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лежат на одной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2 см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9 см. Найти 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жду серединами отрезков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155736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1906560" y="234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050920" y="234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2770920" y="234936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95280" y="3284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5435640" y="5641920"/>
                <a:ext cx="2736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t xml:space="preserve">1,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250920" y="1773360"/>
            <a:ext cx="504720" cy="55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0920" y="4292640"/>
            <a:ext cx="503280" cy="555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5579280" y="234792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3780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6660360" y="234792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51852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156360" y="234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844720" y="2425680"/>
            <a:ext cx="2730600" cy="1440"/>
          </a:xfrm>
          <a:custGeom>
            <a:avLst/>
            <a:gdLst/>
            <a:ahLst/>
            <a:rect l="l" t="t" r="r" b="b"/>
            <a:pathLst>
              <a:path w="1720" h="1">
                <a:moveTo>
                  <a:pt x="0" y="0"/>
                </a:moveTo>
                <a:lnTo>
                  <a:pt x="1720" y="0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4500720" y="23493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64000" y="234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708360" y="234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076720" y="2349360"/>
            <a:ext cx="73080" cy="21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003320" y="4941720"/>
            <a:ext cx="5689440" cy="3240"/>
          </a:xfrm>
          <a:custGeom>
            <a:avLst/>
            <a:gdLst/>
            <a:ahLst/>
            <a:rect l="l" t="t" r="r" b="b"/>
            <a:pathLst>
              <a:path w="3584" h="2">
                <a:moveTo>
                  <a:pt x="0" y="0"/>
                </a:moveTo>
                <a:lnTo>
                  <a:pt x="3584" y="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62944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5780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7080" y="501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971640" y="486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770920" y="486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572000" y="486720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429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6660360" y="4867200"/>
            <a:ext cx="7164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518520" y="5011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44720" y="4940280"/>
            <a:ext cx="927360" cy="4680"/>
          </a:xfrm>
          <a:custGeom>
            <a:avLst/>
            <a:gdLst/>
            <a:ahLst/>
            <a:rect l="l" t="t" r="r" b="b"/>
            <a:pathLst>
              <a:path w="584" h="3">
                <a:moveTo>
                  <a:pt x="0" y="3"/>
                </a:moveTo>
                <a:lnTo>
                  <a:pt x="584" y="0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780000" y="486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084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26920" y="189000"/>
            <a:ext cx="8102880" cy="14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отрезк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длиной 36 см взята точк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дите длину отрезков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4 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19700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95280" y="494172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708360" y="5516640"/>
                <a:ext cx="5208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К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см, </m:t>
                    </m:r>
                    <m:r>
                      <m:rPr>
                        <m:lit/>
                        <m:nor/>
                      </m:rPr>
                      <m:t xml:space="preserve">ВК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с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"/>
          <p:cNvSpPr/>
          <p:nvPr/>
        </p:nvSpPr>
        <p:spPr>
          <a:xfrm>
            <a:off x="1363680" y="3070080"/>
            <a:ext cx="5176800" cy="16200"/>
          </a:xfrm>
          <a:custGeom>
            <a:avLst/>
            <a:gdLst/>
            <a:ahLst/>
            <a:rect l="l" t="t" r="r" b="b"/>
            <a:pathLst>
              <a:path w="3261" h="10">
                <a:moveTo>
                  <a:pt x="0" y="0"/>
                </a:moveTo>
                <a:lnTo>
                  <a:pt x="3261" y="1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11780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349800" y="32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33200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48364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51672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30252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63456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190728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05928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21164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478800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36328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93964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rot="5400000">
            <a:off x="2334960" y="1488960"/>
            <a:ext cx="297000" cy="2303280"/>
          </a:xfrm>
          <a:custGeom>
            <a:avLst/>
            <a:gdLst>
              <a:gd name="textAreaLeft" fmla="*/ 189720 w 297000"/>
              <a:gd name="textAreaRight" fmla="*/ 297360 w 2970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197080" y="184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5400000">
            <a:off x="4963680" y="1236240"/>
            <a:ext cx="297000" cy="2808360"/>
          </a:xfrm>
          <a:custGeom>
            <a:avLst/>
            <a:gdLst>
              <a:gd name="textAreaLeft" fmla="*/ 189720 w 297000"/>
              <a:gd name="textAreaRight" fmla="*/ 297360 w 29700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89440" y="184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 rot="16200000">
            <a:off x="3744000" y="1160280"/>
            <a:ext cx="360360" cy="518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277800" y="386064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36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1091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6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097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6920" y="189000"/>
            <a:ext cx="8102880" cy="1439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отрезк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длиной 36 см взята точк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дите длину отрезков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/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19700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95280" y="494172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708360" y="5516640"/>
                <a:ext cx="5208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К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см, </m:t>
                    </m:r>
                    <m:r>
                      <m:rPr>
                        <m:lit/>
                        <m:nor/>
                      </m:rPr>
                      <m:t xml:space="preserve">ВК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с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1363680" y="3070080"/>
            <a:ext cx="4770360" cy="3240"/>
          </a:xfrm>
          <a:custGeom>
            <a:avLst/>
            <a:gdLst/>
            <a:ahLst/>
            <a:rect l="l" t="t" r="r" b="b"/>
            <a:pathLst>
              <a:path w="3005" h="2">
                <a:moveTo>
                  <a:pt x="0" y="0"/>
                </a:moveTo>
                <a:lnTo>
                  <a:pt x="3005" y="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1780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773440" y="32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33200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08400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86908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98692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219564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378000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4572000" y="299736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5363280" y="299736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5400000">
            <a:off x="1651320" y="2172600"/>
            <a:ext cx="297000" cy="936360"/>
          </a:xfrm>
          <a:custGeom>
            <a:avLst/>
            <a:gdLst>
              <a:gd name="textAreaLeft" fmla="*/ 189720 w 297000"/>
              <a:gd name="textAreaRight" fmla="*/ 297360 w 29700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341800" y="170028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5400000">
            <a:off x="3270600" y="2208960"/>
            <a:ext cx="297000" cy="863640"/>
          </a:xfrm>
          <a:custGeom>
            <a:avLst/>
            <a:gdLst>
              <a:gd name="textAreaLeft" fmla="*/ 189720 w 297000"/>
              <a:gd name="textAreaRight" fmla="*/ 297360 w 297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 rot="16200000">
            <a:off x="3563640" y="1340640"/>
            <a:ext cx="360360" cy="4824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5640 h 4824360"/>
              <a:gd name="textAreaBottom" fmla="*/ 4698720 h 48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277800" y="386064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36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374920" y="3801960"/>
            <a:ext cx="2971800" cy="1613160"/>
          </a:xfrm>
          <a:custGeom>
            <a:avLst/>
            <a:gdLst/>
            <a:ahLst/>
            <a:rect l="l" t="t" r="r" b="b"/>
            <a:pathLst>
              <a:path w="1872" h="1016">
                <a:moveTo>
                  <a:pt x="0" y="1016"/>
                </a:moveTo>
                <a:lnTo>
                  <a:pt x="1872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172360" y="2637000"/>
            <a:ext cx="50328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16000" y="2722680"/>
            <a:ext cx="5626080" cy="2705040"/>
          </a:xfrm>
          <a:custGeom>
            <a:avLst/>
            <a:gdLst/>
            <a:ahLst/>
            <a:rect l="l" t="t" r="r" b="b"/>
            <a:pathLst>
              <a:path w="3544" h="1704">
                <a:moveTo>
                  <a:pt x="0" y="0"/>
                </a:moveTo>
                <a:lnTo>
                  <a:pt x="1352" y="1704"/>
                </a:lnTo>
                <a:lnTo>
                  <a:pt x="3544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135160" y="2351160"/>
            <a:ext cx="239760" cy="3076560"/>
          </a:xfrm>
          <a:custGeom>
            <a:avLst/>
            <a:gdLst/>
            <a:ahLst/>
            <a:rect l="l" t="t" r="r" b="b"/>
            <a:pathLst>
              <a:path w="151" h="1938">
                <a:moveTo>
                  <a:pt x="0" y="0"/>
                </a:moveTo>
                <a:lnTo>
                  <a:pt x="151" y="193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172360" y="3645000"/>
            <a:ext cx="503280" cy="55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172360" y="4581360"/>
            <a:ext cx="503280" cy="555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900000" y="260280"/>
            <a:ext cx="8101080" cy="1297080"/>
            <a:chOff x="900000" y="260280"/>
            <a:chExt cx="8101080" cy="1297080"/>
          </a:xfrm>
        </p:grpSpPr>
        <p:sp>
          <p:nvSpPr>
            <p:cNvPr id="725" name=""/>
            <p:cNvSpPr/>
            <p:nvPr/>
          </p:nvSpPr>
          <p:spPr>
            <a:xfrm>
              <a:off x="900000" y="260280"/>
              <a:ext cx="8101080" cy="1297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6" name=""/>
                <p:cNvSpPr txBox="1"/>
                <p:nvPr/>
              </p:nvSpPr>
              <p:spPr>
                <a:xfrm>
                  <a:off x="2124000" y="404640"/>
                  <a:ext cx="6769080" cy="6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B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2556000" y="907920"/>
                  <a:ext cx="129528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8" name=""/>
          <p:cNvSpPr/>
          <p:nvPr/>
        </p:nvSpPr>
        <p:spPr>
          <a:xfrm>
            <a:off x="2126160" y="2278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0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78980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365800" y="45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981800" y="537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443640" y="2492280"/>
            <a:ext cx="1441440" cy="792360"/>
          </a:xfrm>
          <a:prstGeom prst="wedgeRectCallout">
            <a:avLst>
              <a:gd name="adj1" fmla="val 77643"/>
              <a:gd name="adj2" fmla="val -14731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443640" y="3500280"/>
            <a:ext cx="1441440" cy="792360"/>
          </a:xfrm>
          <a:prstGeom prst="wedgeRectCallout">
            <a:avLst>
              <a:gd name="adj1" fmla="val 75222"/>
              <a:gd name="adj2" fmla="val -22944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443640" y="4508640"/>
            <a:ext cx="1441440" cy="792000"/>
          </a:xfrm>
          <a:prstGeom prst="wedgeRectCallout">
            <a:avLst>
              <a:gd name="adj1" fmla="val 77643"/>
              <a:gd name="adj2" fmla="val -30361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64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3603600">
            <a:off x="1791360" y="4147200"/>
            <a:ext cx="31428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467" y="2033"/>
                  <a:pt x="11334" y="5080"/>
                  <a:pt x="11334" y="10800"/>
                </a:cubicBezTo>
                <a:cubicBezTo>
                  <a:pt x="11334" y="16520"/>
                  <a:pt x="16467" y="1956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9738600">
            <a:off x="3347280" y="4868280"/>
            <a:ext cx="290520" cy="43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415" y="2014"/>
                  <a:pt x="11229" y="5080"/>
                  <a:pt x="11229" y="10800"/>
                </a:cubicBezTo>
                <a:cubicBezTo>
                  <a:pt x="11229" y="16520"/>
                  <a:pt x="16415" y="195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197080" y="2755800"/>
            <a:ext cx="2692440" cy="2616480"/>
          </a:xfrm>
          <a:custGeom>
            <a:avLst/>
            <a:gdLst/>
            <a:ahLst/>
            <a:rect l="l" t="t" r="r" b="b"/>
            <a:pathLst>
              <a:path w="1696" h="1648">
                <a:moveTo>
                  <a:pt x="0" y="0"/>
                </a:moveTo>
                <a:lnTo>
                  <a:pt x="128" y="1648"/>
                </a:lnTo>
                <a:lnTo>
                  <a:pt x="1696" y="784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6738000">
            <a:off x="2338920" y="4509000"/>
            <a:ext cx="50508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73080" y="3789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" descr="&amp;Kcy;&amp;acy;&amp;rcy;&amp;tcy;&amp;icy;&amp;ncy;&amp;kcy;&amp;acy; 125 &amp;icy;&amp;zcy; 65344"/>
          <p:cNvPicPr/>
          <p:nvPr/>
        </p:nvPicPr>
        <p:blipFill>
          <a:blip r:embed="rId7"/>
          <a:stretch/>
        </p:blipFill>
        <p:spPr>
          <a:xfrm>
            <a:off x="7667640" y="1052640"/>
            <a:ext cx="12970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6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3" dur="250" autoRev="1" fill="hold"/>
                                        <p:tgtEl>
                                          <p:spTgt spid="7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4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1235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0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1243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7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8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1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5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0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89060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508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1852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8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260280"/>
            <a:ext cx="7777080" cy="10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чертите прям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 её можно обозна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3357720"/>
            <a:ext cx="1800" cy="296640"/>
          </a:xfrm>
          <a:custGeom>
            <a:avLst/>
            <a:gdLst/>
            <a:ahLst/>
            <a:rect l="l" t="t" r="r" b="b"/>
            <a:pathLst>
              <a:path w="1" h="187">
                <a:moveTo>
                  <a:pt x="0" y="0"/>
                </a:moveTo>
                <a:lnTo>
                  <a:pt x="0" y="18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3357720"/>
            <a:ext cx="1440" cy="296640"/>
          </a:xfrm>
          <a:custGeom>
            <a:avLst/>
            <a:gdLst/>
            <a:ahLst/>
            <a:rect l="l" t="t" r="r" b="b"/>
            <a:pathLst>
              <a:path w="1" h="187">
                <a:moveTo>
                  <a:pt x="0" y="0"/>
                </a:moveTo>
                <a:lnTo>
                  <a:pt x="0" y="18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роение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981000"/>
            <a:ext cx="12970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374920" y="3073320"/>
            <a:ext cx="1968480" cy="2341800"/>
          </a:xfrm>
          <a:custGeom>
            <a:avLst/>
            <a:gdLst/>
            <a:ahLst/>
            <a:rect l="l" t="t" r="r" b="b"/>
            <a:pathLst>
              <a:path w="1240" h="1475">
                <a:moveTo>
                  <a:pt x="0" y="1475"/>
                </a:moveTo>
                <a:lnTo>
                  <a:pt x="124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172360" y="2637000"/>
            <a:ext cx="50328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16000" y="2722680"/>
            <a:ext cx="5626080" cy="2705040"/>
          </a:xfrm>
          <a:custGeom>
            <a:avLst/>
            <a:gdLst/>
            <a:ahLst/>
            <a:rect l="l" t="t" r="r" b="b"/>
            <a:pathLst>
              <a:path w="3544" h="1704">
                <a:moveTo>
                  <a:pt x="0" y="0"/>
                </a:moveTo>
                <a:lnTo>
                  <a:pt x="1352" y="1704"/>
                </a:lnTo>
                <a:lnTo>
                  <a:pt x="3544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245440" y="4941720"/>
            <a:ext cx="503280" cy="555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72360" y="3718080"/>
            <a:ext cx="503280" cy="55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0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853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51052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981800" y="537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443640" y="2492280"/>
            <a:ext cx="1441440" cy="792360"/>
          </a:xfrm>
          <a:prstGeom prst="wedgeRectCallout">
            <a:avLst>
              <a:gd name="adj1" fmla="val 72685"/>
              <a:gd name="adj2" fmla="val -23745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443640" y="4797360"/>
            <a:ext cx="1441440" cy="792360"/>
          </a:xfrm>
          <a:prstGeom prst="wedgeRectCallout">
            <a:avLst>
              <a:gd name="adj1" fmla="val 74888"/>
              <a:gd name="adj2" fmla="val -9120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443640" y="3645000"/>
            <a:ext cx="1441440" cy="792000"/>
          </a:xfrm>
          <a:prstGeom prst="wedgeRectCallout">
            <a:avLst>
              <a:gd name="adj1" fmla="val 74120"/>
              <a:gd name="adj2" fmla="val -20740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476440" y="2870280"/>
            <a:ext cx="3340080" cy="2514600"/>
          </a:xfrm>
          <a:custGeom>
            <a:avLst/>
            <a:gdLst/>
            <a:ahLst/>
            <a:rect l="l" t="t" r="r" b="b"/>
            <a:pathLst>
              <a:path w="2104" h="1584">
                <a:moveTo>
                  <a:pt x="1304" y="0"/>
                </a:moveTo>
                <a:lnTo>
                  <a:pt x="0" y="1584"/>
                </a:lnTo>
                <a:lnTo>
                  <a:pt x="2104" y="1392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6738000">
            <a:off x="2338920" y="4509000"/>
            <a:ext cx="50508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781440" y="4149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900000" y="260280"/>
            <a:ext cx="8101080" cy="1584360"/>
            <a:chOff x="900000" y="260280"/>
            <a:chExt cx="8101080" cy="1584360"/>
          </a:xfrm>
        </p:grpSpPr>
        <p:sp>
          <p:nvSpPr>
            <p:cNvPr id="762" name=""/>
            <p:cNvSpPr/>
            <p:nvPr/>
          </p:nvSpPr>
          <p:spPr>
            <a:xfrm>
              <a:off x="900000" y="260280"/>
              <a:ext cx="8101080" cy="1584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Луч ОС проходит между сторонами уг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АОВ, равного 12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 Найдите              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если              на 3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больше              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3" name=""/>
                <p:cNvSpPr txBox="1"/>
                <p:nvPr/>
              </p:nvSpPr>
              <p:spPr>
                <a:xfrm>
                  <a:off x="6516720" y="1246320"/>
                  <a:ext cx="144000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O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2556000" y="1268280"/>
                  <a:ext cx="129528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С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6948360" y="773280"/>
                  <a:ext cx="1297080" cy="49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OВ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66" name="" descr="&amp;Kcy;&amp;acy;&amp;rcy;&amp;tcy;&amp;icy;&amp;ncy;&amp;kcy;&amp;acy; 125 &amp;icy;&amp;zcy; 65344"/>
          <p:cNvPicPr/>
          <p:nvPr/>
        </p:nvPicPr>
        <p:blipFill>
          <a:blip r:embed="rId7"/>
          <a:stretch/>
        </p:blipFill>
        <p:spPr>
          <a:xfrm>
            <a:off x="7846920" y="126828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 rot="5400000">
            <a:off x="2040840" y="3439800"/>
            <a:ext cx="542880" cy="15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662" y="1027"/>
                  <a:pt x="5723" y="5080"/>
                  <a:pt x="5723" y="10800"/>
                </a:cubicBezTo>
                <a:cubicBezTo>
                  <a:pt x="5723" y="16520"/>
                  <a:pt x="13662" y="2057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rot="8602800">
            <a:off x="3203640" y="4508280"/>
            <a:ext cx="35856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89080" y="465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560600" y="4076640"/>
            <a:ext cx="163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х + 30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0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2" dur="10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4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1" dur="250" autoRev="1" fill="hold"/>
                                        <p:tgtEl>
                                          <p:spTgt spid="7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2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313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4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7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5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8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9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2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5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374920" y="3009960"/>
            <a:ext cx="2019240" cy="2405160"/>
          </a:xfrm>
          <a:custGeom>
            <a:avLst/>
            <a:gdLst/>
            <a:ahLst/>
            <a:rect l="l" t="t" r="r" b="b"/>
            <a:pathLst>
              <a:path w="1272" h="1515">
                <a:moveTo>
                  <a:pt x="0" y="1515"/>
                </a:moveTo>
                <a:lnTo>
                  <a:pt x="1272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72360" y="2637000"/>
            <a:ext cx="50328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6000" y="2722680"/>
            <a:ext cx="5626080" cy="2705040"/>
          </a:xfrm>
          <a:custGeom>
            <a:avLst/>
            <a:gdLst/>
            <a:ahLst/>
            <a:rect l="l" t="t" r="r" b="b"/>
            <a:pathLst>
              <a:path w="3544" h="1704">
                <a:moveTo>
                  <a:pt x="0" y="0"/>
                </a:moveTo>
                <a:lnTo>
                  <a:pt x="1352" y="1704"/>
                </a:lnTo>
                <a:lnTo>
                  <a:pt x="3544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374920" y="2502000"/>
            <a:ext cx="571320" cy="2925720"/>
          </a:xfrm>
          <a:custGeom>
            <a:avLst/>
            <a:gdLst/>
            <a:ahLst/>
            <a:rect l="l" t="t" r="r" b="b"/>
            <a:pathLst>
              <a:path w="360" h="1843">
                <a:moveTo>
                  <a:pt x="360" y="0"/>
                </a:moveTo>
                <a:lnTo>
                  <a:pt x="0" y="1843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72360" y="5157720"/>
            <a:ext cx="503280" cy="555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8172360" y="3860640"/>
            <a:ext cx="503280" cy="555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900000" y="260280"/>
            <a:ext cx="8101080" cy="1297080"/>
            <a:chOff x="900000" y="260280"/>
            <a:chExt cx="8101080" cy="1297080"/>
          </a:xfrm>
        </p:grpSpPr>
        <p:sp>
          <p:nvSpPr>
            <p:cNvPr id="780" name=""/>
            <p:cNvSpPr/>
            <p:nvPr/>
          </p:nvSpPr>
          <p:spPr>
            <a:xfrm>
              <a:off x="900000" y="260280"/>
              <a:ext cx="8101080" cy="1297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2124000" y="407880"/>
                  <a:ext cx="676908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4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6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2576520" y="907920"/>
                  <a:ext cx="125424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ВO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3" name=""/>
          <p:cNvSpPr/>
          <p:nvPr/>
        </p:nvSpPr>
        <p:spPr>
          <a:xfrm>
            <a:off x="5437800" y="45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80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5308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1308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981800" y="537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443640" y="2492280"/>
            <a:ext cx="1441440" cy="792360"/>
          </a:xfrm>
          <a:prstGeom prst="wedgeRectCallout">
            <a:avLst>
              <a:gd name="adj1" fmla="val 77643"/>
              <a:gd name="adj2" fmla="val -14731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443640" y="5013360"/>
            <a:ext cx="1441440" cy="792000"/>
          </a:xfrm>
          <a:prstGeom prst="wedgeRectCallout">
            <a:avLst>
              <a:gd name="adj1" fmla="val 75222"/>
              <a:gd name="adj2" fmla="val -23148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443640" y="3787920"/>
            <a:ext cx="1441440" cy="792000"/>
          </a:xfrm>
          <a:prstGeom prst="wedgeRectCallout">
            <a:avLst>
              <a:gd name="adj1" fmla="val 79847"/>
              <a:gd name="adj2" fmla="val -29958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400480" y="2692440"/>
            <a:ext cx="1790640" cy="2679840"/>
          </a:xfrm>
          <a:custGeom>
            <a:avLst/>
            <a:gdLst/>
            <a:ahLst/>
            <a:rect l="l" t="t" r="r" b="b"/>
            <a:pathLst>
              <a:path w="1128" h="1688">
                <a:moveTo>
                  <a:pt x="360" y="0"/>
                </a:moveTo>
                <a:lnTo>
                  <a:pt x="0" y="1688"/>
                </a:lnTo>
                <a:lnTo>
                  <a:pt x="1128" y="328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6738000">
            <a:off x="2338920" y="4509000"/>
            <a:ext cx="50508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557440" y="4005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&amp;Kcy;&amp;acy;&amp;rcy;&amp;tcy;&amp;icy;&amp;ncy;&amp;kcy;&amp;acy; 125 &amp;icy;&amp;zcy; 65344"/>
          <p:cNvPicPr/>
          <p:nvPr/>
        </p:nvPicPr>
        <p:blipFill>
          <a:blip r:embed="rId7"/>
          <a:stretch/>
        </p:blipFill>
        <p:spPr>
          <a:xfrm>
            <a:off x="7667640" y="10526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 rot="8053800">
            <a:off x="3039480" y="3808080"/>
            <a:ext cx="644760" cy="146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16" y="974"/>
                  <a:pt x="5431" y="5080"/>
                  <a:pt x="5431" y="10800"/>
                </a:cubicBezTo>
                <a:cubicBezTo>
                  <a:pt x="5431" y="16520"/>
                  <a:pt x="13516" y="2062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rot="4977000">
            <a:off x="2090520" y="3445920"/>
            <a:ext cx="637920" cy="143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40" y="1270"/>
                  <a:pt x="7080" y="5080"/>
                  <a:pt x="7080" y="10800"/>
                </a:cubicBezTo>
                <a:cubicBezTo>
                  <a:pt x="7080" y="16520"/>
                  <a:pt x="14340" y="2033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369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4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1377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1" dur="250" autoRev="1" fill="hold"/>
                                        <p:tgtEl>
                                          <p:spTgt spid="7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6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8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0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1391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8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1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9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2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8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2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5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374920" y="3073320"/>
            <a:ext cx="1968480" cy="2341800"/>
          </a:xfrm>
          <a:custGeom>
            <a:avLst/>
            <a:gdLst/>
            <a:ahLst/>
            <a:rect l="l" t="t" r="r" b="b"/>
            <a:pathLst>
              <a:path w="1240" h="1475">
                <a:moveTo>
                  <a:pt x="0" y="1475"/>
                </a:moveTo>
                <a:lnTo>
                  <a:pt x="124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172360" y="4869000"/>
            <a:ext cx="50328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16000" y="2722680"/>
            <a:ext cx="5626080" cy="2705040"/>
          </a:xfrm>
          <a:custGeom>
            <a:avLst/>
            <a:gdLst/>
            <a:ahLst/>
            <a:rect l="l" t="t" r="r" b="b"/>
            <a:pathLst>
              <a:path w="3544" h="1704">
                <a:moveTo>
                  <a:pt x="0" y="0"/>
                </a:moveTo>
                <a:lnTo>
                  <a:pt x="1352" y="1704"/>
                </a:lnTo>
                <a:lnTo>
                  <a:pt x="3544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172360" y="2708280"/>
            <a:ext cx="503280" cy="55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172360" y="3718080"/>
            <a:ext cx="503280" cy="55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80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853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1052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981800" y="537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43640" y="4724280"/>
            <a:ext cx="1441440" cy="792360"/>
          </a:xfrm>
          <a:prstGeom prst="wedgeRectCallout">
            <a:avLst>
              <a:gd name="adj1" fmla="val 73569"/>
              <a:gd name="adj2" fmla="val -24949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370560" y="2563920"/>
            <a:ext cx="1441440" cy="792000"/>
          </a:xfrm>
          <a:prstGeom prst="wedgeRectCallout">
            <a:avLst>
              <a:gd name="adj1" fmla="val 77754"/>
              <a:gd name="adj2" fmla="val -20541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43640" y="3645000"/>
            <a:ext cx="1441440" cy="792000"/>
          </a:xfrm>
          <a:prstGeom prst="wedgeRectCallout">
            <a:avLst>
              <a:gd name="adj1" fmla="val 74120"/>
              <a:gd name="adj2" fmla="val -20740"/>
            </a:avLst>
          </a:prstGeom>
          <a:solidFill>
            <a:srgbClr val="ccffcc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4160" y="2717640"/>
            <a:ext cx="3936960" cy="2641680"/>
          </a:xfrm>
          <a:custGeom>
            <a:avLst/>
            <a:gdLst/>
            <a:ahLst/>
            <a:rect l="l" t="t" r="r" b="b"/>
            <a:pathLst>
              <a:path w="2480" h="1664">
                <a:moveTo>
                  <a:pt x="0" y="0"/>
                </a:moveTo>
                <a:lnTo>
                  <a:pt x="1336" y="1664"/>
                </a:lnTo>
                <a:lnTo>
                  <a:pt x="2480" y="304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rot="6738000">
            <a:off x="2338920" y="4509000"/>
            <a:ext cx="505080" cy="9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125440" y="3141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900000" y="260280"/>
            <a:ext cx="8101080" cy="2089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уч ОС проходит между сторонами уг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ОВ, равного 1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Найдите      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сли разность углов               и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ньше их суммы в 4 р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6732720" y="1341360"/>
                <a:ext cx="14396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O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5148360" y="1341360"/>
                <a:ext cx="1295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6948360" y="836640"/>
                <a:ext cx="12956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O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0" name="" descr="&amp;Kcy;&amp;acy;&amp;rcy;&amp;tcy;&amp;icy;&amp;ncy;&amp;kcy;&amp;acy; 125 &amp;icy;&amp;zcy; 65344"/>
          <p:cNvPicPr/>
          <p:nvPr/>
        </p:nvPicPr>
        <p:blipFill>
          <a:blip r:embed="rId7"/>
          <a:stretch/>
        </p:blipFill>
        <p:spPr>
          <a:xfrm>
            <a:off x="7846920" y="134136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 rot="5400000">
            <a:off x="2040840" y="3439800"/>
            <a:ext cx="542880" cy="153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662" y="1027"/>
                  <a:pt x="5723" y="5080"/>
                  <a:pt x="5723" y="10800"/>
                </a:cubicBezTo>
                <a:cubicBezTo>
                  <a:pt x="5723" y="16520"/>
                  <a:pt x="13662" y="2057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8602800">
            <a:off x="3203640" y="4508280"/>
            <a:ext cx="35856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89080" y="465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197080" y="39337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0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0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1451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4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6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8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1459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3" dur="250" autoRev="1" fill="hold"/>
                                        <p:tgtEl>
                                          <p:spTgt spid="8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4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465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8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0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2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473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6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9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7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6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1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4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7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&amp;Kcy;&amp;acy;&amp;rcy;&amp;tcy;&amp;icy;&amp;ncy;&amp;kcy;&amp;acy; 125 &amp;icy;&amp;zcy; 65344"/>
          <p:cNvPicPr/>
          <p:nvPr/>
        </p:nvPicPr>
        <p:blipFill>
          <a:blip r:embed="rId1"/>
          <a:stretch/>
        </p:blipFill>
        <p:spPr>
          <a:xfrm>
            <a:off x="3851280" y="1828800"/>
            <a:ext cx="5292720" cy="50292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 txBox="1"/>
          <p:nvPr/>
        </p:nvSpPr>
        <p:spPr>
          <a:xfrm>
            <a:off x="468360" y="476280"/>
            <a:ext cx="640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емые ресурсы: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8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2560" y="119700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Ф.Гаврилова «Поурочные разработки по гео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. Универсальное  издание. Москва «Вако»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97800" y="1916280"/>
            <a:ext cx="58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Картинк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iodat.ru/text/Podgotovka_k_EGE_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9060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508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1852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8160" y="2852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метьте точку С, не лежащую на д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ямой, и точк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, E, K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лежащи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й же пря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3357720"/>
            <a:ext cx="1800" cy="296640"/>
          </a:xfrm>
          <a:custGeom>
            <a:avLst/>
            <a:gdLst/>
            <a:ahLst/>
            <a:rect l="l" t="t" r="r" b="b"/>
            <a:pathLst>
              <a:path w="1" h="187">
                <a:moveTo>
                  <a:pt x="0" y="0"/>
                </a:moveTo>
                <a:lnTo>
                  <a:pt x="0" y="18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3357720"/>
            <a:ext cx="1440" cy="296640"/>
          </a:xfrm>
          <a:custGeom>
            <a:avLst/>
            <a:gdLst/>
            <a:ahLst/>
            <a:rect l="l" t="t" r="r" b="b"/>
            <a:pathLst>
              <a:path w="1" h="187">
                <a:moveTo>
                  <a:pt x="0" y="0"/>
                </a:moveTo>
                <a:lnTo>
                  <a:pt x="0" y="18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651640" y="458136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3440" y="414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642560" y="3429000"/>
            <a:ext cx="7164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544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6000" y="3429000"/>
            <a:ext cx="7128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7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410560" y="3429000"/>
            <a:ext cx="7164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308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1341360"/>
            <a:ext cx="12970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260280"/>
            <a:ext cx="8101080" cy="252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уя символы принадлеж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предл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Точк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принадлежит прямой АВ,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очка С не принадлежит прямой А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5805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284720" y="4869000"/>
                <a:ext cx="30970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211640" y="3645000"/>
                <a:ext cx="30243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2565360"/>
            <a:ext cx="12970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89060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508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944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6160" y="35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260280"/>
            <a:ext cx="8101080" cy="15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спользуя рисунок и симво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адлежности, запишите, какие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адлежат прямой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а какие -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12000" y="270828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3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642560" y="3429000"/>
            <a:ext cx="7164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7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6000" y="3429000"/>
            <a:ext cx="7128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7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700360" y="3429000"/>
            <a:ext cx="7128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866560" y="3429000"/>
            <a:ext cx="71640" cy="1951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346560" y="2205000"/>
            <a:ext cx="71280" cy="19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1800" y="20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979640" y="450864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1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11640" y="5157720"/>
                <a:ext cx="36003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∉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211640" y="4375080"/>
                <a:ext cx="41767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С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∈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1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700280"/>
            <a:ext cx="12967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5746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5440" y="162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580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роение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42920" y="260280"/>
            <a:ext cx="7921800" cy="1879560"/>
            <a:chOff x="1042920" y="260280"/>
            <a:chExt cx="7921800" cy="1879560"/>
          </a:xfrm>
        </p:grpSpPr>
        <p:sp>
          <p:nvSpPr>
            <p:cNvPr id="148" name=""/>
            <p:cNvSpPr/>
            <p:nvPr/>
          </p:nvSpPr>
          <p:spPr>
            <a:xfrm>
              <a:off x="1042920" y="260280"/>
              <a:ext cx="7777080" cy="1081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чертите прямые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пересекающиеся в точке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90792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 rot="18104400">
            <a:off x="2843280" y="148392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8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564000" y="4724280"/>
                <a:ext cx="2989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093080" y="5877000"/>
            <a:ext cx="1726920" cy="720720"/>
          </a:xfrm>
          <a:custGeom>
            <a:avLst/>
            <a:gdLst>
              <a:gd name="textAreaLeft" fmla="*/ 46440 w 1726920"/>
              <a:gd name="textAreaRight" fmla="*/ 1680480 w 1726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41" h="21600">
                <a:moveTo>
                  <a:pt x="0" y="0"/>
                </a:moveTo>
                <a:lnTo>
                  <a:pt x="51741" y="0"/>
                </a:lnTo>
                <a:lnTo>
                  <a:pt x="51741" y="21600"/>
                </a:lnTo>
                <a:lnTo>
                  <a:pt x="0" y="21600"/>
                </a:lnTo>
                <a:close/>
              </a:path>
              <a:path fill="lightenLess" w="51741" h="21600">
                <a:moveTo>
                  <a:pt x="0" y="0"/>
                </a:moveTo>
                <a:lnTo>
                  <a:pt x="51741" y="0"/>
                </a:lnTo>
                <a:lnTo>
                  <a:pt x="50341" y="1400"/>
                </a:lnTo>
                <a:lnTo>
                  <a:pt x="1400" y="1400"/>
                </a:lnTo>
                <a:close/>
              </a:path>
              <a:path fill="darken" w="51741" h="21600">
                <a:moveTo>
                  <a:pt x="51741" y="0"/>
                </a:moveTo>
                <a:lnTo>
                  <a:pt x="51741" y="21600"/>
                </a:lnTo>
                <a:lnTo>
                  <a:pt x="50341" y="20200"/>
                </a:lnTo>
                <a:lnTo>
                  <a:pt x="50341" y="1400"/>
                </a:lnTo>
                <a:close/>
              </a:path>
              <a:path fill="darkenLess" w="51741" h="21600">
                <a:moveTo>
                  <a:pt x="51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41" y="20200"/>
                </a:lnTo>
                <a:close/>
              </a:path>
              <a:path fill="lighten" w="51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5746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580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роение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42920" y="260280"/>
            <a:ext cx="7921800" cy="1879560"/>
            <a:chOff x="1042920" y="260280"/>
            <a:chExt cx="7921800" cy="1879560"/>
          </a:xfrm>
        </p:grpSpPr>
        <p:sp>
          <p:nvSpPr>
            <p:cNvPr id="159" name=""/>
            <p:cNvSpPr/>
            <p:nvPr/>
          </p:nvSpPr>
          <p:spPr>
            <a:xfrm>
              <a:off x="1042920" y="260280"/>
              <a:ext cx="7777080" cy="1081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чертите прямые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пересекающиеся в точке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90792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 rot="18104400">
            <a:off x="2843280" y="148392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203640" y="4924440"/>
                <a:ext cx="34941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=</m:t>
                    </m:r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12580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44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980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2880" y="256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8906000">
            <a:off x="2627280" y="1268280"/>
            <a:ext cx="4464000" cy="446436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6508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ка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94764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5052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924360" y="342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616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651640" y="3429000"/>
            <a:ext cx="7128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344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410560" y="3429000"/>
            <a:ext cx="71640" cy="195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308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00000" y="260280"/>
            <a:ext cx="8101080" cy="2313000"/>
            <a:chOff x="900000" y="260280"/>
            <a:chExt cx="8101080" cy="2313000"/>
          </a:xfrm>
        </p:grpSpPr>
        <p:sp>
          <p:nvSpPr>
            <p:cNvPr id="181" name=""/>
            <p:cNvSpPr/>
            <p:nvPr/>
          </p:nvSpPr>
          <p:spPr>
            <a:xfrm>
              <a:off x="900000" y="260280"/>
              <a:ext cx="8101080" cy="1513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 прямой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отметьте последовательн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точки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Запишите вс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получившиеся отрезк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341360"/>
              <a:ext cx="1297080" cy="123192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692360" y="4221000"/>
                <a:ext cx="6948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С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3995640" y="5877000"/>
            <a:ext cx="3097440" cy="720720"/>
          </a:xfrm>
          <a:custGeom>
            <a:avLst/>
            <a:gdLst>
              <a:gd name="textAreaLeft" fmla="*/ 46440 w 3097440"/>
              <a:gd name="textAreaRight" fmla="*/ 3051000 w 3097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95" h="21600">
                <a:moveTo>
                  <a:pt x="0" y="0"/>
                </a:moveTo>
                <a:lnTo>
                  <a:pt x="92795" y="0"/>
                </a:lnTo>
                <a:lnTo>
                  <a:pt x="92795" y="21600"/>
                </a:lnTo>
                <a:lnTo>
                  <a:pt x="0" y="21600"/>
                </a:lnTo>
                <a:close/>
              </a:path>
              <a:path fill="lightenLess" w="92795" h="21600">
                <a:moveTo>
                  <a:pt x="0" y="0"/>
                </a:moveTo>
                <a:lnTo>
                  <a:pt x="92795" y="0"/>
                </a:lnTo>
                <a:lnTo>
                  <a:pt x="91395" y="1400"/>
                </a:lnTo>
                <a:lnTo>
                  <a:pt x="1400" y="1400"/>
                </a:lnTo>
                <a:close/>
              </a:path>
              <a:path fill="darken" w="92795" h="21600">
                <a:moveTo>
                  <a:pt x="92795" y="0"/>
                </a:moveTo>
                <a:lnTo>
                  <a:pt x="92795" y="21600"/>
                </a:lnTo>
                <a:lnTo>
                  <a:pt x="91395" y="20200"/>
                </a:lnTo>
                <a:lnTo>
                  <a:pt x="91395" y="1400"/>
                </a:lnTo>
                <a:close/>
              </a:path>
              <a:path fill="darkenLess" w="92795" h="21600">
                <a:moveTo>
                  <a:pt x="92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95" y="20200"/>
                </a:lnTo>
                <a:close/>
              </a:path>
              <a:path fill="lighten" w="92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отрим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3500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95640" y="35002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350028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3500280"/>
            <a:ext cx="3167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84360" y="3500280"/>
            <a:ext cx="4464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3500280"/>
            <a:ext cx="295272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КарМаН</cp:lastModifiedBy>
  <dcterms:modified xsi:type="dcterms:W3CDTF">2012-06-22T09:20:24Z</dcterms:modified>
  <cp:revision>11</cp:revision>
  <dc:subject/>
  <dc:title>Слайд 1</dc:title>
</cp:coreProperties>
</file>