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768F-2118-4D19-8458-894C7A0B8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FB6E-8F6E-4123-85DC-557469EAA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9EE8-7489-40D9-BDFE-91E8905E9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0698-3E8D-4EE2-BFD8-C1E434244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6BF79-45D5-4FF5-855A-FDD29AA2C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C1FC8-E128-4D0D-8F05-DAE3AA54B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56BC4-FA70-412D-96E5-CC28BAF0F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6A933-86FE-4AB3-B7FB-3C05BAF92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38484-C113-4A99-B00A-79D5049D6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C3287-316C-4B19-AA76-6403ADB7A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5F3C5-AC7B-48A5-9624-80E30E7B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6F63-8D49-4EEE-B6CC-2DB98F3EA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983C6-8E88-4757-98BA-42189993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5086F-5297-4B29-BB08-42FBCCEA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49083-D2C5-48D4-BBDB-4EAC5A24F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139E8-6075-4E41-A8E3-1CAB54CC2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ECE5E-EE0D-4C53-80EB-6DCC7871E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D36F-7BB5-47CE-B906-A386C3419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6804-E501-4E12-86A3-D16CE0013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D620-0536-4EF3-9D2B-9CCEB725D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7BBE-AB60-4ED2-B31E-81B69B65A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76C1-E140-409F-B5DA-CFEDC371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93B6-7138-4DB2-B480-1C3FC178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C529-E0D5-48F5-8CF7-E117441D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D1A65-76C9-43F9-B742-48B2F3B9CDC0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14D4E-DBB7-48F8-A3D7-811D95A193F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595E9-66AD-4680-8C40-E9FA40E70065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4F20C-C661-4A03-A47F-09A9F680661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етодическое объединение </a:t>
            </a:r>
            <a:br>
              <a:rPr sz="4000"/>
            </a:b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чителей математик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FCE1B-E38B-43B5-8289-A48FB545DB46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2ED9090-E047-46E8-A5F0-C075B3B91D2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66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i="1" lang="ru-RU" sz="4000" spc="-1" strike="noStrike">
                <a:solidFill>
                  <a:srgbClr val="cbcbcb"/>
                </a:solidFill>
                <a:latin typeface="Times New Roman"/>
              </a:rPr>
              <a:t>Технология разноуровневого обучения</a:t>
            </a: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для   ученика   отводится определенное время,  которое соответствует  его  личным возможностям и способностям для усвоения учебной программы. Педагог-дирижер,  а   у каждого ученика своя партия.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5486400"/>
            <a:ext cx="3200400" cy="3049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57150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811E-E5BE-427C-8582-88D71FFFDB8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E9CB8C-55E2-4979-AEB1-E37ED18482E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66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  </a:t>
            </a:r>
            <a:r>
              <a:rPr b="0" i="1" lang="ru-RU" sz="4000" spc="-1" strike="noStrike">
                <a:solidFill>
                  <a:srgbClr val="cbcbcb"/>
                </a:solidFill>
                <a:latin typeface="Times New Roman"/>
              </a:rPr>
              <a:t>Технология исследовательского обучения</a:t>
            </a: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оиск новых познавательных ориентиров  в  исследованиях.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4419720"/>
            <a:ext cx="5257800" cy="83808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РИ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57150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80DE-AA30-4DAF-8AF1-06903C8A528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742C95-848F-4BA3-A5E0-BF17315AC81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РЕЗУЛЬТАТ РАБОТЫ</a:t>
            </a: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33520" y="2133720"/>
          <a:ext cx="8153280" cy="426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133720"/>
                    <a:ext cx="815328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1289-2AB7-446A-98A7-3D5A3A8BB53F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4D79AD-F71A-4360-8D88-066FFE6EA92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РЕЗУЛЬТАТ РАБОТЫ</a:t>
            </a: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3048120"/>
            <a:ext cx="3200400" cy="10666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66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cc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НЕШНИЙ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ЗУЛЬТА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1981080"/>
            <a:ext cx="2362320" cy="6098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ВИДЕ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6400" y="4495680"/>
            <a:ext cx="2362320" cy="1676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МЕНИТЬ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РЕАЛЬНОЙ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АКТИЧЕСКОЙ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ЕЯТЕЛЬНОС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048120"/>
            <a:ext cx="23623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СМЫСЛИ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48320" y="1905120"/>
            <a:ext cx="533160" cy="4495680"/>
          </a:xfrm>
          <a:custGeom>
            <a:avLst/>
            <a:gdLst>
              <a:gd name="textAreaLeft" fmla="*/ 340560 w 533160"/>
              <a:gd name="textAreaRight" fmla="*/ 533520 w 533160"/>
              <a:gd name="textAreaTop" fmla="*/ 117000 h 4495680"/>
              <a:gd name="textAreaBottom" fmla="*/ 4378680 h 449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349C-9852-4C54-8EFB-0EB67BE215C4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C8F1DF-42F8-4202-9040-16F69E9C4EA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ВНУТРЕННИЙ РЕЗУЛЬТАТ</a:t>
            </a: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2133720"/>
            <a:ext cx="3581640" cy="76176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пыт деятельн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962520" y="3276720"/>
            <a:ext cx="4267080" cy="2590560"/>
          </a:xfrm>
          <a:prstGeom prst="wedgeRoundRectCallout">
            <a:avLst>
              <a:gd name="adj1" fmla="val -50444"/>
              <a:gd name="adj2" fmla="val 7657"/>
              <a:gd name="adj3" fmla="val 16667"/>
            </a:avLst>
          </a:prstGeom>
          <a:solidFill>
            <a:srgbClr val="00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новится бесценным достоянием учащегося, соединяя в себе знания и умения, компетенции и ценност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00200" y="2895480"/>
            <a:ext cx="1676520" cy="2590920"/>
          </a:xfrm>
          <a:custGeom>
            <a:avLst/>
            <a:gdLst>
              <a:gd name="textAreaLeft" fmla="*/ 224640 w 1676520"/>
              <a:gd name="textAreaRight" fmla="*/ 1451880 w 1676520"/>
              <a:gd name="textAreaTop" fmla="*/ 443520 h 2590920"/>
              <a:gd name="textAreaBottom" fmla="*/ 192636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400" stAng="-5400000" swAng="-5400000"/>
                <a:lnTo>
                  <a:pt x="0" y="12360"/>
                </a:lnTo>
                <a:arcTo wR="21600" hR="7400" stAng="10800000" swAng="-2645877"/>
                <a:lnTo>
                  <a:pt x="14400" y="21177"/>
                </a:lnTo>
                <a:lnTo>
                  <a:pt x="21600" y="17280"/>
                </a:lnTo>
                <a:lnTo>
                  <a:pt x="14400" y="12537"/>
                </a:lnTo>
                <a:lnTo>
                  <a:pt x="14400" y="14377"/>
                </a:lnTo>
                <a:arcTo wR="21600" hR="7400" stAng="8154123" swAng="2229002"/>
                <a:lnTo>
                  <a:pt x="1249" y="9880"/>
                </a:lnTo>
                <a:arcTo wR="21600" hR="7400" stAng="-10383124" swAng="4983124"/>
                <a:close/>
              </a:path>
              <a:path fill="darkenLess" w="21600" h="21600">
                <a:moveTo>
                  <a:pt x="21600" y="0"/>
                </a:moveTo>
                <a:arcTo wR="21600" hR="7400" stAng="-5400000" swAng="-5400000"/>
                <a:lnTo>
                  <a:pt x="0" y="7400"/>
                </a:lnTo>
                <a:arcTo wR="21600" hR="7400" stAng="10800000" swAng="-416876"/>
                <a:lnTo>
                  <a:pt x="1249" y="9880"/>
                </a:lnTo>
                <a:arcTo wR="21600" hR="7400" stAng="-10383124" swAng="4983124"/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2315-ED52-4BF5-87D2-0D6E4446A2BA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65CCE9-EB08-439E-A365-513686730CA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ДОЛЯ УЧИТЕЛЯ</a:t>
            </a: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2438280"/>
            <a:ext cx="3581280" cy="144792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рудная задача выбор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облем для проектов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57800" y="4191120"/>
            <a:ext cx="3505320" cy="1295280"/>
          </a:xfrm>
          <a:prstGeom prst="flowChartProcess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облемы можно брать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ействительности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з жизн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5ECC-409B-4F5D-BA29-0C25D49DABB5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B60787-E015-4C90-B596-BF6258E74C7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bcbcb"/>
                </a:solidFill>
                <a:latin typeface="Times New Roman"/>
              </a:rPr>
              <a:t>Тема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«Исследовательская деятельность учителя и учащихся»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50C0-1147-4D50-A558-5C0CDD6C955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AE04B1-66D9-426B-B309-AF87F1FB5F3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66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bcbcb"/>
                </a:solidFill>
                <a:latin typeface="Times New Roman"/>
              </a:rPr>
              <a:t>Актуальность проблемы</a:t>
            </a: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условлена    несоответствием     сложившейся                              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адиционной   системы   работы  современным                                         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ебованиям к  профессиональной деятельности                                          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ителя, когда отсутствует знание учителя о самом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ебе, о своих  возможностях и способностях,   что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шает творческому  развитию учителя и ученика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0DAB-340C-4455-8FAC-10DB0C33F0F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78AB52-943C-43D8-B25B-09D819986BB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bcbcb"/>
                </a:solidFill>
                <a:latin typeface="Times New Roman"/>
              </a:rPr>
              <a:t>Цель работы:                             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вышение  профессиональной                     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валификации и научно-методического                                          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ровня учителей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A91D-8D30-4883-BAAD-E20D220D4DA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E4AD84-E6D7-4F8A-B1A1-7EFB3D1603A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bcbcb"/>
                </a:solidFill>
                <a:latin typeface="Times New Roman"/>
              </a:rPr>
              <a:t>Гипотеза исследования</a:t>
            </a: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76520" y="2361960"/>
            <a:ext cx="685800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учитель осознает свои педагогические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спехи и затруднения,  то  это  поможет  ему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меть    линию     перспектив     развития,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мосовершенствоваться    и   в   результате                                  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мореализоваться   в    уроке   и   ученике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BE4C-F135-4A4E-B004-57F4761F20B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7DCF4F-0171-4F45-91D4-3C02E6DBF48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50000">
              <a:srgbClr val="3399ff"/>
            </a:gs>
            <a:gs pos="100000">
              <a:srgbClr val="00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bcbcb"/>
                </a:solidFill>
                <a:latin typeface="Times New Roman"/>
              </a:rPr>
              <a:t>Задачи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вести анализ теоретических источников по проблемам исследования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общить учителей к исследовательской деятельности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явить основные затруднения учителей с помощью диагностики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формировать понятийный аппарат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зучить теоретические основы методики и технологии научного исследования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вершенствование профессиональных качеств учителя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66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AA9E-E2BA-4100-BE4E-604488BEA33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3A7179-7CB0-4CC0-B3FE-2C9A1570487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bcbcb"/>
                </a:solidFill>
                <a:latin typeface="Times New Roman"/>
              </a:rPr>
              <a:t>Этапы работ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685800" y="1981080"/>
            <a:ext cx="7771680" cy="4114080"/>
            <a:chOff x="685800" y="1981080"/>
            <a:chExt cx="7771680" cy="4114080"/>
          </a:xfrm>
        </p:grpSpPr>
        <p:cxnSp>
          <p:nvCxnSpPr>
            <p:cNvPr id="105" name="_s10263"/>
            <p:cNvCxnSpPr>
              <a:stCxn id="106" idx="0"/>
              <a:endCxn id="107" idx="2"/>
            </p:cNvCxnSpPr>
            <p:nvPr/>
          </p:nvCxnSpPr>
          <p:spPr>
            <a:xfrm flipV="1">
              <a:off x="7291800" y="4565520"/>
              <a:ext cx="2880" cy="48636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08" name="_s10261"/>
            <p:cNvCxnSpPr>
              <a:stCxn id="109" idx="0"/>
              <a:endCxn id="110" idx="2"/>
            </p:cNvCxnSpPr>
            <p:nvPr/>
          </p:nvCxnSpPr>
          <p:spPr>
            <a:xfrm flipV="1">
              <a:off x="4571640" y="4565520"/>
              <a:ext cx="2880" cy="48636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11" name="_s10259"/>
            <p:cNvCxnSpPr>
              <a:stCxn id="112" idx="0"/>
              <a:endCxn id="113" idx="2"/>
            </p:cNvCxnSpPr>
            <p:nvPr/>
          </p:nvCxnSpPr>
          <p:spPr>
            <a:xfrm flipV="1">
              <a:off x="1851480" y="4565520"/>
              <a:ext cx="2880" cy="48636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14" name="_s10256"/>
            <p:cNvCxnSpPr>
              <a:stCxn id="107" idx="0"/>
              <a:endCxn id="115" idx="2"/>
            </p:cNvCxnSpPr>
            <p:nvPr/>
          </p:nvCxnSpPr>
          <p:spPr>
            <a:xfrm flipV="1" rot="16200000">
              <a:off x="5688360" y="1905120"/>
              <a:ext cx="486360" cy="2720880"/>
            </a:xfrm>
            <a:prstGeom prst="bentConnector3">
              <a:avLst>
                <a:gd name="adj1" fmla="val 23481"/>
              </a:avLst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16" name="_s10255"/>
            <p:cNvCxnSpPr>
              <a:stCxn id="110" idx="0"/>
              <a:endCxn id="115" idx="2"/>
            </p:cNvCxnSpPr>
            <p:nvPr/>
          </p:nvCxnSpPr>
          <p:spPr>
            <a:xfrm flipV="1">
              <a:off x="4571640" y="3022560"/>
              <a:ext cx="2880" cy="48636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17" name="_s10254"/>
            <p:cNvCxnSpPr>
              <a:stCxn id="113" idx="0"/>
              <a:endCxn id="115" idx="2"/>
            </p:cNvCxnSpPr>
            <p:nvPr/>
          </p:nvCxnSpPr>
          <p:spPr>
            <a:xfrm flipH="1" flipV="1" rot="5400000">
              <a:off x="2968560" y="1905480"/>
              <a:ext cx="486360" cy="2720880"/>
            </a:xfrm>
            <a:prstGeom prst="bentConnector3">
              <a:avLst>
                <a:gd name="adj1" fmla="val 23481"/>
              </a:avLst>
            </a:prstGeom>
            <a:ln w="38160">
              <a:solidFill>
                <a:srgbClr val="ffffff"/>
              </a:solidFill>
              <a:miter/>
            </a:ln>
          </p:spPr>
        </p:cxnSp>
        <p:sp>
          <p:nvSpPr>
            <p:cNvPr id="115" name="_s10250"/>
            <p:cNvSpPr/>
            <p:nvPr/>
          </p:nvSpPr>
          <p:spPr>
            <a:xfrm>
              <a:off x="3405960" y="1981080"/>
              <a:ext cx="2331360" cy="102852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2005 - 200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_s10251"/>
            <p:cNvSpPr/>
            <p:nvPr/>
          </p:nvSpPr>
          <p:spPr>
            <a:xfrm>
              <a:off x="685800" y="3523680"/>
              <a:ext cx="2331360" cy="102852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1 этап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диагностический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_s10252"/>
            <p:cNvSpPr/>
            <p:nvPr/>
          </p:nvSpPr>
          <p:spPr>
            <a:xfrm>
              <a:off x="3405960" y="3523680"/>
              <a:ext cx="2331360" cy="102852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2 этап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теоретический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_s10253"/>
            <p:cNvSpPr/>
            <p:nvPr/>
          </p:nvSpPr>
          <p:spPr>
            <a:xfrm>
              <a:off x="6126120" y="3523680"/>
              <a:ext cx="2331360" cy="102852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3 этап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практический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_s10258"/>
            <p:cNvSpPr/>
            <p:nvPr/>
          </p:nvSpPr>
          <p:spPr>
            <a:xfrm>
              <a:off x="685800" y="5066640"/>
              <a:ext cx="2331360" cy="102852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00"/>
                  </a:solidFill>
                  <a:latin typeface="Times New Roman"/>
                </a:rPr>
                <a:t>Цель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00"/>
                  </a:solidFill>
                  <a:latin typeface="Times New Roman"/>
                </a:rPr>
                <a:t>задачи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_s10260"/>
            <p:cNvSpPr/>
            <p:nvPr/>
          </p:nvSpPr>
          <p:spPr>
            <a:xfrm>
              <a:off x="3405960" y="5066640"/>
              <a:ext cx="2331360" cy="102852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00"/>
                  </a:solidFill>
                  <a:latin typeface="Times New Roman"/>
                </a:rPr>
                <a:t>Цель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00"/>
                  </a:solidFill>
                  <a:latin typeface="Times New Roman"/>
                </a:rPr>
                <a:t>задачи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_s10262"/>
            <p:cNvSpPr/>
            <p:nvPr/>
          </p:nvSpPr>
          <p:spPr>
            <a:xfrm>
              <a:off x="6126120" y="5066640"/>
              <a:ext cx="2331360" cy="102852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00"/>
                  </a:solidFill>
                  <a:latin typeface="Times New Roman"/>
                </a:rPr>
                <a:t>Цель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00"/>
                  </a:solidFill>
                  <a:latin typeface="Times New Roman"/>
                </a:rPr>
                <a:t>задачи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35E3-3DE5-4170-9605-9F0618A9E547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25E471-F78C-44F8-AB1B-36D75F43EAD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66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Технологии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46748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Адаптивная система обучения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учение     приемам    самостоятельной    работы, самоконтролю,        взаимоконтролю,         приемам исследовательской          деятельности,       умению самостоятельно добывать знания ( работа в парах сменного    состава).   Учащиеся   работают   в трех режимах:   совместно   с   педагогом,   с  педагогом индивидуально, самостоятельно.                              .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2ABE-EE10-49FE-B2B6-906BFC3BAE3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AA9097-7992-45C3-8D1D-F0008CA2050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66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cbcbcb"/>
                </a:solidFill>
                <a:latin typeface="Times New Roman"/>
              </a:rPr>
              <a:t>Технология полного усвоения знаний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ровень знаний единый, а время, методы, формы и условия труда для  каждого  ученика  различны. (спортивные секции, группы театрального, хореографического коллективов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3142-472E-4D6E-BA71-764E59212FB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98E319-F90B-4F8D-BA04-7A48F9AC49D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ариса</cp:lastModifiedBy>
  <dcterms:modified xsi:type="dcterms:W3CDTF">2008-03-25T18:35:39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