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601-0F94-4C85-842F-A44642C2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606-97A4-4589-A631-A97B202C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46B-F645-4448-AE27-C8355AFD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2CC-31DC-4D68-B0BA-5BD3FCF5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B1E9-FABE-43AA-B63E-E8A8098F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D7CF-E96E-401C-8F61-8E6900D7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837B-F234-4C03-9A54-95516104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96C5-084F-4705-915F-B751B7AC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ED29-EABE-49C2-B094-323CA211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EF1E-98AA-45F5-8DD3-563E33C2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E03A-A2A0-47EA-A5BB-9C332229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CCC-B7DB-418B-8F21-62CC501B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7E4F-AA2F-487B-8473-57BAC163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B28A-6708-4916-8AF8-EC32E2CC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03D8-F7A5-4796-AA20-D793D59B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8836-43ED-4184-A542-5F36A738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33B1-F06B-4084-9C92-1071A687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B6B-6A5A-48BA-BA35-84107107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6B6-8934-4039-AD33-639AEC45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794-FCB5-47EB-98B5-C1A5E4DE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1C7-5A2D-4CE4-817F-EB0041C2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1EA-22C4-4170-8C9D-128A88A5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937-68B3-4B12-9112-66E26FFD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235-95FA-4767-8C94-72A938A4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7871-EE3C-4ACD-82C2-0AD92255951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C34A-F34E-4E69-B6A6-D984E401E0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974C-B0F1-4656-A05A-58DAB20989F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44EA-2F72-4A95-A1D5-E4802BD833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тодическое объединение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ителей математ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5C71-2861-40A1-8B06-D5C2BB797BD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C34641B-3DD7-468C-A045-AECF08A0B2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cbcbcb"/>
                </a:solidFill>
                <a:latin typeface="Times New Roman"/>
              </a:rPr>
              <a:t>Технология разноуровневого обучения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ля   ученика   отводится определенное время,  которое соответствует  его  личным возможностям и способностям для усвоения учебной программы. Педагог-дирижер,  а   у каждого ученика своя партия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8640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951-6ADE-4A61-B6C6-2D25D665CC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9F031-2213-4E8B-98B9-3C7DAEF51A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 </a:t>
            </a:r>
            <a:r>
              <a:rPr b="0" i="1" lang="ru-RU" sz="4000" spc="-1" strike="noStrike">
                <a:solidFill>
                  <a:srgbClr val="cbcbcb"/>
                </a:solidFill>
                <a:latin typeface="Times New Roman"/>
              </a:rPr>
              <a:t>Технология исследовательского обучения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иск новых познавательных ориентиров  в  исследованиях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419720"/>
            <a:ext cx="5257800" cy="8380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И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72E-A09E-491C-9AA4-54903BC36EF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3C63E-14A7-44AD-8F43-FCD29E96E9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ЕЗУЛЬТАТ РАБОТЫ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2133720"/>
          <a:ext cx="81532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4E7-A8BE-447C-8802-534495AD80A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4DBB1-4564-4E04-A7EC-E511740608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ЕЗУЛЬТАТ РАБОТЫ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048120"/>
            <a:ext cx="3200400" cy="10666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ЕШНИ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1981080"/>
            <a:ext cx="23623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ВИДЕ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4495680"/>
            <a:ext cx="2362320" cy="1676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НИТ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ЕАЛЬ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КТИЧЕСК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ЯТЕЛЬНО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048120"/>
            <a:ext cx="2362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МЫСЛИ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1905120"/>
            <a:ext cx="533160" cy="4495680"/>
          </a:xfrm>
          <a:custGeom>
            <a:avLst/>
            <a:gdLst>
              <a:gd name="textAreaLeft" fmla="*/ 340560 w 533160"/>
              <a:gd name="textAreaRight" fmla="*/ 533520 w 53316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62C-99DC-432C-B106-69D7BA3E46A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C6C49-4532-4B8C-B15F-77BFD44ED3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НУТРЕННИЙ РЕЗУЛЬТАТ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133720"/>
            <a:ext cx="3581640" cy="7617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ыт 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276720"/>
            <a:ext cx="4267080" cy="2590560"/>
          </a:xfrm>
          <a:prstGeom prst="wedgeRoundRectCallout">
            <a:avLst>
              <a:gd name="adj1" fmla="val -50444"/>
              <a:gd name="adj2" fmla="val 7657"/>
              <a:gd name="adj3" fmla="val 16667"/>
            </a:avLst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овится бесценным достоянием учащегося, соединяя в себе знания и умения, компетенции и цен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2895480"/>
            <a:ext cx="1676520" cy="259092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443520 h 2590920"/>
              <a:gd name="textAreaBottom" fmla="*/ 192636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00" stAng="-5400000" swAng="-5400000"/>
                <a:lnTo>
                  <a:pt x="0" y="12360"/>
                </a:lnTo>
                <a:arcTo wR="21600" hR="7400" stAng="10800000" swAng="-2645877"/>
                <a:lnTo>
                  <a:pt x="14400" y="21177"/>
                </a:lnTo>
                <a:lnTo>
                  <a:pt x="21600" y="17280"/>
                </a:lnTo>
                <a:lnTo>
                  <a:pt x="14400" y="12537"/>
                </a:lnTo>
                <a:lnTo>
                  <a:pt x="14400" y="14377"/>
                </a:lnTo>
                <a:arcTo wR="21600" hR="7400" stAng="8154123" swAng="2229002"/>
                <a:lnTo>
                  <a:pt x="1249" y="9880"/>
                </a:lnTo>
                <a:arcTo wR="21600" hR="7400" stAng="-10383124" swAng="4983124"/>
                <a:close/>
              </a:path>
              <a:path fill="darkenLess" w="21600" h="21600">
                <a:moveTo>
                  <a:pt x="21600" y="0"/>
                </a:moveTo>
                <a:arcTo wR="21600" hR="7400" stAng="-5400000" swAng="-5400000"/>
                <a:lnTo>
                  <a:pt x="0" y="7400"/>
                </a:lnTo>
                <a:arcTo wR="21600" hR="7400" stAng="10800000" swAng="-416876"/>
                <a:lnTo>
                  <a:pt x="1249" y="9880"/>
                </a:lnTo>
                <a:arcTo wR="21600" hR="7400" stAng="-10383124" swAng="4983124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2AB-4631-4685-A284-9BC7A2C06DB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A1A79-101F-46C2-8DEC-4391B896D0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ОЛЯ УЧИТЕЛЯ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438280"/>
            <a:ext cx="3581280" cy="144792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удная задача выбор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 для проектов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4191120"/>
            <a:ext cx="3505320" cy="1295280"/>
          </a:xfrm>
          <a:prstGeom prst="flowChartProcess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ы можно бр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йствительност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 жиз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919-A3E0-4CE1-99E0-BD79CAB1694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87333-5AE9-483C-8935-3F03F9EE8D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Тема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«Исследовательская деятельность учителя и учащихся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79D-097D-461B-B7C6-54C81EB0E3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10AD2-8EC9-4F88-97FB-BC8532F46B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Актуальность проблемы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словлена    несоответствием     сложившейся             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адиционной   системы   работы  современным                        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бованиям к  профессиональной деятельности                         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я, когда отсутствует знание учителя о само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бе, о своих  возможностях и способностях,   что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шает творческому  развитию учителя и ученик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13A-A478-4436-80E2-DB94A0C5E8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24583-7E77-4000-8938-5871D23637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Цель работы:                             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вышение  профессиональной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валификации и научно-методического     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ровня учителей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A9A-5EA0-4670-9AD3-01D7510414F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FB9E2-171F-4D40-BFE2-5C000289AC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5000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Гипотеза исследования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520" y="23619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учитель осознает свои педагогически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пехи и затруднения,  то  это  поможет  ему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ть    линию     перспектив     развития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овершенствоваться    и   в   результате      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реализоваться   в    уроке   и   ученик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689-4B11-4148-B8B1-68E496C6CA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C5EB4-802B-476E-B9D3-C496B031E5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сти анализ теоретических источников по проблемам исследования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общить учителей к исследовательской деятельности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явить основные затруднения учителей с помощью диагностик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формировать понятийный аппарат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учить теоретические основы методики и технологии научного исследования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ершенствование профессиональных качеств учител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7AE-55C6-4727-8F03-002A282ACF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9E046-81D1-40DD-BF92-3CC10DFBBC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cbcb"/>
                </a:solidFill>
                <a:latin typeface="Times New Roman"/>
              </a:rPr>
              <a:t>Этапы работ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85800" y="1981080"/>
            <a:ext cx="7771680" cy="4114080"/>
            <a:chOff x="685800" y="1981080"/>
            <a:chExt cx="7771680" cy="4114080"/>
          </a:xfrm>
        </p:grpSpPr>
        <p:cxnSp>
          <p:nvCxnSpPr>
            <p:cNvPr id="105" name="_s10263"/>
            <p:cNvCxnSpPr>
              <a:stCxn id="106" idx="0"/>
              <a:endCxn id="107" idx="2"/>
            </p:cNvCxnSpPr>
            <p:nvPr/>
          </p:nvCxnSpPr>
          <p:spPr>
            <a:xfrm flipV="1">
              <a:off x="7291800" y="4565520"/>
              <a:ext cx="2880" cy="4863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08" name="_s10261"/>
            <p:cNvCxnSpPr>
              <a:stCxn id="109" idx="0"/>
              <a:endCxn id="110" idx="2"/>
            </p:cNvCxnSpPr>
            <p:nvPr/>
          </p:nvCxnSpPr>
          <p:spPr>
            <a:xfrm flipV="1">
              <a:off x="4571640" y="4565520"/>
              <a:ext cx="2880" cy="4863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1" name="_s10259"/>
            <p:cNvCxnSpPr>
              <a:stCxn id="112" idx="0"/>
              <a:endCxn id="113" idx="2"/>
            </p:cNvCxnSpPr>
            <p:nvPr/>
          </p:nvCxnSpPr>
          <p:spPr>
            <a:xfrm flipV="1">
              <a:off x="1851480" y="4565520"/>
              <a:ext cx="2880" cy="4863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4" name="_s10256"/>
            <p:cNvCxnSpPr>
              <a:stCxn id="107" idx="0"/>
              <a:endCxn id="115" idx="2"/>
            </p:cNvCxnSpPr>
            <p:nvPr/>
          </p:nvCxnSpPr>
          <p:spPr>
            <a:xfrm flipV="1" rot="16200000">
              <a:off x="5688360" y="1905120"/>
              <a:ext cx="486360" cy="27208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6" name="_s10255"/>
            <p:cNvCxnSpPr>
              <a:stCxn id="110" idx="0"/>
              <a:endCxn id="115" idx="2"/>
            </p:cNvCxnSpPr>
            <p:nvPr/>
          </p:nvCxnSpPr>
          <p:spPr>
            <a:xfrm flipV="1">
              <a:off x="4571640" y="3022560"/>
              <a:ext cx="2880" cy="48636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17" name="_s10254"/>
            <p:cNvCxnSpPr>
              <a:stCxn id="113" idx="0"/>
              <a:endCxn id="115" idx="2"/>
            </p:cNvCxnSpPr>
            <p:nvPr/>
          </p:nvCxnSpPr>
          <p:spPr>
            <a:xfrm flipH="1" flipV="1" rot="5400000">
              <a:off x="2968560" y="1905480"/>
              <a:ext cx="486360" cy="27208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15" name="_s10250"/>
            <p:cNvSpPr/>
            <p:nvPr/>
          </p:nvSpPr>
          <p:spPr>
            <a:xfrm>
              <a:off x="3405960" y="198108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005 - 200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10251"/>
            <p:cNvSpPr/>
            <p:nvPr/>
          </p:nvSpPr>
          <p:spPr>
            <a:xfrm>
              <a:off x="685800" y="352368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1 этап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иагностически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10252"/>
            <p:cNvSpPr/>
            <p:nvPr/>
          </p:nvSpPr>
          <p:spPr>
            <a:xfrm>
              <a:off x="3405960" y="352368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 этап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теоретически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10253"/>
            <p:cNvSpPr/>
            <p:nvPr/>
          </p:nvSpPr>
          <p:spPr>
            <a:xfrm>
              <a:off x="6126120" y="352368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3 этап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рактически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10258"/>
            <p:cNvSpPr/>
            <p:nvPr/>
          </p:nvSpPr>
          <p:spPr>
            <a:xfrm>
              <a:off x="685800" y="506664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Цель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задач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_s10260"/>
            <p:cNvSpPr/>
            <p:nvPr/>
          </p:nvSpPr>
          <p:spPr>
            <a:xfrm>
              <a:off x="3405960" y="506664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Цель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задач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10262"/>
            <p:cNvSpPr/>
            <p:nvPr/>
          </p:nvSpPr>
          <p:spPr>
            <a:xfrm>
              <a:off x="6126120" y="5066640"/>
              <a:ext cx="2331360" cy="10285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Цель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задач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7FE-373F-42D8-AAFD-14557AD8278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4A5EF-82A7-4921-A74F-619B96A788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Технологии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даптивная система обуч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учение     приемам    самостоятельной    работы, самоконтролю,        взаимоконтролю,         приемам исследовательской          деятельности,       умению самостоятельно добывать знания ( работа в парах сменного    состава).   Учащиеся   работают   в трех режимах:   совместно   с   педагогом,   с  педагогом индивидуально, самостоятельно.                              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204-115F-4299-8F71-FBE8AD2ADF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78CE2-4CCA-43AA-A144-388843478B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6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cbcbcb"/>
                </a:solidFill>
                <a:latin typeface="Times New Roman"/>
              </a:rPr>
              <a:t>Технология полного усвоения знаний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ровень знаний единый, а время, методы, формы и условия труда для  каждого  ученика  различны. (спортивные секции, группы театрального, хореографического коллективов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EBE-F014-41F9-BFF5-43BD9E0E42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B2BA0-4193-4E8A-9E63-88EBEAA69B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</cp:lastModifiedBy>
  <dcterms:modified xsi:type="dcterms:W3CDTF">2008-03-25T18:35:3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