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301-F1D4-482D-9061-42002691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B46-8B05-447C-A3DA-A02C174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8B9-8EBA-440F-8BE5-5B0B7AD2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834-61F4-4536-9023-D024BEC5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889-AC06-479F-9844-00DEC763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D29-03D4-4DF2-8637-5A09AAC4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B5E-BC12-46FB-87D9-8C9EAC8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20A-EB45-4FE4-B3F5-A8D4954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91C-A47F-48CA-B16B-0CF2CA86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604-24A8-4A4D-B0F4-B615B4E9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8D5-8D6C-412D-877B-83677D8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86E-3F4E-4ED2-BF22-BAF12CF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922-95F4-455A-99CE-8C634DB009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уль №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Tes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99840"/>
            <a:ext cx="72723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6000" y="134136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129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7640" y="2707920"/>
            <a:ext cx="575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ы «0», прочти правило или откро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2920" y="2276280"/>
            <a:ext cx="5977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ышляй по алгорит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йся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8920" y="1700280"/>
            <a:ext cx="6049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5905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й 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74991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к выполн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клавиатурой запрещ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прочитай предло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когда происходит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веди курсор мыши на выбранный вариант, кликни один р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! The girl………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3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ok! The boys ..................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129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ok! The boys ..................s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00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557000"/>
            <a:ext cx="729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200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…….surf well. He is in the school t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s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1599840"/>
            <a:ext cx="72010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and Polly……..playing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dmin</cp:lastModifiedBy>
  <dcterms:modified xsi:type="dcterms:W3CDTF">2012-06-25T14:01:37Z</dcterms:modified>
  <cp:revision>36</cp:revision>
  <dc:subject/>
  <dc:title>Diapositiva 1</dc:title>
</cp:coreProperties>
</file>