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B98-10FD-4B29-AA6A-046E60C9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CCC-64F3-4AC7-85BF-E5B3F3BD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46C-8E31-4368-A80C-B113E816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DC0-FAF9-4747-9347-0BC21728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A73-C1F4-463E-8F8E-1CBF367F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6FA-849B-4286-99A3-30F05E1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F7D-8DF5-4705-9FB4-5B5B235B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5D3-D836-42CF-A461-40B2D600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1F8-92BB-4065-B527-266C2D59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C83-80C3-4F7B-8C0A-8986225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B22-A099-4DBA-AC73-09E0A36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A7F-1F5E-41F1-9B06-5771580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735A-2E8C-46FC-8884-6D941EDC8C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уль № 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Tes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599840"/>
            <a:ext cx="72723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and Polly……..playing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 and Polly……..playing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129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and Polly……..playing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7640" y="2707920"/>
            <a:ext cx="575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ы «0», прочти правило или откро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2920" y="2276280"/>
            <a:ext cx="5977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ышляй по алгорит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619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уйся 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700280"/>
            <a:ext cx="6049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5905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71280" y="1413000"/>
            <a:ext cx="74991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к выполн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клавиатурой запреще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прочитай предло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когда происходит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еди курсор мыши на выбранный вариант, кликни один ра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! The girl………s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341360"/>
            <a:ext cx="73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ok! The boys ..................s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129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ok! The boys ..................s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200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….surf well. He is in the schoo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557000"/>
            <a:ext cx="7292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….surf well. He is in the schoo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2007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…….surf well. He is in the school te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2920" y="1599840"/>
            <a:ext cx="72010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and Polly……..playing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dmin</cp:lastModifiedBy>
  <dcterms:modified xsi:type="dcterms:W3CDTF">2012-06-25T14:01:37Z</dcterms:modified>
  <cp:revision>36</cp:revision>
  <dc:subject/>
  <dc:title>Diapositiva 1</dc:title>
</cp:coreProperties>
</file>