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9.jpeg" ContentType="image/jpeg"/>
  <Override PartName="/ppt/media/image2.gif" ContentType="image/gif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9.png" ContentType="image/pn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1.gif" ContentType="image/gif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D5E-3A8A-4DE5-B9F2-3B2DAD26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248-2B82-4F48-9B13-6849E6C9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CA5-314A-408B-BC90-D1B38697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DC5-6ED3-4AC2-B00F-A9BBAE11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8415-F4DF-481A-A05E-CB1DA801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ABDF-48F8-4B34-9758-A927E103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AA14-409A-4615-ACB5-919F292C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3729-EEC7-4D3B-82C8-12868E63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2768-4058-4B2D-9EC5-14942254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C3DE-58B0-4B3F-96CE-A0C48649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46F7-AD6B-490F-913D-F12C545E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F2B-E221-4A88-A206-C2FFAA6A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9370-E8D6-4FD0-8AC9-7E871DF1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B9CB-9F5A-4D8E-B197-4A897A6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9C3C-1481-4464-BF09-69CBBAD2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6097-4E83-49BE-BDCA-383ADEFD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C440-784A-4ED0-ADE3-3450E3E6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2DA-A7BB-42C9-862D-7591FC0A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0FB-B725-4738-A425-408C4586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825-2FB3-4C7F-9647-A55AB167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CAD-A81E-4171-A70C-C5B67AD8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6CC-36E4-4658-8F3B-230CC02A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1A8-FA8C-42E2-8462-E836C1A3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FF5-8D5C-40FA-903B-07729114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6CC9-E647-492A-B907-10F9ADC91C3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6070-7613-409F-B1BA-9585B1C8B68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.oboz.obozrevatel.com/files/NewsPhoto/2009/09/25/323663/173413_image_large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hyperlink" Target="http://my-shop.ru/_files/product/3/31/303742.jpg" TargetMode="External"/><Relationship Id="rId7" Type="http://schemas.openxmlformats.org/officeDocument/2006/relationships/image" Target="../media/image27.jpeg"/><Relationship Id="rId8" Type="http://schemas.openxmlformats.org/officeDocument/2006/relationships/hyperlink" Target="http://www.playcast.ru/uploads/2010/03/04/1597225.jpg" TargetMode="External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ll-hotels.ru/photos/87625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magiccasino.ru/source/istorija-azartnykh-igr/foto/8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komandagb.ucoz.ru/_fr/0/s5620408.jpg" TargetMode="External"/><Relationship Id="rId6" Type="http://schemas.openxmlformats.org/officeDocument/2006/relationships/image" Target="../media/image31.jpeg"/><Relationship Id="rId7" Type="http://schemas.openxmlformats.org/officeDocument/2006/relationships/hyperlink" Target="http://smesinka.ucoz.ru/_bl/0/52739422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052.radikal.ru/1003/ab/2aa06f72cd9d.jpg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photoshop-master.ru/adds/adds5171/PAULW_Brushset_type1_MUST_CREDIT.jpg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www.child-library.ru/images-adult/tsifri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www.summerboard.ru/images/iphones_wallpapers/71.jpg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www.relef.ru/data/catalog/products/121106.jpg" TargetMode="External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3.nnm.ru/imagez/gallery/8/8/0/a/a/880aa10a355e23d9d830b6fc3c1c2c1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.rutube.ru/thumbs/68/86/688631ffb089fc217bfb95ca9343761c-1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implygate.com/attachments/ruscoins/p1020109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s54.radikal.ru/i144/0902/9f/9730fa96a313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-crimea.info/pictures/h_QTxtEN1c608nlfbu54CAFYogPL9GhyWr_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photoshop-master.ru/adds/brushes/cifri/index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rt-saloon.ru/big/item_2681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allday.ru/uploads/posts/2009-02/1234470156_shutterstock_1914678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6436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6699"/>
                </a:solidFill>
                <a:latin typeface="Garamond"/>
              </a:rPr>
              <a:t>Исследование по теме: «Теория случайностей»</a:t>
            </a:r>
            <a:endParaRPr b="0" lang="en-US" sz="5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76640"/>
            <a:ext cx="856944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Выполнила: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ученица  11 б класса МОУ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«Средняя общеобразовательная школа №1 р.п. Новые Бурасы»                                                                        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Прозорова Дарь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Руководитель: учитель математики                                                  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Боровикова Екатерина Иванов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Можно использовать на элективных курсах по теории вероятност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20791200">
            <a:off x="1331640" y="4365360"/>
            <a:ext cx="1546200" cy="2060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1933800">
            <a:off x="6804000" y="4508640"/>
            <a:ext cx="14479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Картинка 22 из 340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4775040"/>
            <a:ext cx="1849320" cy="2082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50920" y="476280"/>
            <a:ext cx="4800600" cy="2712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20240" y="131040"/>
            <a:ext cx="449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В какую игру больше шансов выигр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48600" y="2476800"/>
            <a:ext cx="34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Отношение к азартным 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148360" y="2924280"/>
            <a:ext cx="3886200" cy="17240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95280" y="4794120"/>
            <a:ext cx="5616720" cy="19036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539640" y="4034520"/>
            <a:ext cx="39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асколько успешно люди играют в азартные игр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Картинка 8 из 6916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35640" y="260280"/>
            <a:ext cx="1360440" cy="193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9" name="" descr="Картинка 16 из 51512">
            <a:hlinkClick r:id="rId8"/>
          </p:cNvPr>
          <p:cNvPicPr/>
          <p:nvPr/>
        </p:nvPicPr>
        <p:blipFill>
          <a:blip r:embed="rId9"/>
          <a:stretch/>
        </p:blipFill>
        <p:spPr>
          <a:xfrm rot="457800">
            <a:off x="7308720" y="765000"/>
            <a:ext cx="1584360" cy="1357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Картинка 16 из 2028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3384720" cy="22114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3141360"/>
            <a:ext cx="583272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Выводы по результатам исследования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общественного мнения об азартных играх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) Игра, в которую больше всего шансов выиграть – карточна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) Среди опрошенных 24% никогда не играли, а 76% –играли хоть раз в жизни. Причём из тех, кто никогда не играл, 38% мужчин и 62%  женщин. Можно сделать вывод, что мужчины играют чащ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) Чаще всего отношение людей к азартным играм отрицательно, однако положительные и нейтральные отзывы тоже присутствую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) 44 человек из 78 опрошенных считают, что шансы выиграть в азартную игру очень малы, причём 37 из них играли в азартные иг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) 32% опрошенных чаще проигрывали, чем выигрывали, а 8% – наоборот, у 42% примерно поровну выигрышей и проигрышей. Значит, выиграть в азартные игры сложнее, чем проиграть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Картинка 44 из 2099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189000"/>
            <a:ext cx="2160360" cy="16221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93" name="" descr="Картинка 84 из 2099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3284640"/>
            <a:ext cx="2683080" cy="3162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94" name="" descr="Картинка 129 из 2099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356000" y="1052640"/>
            <a:ext cx="2808360" cy="19065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Картинка 18 из 2733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Картинка 524 из 2733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38920" y="0"/>
            <a:ext cx="2305080" cy="1938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Картинка 207 из 27338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3716280"/>
            <a:ext cx="3333600" cy="2819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Картинка 128 из 27338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00960" y="3048120"/>
            <a:ext cx="2543040" cy="3809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Картинка 62 из 27338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8360" y="4076640"/>
            <a:ext cx="2160720" cy="2113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7643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Verdana"/>
              </a:rPr>
              <a:t>Вывод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уществует 4 вида определений вероятности: статистическое, классическое, геометрическое, аксиоматическое. Однако мной использовались лишь классическое (для решения комбинаторных задач) и статистическое (для обработки результатов опрос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торская задача составлена и решена с использованием правил теории вероятност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реди азартных игр различают игры случая, пари, игры на ловкость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лотерею «Русское лото» и телеигру «Лови удачу» играть не выгодно, и это можно доказать путем подсчета вероятности выигрыш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 успехе результатов проведенного мной социологического исследования говорит то, что некоторые выводы совпали с выводами ранее проведенных опросов другими людьми, результаты которых я также рассматрива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Garamond"/>
              </a:rPr>
              <a:t>Ресурсы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efimov.mediapg.ru/webmedia_6_art_5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millit.3dn.ru/publ/1-1-0-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mirslovarei.com/content_soc/TEORIJA-SLUCHAJNOSTI-13927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www.i-loto.ru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ru.wikipedia.org/wiki/%D0%97%D0%BE%D0%BB%D0%BE%D1%82%D0%BE%D0%B9_%D0%BA%D0%BB%D1%8E%D1%8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ttp://www.ruslotto.ru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7920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Актуальнос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выбора темы моей работы объясняется тем, что в настоящее время теория вероятностей пользуется всё большей популярностью – её вводят как основной предмет в школе, на неё ссылаются в таких науках, как психология, химия, физика, биолог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Объектом иссле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являются азартные игры, а также        их виды и связь с теорией вероятнос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49192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Verdana"/>
              </a:rPr>
              <a:t>Предметом исследова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являются преимущественно частные случаи азартных иг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Картинка 9 из 505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573360"/>
            <a:ext cx="3384360" cy="1974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2682000">
            <a:off x="3203280" y="306828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8823800">
            <a:off x="5472360" y="3104640"/>
            <a:ext cx="215640" cy="574560"/>
          </a:xfrm>
          <a:prstGeom prst="downArrow">
            <a:avLst>
              <a:gd name="adj1" fmla="val 50000"/>
              <a:gd name="adj2" fmla="val 6661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14172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213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Verdana"/>
              </a:rPr>
              <a:t>лотер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85 из 57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64500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56360" y="328464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4720" y="3284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теле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5805000"/>
            <a:ext cx="836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моего исследования – изучить основы комбинаторики, теории вероятностей, а также научиться применять полученные знания и умения в практической деятельности и повседнев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Немного о теории вероятностей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Теория вероятност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дел математики, изучающий случайные события, случайные величины, их свойства и операции над ни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696040"/>
            <a:ext cx="517176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если бросать монету один раз, то нельзя предсказать, что выпадет герб или циф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осеянное зерно может дать всход, а может и не взой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это наблюдение проводить много раз, то можно заметить закономер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при подбрасывании монеты отношение числа выпадений герба (цифры) к общему числу подбрасываний очень мало отличается от ½, чем больше наблюдений тем ближе к ½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при посеве зерен отношение числа зерен, давших всходы, к общему числу посеянных зерен мало чем отличается от некоторого постоянного числа, с возрастанием общего числа зер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7 из 28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573360"/>
            <a:ext cx="2521080" cy="1287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7020000" y="2637000"/>
            <a:ext cx="50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Картинка 12 из 918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4869000"/>
            <a:ext cx="12589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Вероятность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2" name="Организационная диаграмма 3" descr=""/>
          <p:cNvPicPr/>
          <p:nvPr/>
        </p:nvPicPr>
        <p:blipFill>
          <a:blip r:embed="rId1"/>
          <a:srcRect l="0" t="-2703" r="0" b="-7699"/>
          <a:stretch/>
        </p:blipFill>
        <p:spPr>
          <a:xfrm>
            <a:off x="684360" y="1484280"/>
            <a:ext cx="7775280" cy="2268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3716280"/>
            <a:ext cx="2158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татистической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вероятностью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события А называется, если число испытаний п достаточно большое. Например, при бросании монеты 24 000 раз герб выпал 12 012 ра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3716280"/>
            <a:ext cx="2087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д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лассическим определением вероятностей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подразумевают выбор такого конечного вероятностного пространства, в котором все элементарные исходы равновероят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716280"/>
            <a:ext cx="244800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еометрическом подх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к определению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ероятност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в качестве пространства   элементарных событий рассматривается произвольное множество конечной лебеговой меры на прямой, плоскости или пространстве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3784320"/>
            <a:ext cx="2158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задано пространство элементарных событий 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 и каждому событию 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blng" descr=""/>
          <p:cNvPicPr/>
          <p:nvPr/>
        </p:nvPicPr>
        <p:blipFill>
          <a:blip r:embed="rId2"/>
          <a:stretch/>
        </p:blipFill>
        <p:spPr>
          <a:xfrm>
            <a:off x="7885080" y="472428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653360"/>
            <a:ext cx="2411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авлено в соответствие единственное число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огда говорят, что на событиях в множестве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Е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задана вероятность, а число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Р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 называется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вероятностью события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Картинка 5 из 3924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50864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Картинка 17 из 2898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249228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Решение простейших комбинаторных задач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адачу имеет смысл называть </a:t>
            </a:r>
            <a:r>
              <a:rPr b="0" i="1" lang="en-US" sz="2000" spc="-1" strike="noStrike">
                <a:solidFill>
                  <a:srgbClr val="ff9900"/>
                </a:solidFill>
                <a:latin typeface="Verdana"/>
              </a:rPr>
              <a:t>комбинаторной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если ее решение состоит в переборе элементов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Как видим, такое определение описывает не саму задачу, а скорее её решение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851920"/>
            <a:ext cx="547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Задач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колько различных шестизначных чисел можно составить из цифр 0, 1, 2, 3, 4, 5, если цифры в числе не повторяю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) Найдем количество всех перестановок из этих цифр: P(6)=6!=7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) 0 не может стоять впереди числа, поэтому от этого числа необходимо отнять количество перестановок, при котором 0 стоит впереди. А это P(5)=5!=1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(6)-P(5)=720-120=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5012640"/>
            <a:ext cx="525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Задач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Переплетчик должен переплести 12 различных книг в красный, зеленый и коричневые переплеты. Сколькими способами он может это сдела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Решение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Имеется 12 книг и 3 цвета, значит по правилу произведения возможно 12·3=36 вариантов перепл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Азартные  игры и их виды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Азартная игр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— игра, в которой выигрыш зависит не от искусства играющих, а от случа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694240" y="270756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зартные игры делятся 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59040" y="3499560"/>
            <a:ext cx="1731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гры случа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320" y="3499560"/>
            <a:ext cx="837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ар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44960" y="3499560"/>
            <a:ext cx="236304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гры на ловкост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8496000">
            <a:off x="1979280" y="3141000"/>
            <a:ext cx="792000" cy="144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59400">
            <a:off x="5866920" y="3141720"/>
            <a:ext cx="792360" cy="144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212360" y="314064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1728720" cy="136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40000" y="5369040"/>
            <a:ext cx="1655640" cy="1209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1674720" cy="14367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588000" y="5229360"/>
            <a:ext cx="1871640" cy="1411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04000" y="115920"/>
            <a:ext cx="2165400" cy="2165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Исследование «случайного» </a:t>
            </a: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Лотерея «Русское лото» </a:t>
            </a:r>
            <a:br>
              <a:rPr sz="2800"/>
            </a:br>
            <a:endParaRPr b="0" lang="en-US" sz="2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129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ные 679 и 681 тиражей лотере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Кол-во билетов, участвовавших в тираж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Призовой фонд игр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Стоимость билет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Кол-во выигрышных билет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Выигрыш каждого из них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" indent="-442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ff"/>
                </a:solidFill>
                <a:latin typeface="Verdana"/>
              </a:rPr>
              <a:t>Номера и порядок выпадения бочонк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956320"/>
            <a:ext cx="230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жекпот – 3550000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бышка – 152236 руб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тираже участвовало 259620 билет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зовой фонд игры 6490500 руб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играли 35897 бил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5960" y="24915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679 тираж</a:t>
            </a:r>
            <a:r>
              <a:rPr b="0" lang="en-US" sz="1800" spc="-1" strike="noStrike">
                <a:solidFill>
                  <a:srgbClr val="00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57960" y="24915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681 тираж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22920" y="2850480"/>
            <a:ext cx="252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жекпот – 84000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бышка – 204267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тираже участвовало 274213 билет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зовой фонд игры 6855325 руб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играли 83113 биле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036040"/>
            <a:ext cx="8893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Verdana"/>
              </a:rPr>
              <a:t>Сравнение результа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) 14% &lt; 30%. Вероятность купить выигрышный билет в 681 тираже была выше, чем в 679. Это можно объяснить тем, что бочонки выпадают случайным образом, то есть количество выигрышных билетов может различаться в разных тиражах. Так, например, в 679 тираже их было примерно в 2,5 раза меньше, чем в 681 тираж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) 26,05р. ≈ 26,28р. Средний результат примерно одинаковый, ведь лотерея была одна и та же (с одинаковыми правилами). Однако небольшая разница обусловлена тем, что вероятность купить выигрышный билет в 681 тираже была выше, чем в 67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2087640" cy="15652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Картинка 3 из 96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3860640"/>
            <a:ext cx="1023840" cy="2659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Картинка 3 из 67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1413000"/>
            <a:ext cx="3025800" cy="1884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Телеигры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69944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авила иг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ть задание иг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адать 3 номера из 16-ти (суперигр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звониться (в эфир попадает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1 человек из 400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озвонившихся в течение 6-10 мин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788000" y="3500280"/>
                <a:ext cx="1879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0,0025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2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39640" y="3313800"/>
            <a:ext cx="623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, вы выполнили задание правильно (обычно оно достаточно простое). Посмотрим, каковы шансы попасть в эфи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468360" y="375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68360" y="4508640"/>
                <a:ext cx="1000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!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68360" y="4941720"/>
                <a:ext cx="36288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324000" y="3750120"/>
            <a:ext cx="604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читаем, какова вероятность угадать 3 числа из 16-ти. Для этого сначала посчитаем, сколькими способами можно выбрать 3 числа из 16-ти. Для этого подставим значения в формулу расчета числа сочета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924360" y="3390840"/>
            <a:ext cx="63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32000" y="494064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2000" y="53730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еперь вероятность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22536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56000" y="5373720"/>
                <a:ext cx="1857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0,0018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18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225360" y="362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5659920"/>
            <a:ext cx="73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еперь посмотрим, сколько же человек  может выиграть. Для этого перемножим  вероят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39640" y="6165720"/>
                <a:ext cx="20764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4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381040" y="6307560"/>
            <a:ext cx="44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следовательно, выигрывает 1 человек из 224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2771640" y="115920"/>
            <a:ext cx="2448000" cy="182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8244000" y="3213000"/>
            <a:ext cx="215640" cy="649440"/>
          </a:xfrm>
          <a:prstGeom prst="downArrow">
            <a:avLst>
              <a:gd name="adj1" fmla="val 50000"/>
              <a:gd name="adj2" fmla="val 7529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Азартные игры и общество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анкете присутствуют такие вопрос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. Укажите Ваш возраст, пол и род занят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. Как вы относитесь к азартным играм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. Как вы думаете, насколько реально ли выиграть в какую-либо из  них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. Укажите, в какую из азартных игр, на Ваш взгляд, больше шансов выиграть? 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5. Играли ли Вы когда-нибудь в азартные игры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6. Как часто Вы играете в азартные игры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7. В какие азартные игры Вы когда-либо играли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8. Насколько успешно Вы играли в азартные игры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9. Назовите свой наибольший выигрыш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0. Назовите свой  наибольший проигрыш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просе участвовало 78 человек. Обработанные данные были представлены в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иде диаграмм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2808360" cy="16034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721440" y="4507560"/>
            <a:ext cx="29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деление опрошенных по по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96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62400" y="4553640"/>
            <a:ext cx="325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личество играющих и неигр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64000" y="4941720"/>
            <a:ext cx="2971800" cy="160020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53:59Z</dcterms:created>
  <dc:creator>user1</dc:creator>
  <dc:description/>
  <dc:language>en-US</dc:language>
  <cp:lastModifiedBy>1</cp:lastModifiedBy>
  <dcterms:modified xsi:type="dcterms:W3CDTF">2010-09-17T14:15:38Z</dcterms:modified>
  <cp:revision>8</cp:revision>
  <dc:subject/>
  <dc:title>Теория случайностей</dc:title>
</cp:coreProperties>
</file>