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9.jpeg" ContentType="image/jpeg"/>
  <Override PartName="/ppt/media/image2.gif" ContentType="image/gif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9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1D6-D888-4348-9D80-20EE5430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7FC-CABE-4B38-8D2B-73339FCE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556-A0CC-4162-B568-8939BCCC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B21-14C0-4DFA-BE4C-A5BA6DB5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F55C-9F21-4CF5-9D47-9C7174E8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5425-5F3F-4182-BCD7-61DA0637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822-02B5-4629-8D4E-A22CD36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3A0F-E4B0-4971-AD6A-8237685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E90-8129-422B-90FA-E0F40CC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EF3-4FF8-4BDE-BBC5-5AE82F2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812-D9D8-4C63-824B-E046950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A00-A8F2-4E37-BA73-E767833A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6E4-F81E-46F1-B6D7-802797C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688D-50C0-4D1D-AED2-300ACF4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6F2-3344-4D49-A538-23E94DF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3047-9E8C-4551-A9F9-50FAED2D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269B-520E-4A19-8006-3927B7AA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09B-1A1A-4B81-9F21-EAD4845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BF5-D6C0-4973-8B57-C6AEDA2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762-0D32-463B-88D7-A53BB60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849-9B83-42BD-A447-E33CC9C1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D3B-112D-4F2A-9DE3-FA4C64E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F07-0190-43DE-9074-6141B51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8D3-9CD2-4952-A4F2-3C7A1B0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B68-9ABC-45C9-B2A0-E34B341B3D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98E2-9858-4181-81CA-BE6B64BE68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.oboz.obozrevatel.com/files/NewsPhoto/2009/09/25/323663/173413_image_large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hyperlink" Target="http://my-shop.ru/_files/product/3/31/303742.jpg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www.playcast.ru/uploads/2010/03/04/1597225.jpg" TargetMode="External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l-hotels.ru/photos/87625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magiccasino.ru/source/istorija-azartnykh-igr/foto/8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komandagb.ucoz.ru/_fr/0/s5620408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smesinka.ucoz.ru/_bl/0/52739422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52.radikal.ru/1003/ab/2aa06f72cd9d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photoshop-master.ru/adds/adds5171/PAULW_Brushset_type1_MUST_CREDIT.jp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child-library.ru/images-adult/tsifri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summerboard.ru/images/iphones_wallpapers/71.jpg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www.relef.ru/data/catalog/products/121106.jpg" TargetMode="External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3.nnm.ru/imagez/gallery/8/8/0/a/a/880aa10a355e23d9d830b6fc3c1c2c1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.rutube.ru/thumbs/68/86/688631ffb089fc217bfb95ca9343761c-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mplygate.com/attachments/ruscoins/p1020109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s54.radikal.ru/i144/0902/9f/9730fa96a313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-crimea.info/pictures/h_QTxtEN1c608nlfbu54CAFYogPL9GhyWr_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hotoshop-master.ru/adds/brushes/cifri/index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-saloon.ru/big/item_268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allday.ru/uploads/posts/2009-02/1234470156_shutterstock_1914678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6436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6699"/>
                </a:solidFill>
                <a:latin typeface="Garamond"/>
              </a:rPr>
              <a:t>Исследование по теме: «Теория случайностей»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76640"/>
            <a:ext cx="856944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ыполнила: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ученица  11 б класса МОУ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«Средняя общеобразовательная школа №1 р.п. Новые Бурасы»                                                                       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Прозорова Дарь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уководитель: учитель математики                                                 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Боровикова Екатерина Иван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Можно использовать на элективных курсах по теории вероят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791200">
            <a:off x="1331640" y="4365360"/>
            <a:ext cx="1546200" cy="2060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933800">
            <a:off x="6804000" y="4508640"/>
            <a:ext cx="14479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Картинка 22 из 340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775040"/>
            <a:ext cx="1849320" cy="2082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4800600" cy="2712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20240" y="13104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В какую игру больше шансов выигр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48600" y="2476800"/>
            <a:ext cx="34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Отношение к азартным 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3886200" cy="17240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95280" y="4794120"/>
            <a:ext cx="5616720" cy="19036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9640" y="4034520"/>
            <a:ext cx="39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сколько успешно люди играют в азартные иг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Картинка 8 из 6916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260280"/>
            <a:ext cx="1360440" cy="193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9" name="" descr="Картинка 16 из 51512">
            <a:hlinkClick r:id="rId8"/>
          </p:cNvPr>
          <p:cNvPicPr/>
          <p:nvPr/>
        </p:nvPicPr>
        <p:blipFill>
          <a:blip r:embed="rId9"/>
          <a:stretch/>
        </p:blipFill>
        <p:spPr>
          <a:xfrm rot="457800">
            <a:off x="7308720" y="765000"/>
            <a:ext cx="1584360" cy="1357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16 из 202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384720" cy="22114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3141360"/>
            <a:ext cx="583272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Выводы по результатам исследован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общественного мнения об азартных игра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 Игра, в которую больше всего шансов выиграть – карточн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 Среди опрошенных 24% никогда не играли, а 76% –играли хоть раз в жизни. Причём из тех, кто никогда не играл, 38% мужчин и 62%  женщин. Можно сделать вывод, что мужчины играют чащ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 Чаще всего отношение людей к азартным играм отрицательно, однако положительные и нейтральные отзывы тоже присутствую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 44 человек из 78 опрошенных считают, что шансы выиграть в азартную игру очень малы, причём 37 из них играли в азартные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 32% опрошенных чаще проигрывали, чем выигрывали, а 8% – наоборот, у 42% примерно поровну выигрышей и проигрышей. Значит, выиграть в азартные игры сложнее, чем проиграть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Картинка 44 из 209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89000"/>
            <a:ext cx="2160360" cy="16221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3" name="" descr="Картинка 84 из 209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84640"/>
            <a:ext cx="2683080" cy="3162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94" name="" descr="Картинка 129 из 209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6000" y="1052640"/>
            <a:ext cx="2808360" cy="1906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Картинка 18 из 273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Картинка 524 из 2733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38920" y="0"/>
            <a:ext cx="2305080" cy="1938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Картинка 207 из 2733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3716280"/>
            <a:ext cx="3333600" cy="281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128 из 2733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00960" y="304812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Картинка 62 из 27338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8360" y="4076640"/>
            <a:ext cx="2160720" cy="2113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7643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Verdana"/>
              </a:rPr>
              <a:t>Вывод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ществует 4 вида определений вероятности: статистическое, классическое, геометрическое, аксиоматическое. Однако мной использовались лишь классическое (для решения комбинаторных задач) и статистическое (для обработки результатов опрос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торская задача составлена и решена с использованием правил теории вероятнос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реди азартных игр различают игры случая, пари, игры на ловкость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лотерею «Русское лото» и телеигру «Лови удачу» играть не выгодно, и это можно доказать путем подсчета вероятности выигрыш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успехе результатов проведенного мной социологического исследования говорит то, что некоторые выводы совпали с выводами ранее проведенных опросов другими людьми, результаты которых я также рассматрива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Garamond"/>
              </a:rPr>
              <a:t>Ресурсы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efimov.mediapg.ru/webmedia_6_art_5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millit.3dn.ru/publ/1-1-0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mirslovarei.com/content_soc/TEORIJA-SLUCHAJNOSTI-13927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www.i-loto.r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ru.wikipedia.org/wiki/%D0%97%D0%BE%D0%BB%D0%BE%D1%82%D0%BE%D0%B9_%D0%BA%D0%BB%D1%8E%D1%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www.ruslotto.r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7920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ыбора темы моей работы объясняется тем, что в настоящее время теория вероятностей пользуется всё большей популярностью – её вводят как основной предмет в школе, на неё ссылаются в таких науках, как психология, химия, физика, биолог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Объектом иссле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являются азартные игры, а также        их виды и связь с теорией вероятно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49192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Предметом исследов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являются преимущественно частные случаи азартных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а 9 из 505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573360"/>
            <a:ext cx="3384360" cy="197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2682000">
            <a:off x="3203280" y="306828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823800">
            <a:off x="5472360" y="3104640"/>
            <a:ext cx="215640" cy="574560"/>
          </a:xfrm>
          <a:prstGeom prst="downArrow">
            <a:avLst>
              <a:gd name="adj1" fmla="val 50000"/>
              <a:gd name="adj2" fmla="val 6661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141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Verdana"/>
              </a:rPr>
              <a:t>лотер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85 из 5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64500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6360" y="328464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28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теле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805000"/>
            <a:ext cx="83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моего исследования – изучить основы комбинаторики, теории вероятностей, а также научиться применять полученные знания и умения в практической деятельности и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Немного о теории вероятностей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еория вероятност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дел математики, изучающий случайные события, случайные величины, их свойства и операции над ни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96040"/>
            <a:ext cx="51717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сли бросать монету один раз, то нельзя предсказать, что выпадет герб или циф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сеянное зерно может дать всход, а может и не взо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это наблюдение проводить много раз, то можно заметить закономер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и подбрасывании монеты отношение числа выпадений герба (цифры) к общему числу подбрасываний очень мало отличается от ½, чем больше наблюдений тем ближе к 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при посеве зерен отношение числа зерен, давших всходы, к общему числу посеянных зерен мало чем отличается от некоторого постоянного числа, с возрастанием общего числа зер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7 из 28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573360"/>
            <a:ext cx="2521080" cy="128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020000" y="2637000"/>
            <a:ext cx="50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Картинка 12 из 918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4869000"/>
            <a:ext cx="1258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Вероятность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2" name="Организационная диаграмма 3" descr=""/>
          <p:cNvPicPr/>
          <p:nvPr/>
        </p:nvPicPr>
        <p:blipFill>
          <a:blip r:embed="rId1"/>
          <a:srcRect l="0" t="-2703" r="0" b="-7699"/>
          <a:stretch/>
        </p:blipFill>
        <p:spPr>
          <a:xfrm>
            <a:off x="684360" y="1484280"/>
            <a:ext cx="7775280" cy="226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716280"/>
            <a:ext cx="2158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татистическо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вероятностью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события А называется, если число испытаний п достаточно большое. Например, при бросании монеты 24 000 раз герб выпал 12 012 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71628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д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лассическим определением вероятносте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подразумевают выбор такого конечного вероятностного пространства, в котором все элементарные исходы равновероят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716280"/>
            <a:ext cx="244800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еометрическом подх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к определению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роят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 качестве пространства   элементарных событий рассматривается произвольное множество конечной лебеговой меры на прямой, плоскости или пространств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3784320"/>
            <a:ext cx="215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задано пространство элементарных событий 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 и каждому событию 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lng" descr=""/>
          <p:cNvPicPr/>
          <p:nvPr/>
        </p:nvPicPr>
        <p:blipFill>
          <a:blip r:embed="rId2"/>
          <a:stretch/>
        </p:blipFill>
        <p:spPr>
          <a:xfrm>
            <a:off x="7885080" y="47242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653360"/>
            <a:ext cx="2411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влено в соответствие единственное число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гда говорят, что на событиях в множестве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задана вероятность, а число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вероятностью событ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5 из 3924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17 из 2898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49228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Решение простейших комбинаторных задач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дачу имеет смысл называть </a:t>
            </a:r>
            <a:r>
              <a:rPr b="0" i="1" lang="en-US" sz="2000" spc="-1" strike="noStrike">
                <a:solidFill>
                  <a:srgbClr val="ff9900"/>
                </a:solidFill>
                <a:latin typeface="Verdana"/>
              </a:rPr>
              <a:t>комбинаторной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если ее решение состоит в переборе элементо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Как видим, такое определение описывает не саму задачу, а скорее её решение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851920"/>
            <a:ext cx="54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колько различных шестизначных чисел можно составить из цифр 0, 1, 2, 3, 4, 5, если цифры в числе не повторяю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) Найдем количество всех перестановок из этих цифр: P(6)=6!=7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) 0 не может стоять впереди числа, поэтому от этого числа необходимо отнять количество перестановок, при котором 0 стоит впереди. А это P(5)=5!=1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(6)-P(5)=720-120=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5012640"/>
            <a:ext cx="525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Задач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Переплетчик должен переплести 12 различных книг в красный, зеленый и коричневые переплеты. Сколькими способами он может это сдела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Имеется 12 книг и 3 цвета, значит по правилу произведения возможно 12·3=36 вариантов перепл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Азартные  игры и их виды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зартная игр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игра, в которой выигрыш зависит не от искусства играющих, а от случа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694240" y="27075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зартные игры делятся 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9040" y="3499560"/>
            <a:ext cx="1731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гры случа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320" y="3499560"/>
            <a:ext cx="837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р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4960" y="3499560"/>
            <a:ext cx="23630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гры на ловкост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496000">
            <a:off x="1979280" y="3141000"/>
            <a:ext cx="792000" cy="144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59400">
            <a:off x="5866920" y="3141720"/>
            <a:ext cx="792360" cy="144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12360" y="314064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8720" cy="136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40000" y="5369040"/>
            <a:ext cx="1655640" cy="120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1674720" cy="14367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588000" y="5229360"/>
            <a:ext cx="1871640" cy="141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165400" cy="2165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Исследование «случайного»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Лотерея «Русское лото» </a:t>
            </a:r>
            <a:br>
              <a:rPr sz="2800"/>
            </a:br>
            <a:endParaRPr b="0" lang="en-US" sz="2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129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ные 679 и 681 тиражей лотере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Кол-во билетов, участвовавших в тираж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Призовой фонд игр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Стоимость билет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Кол-во выигрышных билет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Выигрыш каждого из ни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Номера и порядок выпадения бочон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956320"/>
            <a:ext cx="230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жекпот – 35500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бышка – 152236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тираже участвовало 259620 билет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овой фонд игры 6490500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играли 35897 бил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5960" y="2491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679 тираж</a:t>
            </a:r>
            <a:r>
              <a:rPr b="0" lang="en-US" sz="18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57960" y="2491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681 тираж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2920" y="2850480"/>
            <a:ext cx="252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жекпот – 840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бышка – 204267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тираже участвовало 274213 биле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овой фонд игры 6855325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играли 83113 биле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036040"/>
            <a:ext cx="889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Verdana"/>
              </a:rPr>
              <a:t>Сравнение результа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14% &lt; 30%. Вероятность купить выигрышный билет в 681 тираже была выше, чем в 679. Это можно объяснить тем, что бочонки выпадают случайным образом, то есть количество выигрышных билетов может различаться в разных тиражах. Так, например, в 679 тираже их было примерно в 2,5 раза меньше, чем в 681 тираж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26,05р. ≈ 26,28р. Средний результат примерно одинаковый, ведь лотерея была одна и та же (с одинаковыми правилами). Однако небольшая разница обусловлена тем, что вероятность купить выигрышный билет в 681 тираже была выше, чем в 67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2087640" cy="1565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3 из 96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3860640"/>
            <a:ext cx="1023840" cy="2659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3 из 67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413000"/>
            <a:ext cx="3025800" cy="1884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Телеигры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9944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авила и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ть задание и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адать 3 номера из 16-ти (суперигр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вониться (в эфир попадает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 человек из 4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озвонившихся в течение 6-10 м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88000" y="3500280"/>
                <a:ext cx="1879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0,002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2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39640" y="3313800"/>
            <a:ext cx="623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, вы выполнили задание правильно (обычно оно достаточно простое). Посмотрим, каковы шансы попасть в эфи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6836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68360" y="4508640"/>
                <a:ext cx="1000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8360" y="4941720"/>
                <a:ext cx="3628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24000" y="3750120"/>
            <a:ext cx="604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читаем, какова вероятность угадать 3 числа из 16-ти. Для этого сначала посчитаем, сколькими способами можно выбрать 3 числа из 16-ти. Для этого подставим значения в формулу расчета числа сочет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924360" y="339084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2000" y="494064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2000" y="537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перь вероятность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253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56000" y="5373720"/>
                <a:ext cx="1857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0,001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1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225360" y="36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659920"/>
            <a:ext cx="73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перь посмотрим, сколько же человек  может выиграть. Для этого перемножим  вероя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9640" y="6165720"/>
                <a:ext cx="20764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4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381040" y="6307560"/>
            <a:ext cx="44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ледовательно, выигрывает 1 человек из 224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771640" y="115920"/>
            <a:ext cx="2448000" cy="182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8244000" y="321300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Азартные игры и общество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анкете присутствуют такие вопрос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. Укажите Ваш возраст, пол и род занят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. Как вы относитесь к азартным игра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. Как вы думаете, насколько реально ли выиграть в какую-либо из  них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. Укажите, в какую из азартных игр, на Ваш взгляд, больше шансов выиграть? 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5. Играли ли Вы когда-нибудь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6. Как часто Вы играете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7. В какие азартные игры Вы когда-либо играл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8. Насколько успешно Вы играли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9. Назовите свой наибольший выигрыш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0. Назовите свой  наибольший проигрыш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просе участвовало 78 человек. Обработанные данные были представлены в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иде диаграм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2808360" cy="16034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721440" y="4507560"/>
            <a:ext cx="29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ение опрошенных по по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9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2400" y="4553640"/>
            <a:ext cx="32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личество играющих и неигр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64000" y="4941720"/>
            <a:ext cx="2971800" cy="16002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53:59Z</dcterms:created>
  <dc:creator>user1</dc:creator>
  <dc:description/>
  <dc:language>en-US</dc:language>
  <cp:lastModifiedBy>1</cp:lastModifiedBy>
  <dcterms:modified xsi:type="dcterms:W3CDTF">2010-09-17T14:15:38Z</dcterms:modified>
  <cp:revision>8</cp:revision>
  <dc:subject/>
  <dc:title>Теория случайностей</dc:title>
</cp:coreProperties>
</file>