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9887-555F-4428-83B0-941FE3463F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79B0-6769-4BFC-9584-B1B5E90EE3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B3D0-C651-420D-A780-D52D48ACFF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F115-8D6A-4B04-823A-DB79E71090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9F9A-45B6-46DE-8C19-5B9053AA72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DD69-14F9-452F-B39E-55CB112683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168B-3FDE-4A5C-9298-8B33C0FE6F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FF2D-374E-4149-92BE-AFE800B9F9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4EFE-B601-43F8-8F04-6B2974621B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44E9-09AB-4B4A-8DAD-3AC091EAC8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BA08-6F6B-40AA-8428-F3989E2ACA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A758-5784-4696-8D67-6DB971CE0B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E3A9-2C0B-4279-AF39-CD60C31CFE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0025-3F44-4C79-B0AC-61906E327B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D6B8-2503-475F-99C5-07731DA8E2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E211-8397-4811-854D-E613A455FE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9596-63B8-4B80-B3F5-586CAB2D39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610F-A212-458F-B7BE-CC5C98B7E0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31BC-60D4-4F96-A41F-EE521A94E1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BFFC-92C8-4A3A-8E3A-F4BD0485B4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BC9A-2921-4E82-BEF3-F30A57A5CD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0C44-042D-4C6F-BCC7-D20DD14F99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29D5-3247-495B-9919-E2CC7CAC83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4521-D872-4945-8E00-81EB2E75DD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7AB6-5E32-4EAE-BE86-905DFFABEB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E653-8950-43A8-A6A5-DB2687E382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EC0F-A86E-489B-899D-E94F2F0866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F060-3080-473E-A6D5-CF3453BC04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5334-41CF-442D-8F76-805EBB9CF1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EB01-AEF0-4341-9CEB-29635ADFD7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130C-11F1-4F1E-829B-7762E73B87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87D7-23DF-4AD2-868D-F6A2ECC05A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6890-BECC-40EB-A088-86D13C53DA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38CC-121A-43CF-A2AC-55DA48272B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D694-DC95-4204-80F1-2428F4DF82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7093-B37E-4B0C-AEA6-8AC299AB9E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680A-9E32-46E0-91CE-BDDBF57A74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65F4-4E2A-4FDA-A1B5-1CD2E5F9BF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B322-0539-47A2-9120-DA13E12983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F8FB-4848-486B-8879-DE7A2ACFEA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1D29-F932-4E9E-B7DD-564C72D161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7F63-4C25-4CC7-A722-061A2F6F64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410E-0A58-49D0-B2FE-6CA0A3D799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0515-F17A-4436-8005-113942DDC5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C2E1-4352-492F-BF94-634E5543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B070-D8C1-4569-B210-EB8564A1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AAF6-1978-47E4-8605-6284287C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D85-3074-465C-8590-4922AEB0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D0D0-6006-413F-8517-FB88D703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A7D2-0079-45C9-9EEB-18402442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1EE7-C559-4DB1-BA06-B22BB708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B549-B342-45FD-850D-68BEC2EB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B2B5-2957-4F7B-8347-2CFB72D8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064A-8171-4B21-B5C0-F21C0269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C885-1E34-4D79-AC25-4BEA4E5F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7E17-F253-4C0D-9D93-90956F7B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74DC-3C5E-4BF6-ACCE-0B09AF1B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B4EB-935A-4868-9456-F73A63C8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74B3-4728-4AB5-9E9A-C8E70C4F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4EF4-5628-4D0E-B12F-8FED52D3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241D-06FC-495B-9DB6-EBDEBE64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0F0E-680E-464A-9F62-46A50F4A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4350-6CB7-4F1A-9054-C95B9866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9F51-9C22-4A2C-A393-966429C2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EAB7-FC41-42E2-BE38-000C147B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D6D-77FE-4430-8998-C9141204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F20F-5722-463C-A0B1-97CA0AE6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29ED-B0F6-4839-BD63-D29DC277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D1F9-E182-40FF-94D6-844737F73A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6BB5-EE00-4337-BCA4-5C0ED6E266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e4005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Times New Roman"/>
              </a:rPr>
              <a:t>Непредельные углеводороды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e4005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Подготовила Панфилова Л.АУчитель химии МБОУ СОШ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087280" y="0"/>
            <a:ext cx="7056360" cy="6858000"/>
          </a:xfrm>
          <a:prstGeom prst="rect">
            <a:avLst/>
          </a:prstGeom>
          <a:gradFill rotWithShape="0">
            <a:gsLst>
              <a:gs pos="0">
                <a:srgbClr val="9ffdd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Присоединение </a:t>
            </a:r>
            <a:r>
              <a:rPr b="0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галогенводородов 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к </a:t>
            </a:r>
            <a:r>
              <a:rPr b="0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несимметричным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алкенам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 происходит по правилу 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В.В. Марковникова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Правило Марковникова           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При присоединении </a:t>
            </a:r>
            <a:r>
              <a:rPr b="0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полярных молекул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 (Н</a:t>
            </a:r>
            <a:r>
              <a:rPr b="0" lang="en-US" sz="2000" spc="-1" strike="noStrike">
                <a:solidFill>
                  <a:srgbClr val="12ae2c"/>
                </a:solidFill>
                <a:latin typeface="Times New Roman"/>
              </a:rPr>
              <a:t>Hal, H</a:t>
            </a:r>
            <a:r>
              <a:rPr b="0" lang="en-US" sz="12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12ae2c"/>
                </a:solidFill>
                <a:latin typeface="Times New Roman"/>
              </a:rPr>
              <a:t>O)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 к </a:t>
            </a:r>
            <a:r>
              <a:rPr b="0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несимметричным алкенам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 атом 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водорода 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присоединяется к 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атому углерода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у кратной связи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, связанному с 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большим числом атомов водорода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ae2c"/>
                </a:solidFill>
                <a:latin typeface="Times New Roman"/>
              </a:rPr>
              <a:t>CH</a:t>
            </a:r>
            <a:r>
              <a:rPr b="0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12ae2c"/>
                </a:solidFill>
                <a:latin typeface="Times New Roman"/>
              </a:rPr>
              <a:t>-CH=</a:t>
            </a:r>
            <a:r>
              <a:rPr b="1" lang="en-US" sz="2000" spc="-1" strike="noStrike" u="sng">
                <a:solidFill>
                  <a:srgbClr val="12ae2c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12ae2c"/>
                </a:solidFill>
                <a:latin typeface="Times New Roman"/>
              </a:rPr>
              <a:t>H</a:t>
            </a:r>
            <a:r>
              <a:rPr b="0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12ae2c"/>
                </a:solidFill>
                <a:latin typeface="Times New Roman"/>
              </a:rPr>
              <a:t> +HBr →CH</a:t>
            </a:r>
            <a:r>
              <a:rPr b="0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12ae2c"/>
                </a:solidFill>
                <a:latin typeface="Times New Roman"/>
              </a:rPr>
              <a:t>-CHBr</a:t>
            </a:r>
            <a:r>
              <a:rPr b="1" lang="en-US" sz="2000" spc="-1" strike="noStrike" u="sng">
                <a:solidFill>
                  <a:srgbClr val="12ae2c"/>
                </a:solidFill>
                <a:uFillTx/>
                <a:latin typeface="Times New Roman"/>
              </a:rPr>
              <a:t>-C</a:t>
            </a:r>
            <a:r>
              <a:rPr b="0" lang="en-US" sz="2000" spc="-1" strike="noStrike">
                <a:solidFill>
                  <a:srgbClr val="12ae2c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12ae2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пропен                     2-бромпроп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Гидратация</a:t>
            </a:r>
            <a:r>
              <a:rPr b="0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 (+Н</a:t>
            </a:r>
            <a:r>
              <a:rPr b="0" lang="ru-RU" sz="1400" spc="-1" strike="noStrike" u="sng">
                <a:solidFill>
                  <a:srgbClr val="12ae2c"/>
                </a:solidFill>
                <a:uFillTx/>
                <a:latin typeface="Times New Roman"/>
              </a:rPr>
              <a:t>2</a:t>
            </a:r>
            <a:r>
              <a:rPr b="0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О) происходит по правилу Марковни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СН</a:t>
            </a:r>
            <a:r>
              <a:rPr b="0" lang="ru-RU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=СН</a:t>
            </a:r>
            <a:r>
              <a:rPr b="0" lang="ru-RU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 +Н</a:t>
            </a:r>
            <a:r>
              <a:rPr b="0" lang="ru-RU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О →СН</a:t>
            </a:r>
            <a:r>
              <a:rPr b="0" lang="ru-RU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-СН</a:t>
            </a:r>
            <a:r>
              <a:rPr b="0" lang="ru-RU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ОН (в кислой среде при </a:t>
            </a:r>
            <a:r>
              <a:rPr b="0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нагревании)            этанол (первичный спир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=СН-СН</a:t>
            </a:r>
            <a:r>
              <a:rPr b="0" lang="ru-RU" sz="1400" spc="-1" strike="noStrike">
                <a:solidFill>
                  <a:srgbClr val="12ae2c"/>
                </a:solidFill>
                <a:latin typeface="Times New Roman"/>
              </a:rPr>
              <a:t>2-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СН</a:t>
            </a:r>
            <a:r>
              <a:rPr b="0" lang="ru-RU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+Н</a:t>
            </a:r>
            <a:r>
              <a:rPr b="0" lang="ru-RU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О→</a:t>
            </a:r>
            <a:r>
              <a:rPr b="1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-СНОН-СН</a:t>
            </a:r>
            <a:r>
              <a:rPr b="0" lang="ru-RU" sz="16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-СН</a:t>
            </a:r>
            <a:r>
              <a:rPr b="0" lang="ru-RU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бутен-1                         бутанол-2 ( вторичный</a:t>
            </a: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спирт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ae2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. Реакция окисления</a:t>
            </a:r>
            <a:r>
              <a:rPr b="0" lang="en-US" sz="2400" spc="-1" strike="noStrike">
                <a:solidFill>
                  <a:srgbClr val="12ae2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   </a:t>
            </a:r>
            <a:r>
              <a:rPr b="1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Горение: а) полное ( избыток О</a:t>
            </a:r>
            <a:r>
              <a:rPr b="1" lang="ru-RU" sz="1400" spc="-1" strike="noStrike" u="sng">
                <a:solidFill>
                  <a:srgbClr val="12ae2c"/>
                </a:solidFill>
                <a:uFillTx/>
                <a:latin typeface="Times New Roman"/>
              </a:rPr>
              <a:t>2</a:t>
            </a:r>
            <a:r>
              <a:rPr b="1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С</a:t>
            </a:r>
            <a:r>
              <a:rPr b="1" lang="ru-RU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Н</a:t>
            </a:r>
            <a:r>
              <a:rPr b="1" lang="ru-RU" sz="1400" spc="-1" strike="noStrike">
                <a:solidFill>
                  <a:srgbClr val="12ae2c"/>
                </a:solidFill>
                <a:latin typeface="Times New Roman"/>
              </a:rPr>
              <a:t>4 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+3О</a:t>
            </a:r>
            <a:r>
              <a:rPr b="1" lang="ru-RU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→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 2СО</a:t>
            </a:r>
            <a:r>
              <a:rPr b="1" lang="ru-RU" sz="1400" spc="-1" strike="noStrike">
                <a:solidFill>
                  <a:srgbClr val="12ae2c"/>
                </a:solidFill>
                <a:latin typeface="Times New Roman"/>
              </a:rPr>
              <a:t>2 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+2Н</a:t>
            </a:r>
            <a:r>
              <a:rPr b="1" lang="ru-RU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ae2c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340000" y="404280"/>
            <a:ext cx="6804000" cy="5977080"/>
          </a:xfrm>
          <a:prstGeom prst="rect">
            <a:avLst/>
          </a:prstGeom>
          <a:gradFill rotWithShape="0">
            <a:gsLst>
              <a:gs pos="0">
                <a:srgbClr val="9ffdd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99"/>
            </a:solidFill>
            <a:miter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б) неполное( недостаток кислор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ae2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C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 +2O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→2CO + 2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C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+ O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→2C +2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в)под действием окислителей типа</a:t>
            </a:r>
            <a:r>
              <a:rPr b="1" lang="en-US" sz="2000" spc="-1" strike="noStrike" u="sng">
                <a:solidFill>
                  <a:srgbClr val="12ae2c"/>
                </a:solidFill>
                <a:uFillTx/>
                <a:latin typeface="Times New Roman"/>
              </a:rPr>
              <a:t> KMnO</a:t>
            </a:r>
            <a:r>
              <a:rPr b="1" lang="en-US" sz="1400" spc="-1" strike="noStrike" u="sng">
                <a:solidFill>
                  <a:srgbClr val="12ae2c"/>
                </a:solidFill>
                <a:uFillTx/>
                <a:latin typeface="Times New Roman"/>
              </a:rPr>
              <a:t>4</a:t>
            </a:r>
            <a:r>
              <a:rPr b="1" lang="en-US" sz="2000" spc="-1" strike="noStrike" u="sng">
                <a:solidFill>
                  <a:srgbClr val="12ae2c"/>
                </a:solidFill>
                <a:uFillTx/>
                <a:latin typeface="Times New Roman"/>
              </a:rPr>
              <a:t>, K</a:t>
            </a:r>
            <a:r>
              <a:rPr b="1" lang="en-US" sz="1400" spc="-1" strike="noStrike" u="sng">
                <a:solidFill>
                  <a:srgbClr val="12ae2c"/>
                </a:solidFill>
                <a:uFillTx/>
                <a:latin typeface="Times New Roman"/>
              </a:rPr>
              <a:t>2</a:t>
            </a:r>
            <a:r>
              <a:rPr b="1" lang="en-US" sz="2000" spc="-1" strike="noStrike" u="sng">
                <a:solidFill>
                  <a:srgbClr val="12ae2c"/>
                </a:solidFill>
                <a:uFillTx/>
                <a:latin typeface="Times New Roman"/>
              </a:rPr>
              <a:t>Cr</a:t>
            </a:r>
            <a:r>
              <a:rPr b="1" lang="en-US" sz="1400" spc="-1" strike="noStrike" u="sng">
                <a:solidFill>
                  <a:srgbClr val="12ae2c"/>
                </a:solidFill>
                <a:uFillTx/>
                <a:latin typeface="Times New Roman"/>
              </a:rPr>
              <a:t>2</a:t>
            </a:r>
            <a:r>
              <a:rPr b="1" lang="en-US" sz="2000" spc="-1" strike="noStrike" u="sng">
                <a:solidFill>
                  <a:srgbClr val="12ae2c"/>
                </a:solidFill>
                <a:uFillTx/>
                <a:latin typeface="Times New Roman"/>
              </a:rPr>
              <a:t>O</a:t>
            </a:r>
            <a:r>
              <a:rPr b="1" lang="en-US" sz="1400" spc="-1" strike="noStrike" u="sng">
                <a:solidFill>
                  <a:srgbClr val="12ae2c"/>
                </a:solidFill>
                <a:uFillTx/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=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12ae2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+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( O ) + 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O----- 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– 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                                               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  <a:ea typeface="Arial"/>
              </a:rPr>
              <a:t>l        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                                              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OH     OH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                  </a:t>
            </a:r>
            <a:r>
              <a:rPr b="1" lang="ru-RU" sz="2800" spc="-1" strike="noStrike">
                <a:solidFill>
                  <a:srgbClr val="12ae2c"/>
                </a:solidFill>
                <a:latin typeface="Times New Roman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ae2c"/>
                </a:solidFill>
                <a:latin typeface="Times New Roman"/>
              </a:rPr>
              <a:t> </a:t>
            </a:r>
            <a:r>
              <a:rPr b="1" i="1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качественная реа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алкилирование (присоединение алканов) кат.</a:t>
            </a:r>
            <a:r>
              <a:rPr b="1" lang="en-US" sz="2000" spc="-1" strike="noStrike" u="sng">
                <a:solidFill>
                  <a:srgbClr val="12ae2c"/>
                </a:solidFill>
                <a:uFillTx/>
                <a:latin typeface="Times New Roman"/>
              </a:rPr>
              <a:t>AlCl</a:t>
            </a:r>
            <a:r>
              <a:rPr b="1" lang="en-US" sz="1400" spc="-1" strike="noStrike" u="sng">
                <a:solidFill>
                  <a:srgbClr val="12ae2c"/>
                </a:solidFill>
                <a:uFillTx/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, AlBr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12ae2c"/>
                </a:solidFill>
                <a:latin typeface="Times New Roman"/>
              </a:rPr>
              <a:t>, HF, 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SO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=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+ 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-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-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12ae2c"/>
                </a:solidFill>
                <a:latin typeface="Times New Roman"/>
              </a:rPr>
              <a:t>→-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-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-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-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-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С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-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-CH-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  <a:ea typeface="Arial"/>
              </a:rPr>
              <a:t>l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пен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2-метилбу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ae2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1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1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10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1000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1000"/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1000"/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1000"/>
                                        <p:tgtEl>
                                          <p:spTgt spid="1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gradFill rotWithShape="0">
            <a:gsLst>
              <a:gs pos="0">
                <a:srgbClr val="9ffdd5"/>
              </a:gs>
              <a:gs pos="50000">
                <a:srgbClr val="ffffff"/>
              </a:gs>
              <a:gs pos="100000">
                <a:srgbClr val="9ffdd5"/>
              </a:gs>
            </a:gsLst>
            <a:lin ang="5400000"/>
          </a:gradFill>
          <a:ln w="9360">
            <a:solidFill>
              <a:srgbClr val="00ff99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ae2c"/>
                </a:solidFill>
                <a:latin typeface="Times New Roman"/>
              </a:rPr>
              <a:t>III.</a:t>
            </a:r>
            <a:r>
              <a:rPr b="1" lang="ru-RU" sz="3200" spc="-1" strike="noStrike">
                <a:solidFill>
                  <a:srgbClr val="12ae2c"/>
                </a:solidFill>
                <a:latin typeface="Times New Roman"/>
              </a:rPr>
              <a:t>Реакции полимеризации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11280" y="1628280"/>
            <a:ext cx="6400800" cy="4496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ffdd5"/>
              </a:gs>
            </a:gsLst>
            <a:lin ang="5400000"/>
          </a:gradFill>
          <a:ln w="9360">
            <a:solidFill>
              <a:srgbClr val="00ff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Процесс полимеризации алкенов открыт А.М.Бутлеро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2ae2c"/>
                </a:solidFill>
                <a:uFillTx/>
                <a:latin typeface="Times New Roman"/>
              </a:rPr>
              <a:t>Полимеризацией</a:t>
            </a: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 называется процесс соединения одинаковых молекул </a:t>
            </a:r>
            <a:r>
              <a:rPr b="1" i="1" lang="ru-RU" sz="2400" spc="-1" strike="noStrike" u="sng">
                <a:solidFill>
                  <a:srgbClr val="12ae2c"/>
                </a:solidFill>
                <a:uFillTx/>
                <a:latin typeface="Times New Roman"/>
              </a:rPr>
              <a:t>(мономеров),</a:t>
            </a: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 протекающий за счет разрыва кратных связей, с образованием высокомолекулярного соединения </a:t>
            </a:r>
            <a:r>
              <a:rPr b="1" i="1" lang="ru-RU" sz="2400" spc="-1" strike="noStrike" u="sng">
                <a:solidFill>
                  <a:srgbClr val="12ae2c"/>
                </a:solidFill>
                <a:uFillTx/>
                <a:latin typeface="Times New Roman"/>
              </a:rPr>
              <a:t>(полиме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Условия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 t, P, k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n 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=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       →           (-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-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-)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2ae2c"/>
                </a:solidFill>
                <a:uFillTx/>
                <a:latin typeface="Times New Roman"/>
              </a:rPr>
              <a:t>мономер</a:t>
            </a:r>
            <a:r>
              <a:rPr b="1" lang="ru-RU" sz="1800" spc="-1" strike="noStrike">
                <a:solidFill>
                  <a:srgbClr val="12ae2c"/>
                </a:solidFill>
                <a:latin typeface="Times New Roman"/>
              </a:rPr>
              <a:t> (этилен)           </a:t>
            </a:r>
            <a:r>
              <a:rPr b="1" lang="ru-RU" sz="1800" spc="-1" strike="noStrike" u="sng">
                <a:solidFill>
                  <a:srgbClr val="12ae2c"/>
                </a:solidFill>
                <a:uFillTx/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12ae2c"/>
                </a:solidFill>
                <a:uFillTx/>
                <a:latin typeface="Times New Roman"/>
              </a:rPr>
              <a:t>полимер</a:t>
            </a:r>
            <a:r>
              <a:rPr b="1" lang="ru-RU" sz="1800" spc="-1" strike="noStrike">
                <a:solidFill>
                  <a:srgbClr val="12ae2c"/>
                </a:solidFill>
                <a:latin typeface="Times New Roman"/>
              </a:rPr>
              <a:t> ( полиэтил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24000" y="404280"/>
            <a:ext cx="7020000" cy="569124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ff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Исследования выдающегося русского химика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ладимира Васильевича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Марковникова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явились блестящим подтверждением теории химического строения его учителя,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А.М. Бутлерова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. Результаты этих исследований послужили основой учения о взаимном влиянии атомов как одного из главных положений теории химического строения. В 1869 г. В.В. Марковников защитил докторскую диссертацию на тему « Материалы по вопросу о взаимном влиянии атомов в химических соединениях».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333360"/>
            <a:ext cx="6400800" cy="10080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Реакция Вагнера.</a:t>
            </a:r>
            <a:r>
              <a:rPr b="0" lang="ru-RU" sz="3200" spc="-1" strike="noStrike">
                <a:solidFill>
                  <a:srgbClr val="8c0039"/>
                </a:solidFill>
                <a:latin typeface="Times New Roman"/>
              </a:rPr>
              <a:t>              </a:t>
            </a:r>
            <a:r>
              <a:rPr b="0" lang="ru-RU" sz="5400" spc="-1" strike="noStrike">
                <a:solidFill>
                  <a:srgbClr val="0000ff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c7fcfd"/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еакцию окисления олефинов водным раствором перманганата калия открыл в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888 г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. русский химик с немецкой фамилией –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Егор Егорович Вагнер.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С помощью этой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ачественной реакции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Е.Е. Вагнер доказал непредельный характер некоторых природных соединений: терпенов, лимонена, скипидара. С тех пор этот процесс носит имя ученого –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реакция Вагн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6588000" cy="692280"/>
          </a:xfrm>
          <a:prstGeom prst="rect">
            <a:avLst/>
          </a:prstGeom>
          <a:gradFill rotWithShape="0">
            <a:gsLst>
              <a:gs pos="0">
                <a:srgbClr val="f3f8c4"/>
              </a:gs>
              <a:gs pos="50000">
                <a:srgbClr val="ffffff"/>
              </a:gs>
              <a:gs pos="100000">
                <a:srgbClr val="f3f8c4"/>
              </a:gs>
            </a:gsLst>
            <a:lin ang="5400000"/>
          </a:gradFill>
          <a:ln w="9360">
            <a:solidFill>
              <a:srgbClr val="c36c0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36c03"/>
                </a:solidFill>
                <a:latin typeface="Times New Roman"/>
              </a:rPr>
              <a:t>Получение алкенов.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63280" y="980640"/>
            <a:ext cx="7380360" cy="587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3f8c4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36c03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 u="sng">
                <a:solidFill>
                  <a:srgbClr val="c36c03"/>
                </a:solidFill>
                <a:uFillTx/>
                <a:latin typeface="Times New Roman"/>
              </a:rPr>
              <a:t>1)</a:t>
            </a:r>
            <a:r>
              <a:rPr b="1" lang="ru-RU" sz="2000" spc="-1" strike="noStrike" u="sng">
                <a:solidFill>
                  <a:srgbClr val="c36c03"/>
                </a:solidFill>
                <a:uFillTx/>
                <a:latin typeface="Times New Roman"/>
              </a:rPr>
              <a:t>Крекинг нефтепродуктов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С</a:t>
            </a:r>
            <a:r>
              <a:rPr b="0" lang="ru-RU" sz="1400" spc="-1" strike="noStrike">
                <a:solidFill>
                  <a:srgbClr val="c36c03"/>
                </a:solidFill>
                <a:latin typeface="Times New Roman"/>
              </a:rPr>
              <a:t>16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c36c03"/>
                </a:solidFill>
                <a:latin typeface="Times New Roman"/>
              </a:rPr>
              <a:t>34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---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С</a:t>
            </a:r>
            <a:r>
              <a:rPr b="0" lang="ru-RU" sz="1400" spc="-1" strike="noStrike">
                <a:solidFill>
                  <a:srgbClr val="c36c03"/>
                </a:solidFill>
                <a:latin typeface="Times New Roman"/>
              </a:rPr>
              <a:t>8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c36c03"/>
                </a:solidFill>
                <a:latin typeface="Times New Roman"/>
              </a:rPr>
              <a:t>18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С</a:t>
            </a:r>
            <a:r>
              <a:rPr b="0" lang="ru-RU" sz="1400" spc="-1" strike="noStrike">
                <a:solidFill>
                  <a:srgbClr val="c36c03"/>
                </a:solidFill>
                <a:latin typeface="Times New Roman"/>
              </a:rPr>
              <a:t>8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c36c03"/>
                </a:solidFill>
                <a:latin typeface="Times New Roman"/>
              </a:rPr>
              <a:t>16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    </a:t>
            </a:r>
            <a:r>
              <a:rPr b="1" lang="en-US" sz="2000" spc="-1" strike="noStrike" u="sng">
                <a:solidFill>
                  <a:srgbClr val="c36c03"/>
                </a:solidFill>
                <a:uFillTx/>
                <a:latin typeface="Times New Roman"/>
              </a:rPr>
              <a:t>2) </a:t>
            </a:r>
            <a:r>
              <a:rPr b="1" lang="ru-RU" sz="2000" spc="-1" strike="noStrike" u="sng">
                <a:solidFill>
                  <a:srgbClr val="c36c03"/>
                </a:solidFill>
                <a:uFillTx/>
                <a:latin typeface="Times New Roman"/>
              </a:rPr>
              <a:t>Дегидрирование алканов ( де + гидр + ирование= удалять +водород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c36c03"/>
                </a:solidFill>
                <a:uFillTx/>
                <a:latin typeface="Times New Roman"/>
              </a:rPr>
              <a:t>+  действие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)  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Cn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n+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→ Cn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n + 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 (  t, kat.)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 Отщепление вод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   </a:t>
            </a:r>
            <a:r>
              <a:rPr b="1" lang="en-US" sz="2000" spc="-1" strike="noStrike" u="sng">
                <a:solidFill>
                  <a:srgbClr val="c36c03"/>
                </a:solidFill>
                <a:uFillTx/>
                <a:latin typeface="Times New Roman"/>
              </a:rPr>
              <a:t>3)</a:t>
            </a:r>
            <a:r>
              <a:rPr b="1" lang="ru-RU" sz="2000" spc="-1" strike="noStrike" u="sng">
                <a:solidFill>
                  <a:srgbClr val="c36c03"/>
                </a:solidFill>
                <a:uFillTx/>
                <a:latin typeface="Times New Roman"/>
              </a:rPr>
              <a:t> Гидрирование алк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Cn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n-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+ 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→  Cn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n   ( kat. Ni, P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   </a:t>
            </a:r>
            <a:r>
              <a:rPr b="1" lang="en-US" sz="2000" spc="-1" strike="noStrike" u="sng">
                <a:solidFill>
                  <a:srgbClr val="c36c03"/>
                </a:solidFill>
                <a:uFillTx/>
                <a:latin typeface="Times New Roman"/>
              </a:rPr>
              <a:t>4)</a:t>
            </a:r>
            <a:r>
              <a:rPr b="1" lang="ru-RU" sz="2000" spc="-1" strike="noStrike" u="sng">
                <a:solidFill>
                  <a:srgbClr val="c36c03"/>
                </a:solidFill>
                <a:uFillTx/>
                <a:latin typeface="Times New Roman"/>
              </a:rPr>
              <a:t>Дегидратация спиртов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t,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kat: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SO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, 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PO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, Al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O</a:t>
            </a:r>
            <a:r>
              <a:rPr b="0" lang="ru-RU" sz="1400" spc="-1" strike="noStrike">
                <a:solidFill>
                  <a:srgbClr val="c36c03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ZnCl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-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OH →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=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+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O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(170 , Н</a:t>
            </a:r>
            <a:r>
              <a:rPr b="0" lang="ru-RU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SO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конц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c36c03"/>
                </a:solidFill>
                <a:latin typeface="Times New Roman"/>
              </a:rPr>
              <a:t>При дегидратации спиртов атом водорода отщепляется от атома углерода, связанного с наименьшим числом атомов водорода (правило А.М. Зайцева).                                                                                          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2268360" y="692280"/>
            <a:ext cx="687564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36c03"/>
                </a:solidFill>
                <a:uFillTx/>
                <a:latin typeface="Times New Roman"/>
              </a:rPr>
              <a:t>5) Дегидрогалогенирование моногалогеналканов (-</a:t>
            </a:r>
            <a:r>
              <a:rPr b="1" lang="en-US" sz="2000" spc="-1" strike="noStrike" u="sng">
                <a:solidFill>
                  <a:srgbClr val="c36c03"/>
                </a:solidFill>
                <a:uFillTx/>
                <a:latin typeface="Times New Roman"/>
              </a:rPr>
              <a:t>HH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действием твердой щелочи или ее спиртового раствора. Происходит по правилу</a:t>
            </a:r>
            <a:r>
              <a:rPr b="1" lang="ru-RU" sz="2000" spc="-1" strike="noStrike">
                <a:solidFill>
                  <a:srgbClr val="c36c03"/>
                </a:solidFill>
                <a:latin typeface="Times New Roman"/>
              </a:rPr>
              <a:t> Зайцева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СН</a:t>
            </a:r>
            <a:r>
              <a:rPr b="0" lang="ru-RU" sz="1400" spc="-1" strike="noStrike">
                <a:solidFill>
                  <a:srgbClr val="c36c03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-СН</a:t>
            </a:r>
            <a:r>
              <a:rPr b="0" lang="ru-RU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-С(СН</a:t>
            </a:r>
            <a:r>
              <a:rPr b="0" lang="ru-RU" sz="1400" spc="-1" strike="noStrike">
                <a:solidFill>
                  <a:srgbClr val="c36c03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Cl-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+ KOH→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-CH=C(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)-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3  </a:t>
            </a:r>
            <a:r>
              <a:rPr b="0" lang="en-US" sz="2400" spc="-1" strike="noStrike">
                <a:solidFill>
                  <a:srgbClr val="c36c0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2-метил-2-хлорбутан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2-метилбутен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KCl   +  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O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                                          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36c03"/>
                </a:solidFill>
                <a:uFillTx/>
                <a:latin typeface="Times New Roman"/>
              </a:rPr>
              <a:t>6) </a:t>
            </a:r>
            <a:r>
              <a:rPr b="1" lang="ru-RU" sz="2000" spc="-1" strike="noStrike" u="sng">
                <a:solidFill>
                  <a:srgbClr val="c36c03"/>
                </a:solidFill>
                <a:uFillTx/>
                <a:latin typeface="Times New Roman"/>
              </a:rPr>
              <a:t>Дегалогенирование (-2На</a:t>
            </a:r>
            <a:r>
              <a:rPr b="1" lang="en-US" sz="2000" spc="-1" strike="noStrike" u="sng">
                <a:solidFill>
                  <a:srgbClr val="c36c03"/>
                </a:solidFill>
                <a:uFillTx/>
                <a:latin typeface="Times New Roman"/>
              </a:rPr>
              <a:t>l</a:t>
            </a:r>
            <a:r>
              <a:rPr b="1" lang="ru-RU" sz="2000" spc="-1" strike="noStrike" u="sng">
                <a:solidFill>
                  <a:srgbClr val="c36c03"/>
                </a:solidFill>
                <a:uFillTx/>
                <a:latin typeface="Times New Roman"/>
              </a:rPr>
              <a:t>) дигалогеналканов с атомами галогена у соседних атомов «С»действием </a:t>
            </a:r>
            <a:r>
              <a:rPr b="1" lang="en-US" sz="2000" spc="-1" strike="noStrike" u="sng">
                <a:solidFill>
                  <a:srgbClr val="c36c03"/>
                </a:solidFill>
                <a:uFillTx/>
                <a:latin typeface="Times New Roman"/>
              </a:rPr>
              <a:t>Z n</a:t>
            </a:r>
            <a:r>
              <a:rPr b="1" lang="ru-RU" sz="2000" spc="-1" strike="noStrike" u="sng">
                <a:solidFill>
                  <a:srgbClr val="c36c03"/>
                </a:solidFill>
                <a:uFillTx/>
                <a:latin typeface="Times New Roman"/>
              </a:rPr>
              <a:t> или </a:t>
            </a:r>
            <a:r>
              <a:rPr b="1" lang="en-US" sz="2000" spc="-1" strike="noStrike" u="sng">
                <a:solidFill>
                  <a:srgbClr val="c36c03"/>
                </a:solidFill>
                <a:uFillTx/>
                <a:latin typeface="Times New Roman"/>
              </a:rPr>
              <a:t>M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-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-CHBr-CHBr-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+ Zn →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-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-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CH=CH-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+ZnBr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2,3-дибромпентан                           пентен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Вместо цинка может быть использован натрий или магний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аза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2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2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2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2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2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20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43200" y="-316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Применение</a:t>
            </a:r>
            <a:r>
              <a:rPr b="0" lang="ru-RU" sz="2400" spc="-1" strike="noStrike">
                <a:solidFill>
                  <a:srgbClr val="8c0039"/>
                </a:solidFill>
                <a:latin typeface="Times New Roman"/>
              </a:rPr>
              <a:t> алкенов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195640" y="549360"/>
          <a:ext cx="6480000" cy="5702040"/>
        </p:xfrm>
        <a:graphic>
          <a:graphicData uri="http://schemas.openxmlformats.org/drawingml/2006/table">
            <a:tbl>
              <a:tblPr/>
              <a:tblGrid>
                <a:gridCol w="1806480"/>
                <a:gridCol w="2814480"/>
                <a:gridCol w="1859040"/>
              </a:tblGrid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вн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полимер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(-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)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ство пластмас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алкилир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ачестве моторного топл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Галогенирова-ние и гидрогало-генир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C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 - 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твор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Cl           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ная анестезия, растворитель, в 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 для обеззараживания зернохранилищ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Гидрата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OH       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творитель, в медицине.ю в производстве синтетического каучу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Окисление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O]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-ром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MnO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[O] + 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            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-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антифризов, тормозных жидкостей, в производстве пластмас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Особые свойства этил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илен- регулятор роста раст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-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P(OH)2=O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C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Наза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парат «этрел» (1946г. М.И. Кабачник и П.А. Российская) попадая в растение разлагается с выделение этилена, ускоряет созревание плод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Line 113"/>
          <p:cNvSpPr/>
          <p:nvPr/>
        </p:nvSpPr>
        <p:spPr>
          <a:xfrm>
            <a:off x="6227640" y="1413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7"/>
          <p:cNvSpPr/>
          <p:nvPr/>
        </p:nvSpPr>
        <p:spPr>
          <a:xfrm>
            <a:off x="5292720" y="198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8"/>
          <p:cNvSpPr/>
          <p:nvPr/>
        </p:nvSpPr>
        <p:spPr>
          <a:xfrm>
            <a:off x="5292720" y="24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0"/>
          <p:cNvSpPr/>
          <p:nvPr/>
        </p:nvSpPr>
        <p:spPr>
          <a:xfrm>
            <a:off x="5364000" y="32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1"/>
          <p:cNvSpPr/>
          <p:nvPr/>
        </p:nvSpPr>
        <p:spPr>
          <a:xfrm>
            <a:off x="5867280" y="4076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2"/>
          <p:cNvSpPr/>
          <p:nvPr/>
        </p:nvSpPr>
        <p:spPr>
          <a:xfrm>
            <a:off x="594036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25"/>
          <p:cNvSpPr/>
          <p:nvPr/>
        </p:nvSpPr>
        <p:spPr>
          <a:xfrm>
            <a:off x="5076720" y="98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679320"/>
          </a:xfrm>
          <a:prstGeom prst="rect">
            <a:avLst/>
          </a:prstGeom>
          <a:gradFill rotWithShape="0">
            <a:gsLst>
              <a:gs pos="0">
                <a:srgbClr val="c7fcfd"/>
              </a:gs>
              <a:gs pos="50000">
                <a:srgbClr val="ffffff"/>
              </a:gs>
              <a:gs pos="100000">
                <a:srgbClr val="c7fcfd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Правило Зайцева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050920" y="1052280"/>
            <a:ext cx="6788160" cy="5043240"/>
          </a:xfrm>
          <a:prstGeom prst="rect">
            <a:avLst/>
          </a:prstGeom>
          <a:gradFill rotWithShape="0">
            <a:gsLst>
              <a:gs pos="0">
                <a:srgbClr val="c7fcfd"/>
              </a:gs>
              <a:gs pos="50000">
                <a:srgbClr val="ffffff"/>
              </a:gs>
              <a:gs pos="100000">
                <a:srgbClr val="c7fcfd"/>
              </a:gs>
            </a:gsLst>
            <a:lin ang="2700000"/>
          </a:gra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Эта закономерность открыта в 1875 г. выдающимся русским химиком, учеником и тезкой А.М. Бутлерова Александром Михайловичем Зайцевым и носит название правило Зайц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Реакция дегидратации – полная аналогия реакции дегидрогалоген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Де+ гидро +галоген + ирование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удалять + водород+ галоген + (действ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тщепление галогеновод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Дегидратация отщепление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53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57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1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5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9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4"/>
          <p:cNvSpPr/>
          <p:nvPr/>
        </p:nvSpPr>
        <p:spPr>
          <a:xfrm>
            <a:off x="3419640" y="1773360"/>
            <a:ext cx="3097080" cy="18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de7a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2ae2c"/>
                </a:solidFill>
                <a:latin typeface="Times New Roman"/>
              </a:rPr>
              <a:t>Алкади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4932360" y="260280"/>
            <a:ext cx="2017800" cy="1440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de7a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Поня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алкади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2124000" y="620640"/>
            <a:ext cx="2089080" cy="151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de7a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Классифик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2050920" y="3500280"/>
            <a:ext cx="2376720" cy="165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de7a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Изомери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номенкл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4788000" y="4365720"/>
            <a:ext cx="3529080" cy="187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de7a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ae2c"/>
                </a:solidFill>
                <a:latin typeface="Times New Roman"/>
              </a:rPr>
              <a:t>Хим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ae2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2ae2c"/>
                </a:solidFill>
                <a:latin typeface="Times New Roman"/>
              </a:rPr>
              <a:t>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9"/>
          <p:cNvSpPr/>
          <p:nvPr/>
        </p:nvSpPr>
        <p:spPr>
          <a:xfrm>
            <a:off x="6732720" y="1773360"/>
            <a:ext cx="241128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de7a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ae2c"/>
                </a:solidFill>
                <a:latin typeface="Times New Roman"/>
              </a:rPr>
              <a:t>Пол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5508720" y="3645000"/>
            <a:ext cx="576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6588000" y="2852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 flipV="1">
            <a:off x="5435640" y="162864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 flipV="1">
            <a:off x="3924360" y="1916280"/>
            <a:ext cx="7128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40000" y="357336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6"/>
          <p:cNvSpPr/>
          <p:nvPr/>
        </p:nvSpPr>
        <p:spPr>
          <a:xfrm>
            <a:off x="4427640" y="1557360"/>
            <a:ext cx="720720" cy="71280"/>
          </a:xfrm>
          <a:prstGeom prst="leftArrow">
            <a:avLst>
              <a:gd name="adj1" fmla="val 50000"/>
              <a:gd name="adj2" fmla="val 252778"/>
            </a:avLst>
          </a:prstGeom>
          <a:solidFill>
            <a:srgbClr val="1f8124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7308720" y="6308640"/>
            <a:ext cx="1656000" cy="36036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50000">
                <a:srgbClr val="ffffff"/>
              </a:gs>
              <a:gs pos="100000">
                <a:srgbClr val="c3fac2"/>
              </a:gs>
            </a:gsLst>
            <a:lin ang="5400000"/>
          </a:gradFill>
          <a:ln w="9360">
            <a:solidFill>
              <a:srgbClr val="6efe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005c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9640" y="228240"/>
            <a:ext cx="6499080" cy="896760"/>
          </a:xfrm>
          <a:prstGeom prst="rect">
            <a:avLst/>
          </a:prstGeom>
          <a:gradFill rotWithShape="0">
            <a:gsLst>
              <a:gs pos="0">
                <a:srgbClr val="dbffde"/>
              </a:gs>
              <a:gs pos="50000">
                <a:srgbClr val="ffffff"/>
              </a:gs>
              <a:gs pos="100000">
                <a:srgbClr val="dbffde"/>
              </a:gs>
            </a:gsLst>
            <a:lin ang="5400000"/>
          </a:gradFill>
          <a:ln w="9360">
            <a:solidFill>
              <a:srgbClr val="00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Times New Roman"/>
              </a:rPr>
              <a:t>Непредельные углеводороды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7921440" cy="5040360"/>
          </a:xfrm>
          <a:prstGeom prst="rect">
            <a:avLst/>
          </a:prstGeom>
          <a:gradFill rotWithShape="0">
            <a:gsLst>
              <a:gs pos="0">
                <a:srgbClr val="dbffde"/>
              </a:gs>
              <a:gs pos="50000">
                <a:srgbClr val="ffffff"/>
              </a:gs>
              <a:gs pos="100000">
                <a:srgbClr val="dbffde"/>
              </a:gs>
            </a:gsLst>
            <a:lin ang="5400000"/>
          </a:gradFill>
          <a:ln w="93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Непредельные,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 или 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ненасыщенные,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УВ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 содержат </a:t>
            </a:r>
            <a:r>
              <a:rPr b="0" lang="ru-RU" sz="3600" spc="-1" strike="noStrike" u="sng">
                <a:solidFill>
                  <a:srgbClr val="009900"/>
                </a:solidFill>
                <a:uFillTx/>
                <a:latin typeface="Times New Roman"/>
              </a:rPr>
              <a:t>кратные углерод-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3600" spc="-1" strike="noStrike" u="sng">
                <a:solidFill>
                  <a:srgbClr val="009900"/>
                </a:solidFill>
                <a:uFillTx/>
                <a:latin typeface="Times New Roman"/>
              </a:rPr>
              <a:t>углеродные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d8d17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2d8d17"/>
                </a:solidFill>
                <a:latin typeface="Times New Roman"/>
              </a:rPr>
              <a:t>&gt;C=C&lt;, -C</a:t>
            </a:r>
            <a:r>
              <a:rPr b="0" lang="el-GR" sz="3600" spc="-1" strike="noStrike">
                <a:solidFill>
                  <a:srgbClr val="2d8d17"/>
                </a:solidFill>
                <a:latin typeface="Times New Roman"/>
                <a:ea typeface="Arial"/>
              </a:rPr>
              <a:t>Ξ</a:t>
            </a:r>
            <a:r>
              <a:rPr b="0" lang="en-US" sz="3600" spc="-1" strike="noStrike">
                <a:solidFill>
                  <a:srgbClr val="2d8d17"/>
                </a:solidFill>
                <a:latin typeface="Times New Roman"/>
              </a:rPr>
              <a:t>C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00"/>
                </a:solidFill>
                <a:uFillTx/>
                <a:latin typeface="Times New Roman"/>
              </a:rPr>
              <a:t>Непредельными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называются углеводороды, в молекулах которых  имеются атомы углерода, связанные между собой </a:t>
            </a:r>
            <a:r>
              <a:rPr b="0" lang="ru-RU" sz="2800" spc="-1" strike="noStrike" u="sng">
                <a:solidFill>
                  <a:srgbClr val="009900"/>
                </a:solidFill>
                <a:uFillTx/>
                <a:latin typeface="Times New Roman"/>
              </a:rPr>
              <a:t>двойными или тройными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связями. Их также называют </a:t>
            </a: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ненасыщенными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углеводородами, так как их молекулы  имеют меньшее число атомов водорода, чем насыще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gradFill rotWithShape="0">
            <a:gsLst>
              <a:gs pos="0">
                <a:srgbClr val="f4e8f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c003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Диеновые углеводороды (алкадиены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dd9fd"/>
              </a:gs>
            </a:gsLst>
            <a:lin ang="5400000"/>
          </a:gradFill>
          <a:ln w="9360">
            <a:solidFill>
              <a:srgbClr val="8c003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0066"/>
                </a:solidFill>
                <a:uFillTx/>
                <a:latin typeface="Times New Roman"/>
              </a:rPr>
              <a:t>Диеновые УВ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алкадиены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) – это УВ, в молекулах которых между атомами углерода имеются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две двойные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 связ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Общая форму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CnH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n-2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,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где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n&gt;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11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1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19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3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400800" cy="620640"/>
          </a:xfrm>
          <a:prstGeom prst="rect">
            <a:avLst/>
          </a:prstGeom>
          <a:solidFill>
            <a:srgbClr val="d9fdfc"/>
          </a:solidFill>
          <a:ln w="93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Классификация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08000" y="549000"/>
            <a:ext cx="7236000" cy="5546520"/>
          </a:xfrm>
          <a:prstGeom prst="rect">
            <a:avLst/>
          </a:prstGeom>
          <a:solidFill>
            <a:srgbClr val="b9fbf9"/>
          </a:solidFill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Диены с кумулированными связ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Две двойные связи находятся у одного атома   угле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Н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=С=СН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пропадиен (алл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i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Диены с сопряженными связ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Двойные связи разделены одной одинарной           связью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Н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=СН-СН=СН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бутадиен-1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i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Диены с изолированными связ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Двойные связи разделены двумя или более одинарными связ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Н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=СН-СН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-СН=СН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пентадиен-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2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6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0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4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8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2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6" dur="1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0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4" dur="10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solidFill>
            <a:srgbClr val="f4e8fe"/>
          </a:solidFill>
          <a:ln w="9360">
            <a:solidFill>
              <a:srgbClr val="8c003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Times New Roman"/>
              </a:rPr>
              <a:t>Изомерия и номенклатура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381720" cy="449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d9f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c003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c0039"/>
                </a:solidFill>
                <a:uFillTx/>
                <a:latin typeface="Times New Roman"/>
              </a:rPr>
              <a:t>1)Структурная изомерия цепи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                                                                   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-СН=СН-СН=СН-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гексадиен-2,4                      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-СН=С(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)-СН=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                                                      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3  -метилпентадиен-1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c0039"/>
                </a:solidFill>
                <a:uFillTx/>
                <a:latin typeface="Times New Roman"/>
              </a:rPr>
              <a:t>2)Структурная изомерия взаимного положения двойных связей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     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=СН-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-СН=СН-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                            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гексадиен-1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                      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=СН-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-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-СН=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                             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гексадиен-1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    </a:t>
            </a:r>
            <a:r>
              <a:rPr b="1" lang="ru-RU" sz="1200" spc="-1" strike="noStrike" u="sng">
                <a:solidFill>
                  <a:srgbClr val="8c0039"/>
                </a:solidFill>
                <a:uFillTx/>
                <a:latin typeface="Times New Roman"/>
              </a:rPr>
              <a:t>3) Пространственная изомерия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c0039"/>
                </a:solidFill>
                <a:uFillTx/>
                <a:latin typeface="Times New Roman"/>
              </a:rPr>
              <a:t>4) Межклассовая изомерия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      СН=С-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2-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-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-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                                                              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гексин-1 и его изо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Изомерия и номенклатура диенов на примере диенового углеводорода с эмпирической формулой С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6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60066"/>
                </a:solidFill>
                <a:latin typeface="Times New Roman"/>
              </a:rPr>
              <a:t>Наза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8"/>
          <p:cNvGraphicFramePr/>
          <p:nvPr/>
        </p:nvGraphicFramePr>
        <p:xfrm>
          <a:off x="2916360" y="3429000"/>
          <a:ext cx="1590480" cy="9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3429000"/>
                    <a:ext cx="15904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10"/>
          <p:cNvSpPr/>
          <p:nvPr/>
        </p:nvSpPr>
        <p:spPr>
          <a:xfrm>
            <a:off x="2624400" y="4437000"/>
            <a:ext cx="2233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c0039"/>
                </a:solidFill>
                <a:latin typeface="Times New Roman"/>
              </a:rPr>
              <a:t>цис-3-метилпентадиен- 1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11"/>
          <p:cNvGraphicFramePr/>
          <p:nvPr/>
        </p:nvGraphicFramePr>
        <p:xfrm>
          <a:off x="6227640" y="3349800"/>
          <a:ext cx="1695600" cy="9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3349800"/>
                    <a:ext cx="16956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13"/>
          <p:cNvSpPr/>
          <p:nvPr/>
        </p:nvSpPr>
        <p:spPr>
          <a:xfrm>
            <a:off x="6151680" y="4390920"/>
            <a:ext cx="2384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c0039"/>
                </a:solidFill>
                <a:latin typeface="Times New Roman"/>
              </a:rPr>
              <a:t>транс-3-метилпентадиен- 1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8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89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93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97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1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0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5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9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1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13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1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17" dur="1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21" dur="1000"/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25" dur="1000"/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29" dur="1000"/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33" dur="1000"/>
                                        <p:tgtEl>
                                          <p:spTgt spid="1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37" dur="1000"/>
                                        <p:tgtEl>
                                          <p:spTgt spid="15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400800" cy="620640"/>
          </a:xfrm>
          <a:prstGeom prst="rect">
            <a:avLst/>
          </a:prstGeom>
          <a:gradFill rotWithShape="0">
            <a:gsLst>
              <a:gs pos="0">
                <a:srgbClr val="c7fcfd"/>
              </a:gs>
              <a:gs pos="50000">
                <a:srgbClr val="ffffff"/>
              </a:gs>
              <a:gs pos="100000">
                <a:srgbClr val="c7fcfd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Химические свойства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63280" y="691920"/>
            <a:ext cx="7380360" cy="6165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9fdf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)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Реакции присоеди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</a:rPr>
              <a:t>а) галоген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Н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=СН-СН=СН</a:t>
            </a:r>
            <a:r>
              <a:rPr b="0" lang="ru-RU" sz="1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Br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(H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)→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H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Br-CH=CH-CH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Br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бутадиен-1,3                     1,4-дибромбутен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Br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(H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0)→CH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Br-CHBr-CHBr-CH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,2,3,4-тетрабромбу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Бромная вода обесцвечивается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рисоединение идет в положение 1 и 4, а между атомами 2 и 3 образуется новая двойная связ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</a:rPr>
              <a:t>б) гидрогалоген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Н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=СН-СН=СН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+Н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l →CH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3-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H=CH-CH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бутадиен-1,3                    1-хлорбутен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</a:rPr>
              <a:t>в)гидрирование ( +Н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</a:rPr>
              <a:t>2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Н</a:t>
            </a: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=СН-СН=СН</a:t>
            </a: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+Н</a:t>
            </a: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→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Н</a:t>
            </a: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СН=СН-СН</a:t>
            </a: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бутадиен -1,3                   бутен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2)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олимер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Н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=СН-СН=СН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2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→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     (-СН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2-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Н=СН-СН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)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                          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полибутадиен (бутадиеновый каучук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Наз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0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8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6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0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4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8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2" dur="5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6" dur="5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0" dur="500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4" dur="50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0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8" dur="50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1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2" dur="500"/>
                                        <p:tgtEl>
                                          <p:spTgt spid="1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1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6" dur="50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0" dur="500"/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9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eddf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c003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Times New Roman"/>
              </a:rPr>
              <a:t>Получение алкадиенов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123640" y="1197000"/>
            <a:ext cx="6715080" cy="4896000"/>
          </a:xfrm>
          <a:prstGeom prst="rect">
            <a:avLst/>
          </a:prstGeom>
          <a:gradFill rotWithShape="0">
            <a:gsLst>
              <a:gs pos="0">
                <a:srgbClr val="eeddfd"/>
              </a:gs>
              <a:gs pos="50000">
                <a:srgbClr val="ffffff"/>
              </a:gs>
              <a:gs pos="100000">
                <a:srgbClr val="eeddfd"/>
              </a:gs>
            </a:gsLst>
            <a:lin ang="5400000"/>
          </a:gradFill>
          <a:ln w="9360">
            <a:solidFill>
              <a:srgbClr val="8c003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39"/>
                </a:solidFill>
                <a:latin typeface="Times New Roman"/>
              </a:rPr>
              <a:t>1)Каталитическое дегидр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39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а) алк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3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С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-С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-С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 –С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8c003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c0039"/>
                </a:solidFill>
                <a:latin typeface="Times New Roman"/>
              </a:rPr>
              <a:t>→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С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=СН-СН=С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 +2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39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8c0039"/>
                </a:solidFill>
                <a:uFillTx/>
                <a:latin typeface="Times New Roman"/>
              </a:rPr>
              <a:t>(условия:</a:t>
            </a:r>
            <a:r>
              <a:rPr b="1" lang="en-US" sz="2400" spc="-1" strike="noStrike" u="sng">
                <a:solidFill>
                  <a:srgbClr val="8c0039"/>
                </a:solidFill>
                <a:uFillTx/>
                <a:latin typeface="Times New Roman"/>
              </a:rPr>
              <a:t> Cr</a:t>
            </a:r>
            <a:r>
              <a:rPr b="1" lang="en-US" sz="1400" spc="-1" strike="noStrike" u="sng">
                <a:solidFill>
                  <a:srgbClr val="8c0039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 u="sng">
                <a:solidFill>
                  <a:srgbClr val="8c0039"/>
                </a:solidFill>
                <a:uFillTx/>
                <a:latin typeface="Times New Roman"/>
              </a:rPr>
              <a:t>O</a:t>
            </a:r>
            <a:r>
              <a:rPr b="1" lang="en-US" sz="1400" spc="-1" strike="noStrike" u="sng">
                <a:solidFill>
                  <a:srgbClr val="8c0039"/>
                </a:solidFill>
                <a:uFillTx/>
                <a:latin typeface="Times New Roman"/>
              </a:rPr>
              <a:t>3</a:t>
            </a:r>
            <a:r>
              <a:rPr b="1" lang="en-US" sz="2400" spc="-1" strike="noStrike" u="sng">
                <a:solidFill>
                  <a:srgbClr val="8c0039"/>
                </a:solidFill>
                <a:uFillTx/>
                <a:latin typeface="Times New Roman"/>
              </a:rPr>
              <a:t>/Al</a:t>
            </a:r>
            <a:r>
              <a:rPr b="1" lang="en-US" sz="1400" spc="-1" strike="noStrike" u="sng">
                <a:solidFill>
                  <a:srgbClr val="8c0039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 u="sng">
                <a:solidFill>
                  <a:srgbClr val="8c0039"/>
                </a:solidFill>
                <a:uFillTx/>
                <a:latin typeface="Times New Roman"/>
              </a:rPr>
              <a:t>O</a:t>
            </a:r>
            <a:r>
              <a:rPr b="1" lang="en-US" sz="1400" spc="-1" strike="noStrike" u="sng">
                <a:solidFill>
                  <a:srgbClr val="8c0039"/>
                </a:solidFill>
                <a:uFillTx/>
                <a:latin typeface="Times New Roman"/>
              </a:rPr>
              <a:t>3,</a:t>
            </a:r>
            <a:r>
              <a:rPr b="1" lang="en-US" sz="2000" spc="-1" strike="noStrike" u="sng">
                <a:solidFill>
                  <a:srgbClr val="8c0039"/>
                </a:solidFill>
                <a:uFillTx/>
                <a:latin typeface="Times New Roman"/>
              </a:rPr>
              <a:t>7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0039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б)алк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3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С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=СН-С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-С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-→ С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=СН-СН=С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 + 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39"/>
                </a:solidFill>
                <a:latin typeface="Times New Roman"/>
              </a:rPr>
              <a:t>2) По способу Лебед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3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2С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ОН →С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=СН-СН=С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+2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О+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c0039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8c0039"/>
                </a:solidFill>
                <a:latin typeface="Times New Roman"/>
              </a:rPr>
              <a:t>!</a:t>
            </a:r>
            <a:r>
              <a:rPr b="1" lang="en-US" sz="2400" spc="-1" strike="noStrike">
                <a:solidFill>
                  <a:srgbClr val="8c0039"/>
                </a:solidFill>
                <a:latin typeface="Times New Roman"/>
              </a:rPr>
              <a:t>!</a:t>
            </a:r>
            <a:r>
              <a:rPr b="1" lang="en-US" sz="2800" spc="-1" strike="noStrike">
                <a:solidFill>
                  <a:srgbClr val="8c0039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Times New Roman"/>
              </a:rPr>
              <a:t>Наз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5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9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3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7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1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5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9" dur="1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3" dur="10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7" dur="10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1" dur="100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95280" y="0"/>
            <a:ext cx="6948360" cy="6858000"/>
          </a:xfrm>
          <a:prstGeom prst="rect">
            <a:avLst/>
          </a:prstGeom>
          <a:gradFill rotWithShape="0">
            <a:gsLst>
              <a:gs pos="0">
                <a:srgbClr val="f9f4fe"/>
              </a:gs>
              <a:gs pos="50000">
                <a:srgbClr val="ffffff"/>
              </a:gs>
              <a:gs pos="100000">
                <a:srgbClr val="f9f4fe"/>
              </a:gs>
            </a:gsLst>
            <a:lin ang="5400000"/>
          </a:gradFill>
          <a:ln w="9360">
            <a:solidFill>
              <a:srgbClr val="8c0039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Times New Roman"/>
              </a:rPr>
              <a:t>В начале </a:t>
            </a:r>
            <a:r>
              <a:rPr b="1" lang="ru-RU" sz="2800" spc="-1" strike="noStrike">
                <a:solidFill>
                  <a:srgbClr val="8c0039"/>
                </a:solidFill>
                <a:latin typeface="Times New Roman"/>
              </a:rPr>
              <a:t>ХХ</a:t>
            </a:r>
            <a:r>
              <a:rPr b="0" lang="ru-RU" sz="2800" spc="-1" strike="noStrike">
                <a:solidFill>
                  <a:srgbClr val="8c0039"/>
                </a:solidFill>
                <a:latin typeface="Times New Roman"/>
              </a:rPr>
              <a:t> в. в связи с резким подорожанием натурального каучука возникла острая необходимость в разработке доступного и экономичного способа получения диенов.</a:t>
            </a:r>
            <a:br>
              <a:rPr sz="2800"/>
            </a:br>
            <a:r>
              <a:rPr b="0" lang="ru-RU" sz="2800" spc="-1" strike="noStrike">
                <a:solidFill>
                  <a:srgbClr val="8c0039"/>
                </a:solidFill>
                <a:latin typeface="Times New Roman"/>
              </a:rPr>
              <a:t>В </a:t>
            </a:r>
            <a:r>
              <a:rPr b="1" lang="ru-RU" sz="2800" spc="-1" strike="noStrike">
                <a:solidFill>
                  <a:srgbClr val="8c0039"/>
                </a:solidFill>
                <a:latin typeface="Times New Roman"/>
              </a:rPr>
              <a:t>1926</a:t>
            </a:r>
            <a:r>
              <a:rPr b="0" lang="ru-RU" sz="2800" spc="-1" strike="noStrike">
                <a:solidFill>
                  <a:srgbClr val="8c0039"/>
                </a:solidFill>
                <a:latin typeface="Times New Roman"/>
              </a:rPr>
              <a:t> г. в Советском Союзе был объявлен конкурс на лучший способ получения синтетического каучука. Сроки и условия конкурса были достаточно жесткими.</a:t>
            </a: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2484360" y="1341360"/>
            <a:ext cx="604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39"/>
                </a:solidFill>
                <a:latin typeface="Times New Roman"/>
              </a:rPr>
              <a:t>Победителем оказалась группа химиков под руководством профессора Военно-медицинской академии г. Ленинграда </a:t>
            </a:r>
            <a:r>
              <a:rPr b="1" i="1" lang="ru-RU" sz="2800" spc="-1" strike="noStrike">
                <a:solidFill>
                  <a:srgbClr val="8c0039"/>
                </a:solidFill>
                <a:latin typeface="Times New Roman"/>
              </a:rPr>
              <a:t>Сергея Васильевича Лебедева.</a:t>
            </a:r>
            <a:r>
              <a:rPr b="1" lang="ru-RU" sz="2800" spc="-1" strike="noStrike">
                <a:solidFill>
                  <a:srgbClr val="8c0039"/>
                </a:solidFill>
                <a:latin typeface="Times New Roman"/>
              </a:rPr>
              <a:t> В качестве сырья использовался этиловый спирт.</a:t>
            </a:r>
            <a:br>
              <a:rPr sz="2800"/>
            </a:br>
            <a:r>
              <a:rPr b="1" lang="ru-RU" sz="2800" spc="-1" strike="noStrike">
                <a:solidFill>
                  <a:srgbClr val="8c0039"/>
                </a:solidFill>
                <a:latin typeface="Times New Roman"/>
              </a:rPr>
              <a:t>Этот способ получения бутадиена-1,3 получил название </a:t>
            </a:r>
            <a:r>
              <a:rPr b="1" lang="ru-RU" sz="2800" spc="-1" strike="noStrike" u="sng">
                <a:solidFill>
                  <a:srgbClr val="8c0039"/>
                </a:solidFill>
                <a:uFillTx/>
                <a:latin typeface="Times New Roman"/>
              </a:rPr>
              <a:t>метода Лебедева</a:t>
            </a:r>
            <a:r>
              <a:rPr b="1" lang="ru-RU" sz="2800" spc="-1" strike="noStrike">
                <a:solidFill>
                  <a:srgbClr val="8c0039"/>
                </a:solidFill>
                <a:latin typeface="Times New Roman"/>
              </a:rPr>
              <a:t> и долгое время использовался в промышл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237360" cy="54936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50000">
                <a:srgbClr val="ffffff"/>
              </a:gs>
              <a:gs pos="100000">
                <a:srgbClr val="c3fac2"/>
              </a:gs>
            </a:gsLst>
            <a:lin ang="5400000"/>
          </a:grad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Понятие о терпенах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195280" y="691920"/>
            <a:ext cx="6948360" cy="616572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efeb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d8d17"/>
                </a:solidFill>
                <a:uFillTx/>
                <a:latin typeface="Times New Roman"/>
              </a:rPr>
              <a:t>Каучук-</a:t>
            </a:r>
            <a:r>
              <a:rPr b="0" lang="ru-RU" sz="2800" spc="-1" strike="noStrike">
                <a:solidFill>
                  <a:srgbClr val="2d8d17"/>
                </a:solidFill>
                <a:latin typeface="Times New Roman"/>
              </a:rPr>
              <a:t> не единственное природное производное изопрена. В природе существует множество углеводородов, структурными фрагментами которых является изопрен. Общее «родовое» название </a:t>
            </a:r>
            <a:r>
              <a:rPr b="1" lang="ru-RU" sz="2800" spc="-1" strike="noStrike" u="sng">
                <a:solidFill>
                  <a:srgbClr val="2d8d17"/>
                </a:solidFill>
                <a:uFillTx/>
                <a:latin typeface="Times New Roman"/>
              </a:rPr>
              <a:t>терпены.</a:t>
            </a:r>
            <a:r>
              <a:rPr b="0" lang="ru-RU" sz="2800" spc="-1" strike="noStrike">
                <a:solidFill>
                  <a:srgbClr val="2d8d17"/>
                </a:solidFill>
                <a:latin typeface="Times New Roman"/>
              </a:rPr>
              <a:t> Общая формула-(С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8</a:t>
            </a:r>
            <a:r>
              <a:rPr b="0" lang="ru-RU" sz="2800" spc="-1" strike="noStrike">
                <a:solidFill>
                  <a:srgbClr val="2d8d17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2d8d17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2d8d17"/>
                </a:solidFill>
                <a:latin typeface="Times New Roman"/>
              </a:rPr>
              <a:t>. </a:t>
            </a:r>
            <a:r>
              <a:rPr b="1" lang="ru-RU" sz="2800" spc="-1" strike="noStrike" u="sng">
                <a:solidFill>
                  <a:srgbClr val="2d8d17"/>
                </a:solidFill>
                <a:uFillTx/>
                <a:latin typeface="Times New Roman"/>
              </a:rPr>
              <a:t>Терпены</a:t>
            </a:r>
            <a:r>
              <a:rPr b="0" lang="ru-RU" sz="2800" spc="-1" strike="noStrike">
                <a:solidFill>
                  <a:srgbClr val="2d8d17"/>
                </a:solidFill>
                <a:latin typeface="Times New Roman"/>
              </a:rPr>
              <a:t> очень широко распространены в природе. Многие являются составной частью эфирных масел, придающих растениям специфический аромат. </a:t>
            </a:r>
            <a:r>
              <a:rPr b="1" lang="ru-RU" sz="2800" spc="-1" strike="noStrike" u="sng">
                <a:solidFill>
                  <a:srgbClr val="2d8d17"/>
                </a:solidFill>
                <a:uFillTx/>
                <a:latin typeface="Times New Roman"/>
              </a:rPr>
              <a:t>Оцимен</a:t>
            </a:r>
            <a:r>
              <a:rPr b="0" lang="ru-RU" sz="2800" spc="-1" strike="noStrike">
                <a:solidFill>
                  <a:srgbClr val="2d8d17"/>
                </a:solidFill>
                <a:latin typeface="Times New Roman"/>
              </a:rPr>
              <a:t> содержится в </a:t>
            </a: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базилике</a:t>
            </a:r>
            <a:r>
              <a:rPr b="0" lang="ru-RU" sz="2800" spc="-1" strike="noStrike">
                <a:solidFill>
                  <a:srgbClr val="2d8d17"/>
                </a:solidFill>
                <a:latin typeface="Times New Roman"/>
              </a:rPr>
              <a:t>, а </a:t>
            </a:r>
            <a:r>
              <a:rPr b="1" lang="ru-RU" sz="2800" spc="-1" strike="noStrike" u="sng">
                <a:solidFill>
                  <a:srgbClr val="2d8d17"/>
                </a:solidFill>
                <a:uFillTx/>
                <a:latin typeface="Times New Roman"/>
              </a:rPr>
              <a:t>лимонен</a:t>
            </a: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2d8d17"/>
                </a:solidFill>
                <a:latin typeface="Times New Roman"/>
              </a:rPr>
              <a:t>- в </a:t>
            </a: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кожуре цитрусо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96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2268360" y="1125360"/>
            <a:ext cx="6407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Эфирными маслами называют нерастворимые в воде маслообразные продукты, которые в отличие от жирных масел полностью испаряются и не оставляют следов на бумаге. Их используют в производстве душистых веществ, для ароматизации косметических средств. Первые рецептуры таких композиций относятся ко временам царя Хаммурапи (2100г. до н.э.)      </a:t>
            </a:r>
            <a:r>
              <a:rPr b="1" lang="ru-RU" sz="2800" spc="-1" strike="noStrike" u="sng">
                <a:solidFill>
                  <a:srgbClr val="2d8d17"/>
                </a:solidFill>
                <a:uFillTx/>
                <a:latin typeface="Times New Roman"/>
              </a:rPr>
              <a:t>Сквален </a:t>
            </a: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выделяют из печени аку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3635280" y="260280"/>
            <a:ext cx="3600720" cy="100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2ae2c"/>
                </a:solidFill>
                <a:uFillTx/>
                <a:latin typeface="Times New Roman"/>
              </a:rPr>
              <a:t>Алк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2484360" y="1916280"/>
            <a:ext cx="2664000" cy="936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2ae2c"/>
                </a:solidFill>
                <a:latin typeface="Times New Roman"/>
              </a:rPr>
              <a:t>О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2ae2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12ae2c"/>
                </a:solidFill>
                <a:latin typeface="Times New Roman"/>
              </a:rPr>
              <a:t>алки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2556000" y="3284640"/>
            <a:ext cx="2663640" cy="792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ae2c"/>
                </a:solidFill>
                <a:latin typeface="Times New Roman"/>
              </a:rPr>
              <a:t>Изоме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2556000" y="4365720"/>
            <a:ext cx="2665440" cy="647640"/>
          </a:xfrm>
          <a:prstGeom prst="rect">
            <a:avLst/>
          </a:prstGeom>
          <a:gradFill rotWithShape="0">
            <a:gsLst>
              <a:gs pos="0">
                <a:srgbClr val="dbffde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6efe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2ae2c"/>
                </a:solidFill>
                <a:latin typeface="Times New Roman"/>
              </a:rPr>
              <a:t>Номенкл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5867280" y="1844640"/>
            <a:ext cx="3025800" cy="107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bffd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efe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ae2c"/>
                </a:solidFill>
                <a:latin typeface="Times New Roman"/>
              </a:rPr>
              <a:t>Хим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ae2c"/>
                </a:solidFill>
                <a:latin typeface="Times New Roman"/>
              </a:rPr>
              <a:t>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5867280" y="3213000"/>
            <a:ext cx="3276720" cy="1079640"/>
          </a:xfrm>
          <a:prstGeom prst="rect">
            <a:avLst/>
          </a:prstGeom>
          <a:gradFill rotWithShape="0">
            <a:gsLst>
              <a:gs pos="0">
                <a:srgbClr val="dbffd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efe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ae2c"/>
                </a:solidFill>
                <a:latin typeface="Times New Roman"/>
              </a:rPr>
              <a:t>Пол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5940360" y="5084640"/>
            <a:ext cx="2808360" cy="10810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6efe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ae2c"/>
                </a:solidFill>
                <a:latin typeface="Times New Roman"/>
              </a:rPr>
              <a:t>Приме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2484360" y="5373720"/>
            <a:ext cx="273528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bffde"/>
              </a:gs>
            </a:gsLst>
            <a:lin ang="5400000"/>
          </a:gradFill>
          <a:ln w="9360">
            <a:solidFill>
              <a:srgbClr val="6efe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Физ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7308720" y="6308640"/>
            <a:ext cx="1656000" cy="36036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50000">
                <a:srgbClr val="ffffff"/>
              </a:gs>
              <a:gs pos="100000">
                <a:srgbClr val="c3fac2"/>
              </a:gs>
            </a:gsLst>
            <a:lin ang="5400000"/>
          </a:gradFill>
          <a:ln w="9360">
            <a:solidFill>
              <a:srgbClr val="6efe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005c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1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Times New Roman"/>
              </a:rPr>
              <a:t>Непредельные углеводороды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к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кади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к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50000">
                <a:srgbClr val="ffffff"/>
              </a:gs>
              <a:gs pos="100000">
                <a:srgbClr val="c3fac2"/>
              </a:gs>
            </a:gsLst>
            <a:lin ang="5400000"/>
          </a:grad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8d17"/>
                </a:solidFill>
                <a:latin typeface="Times New Roman"/>
              </a:rPr>
              <a:t>Алкины (ацетиленовые УВ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3fac2"/>
              </a:gs>
            </a:gsLst>
            <a:lin ang="5400000"/>
          </a:gradFill>
          <a:ln w="9360">
            <a:solidFill>
              <a:srgbClr val="6efeb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Алкины – это углеводороды, в молекулах которых два атома углерода находятся в состоянии </a:t>
            </a:r>
            <a:r>
              <a:rPr b="1" lang="en-US" sz="2800" spc="-1" strike="noStrike">
                <a:solidFill>
                  <a:srgbClr val="2d8d17"/>
                </a:solidFill>
                <a:latin typeface="Times New Roman"/>
              </a:rPr>
              <a:t>SP-</a:t>
            </a: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гибридизации и связаны друг с другом тройной связью</a:t>
            </a:r>
            <a:r>
              <a:rPr b="1" lang="en-US" sz="2800" spc="-1" strike="noStrike">
                <a:solidFill>
                  <a:srgbClr val="2d8d17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 Общая формула:</a:t>
            </a:r>
            <a:r>
              <a:rPr b="1" lang="en-US" sz="2800" spc="-1" strike="noStrike">
                <a:solidFill>
                  <a:srgbClr val="2d8d17"/>
                </a:solidFill>
                <a:latin typeface="Times New Roman"/>
              </a:rPr>
              <a:t>CnH</a:t>
            </a:r>
            <a:r>
              <a:rPr b="1" lang="en-US" sz="20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2d8d17"/>
                </a:solidFill>
                <a:latin typeface="Times New Roman"/>
              </a:rPr>
              <a:t>n-</a:t>
            </a:r>
            <a:r>
              <a:rPr b="1" lang="en-US" sz="20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2d8d17"/>
                </a:solidFill>
                <a:latin typeface="Times New Roman"/>
              </a:rPr>
              <a:t>, n&gt;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Длина связи в алкинах ра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0,120 н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4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53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57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61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65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50000">
                <a:srgbClr val="ffffff"/>
              </a:gs>
              <a:gs pos="100000">
                <a:srgbClr val="c3fac2"/>
              </a:gs>
            </a:gsLst>
            <a:lin ang="5400000"/>
          </a:grad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8d17"/>
                </a:solidFill>
                <a:latin typeface="Arial"/>
              </a:rPr>
              <a:t>Изомер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6875640" cy="499752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50000">
                <a:srgbClr val="ffffff"/>
              </a:gs>
              <a:gs pos="100000">
                <a:srgbClr val="c3fac2"/>
              </a:gs>
            </a:gsLst>
            <a:lin ang="2700000"/>
          </a:gradFill>
          <a:ln w="9360">
            <a:solidFill>
              <a:srgbClr val="6efeb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Углеродного скелета с «С»</a:t>
            </a:r>
            <a:r>
              <a:rPr b="1" lang="en-US" sz="2400" spc="-1" strike="noStrike" u="sng">
                <a:solidFill>
                  <a:srgbClr val="2d8d17"/>
                </a:solidFill>
                <a:uFillTx/>
                <a:latin typeface="Times New Roman"/>
              </a:rPr>
              <a:t> &gt;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2d8d17"/>
                </a:solidFill>
                <a:latin typeface="Times New Roman"/>
              </a:rPr>
              <a:t>C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1" lang="el-GR" sz="2000" spc="-1" strike="noStrike">
                <a:solidFill>
                  <a:srgbClr val="2d8d17"/>
                </a:solidFill>
                <a:latin typeface="Times New Roman"/>
                <a:ea typeface="Arial"/>
              </a:rPr>
              <a:t>Ξ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С-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-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-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3                   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СН</a:t>
            </a:r>
            <a:r>
              <a:rPr b="1" lang="el-GR" sz="2000" spc="-1" strike="noStrike">
                <a:solidFill>
                  <a:srgbClr val="2d8d17"/>
                </a:solidFill>
                <a:latin typeface="Times New Roman"/>
                <a:ea typeface="Arial"/>
              </a:rPr>
              <a:t>Ξ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С-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–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3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бутин-1                                     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                                                       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3-метилбутин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Положения тройной (кратной)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СН</a:t>
            </a:r>
            <a:r>
              <a:rPr b="1" lang="el-GR" sz="2000" spc="-1" strike="noStrike">
                <a:solidFill>
                  <a:srgbClr val="2d8d17"/>
                </a:solidFill>
                <a:latin typeface="Times New Roman"/>
                <a:ea typeface="Arial"/>
              </a:rPr>
              <a:t>Ξ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С-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-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3             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-С</a:t>
            </a:r>
            <a:r>
              <a:rPr b="1" lang="el-GR" sz="2000" spc="-1" strike="noStrike">
                <a:solidFill>
                  <a:srgbClr val="2d8d17"/>
                </a:solidFill>
                <a:latin typeface="Times New Roman"/>
                <a:ea typeface="Arial"/>
              </a:rPr>
              <a:t>Ξ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С-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бутин-1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                                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бутин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Классов соединений</a:t>
            </a:r>
            <a:r>
              <a:rPr b="1" lang="ru-RU" sz="2000" spc="-1" strike="noStrike" u="sng">
                <a:solidFill>
                  <a:srgbClr val="2d8d17"/>
                </a:solidFill>
                <a:uFillTx/>
                <a:latin typeface="Times New Roman"/>
              </a:rPr>
              <a:t> (алкадиен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СН</a:t>
            </a:r>
            <a:r>
              <a:rPr b="1" lang="el-GR" sz="2000" spc="-1" strike="noStrike">
                <a:solidFill>
                  <a:srgbClr val="2d8d17"/>
                </a:solidFill>
                <a:latin typeface="Times New Roman"/>
                <a:ea typeface="Arial"/>
              </a:rPr>
              <a:t>Ξ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С-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-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          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2=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СН-СН=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бутин-1                      бутадиен-1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d8d17"/>
                </a:solidFill>
                <a:uFillTx/>
                <a:latin typeface="Times New Roman"/>
              </a:rPr>
              <a:t>Пространственной изомерии </a:t>
            </a:r>
            <a:r>
              <a:rPr b="1" lang="ru-RU" sz="2800" spc="-1" strike="noStrike" u="sng">
                <a:solidFill>
                  <a:srgbClr val="2d8d17"/>
                </a:solidFill>
                <a:uFillTx/>
                <a:latin typeface="Times New Roman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2d8d17"/>
                </a:solidFill>
                <a:latin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7020000" y="2276640"/>
            <a:ext cx="0" cy="72720"/>
          </a:xfrm>
          <a:prstGeom prst="line">
            <a:avLst/>
          </a:prstGeom>
          <a:ln w="9360">
            <a:solidFill>
              <a:srgbClr val="2d8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0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4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8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2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6" dur="1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0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4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8" dur="10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2" dur="10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6" dur="10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0" dur="1000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4" dur="1000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2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8" dur="1000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8d17"/>
                </a:solidFill>
                <a:latin typeface="Times New Roman"/>
              </a:rPr>
              <a:t>Номенклатур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6efeb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АН  → 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Выбор главной цепи и начало нумерации определяется тройной связ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Правила составления названий алкинов по международной номенклатуре аналогичны правилам для алке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3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7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1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5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8d17"/>
                </a:solidFill>
                <a:latin typeface="Times New Roman"/>
              </a:rPr>
              <a:t>Физические свойств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3fac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efeb3"/>
            </a:solidFill>
            <a:miter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8d17"/>
                </a:solidFill>
                <a:latin typeface="Times New Roman"/>
              </a:rPr>
              <a:t>С2-С4-газы, С5-С16-жидкости,С</a:t>
            </a:r>
            <a:r>
              <a:rPr b="1" lang="en-US" sz="3200" spc="-1" strike="noStrike">
                <a:solidFill>
                  <a:srgbClr val="2d8d17"/>
                </a:solidFill>
                <a:latin typeface="Times New Roman"/>
              </a:rPr>
              <a:t>&gt;17 </a:t>
            </a:r>
            <a:r>
              <a:rPr b="1" lang="ru-RU" sz="3200" spc="-1" strike="noStrike">
                <a:solidFill>
                  <a:srgbClr val="2d8d17"/>
                </a:solidFill>
                <a:latin typeface="Times New Roman"/>
              </a:rPr>
              <a:t>твердые вещества, растворимость в воде небольшая, но больше чем у алкенов и алканов, р</a:t>
            </a:r>
            <a:r>
              <a:rPr b="1" lang="en-US" sz="3200" spc="-1" strike="noStrike">
                <a:solidFill>
                  <a:srgbClr val="2d8d17"/>
                </a:solidFill>
                <a:latin typeface="Times New Roman"/>
              </a:rPr>
              <a:t>&lt;</a:t>
            </a:r>
            <a:r>
              <a:rPr b="1" lang="ru-RU" sz="3200" spc="-1" strike="noStrike">
                <a:solidFill>
                  <a:srgbClr val="2d8d17"/>
                </a:solidFill>
                <a:latin typeface="Times New Roman"/>
              </a:rPr>
              <a:t>1г/ с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8d17"/>
                </a:solidFill>
                <a:latin typeface="Times New Roman"/>
              </a:rPr>
              <a:t>Ткип( Н) </a:t>
            </a:r>
            <a:r>
              <a:rPr b="1" lang="en-US" sz="3200" spc="-1" strike="noStrike">
                <a:solidFill>
                  <a:srgbClr val="2d8d17"/>
                </a:solidFill>
                <a:latin typeface="Times New Roman"/>
              </a:rPr>
              <a:t>&gt;</a:t>
            </a:r>
            <a:r>
              <a:rPr b="1" lang="ru-RU" sz="3200" spc="-1" strike="noStrike">
                <a:solidFill>
                  <a:srgbClr val="2d8d17"/>
                </a:solidFill>
                <a:latin typeface="Times New Roman"/>
              </a:rPr>
              <a:t> Т кип (разв), с увеличением М</a:t>
            </a:r>
            <a:r>
              <a:rPr b="1" lang="en-US" sz="3200" spc="-1" strike="noStrike">
                <a:solidFill>
                  <a:srgbClr val="2d8d17"/>
                </a:solidFill>
                <a:latin typeface="Times New Roman"/>
              </a:rPr>
              <a:t>r T</a:t>
            </a:r>
            <a:r>
              <a:rPr b="1" lang="ru-RU" sz="3200" spc="-1" strike="noStrike">
                <a:solidFill>
                  <a:srgbClr val="2d8d17"/>
                </a:solidFill>
                <a:latin typeface="Times New Roman"/>
              </a:rPr>
              <a:t>кип увеличив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8d17"/>
                </a:solidFill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4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8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50000">
                <a:srgbClr val="ffffff"/>
              </a:gs>
              <a:gs pos="100000">
                <a:srgbClr val="c3fac2"/>
              </a:gs>
            </a:gsLst>
            <a:lin ang="5400000"/>
          </a:grad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Химические свойства алкинов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6efeb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Алкины во многих реакциях обладают большей реакционной способностью,чем алкены. Для алкинов,как и для алкенов, характерны реакции присоединения. Так как тройная связь содержит две </a:t>
            </a:r>
            <a:r>
              <a:rPr b="0" lang="el-GR" sz="2400" spc="-1" strike="noStrike">
                <a:solidFill>
                  <a:srgbClr val="2d8d17"/>
                </a:solidFill>
                <a:latin typeface="Times New Roman"/>
                <a:ea typeface="Arial"/>
              </a:rPr>
              <a:t>π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-связи, алкины могут вступать в реакции двойного присоединения (присоединять 2 молекулы реагента по тройной связи). Присоединение несимметричных реагентов к несимметричным алкинам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происходит по правилу</a:t>
            </a:r>
            <a:r>
              <a:rPr b="0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Марковникова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93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7417080" cy="685800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8d17"/>
                </a:solidFill>
                <a:latin typeface="Times New Roman"/>
              </a:rPr>
              <a:t>I.</a:t>
            </a:r>
            <a:r>
              <a:rPr b="1" lang="ru-RU" sz="2800" spc="-1" strike="noStrike" u="sng">
                <a:solidFill>
                  <a:srgbClr val="2d8d17"/>
                </a:solidFill>
                <a:uFillTx/>
                <a:latin typeface="Times New Roman"/>
              </a:rPr>
              <a:t>Реакции присоединения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:</a:t>
            </a:r>
            <a:br>
              <a:rPr sz="2400"/>
            </a:br>
            <a:r>
              <a:rPr b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1.Присоединение водорода (</a:t>
            </a:r>
            <a:r>
              <a:rPr b="1" i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гидрирование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На 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ступени образуются алкены, на 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тупени-</a:t>
            </a:r>
            <a:br>
              <a:rPr sz="2400"/>
            </a:b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алканы:</a:t>
            </a:r>
            <a:br>
              <a:rPr sz="2400"/>
            </a:b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    С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H 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+ 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→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С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=С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 </a:t>
            </a:r>
            <a:br>
              <a:rPr sz="1400"/>
            </a:b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(кат. 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Pt, Pd, Ni, t=150)</a:t>
            </a:r>
            <a:br>
              <a:rPr sz="2400"/>
            </a:b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=С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+Н</a:t>
            </a:r>
            <a:r>
              <a:rPr b="0" lang="ru-RU" sz="16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→С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-С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3</a:t>
            </a:r>
            <a:br>
              <a:rPr sz="1400"/>
            </a:b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Суммарное уравнение:</a:t>
            </a:r>
            <a:br>
              <a:rPr sz="2400"/>
            </a:b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С </a:t>
            </a:r>
            <a:r>
              <a:rPr b="0" lang="ru-RU" sz="16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Н </a:t>
            </a:r>
            <a:r>
              <a:rPr b="0" lang="ru-RU" sz="16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+2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→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С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-С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3</a:t>
            </a:r>
            <a:br>
              <a:rPr sz="1400"/>
            </a:br>
            <a:r>
              <a:rPr b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2.Присоединение галогенов (</a:t>
            </a:r>
            <a:r>
              <a:rPr b="1" i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галогенирование</a:t>
            </a:r>
            <a:r>
              <a:rPr b="0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)</a:t>
            </a:r>
            <a:br>
              <a:rPr sz="2400"/>
            </a:b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На 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ступени образуются дигалогеналкены, на 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II-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тетрагалогеналканы:</a:t>
            </a:r>
            <a:br>
              <a:rPr sz="2400"/>
            </a:b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6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     Br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→C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Н 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Br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=С 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Br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-С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-С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2d8d17"/>
                </a:solidFill>
                <a:latin typeface="Times New Roman"/>
              </a:rPr>
              <a:t>бутин -1               ( Н</a:t>
            </a:r>
            <a:r>
              <a:rPr b="0" lang="ru-RU" sz="12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2d8d17"/>
                </a:solidFill>
                <a:latin typeface="Times New Roman"/>
              </a:rPr>
              <a:t>О) </a:t>
            </a:r>
            <a:r>
              <a:rPr b="0" lang="en-US" sz="1800" spc="-1" strike="noStrike">
                <a:solidFill>
                  <a:srgbClr val="2d8d17"/>
                </a:solidFill>
                <a:latin typeface="Times New Roman"/>
              </a:rPr>
              <a:t>    1</a:t>
            </a:r>
            <a:r>
              <a:rPr b="0" lang="ru-RU" sz="1800" spc="-1" strike="noStrike">
                <a:solidFill>
                  <a:srgbClr val="2d8d17"/>
                </a:solidFill>
                <a:latin typeface="Times New Roman"/>
              </a:rPr>
              <a:t>,2-дибромбутен-1</a:t>
            </a:r>
            <a:br>
              <a:rPr sz="1800"/>
            </a:br>
            <a:r>
              <a:rPr b="0" lang="ru-RU" sz="1800" spc="-1" strike="noStrike">
                <a:solidFill>
                  <a:srgbClr val="2d8d17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СН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Br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=С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Br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-С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-С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3 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Br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---CHBr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-CBr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-CH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-CH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2d8d17"/>
                </a:solidFill>
                <a:latin typeface="Times New Roman"/>
              </a:rPr>
              <a:t>( H</a:t>
            </a:r>
            <a:r>
              <a:rPr b="0" lang="en-US" sz="12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2d8d17"/>
                </a:solidFill>
                <a:latin typeface="Times New Roman"/>
              </a:rPr>
              <a:t>O)   </a:t>
            </a:r>
            <a:r>
              <a:rPr b="0" lang="ru-RU" sz="1800" spc="-1" strike="noStrike">
                <a:solidFill>
                  <a:srgbClr val="2d8d17"/>
                </a:solidFill>
                <a:latin typeface="Times New Roman"/>
              </a:rPr>
              <a:t>1,1,2,2-тетрабромбутан</a:t>
            </a:r>
            <a:br>
              <a:rPr sz="1800"/>
            </a:br>
            <a:r>
              <a:rPr b="1" i="1" lang="ru-RU" sz="2000" spc="-1" strike="noStrike" u="sng">
                <a:solidFill>
                  <a:srgbClr val="2d8d17"/>
                </a:solidFill>
                <a:uFillTx/>
                <a:latin typeface="Times New Roman"/>
              </a:rPr>
              <a:t>Реакция алкинов с бромной водой – качественная реакция на алкины. Бромная вода обесцвечивается</a:t>
            </a:r>
            <a:r>
              <a:rPr b="0" i="1" lang="ru-RU" sz="2000" spc="-1" strike="noStrike" u="sng">
                <a:solidFill>
                  <a:srgbClr val="8c0039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95280" y="228240"/>
            <a:ext cx="6948360" cy="572148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3.Присоединение галогеноводородов (</a:t>
            </a:r>
            <a:r>
              <a:rPr b="1" i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гидрогалогенирование</a:t>
            </a:r>
            <a:r>
              <a:rPr b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)</a:t>
            </a:r>
            <a:br>
              <a:rPr sz="2400"/>
            </a:b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На 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 ступени образуются моногалогеналкены,</a:t>
            </a:r>
            <a:br>
              <a:rPr sz="2400"/>
            </a:b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на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II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–дигалогеналканы:</a:t>
            </a:r>
            <a:br>
              <a:rPr sz="2400"/>
            </a:b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Cl →CH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=CHCl+HCl→CH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-CHCl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br>
              <a:rPr sz="1400"/>
            </a:b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                                           </a:t>
            </a:r>
            <a:r>
              <a:rPr b="1" lang="ru-RU" sz="1400" spc="-1" strike="noStrike">
                <a:solidFill>
                  <a:srgbClr val="2d8d17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2d8d17"/>
                </a:solidFill>
                <a:latin typeface="Times New Roman"/>
              </a:rPr>
              <a:t>хлорэтен                      1,1-дихлорэтан</a:t>
            </a:r>
            <a:br>
              <a:rPr sz="1800"/>
            </a:br>
            <a:r>
              <a:rPr b="1" lang="en-US" sz="1800" spc="-1" strike="noStrike">
                <a:solidFill>
                  <a:srgbClr val="2d8d17"/>
                </a:solidFill>
                <a:latin typeface="Times New Roman"/>
              </a:rPr>
              <a:t>  (Cu, Hg )</a:t>
            </a:r>
            <a:br>
              <a:rPr sz="1800"/>
            </a:br>
            <a:r>
              <a:rPr b="1" lang="en-US" sz="2800" spc="-1" strike="noStrike" u="sng">
                <a:solidFill>
                  <a:srgbClr val="2d8d17"/>
                </a:solidFill>
                <a:uFillTx/>
                <a:latin typeface="Times New Roman"/>
              </a:rPr>
              <a:t>4</a:t>
            </a:r>
            <a:r>
              <a:rPr b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.Присоединение воды (</a:t>
            </a:r>
            <a:r>
              <a:rPr b="1" i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гидратация</a:t>
            </a:r>
            <a:r>
              <a:rPr b="1" i="1" lang="ru-RU" sz="2800" spc="-1" strike="noStrike">
                <a:solidFill>
                  <a:srgbClr val="2d8d17"/>
                </a:solidFill>
                <a:latin typeface="Times New Roman"/>
              </a:rPr>
              <a:t>)</a:t>
            </a:r>
            <a:br>
              <a:rPr sz="1800"/>
            </a:br>
            <a:r>
              <a:rPr b="1" i="1" lang="ru-RU" sz="18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2d8d17"/>
                </a:solidFill>
                <a:latin typeface="Times New Roman"/>
              </a:rPr>
              <a:t>Происходит по правилу Марковникова. Ацетилен образует альдегид, его гомологи –кетоны (</a:t>
            </a:r>
            <a:r>
              <a:rPr b="1" i="1" lang="ru-RU" sz="1800" spc="-1" strike="noStrike">
                <a:solidFill>
                  <a:srgbClr val="2d8d17"/>
                </a:solidFill>
                <a:latin typeface="Times New Roman"/>
              </a:rPr>
              <a:t>реакция М.Г. Кучерова</a:t>
            </a:r>
            <a:r>
              <a:rPr b="1" lang="ru-RU" sz="1800" spc="-1" strike="noStrike">
                <a:solidFill>
                  <a:srgbClr val="2d8d17"/>
                </a:solidFill>
                <a:latin typeface="Times New Roman"/>
              </a:rPr>
              <a:t>):</a:t>
            </a:r>
            <a:br>
              <a:rPr sz="1800"/>
            </a:b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НОН→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СН</a:t>
            </a:r>
            <a:r>
              <a:rPr b="1" lang="ru-RU" sz="1400" spc="-1" strike="noStrike">
                <a:solidFill>
                  <a:srgbClr val="2d8d17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-СОН</a:t>
            </a:r>
            <a:br>
              <a:rPr sz="2400"/>
            </a:b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кат.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Hg                    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этаналь</a:t>
            </a:r>
            <a:br>
              <a:rPr sz="2400"/>
            </a:b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 +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НОН→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СН</a:t>
            </a:r>
            <a:r>
              <a:rPr b="1" lang="ru-RU" sz="1400" spc="-1" strike="noStrike">
                <a:solidFill>
                  <a:srgbClr val="2d8d17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-С-СН</a:t>
            </a:r>
            <a:r>
              <a:rPr b="1" lang="ru-RU" sz="1400" spc="-1" strike="noStrike">
                <a:solidFill>
                  <a:srgbClr val="2d8d17"/>
                </a:solidFill>
                <a:latin typeface="Times New Roman"/>
              </a:rPr>
              <a:t>3</a:t>
            </a:r>
            <a:br>
              <a:rPr sz="2400"/>
            </a:b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                                        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    О  пропанон (ацетон)</a:t>
            </a:r>
            <a:r>
              <a:rPr b="1" lang="ru-RU" sz="1800" spc="-1" strike="noStrike">
                <a:solidFill>
                  <a:srgbClr val="2d8d17"/>
                </a:solidFill>
                <a:latin typeface="Times New Roman"/>
              </a:rPr>
              <a:t>     </a:t>
            </a:r>
            <a:br>
              <a:rPr sz="1800"/>
            </a:br>
            <a:endParaRPr b="0" lang="en-US" sz="1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5867280" y="4941720"/>
            <a:ext cx="0" cy="71640"/>
          </a:xfrm>
          <a:prstGeom prst="line">
            <a:avLst/>
          </a:prstGeom>
          <a:ln w="9360">
            <a:solidFill>
              <a:srgbClr val="2d8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5940360" y="4941720"/>
            <a:ext cx="0" cy="71640"/>
          </a:xfrm>
          <a:prstGeom prst="line">
            <a:avLst/>
          </a:prstGeom>
          <a:ln w="9360">
            <a:solidFill>
              <a:srgbClr val="2d8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400800" cy="685800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50000">
                <a:srgbClr val="ffffff"/>
              </a:gs>
              <a:gs pos="100000">
                <a:srgbClr val="c3fac2"/>
              </a:gs>
            </a:gsLst>
            <a:lin ang="18900000"/>
          </a:grad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d8d17"/>
                </a:solidFill>
                <a:uFillTx/>
                <a:latin typeface="Times New Roman"/>
              </a:rPr>
              <a:t>Реакция с </a:t>
            </a:r>
            <a:r>
              <a:rPr b="1" lang="en-US" sz="2800" spc="-1" strike="noStrike" u="sng">
                <a:solidFill>
                  <a:srgbClr val="2d8d17"/>
                </a:solidFill>
                <a:uFillTx/>
                <a:latin typeface="Times New Roman"/>
              </a:rPr>
              <a:t>KMnO4</a:t>
            </a:r>
            <a:r>
              <a:rPr b="1" lang="ru-RU" sz="2800" spc="-1" strike="noStrike" u="sng">
                <a:solidFill>
                  <a:srgbClr val="2d8d17"/>
                </a:solidFill>
                <a:uFillTx/>
                <a:latin typeface="Times New Roman"/>
              </a:rPr>
              <a:t> является качественной  реакцией на алкины. Раствор </a:t>
            </a:r>
            <a:r>
              <a:rPr b="1" lang="en-US" sz="2800" spc="-1" strike="noStrike" u="sng">
                <a:solidFill>
                  <a:srgbClr val="2d8d17"/>
                </a:solidFill>
                <a:uFillTx/>
                <a:latin typeface="Times New Roman"/>
              </a:rPr>
              <a:t>KMnO</a:t>
            </a:r>
            <a:r>
              <a:rPr b="1" lang="ru-RU" sz="2800" spc="-1" strike="noStrike" u="sng">
                <a:solidFill>
                  <a:srgbClr val="2d8d17"/>
                </a:solidFill>
                <a:uFillTx/>
                <a:latin typeface="Times New Roman"/>
              </a:rPr>
              <a:t>4 обесцвечивается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24000" y="260280"/>
            <a:ext cx="7020000" cy="58327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39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Кислотные свойства ацетиленовых        углеводородов.</a:t>
            </a:r>
            <a:br>
              <a:rPr sz="2400"/>
            </a:br>
            <a:r>
              <a:rPr b="0" lang="ru-RU" sz="1800" spc="-1" strike="noStrike">
                <a:solidFill>
                  <a:srgbClr val="2d8d17"/>
                </a:solidFill>
                <a:latin typeface="Times New Roman"/>
              </a:rPr>
              <a:t>Атом</a:t>
            </a:r>
            <a:r>
              <a:rPr b="1" lang="ru-RU" sz="1800" spc="-1" strike="noStrike" u="sng">
                <a:solidFill>
                  <a:srgbClr val="2d8d17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2d8d17"/>
                </a:solidFill>
                <a:latin typeface="Times New Roman"/>
              </a:rPr>
              <a:t>водорода в ацетилене и его гомологах, содержащих тройную связь на конце молекулы, довольно подвижен. Он может замещаться на металл, связанный с органическим остатком ионной связью. Продукты замещения можно отнести к классу солей, они называются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ацетиленидами.</a:t>
            </a:r>
            <a:br>
              <a:rPr sz="2400"/>
            </a:b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 + 2 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Na--- C 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Na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+ H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  (</a:t>
            </a:r>
            <a:r>
              <a:rPr b="1" lang="ru-RU" sz="1400" spc="-1" strike="noStrike">
                <a:solidFill>
                  <a:srgbClr val="2d8d17"/>
                </a:solidFill>
                <a:latin typeface="Times New Roman"/>
              </a:rPr>
              <a:t> в присутствии 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NH</a:t>
            </a:r>
            <a:r>
              <a:rPr b="1" lang="en-US" sz="1000" spc="-1" strike="noStrike">
                <a:solidFill>
                  <a:srgbClr val="2d8d17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)</a:t>
            </a:r>
            <a:br>
              <a:rPr sz="1400"/>
            </a:b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Реакция получения ацетиленидов серебра и меди (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I)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 позволяет отличить алкины с концевой тройной связью от алканов, алкенов и алкинов с тройной связью в середине углеродной цепи.</a:t>
            </a:r>
            <a:br>
              <a:rPr sz="2000"/>
            </a:b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Ag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O --- C 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Ag 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+ H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O</a:t>
            </a:r>
            <a:br>
              <a:rPr sz="2400"/>
            </a:b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                       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(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хлопья серого осадка)</a:t>
            </a:r>
            <a:br>
              <a:rPr sz="1400"/>
            </a:b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Во влажном состоянии ацетиленид серебра безопасен, а при высыхании сильно взрывается от удара или поджигания.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2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7488360" cy="685800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d8d17"/>
                </a:solidFill>
                <a:uFillTx/>
                <a:latin typeface="Times New Roman"/>
              </a:rPr>
              <a:t>III.</a:t>
            </a:r>
            <a:r>
              <a:rPr b="1" lang="ru-RU" sz="3200" spc="-1" strike="noStrike" u="sng">
                <a:solidFill>
                  <a:srgbClr val="2d8d17"/>
                </a:solidFill>
                <a:uFillTx/>
                <a:latin typeface="Times New Roman"/>
              </a:rPr>
              <a:t> Реакции полимеризации.</a:t>
            </a:r>
            <a:br>
              <a:rPr sz="4000"/>
            </a:b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Очень длинные цепи молекулы ацетилена образуют с трудом, а вот несколько молекул (от двух до пяти ) соединяются друг с другом относительно легко. Впервые подобную реакцию в 1866г. Осуществил М. Бертло. При нагревании ацетилена до 600 градусов С ему удалось получить небольшое количество бензола. Спустя 60 лет русский химик Николай Дмитриевич Зелинский обнаружил, что катализатором данной реакции является углерод (активированный уголь). С тех пор эта реакция носит имя </a:t>
            </a:r>
            <a:r>
              <a:rPr b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Н.Д.Зелинского.</a:t>
            </a:r>
            <a:br>
              <a:rPr sz="2400"/>
            </a:b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3С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-----С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6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6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  бензол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                                                                        </a:t>
            </a:r>
            <a:r>
              <a:rPr b="1" lang="ru-RU" sz="3200" spc="-1" strike="noStrike">
                <a:solidFill>
                  <a:srgbClr val="2d8d17"/>
                </a:solidFill>
                <a:latin typeface="Times New Roman"/>
              </a:rPr>
              <a:t>Назад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3780000" y="404640"/>
            <a:ext cx="3456000" cy="1224000"/>
          </a:xfrm>
          <a:prstGeom prst="rect">
            <a:avLst/>
          </a:prstGeom>
          <a:gradFill rotWithShape="0">
            <a:gsLst>
              <a:gs pos="0">
                <a:srgbClr val="d9fdf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cc"/>
                </a:solidFill>
                <a:uFillTx/>
                <a:latin typeface="Times New Roman"/>
              </a:rPr>
              <a:t>Алке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484360" y="2133720"/>
            <a:ext cx="244800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fdf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Опреде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алке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484360" y="3500280"/>
            <a:ext cx="2448000" cy="649440"/>
          </a:xfrm>
          <a:prstGeom prst="rect">
            <a:avLst/>
          </a:prstGeom>
          <a:gradFill rotWithShape="0">
            <a:gsLst>
              <a:gs pos="0">
                <a:srgbClr val="d9fdfc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Изоме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2268360" y="4437000"/>
            <a:ext cx="266400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fdfc"/>
              </a:gs>
            </a:gsLst>
            <a:lin ang="189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Номенкл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5796000" y="2133720"/>
            <a:ext cx="2951280" cy="93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fdfc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Хим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867280" y="3500280"/>
            <a:ext cx="288000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fdfc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ол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5867280" y="5013360"/>
            <a:ext cx="288144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fdfc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риме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2484360" y="5516640"/>
            <a:ext cx="2448000" cy="64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9fdf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Физ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588000" y="6308640"/>
            <a:ext cx="1656000" cy="360360"/>
          </a:xfrm>
          <a:prstGeom prst="rect">
            <a:avLst/>
          </a:prstGeom>
          <a:gradFill rotWithShape="0">
            <a:gsLst>
              <a:gs pos="0">
                <a:srgbClr val="c7fcfd"/>
              </a:gs>
              <a:gs pos="50000">
                <a:srgbClr val="ffffff"/>
              </a:gs>
              <a:gs pos="100000">
                <a:srgbClr val="c7fcfd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005c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5"/>
          <p:cNvSpPr/>
          <p:nvPr/>
        </p:nvSpPr>
        <p:spPr>
          <a:xfrm>
            <a:off x="2771640" y="981000"/>
            <a:ext cx="60134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!!!В 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1955г.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2d8d17"/>
                </a:solidFill>
                <a:latin typeface="Times New Roman"/>
              </a:rPr>
              <a:t>Д. Натта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 с сотрудниками синтезировал полиацетилен, представлявший собой смесь цис-, трансизомеров: цис-полиацетилен, красного цвета, менее устойчив, транс- полиацетилен, синего цвета, более устойчив. Полиацетилен открыл новую эру токопроводящих полимеров. В 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1976г.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 в лаборатории японского ученого </a:t>
            </a:r>
            <a:r>
              <a:rPr b="1" i="1" lang="ru-RU" sz="2000" spc="-1" strike="noStrike">
                <a:solidFill>
                  <a:srgbClr val="2d8d17"/>
                </a:solidFill>
                <a:latin typeface="Times New Roman"/>
              </a:rPr>
              <a:t>Хидэки Сиракавы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 было сделано удивительное открытие. Если пленку из этого материала обработать иодом, получается золотистое покрытие с металлическим блеском, которое проводит электрический ток в миллиард раз лучше, чем сам полиацетилен! Эти материалы используются в сотнях электронных и звуковоспроизводящих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устрой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400800" cy="33336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50000">
                <a:srgbClr val="ffffff"/>
              </a:gs>
              <a:gs pos="100000">
                <a:srgbClr val="c3fac2"/>
              </a:gs>
            </a:gsLst>
            <a:lin ang="5400000"/>
          </a:grad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Получение алкинов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95280" y="475920"/>
            <a:ext cx="6948360" cy="638172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efeb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d8d17"/>
                </a:solidFill>
                <a:uFillTx/>
                <a:latin typeface="Times New Roman"/>
              </a:rPr>
              <a:t>Пиролиз метана (метановый спосо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.В 1868 г. М. Бертло, пропуская через метан электрический разряд, обнаружил в смеси образующихся газов ацетил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2С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4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 →С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 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+ 3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d8d17"/>
                </a:solidFill>
                <a:uFillTx/>
                <a:latin typeface="Times New Roman"/>
              </a:rPr>
              <a:t>Дегидрогалогенирование дигалогеналк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В 60-х гг.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XIX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в. Молодым русским ученым 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                  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М. Мясникову и В. Савичу удалось получить ацетилен взаимодействием 1,2-дибромэтана с кипящим спиртовым раствором гидроксида ка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С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Br-CH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Br +KOH (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спирт. р-р)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 →CH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=CHBr +KBr +H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CH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=CHBr + KOH 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(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спирт.р-р) 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→С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 +KBr + H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d8d17"/>
                </a:solidFill>
                <a:uFillTx/>
                <a:latin typeface="Times New Roman"/>
              </a:rPr>
              <a:t>Карбидный спос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В 1836г. английский химик Э.Дэви получил бесцветный газ, горящий красноватым коптящим пламенем при действии воды на карбид каль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CaC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 + 2 H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O → Ca(OH)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 +C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H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 (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ацетиле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6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0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4" dur="2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8" dur="2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2" dur="2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6" dur="2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0" dur="2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4" dur="20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8" dur="2000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2" dur="2000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00360" y="228240"/>
            <a:ext cx="6138720" cy="67932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50000">
                <a:srgbClr val="ffffff"/>
              </a:gs>
              <a:gs pos="100000">
                <a:srgbClr val="c3fac2"/>
              </a:gs>
            </a:gsLst>
            <a:lin ang="5400000"/>
          </a:grad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d8d17"/>
                </a:solidFill>
                <a:latin typeface="Times New Roman"/>
              </a:rPr>
              <a:t>Применение ацетилен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340000" y="1125360"/>
          <a:ext cx="6804000" cy="5469120"/>
        </p:xfrm>
        <a:graphic>
          <a:graphicData uri="http://schemas.openxmlformats.org/drawingml/2006/table">
            <a:tbl>
              <a:tblPr/>
              <a:tblGrid>
                <a:gridCol w="1727280"/>
                <a:gridCol w="2736720"/>
                <a:gridCol w="234000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Сво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Урав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Приме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1. г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C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 + 5O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4CO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 + 2H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O + 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t </a:t>
                      </a:r>
                      <a:r>
                        <a:rPr b="0" lang="ru-RU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ДО 3000 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Автогенная сварка и резка мет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. галогениро-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 + 2Cl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CHCl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 - CHCl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Растворители, получение других произво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4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3. гидрогало-ген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+ H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                   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=CH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=CHCI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( -CH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-CHCI-)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Для производства поливинилхлорида (кожзаменитель и т.п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4. гидра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+ H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Получение уксусного альдегида, уксксной кислоты ( лаки, лекарства и д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5. заме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 +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AgNO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+2NH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AgC</a:t>
                      </a:r>
                      <a:r>
                        <a:rPr b="0" lang="el-GR" sz="1600" spc="-1" strike="noStrike">
                          <a:solidFill>
                            <a:srgbClr val="2d8d17"/>
                          </a:solidFill>
                          <a:latin typeface="Times New Roman"/>
                          <a:ea typeface="Arial"/>
                        </a:rPr>
                        <a:t>Ξ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CAg +2NH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              +2H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Ацетилениды – взрывчатые вещест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205" name="Line 80"/>
          <p:cNvSpPr/>
          <p:nvPr/>
        </p:nvSpPr>
        <p:spPr>
          <a:xfrm>
            <a:off x="5724360" y="1700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84"/>
          <p:cNvSpPr/>
          <p:nvPr/>
        </p:nvSpPr>
        <p:spPr>
          <a:xfrm>
            <a:off x="5651640" y="2708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34"/>
          <p:cNvSpPr/>
          <p:nvPr/>
        </p:nvSpPr>
        <p:spPr>
          <a:xfrm>
            <a:off x="5580000" y="33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36"/>
          <p:cNvSpPr/>
          <p:nvPr/>
        </p:nvSpPr>
        <p:spPr>
          <a:xfrm>
            <a:off x="5651640" y="39337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7"/>
          <p:cNvSpPr/>
          <p:nvPr/>
        </p:nvSpPr>
        <p:spPr>
          <a:xfrm>
            <a:off x="558000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155"/>
          <p:cNvGraphicFramePr/>
          <p:nvPr/>
        </p:nvGraphicFramePr>
        <p:xfrm>
          <a:off x="5796000" y="4869000"/>
          <a:ext cx="838080" cy="51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4869000"/>
                    <a:ext cx="83808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67932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50000">
                <a:srgbClr val="ffffff"/>
              </a:gs>
              <a:gs pos="100000">
                <a:srgbClr val="c3fac2"/>
              </a:gs>
            </a:gsLst>
            <a:lin ang="5400000"/>
          </a:grad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d8d17"/>
                </a:solidFill>
                <a:latin typeface="Arial"/>
              </a:rPr>
              <a:t>Список литератур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8280" y="907560"/>
            <a:ext cx="6400800" cy="568980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efeb3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1. Настольная книга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Химия  9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О.С. Габриелян, И.Г. Остроу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2. Настольная книга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Химия  10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О.С. Габриелян, И.Г. Остроу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3. Теория химического строения. Углеводо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Рабочая тетрад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А. Журин, Л. Лев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4. Химия внутри н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Введение в бионеорганическую и биоорганическую хим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А.С. Егоров, Н.М. Иванченко, К.П. Шацк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5. Хим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Пособие для школьников старших классов и поступающих в ву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О.С. Габриелян, И.Г. Остроу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6. Репетитор по хим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под редакцией А.С. Его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2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30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35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0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5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50" dur="2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55" dur="2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0" dur="20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5" dur="2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0" dur="2000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5" dur="2000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nodeType="clickEffect" fill="hold">
                      <p:stCondLst>
                        <p:cond delay="indefinite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80" dur="2000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85" dur="2000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90" dur="2000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95" dur="2000"/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00" dur="2000"/>
                                        <p:tgtEl>
                                          <p:spTgt spid="2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05" dur="2000"/>
                                        <p:tgtEl>
                                          <p:spTgt spid="2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10" dur="2000"/>
                                        <p:tgtEl>
                                          <p:spTgt spid="2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260280"/>
            <a:ext cx="7121520" cy="1944720"/>
          </a:xfrm>
          <a:prstGeom prst="rect">
            <a:avLst/>
          </a:prstGeom>
          <a:gradFill rotWithShape="0">
            <a:gsLst>
              <a:gs pos="0">
                <a:srgbClr val="f1b7f9"/>
              </a:gs>
              <a:gs pos="50000">
                <a:srgbClr val="ffffff"/>
              </a:gs>
              <a:gs pos="100000">
                <a:srgbClr val="f1b7f9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005c"/>
                </a:solidFill>
                <a:latin typeface="Times New Roman"/>
              </a:rPr>
              <a:t>Алкены</a:t>
            </a:r>
            <a:r>
              <a:rPr b="0" lang="ru-RU" sz="4400" spc="-1" strike="noStrike">
                <a:solidFill>
                  <a:srgbClr val="8c003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8c003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8c0039"/>
                </a:solidFill>
                <a:latin typeface="Times New Roman"/>
              </a:rPr>
              <a:t>( олефины, </a:t>
            </a:r>
            <a:r>
              <a:rPr b="0" lang="en-US" sz="3600" spc="-1" strike="noStrike">
                <a:solidFill>
                  <a:srgbClr val="8c003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8c0039"/>
                </a:solidFill>
                <a:latin typeface="Times New Roman"/>
              </a:rPr>
              <a:t>этиленовые УВ) </a:t>
            </a:r>
            <a:r>
              <a:rPr b="0" lang="en-US" sz="3600" spc="-1" strike="noStrike">
                <a:solidFill>
                  <a:srgbClr val="8c0039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9966ff"/>
                </a:solidFill>
                <a:latin typeface="Times New Roman"/>
              </a:rPr>
              <a:t>CnH2n, n&gt;2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640" y="2491920"/>
            <a:ext cx="8083440" cy="396108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00"/>
                </a:solidFill>
                <a:uFillTx/>
                <a:latin typeface="Times New Roman"/>
              </a:rPr>
              <a:t>Алкены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– это </a:t>
            </a: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УВ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, в молекулах которых </a:t>
            </a: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два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атома углерода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находятся в состоянии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Times New Roman"/>
              </a:rPr>
              <a:t>Sp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Times New Roman"/>
                <a:ea typeface="Arial"/>
              </a:rPr>
              <a:t>²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-</a:t>
            </a:r>
            <a:r>
              <a:rPr b="1" lang="ru-RU" sz="3200" spc="-1" strike="noStrike" u="sng">
                <a:solidFill>
                  <a:srgbClr val="009900"/>
                </a:solidFill>
                <a:uFillTx/>
                <a:latin typeface="Times New Roman"/>
              </a:rPr>
              <a:t>гибридизации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и связаны друг с другом </a:t>
            </a:r>
            <a:r>
              <a:rPr b="1" lang="ru-RU" sz="3200" spc="-1" strike="noStrike" u="sng">
                <a:solidFill>
                  <a:srgbClr val="009900"/>
                </a:solidFill>
                <a:uFillTx/>
                <a:latin typeface="Times New Roman"/>
              </a:rPr>
              <a:t>двойной связ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Длина связи С=С в алкенах равна </a:t>
            </a: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0,134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н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84360" y="404280"/>
            <a:ext cx="6400800" cy="1219320"/>
          </a:xfrm>
          <a:prstGeom prst="rect">
            <a:avLst/>
          </a:prstGeom>
          <a:gradFill rotWithShape="0">
            <a:gsLst>
              <a:gs pos="0">
                <a:srgbClr val="ecd9fd"/>
              </a:gs>
              <a:gs pos="50000">
                <a:srgbClr val="ffffff"/>
              </a:gs>
              <a:gs pos="100000">
                <a:srgbClr val="ecd9fd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c0039"/>
                </a:solidFill>
                <a:latin typeface="Times New Roman"/>
              </a:rPr>
              <a:t>Изомерия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gradFill rotWithShape="0">
            <a:gsLst>
              <a:gs pos="0">
                <a:srgbClr val="ecd9f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Times New Roman"/>
              </a:rPr>
              <a:t>Для алкенов возможны 4 типа изомер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Times New Roman"/>
              </a:rPr>
              <a:t>Изомерия углеродной цеп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Times New Roman"/>
              </a:rPr>
              <a:t>Изомерия положения двойной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Times New Roman"/>
              </a:rPr>
              <a:t>Цис,- транс- изоме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Times New Roman"/>
              </a:rPr>
              <a:t>Классов соединений (циклоалка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0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4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8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2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6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863640"/>
          </a:xfrm>
          <a:prstGeom prst="rect">
            <a:avLst/>
          </a:prstGeom>
          <a:gradFill rotWithShape="0">
            <a:gsLst>
              <a:gs pos="0">
                <a:srgbClr val="c7fcfd"/>
              </a:gs>
              <a:gs pos="50000">
                <a:srgbClr val="ffffff"/>
              </a:gs>
              <a:gs pos="100000">
                <a:srgbClr val="c7fcfd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Номенклатура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95280" y="1599840"/>
            <a:ext cx="6948360" cy="4853160"/>
          </a:xfrm>
          <a:prstGeom prst="rect">
            <a:avLst/>
          </a:prstGeom>
          <a:gradFill rotWithShape="0">
            <a:gsLst>
              <a:gs pos="0">
                <a:srgbClr val="c7fcf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nH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ан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ен</a:t>
            </a:r>
            <a:r>
              <a:rPr b="0" lang="ru-RU" sz="2000" spc="-1" strike="noStrike">
                <a:solidFill>
                  <a:srgbClr val="e4005c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или</a:t>
            </a:r>
            <a:r>
              <a:rPr b="0" lang="ru-RU" sz="2000" spc="-1" strike="noStrike">
                <a:solidFill>
                  <a:srgbClr val="e4005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и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В качестве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Times New Roman"/>
              </a:rPr>
              <a:t>главной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 выбирают цепь, включающую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Times New Roman"/>
              </a:rPr>
              <a:t>двойную связь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, даже если она не самая дли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Нумерация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 с того конца, к которому ближе двойная 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Положение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 связи указывают в конце, номером атома углерода, после которого она находи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В начале названия  –  положение боковых цеп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000" spc="-1" strike="noStrike" u="sng">
                <a:solidFill>
                  <a:srgbClr val="0033cc"/>
                </a:solidFill>
                <a:uFillTx/>
                <a:latin typeface="Times New Roman"/>
              </a:rPr>
              <a:t>Исключение: пентан - пентен или ами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Радикалы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   СН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=СН- вин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СН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=СН-СН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 алл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7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1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1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1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f8ba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36c0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39"/>
                </a:solidFill>
                <a:latin typeface="Times New Roman"/>
              </a:rPr>
              <a:t>Физические свойства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7236000" cy="449568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c36c03"/>
            </a:solidFill>
            <a:miter/>
          </a:ln>
        </p:spPr>
        <p:txBody>
          <a:bodyPr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36c03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c36c03"/>
                </a:solidFill>
                <a:latin typeface="Times New Roman"/>
              </a:rPr>
              <a:t>-С</a:t>
            </a:r>
            <a:r>
              <a:rPr b="1" lang="ru-RU" sz="2000" spc="-1" strike="noStrike">
                <a:solidFill>
                  <a:srgbClr val="c36c03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c36c03"/>
                </a:solidFill>
                <a:uFillTx/>
                <a:latin typeface="Times New Roman"/>
              </a:rPr>
              <a:t>газы,</a:t>
            </a: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36c03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c36c03"/>
                </a:solidFill>
                <a:latin typeface="Times New Roman"/>
              </a:rPr>
              <a:t>5</a:t>
            </a:r>
            <a:r>
              <a:rPr b="1" lang="ru-RU" sz="3200" spc="-1" strike="noStrike">
                <a:solidFill>
                  <a:srgbClr val="c36c03"/>
                </a:solidFill>
                <a:latin typeface="Times New Roman"/>
              </a:rPr>
              <a:t>-С</a:t>
            </a:r>
            <a:r>
              <a:rPr b="1" lang="ru-RU" sz="2000" spc="-1" strike="noStrike">
                <a:solidFill>
                  <a:srgbClr val="c36c03"/>
                </a:solidFill>
                <a:latin typeface="Times New Roman"/>
              </a:rPr>
              <a:t>16</a:t>
            </a: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c36c03"/>
                </a:solidFill>
                <a:uFillTx/>
                <a:latin typeface="Times New Roman"/>
              </a:rPr>
              <a:t>жидкости</a:t>
            </a: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36c03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c36c03"/>
                </a:solidFill>
                <a:latin typeface="Times New Roman"/>
              </a:rPr>
              <a:t>&gt;19</a:t>
            </a:r>
            <a:r>
              <a:rPr b="0" lang="en-US" sz="32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c36c03"/>
                </a:solidFill>
                <a:uFillTx/>
                <a:latin typeface="Times New Roman"/>
              </a:rPr>
              <a:t>твердые,</a:t>
            </a: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р</a:t>
            </a:r>
            <a:r>
              <a:rPr b="0" lang="en-US" sz="3200" spc="-1" strike="noStrike">
                <a:solidFill>
                  <a:srgbClr val="c36c03"/>
                </a:solidFill>
                <a:latin typeface="Times New Roman"/>
              </a:rPr>
              <a:t>&lt;</a:t>
            </a: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1 г</a:t>
            </a:r>
            <a:r>
              <a:rPr b="0" lang="en-US" sz="3200" spc="-1" strike="noStrike">
                <a:solidFill>
                  <a:srgbClr val="c36c03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см , мало растворимы в во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кип</a:t>
            </a: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.(н)</a:t>
            </a:r>
            <a:r>
              <a:rPr b="0" lang="en-US" sz="3200" spc="-1" strike="noStrike">
                <a:solidFill>
                  <a:srgbClr val="c36c03"/>
                </a:solidFill>
                <a:latin typeface="Times New Roman"/>
              </a:rPr>
              <a:t>&gt;T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кип</a:t>
            </a: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.(разв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кип</a:t>
            </a: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.(цис)</a:t>
            </a:r>
            <a:r>
              <a:rPr b="0" lang="en-US" sz="3200" spc="-1" strike="noStrike">
                <a:solidFill>
                  <a:srgbClr val="c36c03"/>
                </a:solidFill>
                <a:latin typeface="Times New Roman"/>
              </a:rPr>
              <a:t>&gt;T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кип</a:t>
            </a: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.(тран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2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6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0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4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8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2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6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413000"/>
          </a:xfrm>
          <a:prstGeom prst="rect">
            <a:avLst/>
          </a:prstGeom>
          <a:gradFill rotWithShape="0">
            <a:gsLst>
              <a:gs pos="0">
                <a:srgbClr val="9ffdd5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ff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2ae2c"/>
                </a:solidFill>
                <a:uFillTx/>
                <a:latin typeface="Times New Roman"/>
              </a:rPr>
              <a:t>Химические</a:t>
            </a:r>
            <a:r>
              <a:rPr b="1" lang="ru-RU" sz="3600" spc="-1" strike="noStrike" u="sng">
                <a:solidFill>
                  <a:srgbClr val="12ae2c"/>
                </a:solidFill>
                <a:uFillTx/>
                <a:latin typeface="Times New Roman"/>
              </a:rPr>
              <a:t> </a:t>
            </a:r>
            <a:r>
              <a:rPr b="1" lang="ru-RU" sz="3600" spc="-1" strike="noStrike" u="sng">
                <a:solidFill>
                  <a:srgbClr val="12ae2c"/>
                </a:solidFill>
                <a:uFillTx/>
                <a:latin typeface="Times New Roman"/>
              </a:rPr>
              <a:t>свойств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95280" y="1484280"/>
            <a:ext cx="6948360" cy="489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ffdd5"/>
              </a:gs>
            </a:gsLst>
            <a:lin ang="0"/>
          </a:gradFill>
          <a:ln w="9360">
            <a:solidFill>
              <a:srgbClr val="00ff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2ae2c"/>
                </a:solidFill>
                <a:uFillTx/>
                <a:latin typeface="Times New Roman"/>
              </a:rPr>
              <a:t>Активны</a:t>
            </a: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 из-за наличия непрочной </a:t>
            </a:r>
            <a:r>
              <a:rPr b="0" lang="el-GR" sz="2400" spc="-1" strike="noStrike">
                <a:solidFill>
                  <a:srgbClr val="12ae2c"/>
                </a:solidFill>
                <a:latin typeface="Times New Roman"/>
                <a:ea typeface="Arial"/>
              </a:rPr>
              <a:t>π</a:t>
            </a: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-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2ae2c"/>
                </a:solidFill>
                <a:uFillTx/>
                <a:latin typeface="Times New Roman"/>
              </a:rPr>
              <a:t>Характерны реакции присоеди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Гидрирование( присоединение водорода)</a:t>
            </a:r>
            <a:r>
              <a:rPr b="0" lang="en-US" sz="2400" spc="-1" strike="noStrike">
                <a:solidFill>
                  <a:srgbClr val="12ae2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СН</a:t>
            </a:r>
            <a:r>
              <a:rPr b="1" lang="ru-RU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-СН=СН</a:t>
            </a:r>
            <a:r>
              <a:rPr b="1" lang="ru-RU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 +Н</a:t>
            </a:r>
            <a:r>
              <a:rPr b="1" lang="ru-RU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12ae2c"/>
                </a:solidFill>
                <a:latin typeface="Times New Roman"/>
                <a:ea typeface="Arial"/>
              </a:rPr>
              <a:t>→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 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-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-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кат.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пропен                    про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Галогенирование( +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Hal</a:t>
            </a:r>
            <a:r>
              <a:rPr b="1" lang="en-US" sz="1600" spc="-1" strike="noStrike">
                <a:solidFill>
                  <a:srgbClr val="12ae2c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ae2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СН</a:t>
            </a:r>
            <a:r>
              <a:rPr b="0" lang="ru-RU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-СН=СН</a:t>
            </a:r>
            <a:r>
              <a:rPr b="0" lang="ru-RU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 +</a:t>
            </a:r>
            <a:r>
              <a:rPr b="0" lang="en-US" sz="2400" spc="-1" strike="noStrike">
                <a:solidFill>
                  <a:srgbClr val="8c0039"/>
                </a:solidFill>
                <a:latin typeface="Times New Roman"/>
              </a:rPr>
              <a:t>Br</a:t>
            </a:r>
            <a:r>
              <a:rPr b="0" lang="en-US" sz="1400" spc="-1" strike="noStrike">
                <a:solidFill>
                  <a:srgbClr val="8c0039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8c0039"/>
                </a:solidFill>
                <a:latin typeface="Times New Roman"/>
              </a:rPr>
              <a:t>→</a:t>
            </a:r>
            <a:r>
              <a:rPr b="0" lang="en-US" sz="1400" spc="-1" strike="noStrike">
                <a:solidFill>
                  <a:srgbClr val="8c003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2ae2c"/>
                </a:solidFill>
                <a:latin typeface="Times New Roman"/>
              </a:rPr>
              <a:t>CH</a:t>
            </a:r>
            <a:r>
              <a:rPr b="0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2ae2c"/>
                </a:solidFill>
                <a:latin typeface="Times New Roman"/>
              </a:rPr>
              <a:t>-CH</a:t>
            </a:r>
            <a:r>
              <a:rPr b="0" lang="en-US" sz="2400" spc="-1" strike="noStrike">
                <a:solidFill>
                  <a:srgbClr val="8c0039"/>
                </a:solidFill>
                <a:latin typeface="Times New Roman"/>
              </a:rPr>
              <a:t>Br</a:t>
            </a:r>
            <a:r>
              <a:rPr b="0" lang="en-US" sz="2400" spc="-1" strike="noStrike">
                <a:solidFill>
                  <a:srgbClr val="12ae2c"/>
                </a:solidFill>
                <a:latin typeface="Times New Roman"/>
              </a:rPr>
              <a:t>-CH</a:t>
            </a:r>
            <a:r>
              <a:rPr b="0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8c0039"/>
                </a:solidFill>
                <a:latin typeface="Times New Roman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пропен                   1,2- дибромпро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ae2c"/>
                </a:solidFill>
                <a:latin typeface="Times New Roman"/>
              </a:rPr>
              <a:t>     </a:t>
            </a:r>
            <a:r>
              <a:rPr b="1" lang="ru-RU" sz="2400" spc="-1" strike="noStrike" u="sng">
                <a:solidFill>
                  <a:srgbClr val="12ae2c"/>
                </a:solidFill>
                <a:uFillTx/>
                <a:latin typeface="Times New Roman"/>
              </a:rPr>
              <a:t>качественная реа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Гидрогалогенирование( +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HHal)</a:t>
            </a: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12ae2c"/>
                </a:solidFill>
                <a:latin typeface="Times New Roman"/>
              </a:rPr>
              <a:t>CH</a:t>
            </a:r>
            <a:r>
              <a:rPr b="0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2ae2c"/>
                </a:solidFill>
                <a:latin typeface="Times New Roman"/>
              </a:rPr>
              <a:t>=CH</a:t>
            </a:r>
            <a:r>
              <a:rPr b="0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2ae2c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HCl→</a:t>
            </a:r>
            <a:r>
              <a:rPr b="0" lang="en-US" sz="2400" spc="-1" strike="noStrike">
                <a:solidFill>
                  <a:srgbClr val="12ae2c"/>
                </a:solidFill>
                <a:latin typeface="Times New Roman"/>
              </a:rPr>
              <a:t> CH</a:t>
            </a:r>
            <a:r>
              <a:rPr b="0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2ae2c"/>
                </a:solidFill>
                <a:latin typeface="Times New Roman"/>
              </a:rPr>
              <a:t> – CH</a:t>
            </a:r>
            <a:r>
              <a:rPr b="0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ae2c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этен                       хлорэ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1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1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1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6:45:15Z</dcterms:created>
  <dc:creator>User</dc:creator>
  <dc:description/>
  <dc:language>en-US</dc:language>
  <cp:lastModifiedBy>Антонио Фагундос</cp:lastModifiedBy>
  <dcterms:modified xsi:type="dcterms:W3CDTF">2012-08-05T14:52:08Z</dcterms:modified>
  <cp:revision>191</cp:revision>
  <dc:subject/>
  <dc:title>Непредельные углеводороды.</dc:title>
</cp:coreProperties>
</file>