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25B-C7CC-40DF-A3BF-9FD9EB33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E1F-FBFC-4CFC-86E6-458FE2BA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1A7-1739-4FF6-B166-8D17D8FC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162-2ACA-4492-A9F1-E316E2DA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360-5D05-4951-A80F-72BE4EB2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3702-A1F6-409C-A939-A2E4959D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4D8-4D1E-4396-89BF-4FFE547C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A53-97ED-41E5-9643-56A500B6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F80-C385-424C-9C77-7B67B1BB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D576-AA08-40DA-8879-83E18EBA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794-6492-4D8F-B6C8-E022E50B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60B-91F1-4B24-AD6D-0F2BAB6C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18E7-D052-4CA7-81AC-4055AF885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Правила безопасности на дорог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93080" y="2852640"/>
            <a:ext cx="157788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9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adder ITC"/>
              </a:rPr>
              <a:t>Причины дорожно-транспортных происшеств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DSCN8351"/>
          <p:cNvPicPr/>
          <p:nvPr/>
        </p:nvPicPr>
        <p:blipFill>
          <a:blip r:embed="rId2"/>
          <a:stretch/>
        </p:blipFill>
        <p:spPr>
          <a:xfrm>
            <a:off x="214200" y="435780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DSCN8352"/>
          <p:cNvPicPr/>
          <p:nvPr/>
        </p:nvPicPr>
        <p:blipFill>
          <a:blip r:embed="rId3"/>
          <a:stretch/>
        </p:blipFill>
        <p:spPr>
          <a:xfrm>
            <a:off x="6000840" y="4303800"/>
            <a:ext cx="2927160" cy="2197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DSCN6333"/>
          <p:cNvPicPr/>
          <p:nvPr/>
        </p:nvPicPr>
        <p:blipFill>
          <a:blip r:embed="rId4"/>
          <a:stretch/>
        </p:blipFill>
        <p:spPr>
          <a:xfrm>
            <a:off x="214200" y="1143000"/>
            <a:ext cx="3000600" cy="224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DSCN6334"/>
          <p:cNvPicPr/>
          <p:nvPr/>
        </p:nvPicPr>
        <p:blipFill>
          <a:blip r:embed="rId5"/>
          <a:stretch/>
        </p:blipFill>
        <p:spPr>
          <a:xfrm>
            <a:off x="6000840" y="1133640"/>
            <a:ext cx="2935080" cy="2201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DSCN8354"/>
          <p:cNvPicPr/>
          <p:nvPr/>
        </p:nvPicPr>
        <p:blipFill>
          <a:blip r:embed="rId6"/>
          <a:stretch/>
        </p:blipFill>
        <p:spPr>
          <a:xfrm>
            <a:off x="3000240" y="2643120"/>
            <a:ext cx="312768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9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нятия с будущими первоклассни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DSCN7219"/>
          <p:cNvPicPr/>
          <p:nvPr/>
        </p:nvPicPr>
        <p:blipFill>
          <a:blip r:embed="rId2"/>
          <a:stretch/>
        </p:blipFill>
        <p:spPr>
          <a:xfrm>
            <a:off x="5500800" y="40719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SCN7217"/>
          <p:cNvPicPr/>
          <p:nvPr/>
        </p:nvPicPr>
        <p:blipFill>
          <a:blip r:embed="rId3"/>
          <a:stretch/>
        </p:blipFill>
        <p:spPr>
          <a:xfrm>
            <a:off x="571680" y="4094280"/>
            <a:ext cx="3209760" cy="2406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987640" y="1484280"/>
            <a:ext cx="3367080" cy="25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9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бинет безопасности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IMG1128"/>
          <p:cNvPicPr/>
          <p:nvPr/>
        </p:nvPicPr>
        <p:blipFill>
          <a:blip r:embed="rId2"/>
          <a:stretch/>
        </p:blipFill>
        <p:spPr>
          <a:xfrm>
            <a:off x="685800" y="157176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IMG1129"/>
          <p:cNvPicPr/>
          <p:nvPr/>
        </p:nvPicPr>
        <p:blipFill>
          <a:blip r:embed="rId3"/>
          <a:stretch/>
        </p:blipFill>
        <p:spPr>
          <a:xfrm>
            <a:off x="4546440" y="4572000"/>
            <a:ext cx="3876840" cy="1643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IMG1121"/>
          <p:cNvPicPr/>
          <p:nvPr/>
        </p:nvPicPr>
        <p:blipFill>
          <a:blip r:embed="rId4"/>
          <a:stretch/>
        </p:blipFill>
        <p:spPr>
          <a:xfrm>
            <a:off x="4572000" y="157176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IMG1122"/>
          <p:cNvPicPr/>
          <p:nvPr/>
        </p:nvPicPr>
        <p:blipFill>
          <a:blip r:embed="rId5"/>
          <a:stretch/>
        </p:blipFill>
        <p:spPr>
          <a:xfrm>
            <a:off x="642960" y="4572000"/>
            <a:ext cx="342900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9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9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Идем в первый класс со знаниями правил дорожного движе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0:51:58Z</dcterms:created>
  <dc:creator>Бугаева О.А.</dc:creator>
  <dc:description/>
  <dc:language>en-US</dc:language>
  <cp:lastModifiedBy>Admin</cp:lastModifiedBy>
  <dcterms:modified xsi:type="dcterms:W3CDTF">2012-08-05T14:17:45Z</dcterms:modified>
  <cp:revision>4</cp:revision>
  <dc:subject/>
  <dc:title>Выполняй правила безопасности на дороге!</dc:title>
</cp:coreProperties>
</file>